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7DACD-C8C2-4F34-9AC7-757D78394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F9530-1B40-4CCC-B7F3-FB706586F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2AE5A-80EB-45C9-A805-AA752D9D9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59CDD-4396-498E-8CC7-652AD9DF9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64ABAEE-CBFD-4448-8495-1DBDD8C8A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D22354-7637-4BFD-82A7-DFB0E4796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AFF82D-DC0A-4095-93EC-1AB366B90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FF44399-CA3F-456E-8630-8FAB2A640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7F82AE-FA7E-4DA6-B7F3-92775B6F5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BF4AF44-27BA-4A8F-B49B-1A8CAF6FE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CF3EB5-8E76-4EF8-82E4-C0588CB71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6B8CD-752A-4D74-BE3F-CE101AE4D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902CAD-1C68-418B-9218-13EA3EFF9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4FF5C8-6018-4B22-81B6-A390A600C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3011531-2BCC-4562-9927-3851E5D16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D16EAB8-3B2C-40F0-8B3B-37DF74841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DC75BB8-D6AE-41C0-9A3F-CC3A3BECB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6CE05D-5F80-49BF-90F3-795FDD32EC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DCF0A-26E3-48E3-8A29-6C28A6DF63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743161-91C4-4D16-9756-2C7DD0529C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C53E1-C360-4531-9CA6-0FB21CB185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BFBED7-9A8E-4400-8CB4-4F510FA213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D3A37-92FB-4120-B059-3C04C70DB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04864D-8F4A-4B00-9AF3-323B5DAE5E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F5D53-DEAE-4261-A675-C758C5891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2A698D-E4E9-49B3-8B34-102A3A04B4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D4EFC-6937-45FF-ACDE-11F49FBD2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0CB30-CA1A-4686-ACE7-0570573EF3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2E0654-260A-48B0-A009-BB729C6619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5B158E-C489-4133-9A5C-A8C9259FEA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19E2D82-0F90-4EFD-B84E-0FF6A67210B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FC4483B-19B2-42CF-B153-037B534EA0A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F98CED2-8A9A-4218-B111-D6E3F66FA5F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7D2F3-AC60-4428-B09A-343BAABD0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CDE3115-632F-4AB5-AC8B-CAD0ECFF14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585AC22-5821-4364-8CE5-C12462B0CC4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4D77CF1-BB81-4549-93DB-9E3D4655947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993AFEB-423C-4955-AEB6-91DA7A7C6F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68F071A-C775-449F-928F-16385A7F9DF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1E5DE51-74D8-49EF-8020-6A647F4CB83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6013620-8602-49B8-A6B2-D0BE5B022DA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A1C4F59-9140-407F-948E-52973D80322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112E8E29-AD02-42E7-B9C0-EA5608083D4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98B58-CAC7-44D4-8695-8CF584B7E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C8C43-FB2F-4A34-9E14-1A225986E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E00F3-700F-498A-9735-5B0506E10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9475F-5A07-463F-9249-753B32F6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26463-CD5D-42D7-9613-B0245A909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F2A1-9DD1-4A1A-81AA-1374966C6A7A}"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رابط مستقيم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رابط مستقيم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شكل بيضاوي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AD65-AC69-40C3-9D6E-7A58B5B49FEE}"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رابط مستقيم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AA31-57B3-4621-8F8C-89DC1E45F7D9}"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رابط مستقيم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رابط مستقيم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2C4A2-CFA9-40CB-A623-D1073D91B390}"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عنوان فرعي 2" descr=""/>
          <p:cNvPicPr/>
          <p:nvPr/>
        </p:nvPicPr>
        <p:blipFill>
          <a:blip r:embed="rId1"/>
          <a:stretch/>
        </p:blipFill>
        <p:spPr>
          <a:xfrm>
            <a:off x="371520" y="2530440"/>
            <a:ext cx="8272440" cy="3218040"/>
          </a:xfrm>
          <a:prstGeom prst="rect">
            <a:avLst/>
          </a:prstGeom>
          <a:ln w="0">
            <a:noFill/>
          </a:ln>
        </p:spPr>
      </p:pic>
      <p:pic>
        <p:nvPicPr>
          <p:cNvPr id="171" name="عنوان 1" descr=""/>
          <p:cNvPicPr/>
          <p:nvPr/>
        </p:nvPicPr>
        <p:blipFill>
          <a:blip r:embed="rId2"/>
          <a:stretch/>
        </p:blipFill>
        <p:spPr>
          <a:xfrm>
            <a:off x="658800" y="1109520"/>
            <a:ext cx="7832880" cy="13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عنوان 1" descr=""/>
          <p:cNvPicPr/>
          <p:nvPr/>
        </p:nvPicPr>
        <p:blipFill>
          <a:blip r:embed="rId1"/>
          <a:stretch/>
        </p:blipFill>
        <p:spPr>
          <a:xfrm>
            <a:off x="469800" y="396720"/>
            <a:ext cx="8290080" cy="865440"/>
          </a:xfrm>
          <a:prstGeom prst="rect">
            <a:avLst/>
          </a:prstGeom>
          <a:ln w="0">
            <a:noFill/>
          </a:ln>
        </p:spPr>
      </p:pic>
      <p:sp>
        <p:nvSpPr>
          <p:cNvPr id="203" name="مربع نص 3"/>
          <p:cNvSpPr/>
          <p:nvPr/>
        </p:nvSpPr>
        <p:spPr>
          <a:xfrm>
            <a:off x="428760" y="1714680"/>
            <a:ext cx="8215200" cy="4969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Times New Roman"/>
              </a:rPr>
              <a:t>تسمى مرحلة العطاء والإنتاج، فيما يتعلق بالأسرة، وتكوينها، ومدى تمثل الفضائل ونقلها للجيل اللاحق، وتتمثل بدورك كاب وزوج ورب أسرة وعامل ومنتج ... فإذا تحقق ذلك يشعر الفرد بالتوالدية والانتاجية اذ لم يتحقق فانه ينطوي على نفسه.</a:t>
            </a:r>
            <a:endParaRPr b="0" lang="en-US" sz="4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مستطيل 5"/>
          <p:cNvSpPr/>
          <p:nvPr/>
        </p:nvSpPr>
        <p:spPr>
          <a:xfrm>
            <a:off x="428760" y="1671480"/>
            <a:ext cx="8286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عنوان 1" descr=""/>
          <p:cNvPicPr/>
          <p:nvPr/>
        </p:nvPicPr>
        <p:blipFill>
          <a:blip r:embed="rId1"/>
          <a:stretch/>
        </p:blipFill>
        <p:spPr>
          <a:xfrm>
            <a:off x="225360" y="493560"/>
            <a:ext cx="8693280" cy="908280"/>
          </a:xfrm>
          <a:prstGeom prst="rect">
            <a:avLst/>
          </a:prstGeom>
          <a:ln w="0">
            <a:noFill/>
          </a:ln>
        </p:spPr>
      </p:pic>
      <p:sp>
        <p:nvSpPr>
          <p:cNvPr id="207"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مستطيل 5"/>
          <p:cNvSpPr/>
          <p:nvPr/>
        </p:nvSpPr>
        <p:spPr>
          <a:xfrm>
            <a:off x="428760" y="1671480"/>
            <a:ext cx="8286480" cy="5762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هنا تأتي الخلاصة، حصيلة المراحل السابقة، ويحاسب الفرد نفسه على ما مضى، ماذا عملت ماذا أنتجت، ماذا أعددت للجيل اللاحق، فإذا كان دوره ناجحا وايجابيا يتولد لديه الإحساس بالتكامل، أما إذا كان دوره فيما مضى سلبيا يتولد لديه الإحساس باليأس</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85440" y="4959360"/>
            <a:ext cx="7924680" cy="9842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fefac9"/>
              </a:solidFill>
              <a:latin typeface="Constantia"/>
            </a:endParaRPr>
          </a:p>
        </p:txBody>
      </p:sp>
      <p:pic>
        <p:nvPicPr>
          <p:cNvPr id="211" name="Picture 3" descr="C:\Users\toot\Pictures\ideabulbs.jpg"/>
          <p:cNvPicPr/>
          <p:nvPr/>
        </p:nvPicPr>
        <p:blipFill>
          <a:blip r:embed="rId1"/>
          <a:stretch/>
        </p:blipFill>
        <p:spPr>
          <a:xfrm>
            <a:off x="-96840" y="0"/>
            <a:ext cx="9240840" cy="6891480"/>
          </a:xfrm>
          <a:prstGeom prst="rect">
            <a:avLst/>
          </a:prstGeom>
          <a:ln w="0">
            <a:noFill/>
          </a:ln>
        </p:spPr>
      </p:pic>
      <p:pic>
        <p:nvPicPr>
          <p:cNvPr id="212" name="عنوان 5" descr=""/>
          <p:cNvPicPr/>
          <p:nvPr/>
        </p:nvPicPr>
        <p:blipFill>
          <a:blip r:embed="rId2"/>
          <a:stretch/>
        </p:blipFill>
        <p:spPr>
          <a:xfrm>
            <a:off x="3718080" y="2419200"/>
            <a:ext cx="1542960" cy="115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عنصر نائب للمحتوى 2"/>
          <p:cNvGrpSpPr/>
          <p:nvPr/>
        </p:nvGrpSpPr>
        <p:grpSpPr>
          <a:xfrm>
            <a:off x="426960" y="1109520"/>
            <a:ext cx="8290080" cy="5351760"/>
            <a:chOff x="426960" y="1109520"/>
            <a:chExt cx="8290080" cy="5351760"/>
          </a:xfrm>
        </p:grpSpPr>
        <p:pic>
          <p:nvPicPr>
            <p:cNvPr id="173" name="عنصر نائب للمحتوى 2" descr=""/>
            <p:cNvPicPr/>
            <p:nvPr/>
          </p:nvPicPr>
          <p:blipFill>
            <a:blip r:embed="rId1"/>
            <a:stretch/>
          </p:blipFill>
          <p:spPr>
            <a:xfrm>
              <a:off x="426960" y="1109520"/>
              <a:ext cx="8290080" cy="5351760"/>
            </a:xfrm>
            <a:prstGeom prst="rect">
              <a:avLst/>
            </a:prstGeom>
            <a:ln w="0">
              <a:noFill/>
            </a:ln>
          </p:spPr>
        </p:pic>
        <p:sp>
          <p:nvSpPr>
            <p:cNvPr id="174" name=""/>
            <p:cNvSpPr/>
            <p:nvPr/>
          </p:nvSpPr>
          <p:spPr>
            <a:xfrm>
              <a:off x="457200" y="1143000"/>
              <a:ext cx="8229600" cy="52862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Times New Roman"/>
                </a:rPr>
                <a:t>  ** رائد هذه النظرية العالم النمساوي اريكسون، وجاءت نظرية اريكسون لتقدم نظرة اكثر شمولية من نظرية فرويد اذ لم ينظر اريكسون الى النمو النفسي بدلالة الدوافع البيلوجية كما فعل فرويد بل اكذ على أثر البيئة الاجتماعية، ونظر الى النمو النفسي في سياقه الاجتماعي وفي ظل الثقافة الاسرية.</a:t>
              </a:r>
              <a:endParaRPr b="0" lang="en-US" sz="2400" spc="-1" strike="noStrike">
                <a:solidFill>
                  <a:srgbClr val="ffffff"/>
                </a:solidFill>
                <a:latin typeface="Arial"/>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Times New Roman"/>
                </a:rPr>
                <a:t> </a:t>
              </a:r>
              <a:r>
                <a:rPr b="1" lang="ar-SA" sz="2400" spc="-1" strike="noStrike">
                  <a:solidFill>
                    <a:srgbClr val="7d9263"/>
                  </a:solidFill>
                  <a:latin typeface="Constantia"/>
                  <a:ea typeface="Times New Roman"/>
                </a:rPr>
                <a:t> </a:t>
              </a:r>
              <a:r>
                <a:rPr b="1" lang="ar-SA" sz="2400" spc="-1" strike="noStrike">
                  <a:solidFill>
                    <a:srgbClr val="536142"/>
                  </a:solidFill>
                  <a:latin typeface="Constantia"/>
                  <a:ea typeface="Times New Roman"/>
                </a:rPr>
                <a:t>**</a:t>
              </a:r>
              <a:r>
                <a:rPr b="1" lang="ar-SA" sz="2400" spc="-1" strike="noStrike">
                  <a:solidFill>
                    <a:srgbClr val="7d9263"/>
                  </a:solidFill>
                  <a:latin typeface="Constantia"/>
                  <a:ea typeface="Times New Roman"/>
                </a:rPr>
                <a:t> </a:t>
              </a:r>
              <a:r>
                <a:rPr b="1" lang="ar-SA" sz="2400" spc="-1" strike="noStrike">
                  <a:solidFill>
                    <a:srgbClr val="c00000"/>
                  </a:solidFill>
                  <a:latin typeface="Constantia"/>
                  <a:cs typeface="Times New Roman"/>
                </a:rPr>
                <a:t>يعتقد اريكسون بان الفرد قادر على تطوير شخصيته من خلال مراحل النمو، كما يعتقد بوجود فترات حرجة للنمو اطلق عليها اسم الازمة.</a:t>
              </a:r>
              <a:endParaRPr b="0" lang="en-US" sz="2400" spc="-1" strike="noStrike">
                <a:solidFill>
                  <a:srgbClr val="ffffff"/>
                </a:solidFill>
                <a:latin typeface="Arial"/>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6142"/>
                  </a:solidFill>
                  <a:latin typeface="Constantia"/>
                  <a:ea typeface="Times New Roman"/>
                </a:rPr>
                <a:t>  ** </a:t>
              </a:r>
              <a:r>
                <a:rPr b="1" lang="ar-SA" sz="2400" spc="-1" strike="noStrike">
                  <a:solidFill>
                    <a:srgbClr val="000000"/>
                  </a:solidFill>
                  <a:latin typeface="Constantia"/>
                  <a:cs typeface="Times New Roman"/>
                </a:rPr>
                <a:t>ويعتقد ايضا ان المشكلة النمائية التي تظهر عند الطفل في مرحلة معينة اذ لم تحل ستظهر مرة اخرى في مرحلة نمائية لاحقة. ويحقق نجاحها.</a:t>
              </a:r>
              <a:endParaRPr b="0" lang="en-US" sz="2400" spc="-1" strike="noStrike">
                <a:solidFill>
                  <a:srgbClr val="ffffff"/>
                </a:solidFill>
                <a:latin typeface="Arial"/>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Times New Roman"/>
                </a:rPr>
                <a:t>   ** يرى ان مراحل النمو تمر في تسلسل هرمي وان خبرات الفرد الاولية لها تاثيرها على حياته المستقبلية. كما ان تحقيق مطالب النمو في اوقاتها اساسي لضمان النمو النفسي الاجتماعي السليم.</a:t>
              </a:r>
              <a:endParaRPr b="0" lang="en-US" sz="2400" spc="-1" strike="noStrike">
                <a:solidFill>
                  <a:srgbClr val="ffffff"/>
                </a:solidFill>
                <a:latin typeface="Arial"/>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6142"/>
                  </a:solidFill>
                  <a:latin typeface="Constantia"/>
                  <a:ea typeface="Times New Roman"/>
                </a:rPr>
                <a:t>   </a:t>
              </a:r>
              <a:endParaRPr b="0" lang="en-US" sz="2400" spc="-1" strike="noStrike">
                <a:solidFill>
                  <a:srgbClr val="ffffff"/>
                </a:solidFill>
                <a:latin typeface="Arial"/>
              </a:endParaRPr>
            </a:p>
            <a:p>
              <a:pPr marL="272880" indent="-272880" algn="r" rtl="1">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pic>
        <p:nvPicPr>
          <p:cNvPr id="175" name="عنوان 1" descr=""/>
          <p:cNvPicPr/>
          <p:nvPr/>
        </p:nvPicPr>
        <p:blipFill>
          <a:blip r:embed="rId2"/>
          <a:stretch/>
        </p:blipFill>
        <p:spPr>
          <a:xfrm>
            <a:off x="396720" y="231840"/>
            <a:ext cx="8290080" cy="7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رسم تخطيطي 1" descr=""/>
          <p:cNvPicPr/>
          <p:nvPr/>
        </p:nvPicPr>
        <p:blipFill>
          <a:blip r:embed="rId1"/>
          <a:stretch/>
        </p:blipFill>
        <p:spPr>
          <a:xfrm>
            <a:off x="420840" y="-42840"/>
            <a:ext cx="8302320" cy="6943680"/>
          </a:xfrm>
          <a:prstGeom prst="rect">
            <a:avLst/>
          </a:prstGeom>
          <a:ln w="0">
            <a:noFill/>
          </a:ln>
        </p:spPr>
      </p:pic>
      <p:sp>
        <p:nvSpPr>
          <p:cNvPr id="177"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onstantia"/>
                <a:cs typeface="Times New Roman"/>
              </a:rPr>
              <a:t>الشخصية تتكون من ثلاثة قوى</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عنوان 1" descr=""/>
          <p:cNvPicPr/>
          <p:nvPr/>
        </p:nvPicPr>
        <p:blipFill>
          <a:blip r:embed="rId1"/>
          <a:stretch/>
        </p:blipFill>
        <p:spPr>
          <a:xfrm>
            <a:off x="426960" y="542880"/>
            <a:ext cx="8290080" cy="858960"/>
          </a:xfrm>
          <a:prstGeom prst="rect">
            <a:avLst/>
          </a:prstGeom>
          <a:ln w="0">
            <a:noFill/>
          </a:ln>
        </p:spPr>
      </p:pic>
      <p:sp>
        <p:nvSpPr>
          <p:cNvPr id="17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مستطيل 5"/>
          <p:cNvSpPr/>
          <p:nvPr/>
        </p:nvSpPr>
        <p:spPr>
          <a:xfrm>
            <a:off x="428760" y="1671480"/>
            <a:ext cx="828648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تتمركز هذه المرحلة حول الأم لأنها الأكثر تواصلا معه في هذا العمر فهي التي تمده بالطعام وتعتني به، فإذا تحقق ذلك وأشبعت حاجاته تكونت الثقة  وإذ لم تشبع حاجاته يتحقق عدم الثق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يشكل الطفل الثقة بالسنة الأولى من خلال تعامله مع الآخرين وثقته بهم في قضاء حاجاته، وإذ لم تتحقق الثقة في السنة الأولى فان عدم ثقته بالآخرين تلازمه في السنوات الت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عنوان 1" descr=""/>
          <p:cNvPicPr/>
          <p:nvPr/>
        </p:nvPicPr>
        <p:blipFill>
          <a:blip r:embed="rId1"/>
          <a:stretch/>
        </p:blipFill>
        <p:spPr>
          <a:xfrm>
            <a:off x="311040" y="542880"/>
            <a:ext cx="8521920" cy="858960"/>
          </a:xfrm>
          <a:prstGeom prst="rect">
            <a:avLst/>
          </a:prstGeom>
          <a:ln w="0">
            <a:noFill/>
          </a:ln>
        </p:spPr>
      </p:pic>
      <p:sp>
        <p:nvSpPr>
          <p:cNvPr id="183"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مستطيل 5"/>
          <p:cNvSpPr/>
          <p:nvPr/>
        </p:nvSpPr>
        <p:spPr>
          <a:xfrm>
            <a:off x="428760" y="1671480"/>
            <a:ext cx="828648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ffff"/>
                </a:solidFill>
                <a:latin typeface="Calibri"/>
                <a:cs typeface="Simplified Arabic"/>
              </a:rPr>
              <a:t>وتظهر هذه المرحلة من خلال ممارسة الطفل أنماط سلوكية تتمثل في اذاء بعض الأعمال بمفرده دون مساعدة الآخرين، فإذا تحقق ذلك ينمي الشعور بالاستقلال وإذا لم يتحقق يتولد لدية الشعور بالخجل والشك.</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يقابل هذه المرحلة عند فرويد المرحلة الشرجية. فإذا تحكم الطفل بالإخراج نشا لديه الشعور بالاستقلال الذات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عنوان 1" descr=""/>
          <p:cNvPicPr/>
          <p:nvPr/>
        </p:nvPicPr>
        <p:blipFill>
          <a:blip r:embed="rId1"/>
          <a:stretch/>
        </p:blipFill>
        <p:spPr>
          <a:xfrm>
            <a:off x="426960" y="493560"/>
            <a:ext cx="8290080" cy="908280"/>
          </a:xfrm>
          <a:prstGeom prst="rect">
            <a:avLst/>
          </a:prstGeom>
          <a:ln w="0">
            <a:noFill/>
          </a:ln>
        </p:spPr>
      </p:pic>
      <p:sp>
        <p:nvSpPr>
          <p:cNvPr id="187"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مستطيل 5"/>
          <p:cNvSpPr/>
          <p:nvPr/>
        </p:nvSpPr>
        <p:spPr>
          <a:xfrm>
            <a:off x="428760" y="1671480"/>
            <a:ext cx="828648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إذا تمكن الطفل من مواجهة التحديات الاجتماعية يمكنه الانتقال إلى مرحلة الإحساس بالمبادأ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الطفل الذي يملك قدرا معينا من الحرية يسهل عليه الإحساس بالمبادة، أما إذا استمر الطفل في اعتماده على الأسرة والإخفاق في نشاطاته بحرية، فان ذلك يقوده إلى الإحساس بالإثم والشعور بالذنب.</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دور المربين</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إعطاء الطفل مساحة من الحرية.</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لتحرك بحرية.</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كتشاف البيئ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عنوان 1" descr=""/>
          <p:cNvPicPr/>
          <p:nvPr/>
        </p:nvPicPr>
        <p:blipFill>
          <a:blip r:embed="rId1"/>
          <a:stretch/>
        </p:blipFill>
        <p:spPr>
          <a:xfrm>
            <a:off x="426960" y="542880"/>
            <a:ext cx="8290080" cy="858960"/>
          </a:xfrm>
          <a:prstGeom prst="rect">
            <a:avLst/>
          </a:prstGeom>
          <a:ln w="0">
            <a:noFill/>
          </a:ln>
        </p:spPr>
      </p:pic>
      <p:sp>
        <p:nvSpPr>
          <p:cNvPr id="191"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مستطيل 5"/>
          <p:cNvSpPr/>
          <p:nvPr/>
        </p:nvSpPr>
        <p:spPr>
          <a:xfrm>
            <a:off x="428760" y="1671480"/>
            <a:ext cx="8286480" cy="533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ffff"/>
                </a:solidFill>
                <a:latin typeface="Calibri"/>
                <a:cs typeface="Simplified Arabic"/>
              </a:rPr>
              <a:t>هنا يكيف الطفل نفسه لأداء العديد من المهارات والمهام وذلك بتطوير إحساسه بالعمل والكد والمثابرة، والانجاز الأكاديمي، إذ أنهما الأساس في تكوين الشعور بالجهد وإلا فان الشعور بالنقص سيكون ملازما له.</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إذا تمكن الطفل من انجاز واجباته فانه يشعر بالنجاح، وإذا فشل فان ذلك يؤدي إلى الشعور بالدوني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عنوان 1" descr=""/>
          <p:cNvPicPr/>
          <p:nvPr/>
        </p:nvPicPr>
        <p:blipFill>
          <a:blip r:embed="rId1"/>
          <a:stretch/>
        </p:blipFill>
        <p:spPr>
          <a:xfrm>
            <a:off x="426960" y="542880"/>
            <a:ext cx="8290080" cy="858960"/>
          </a:xfrm>
          <a:prstGeom prst="rect">
            <a:avLst/>
          </a:prstGeom>
          <a:ln w="0">
            <a:noFill/>
          </a:ln>
        </p:spPr>
      </p:pic>
      <p:sp>
        <p:nvSpPr>
          <p:cNvPr id="195"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مستطيل 5"/>
          <p:cNvSpPr/>
          <p:nvPr/>
        </p:nvSpPr>
        <p:spPr>
          <a:xfrm>
            <a:off x="428760" y="1671480"/>
            <a:ext cx="8286480" cy="7835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تأتي هذه المرحلة في فترة المراهقة، وعادتا ما يكون المراهق فاقد لهويته، وهمه هو الاعتراف بهويته بأنه أصبح رجلا ولم يعد طفلا، فإذا حصل على ذلك فانه سيجتاز الإحساس بالهوية بنجاح، أما إذا شعر ان المحيطين به ما زالوا يتعاملون معه على انه طفلا فان، فانه سيحاول أللجو إلى العنف لانتزاع هويته، وقد تلازمه تلك الأساليب طيلة حياته.</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عنوان 1" descr=""/>
          <p:cNvPicPr/>
          <p:nvPr/>
        </p:nvPicPr>
        <p:blipFill>
          <a:blip r:embed="rId1"/>
          <a:stretch/>
        </p:blipFill>
        <p:spPr>
          <a:xfrm>
            <a:off x="426960" y="542880"/>
            <a:ext cx="8290080" cy="858960"/>
          </a:xfrm>
          <a:prstGeom prst="rect">
            <a:avLst/>
          </a:prstGeom>
          <a:ln w="0">
            <a:noFill/>
          </a:ln>
        </p:spPr>
      </p:pic>
      <p:sp>
        <p:nvSpPr>
          <p:cNvPr id="19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مستطيل 5"/>
          <p:cNvSpPr/>
          <p:nvPr/>
        </p:nvSpPr>
        <p:spPr>
          <a:xfrm>
            <a:off x="428760" y="1671480"/>
            <a:ext cx="8286480" cy="5212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200" spc="-1" strike="noStrike">
                <a:solidFill>
                  <a:srgbClr val="ffffff"/>
                </a:solidFill>
                <a:latin typeface="Calibri"/>
                <a:cs typeface="Simplified Arabic"/>
              </a:rPr>
              <a:t>هنا يحتل افرد دوره الاجتماعي كراشد في مجتمعه، ويستطيع بناء حياة زوجية من خلال الارتباط مع شريك الحيا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الإحساس بالألفة هنا يتم من خلال هوية مشتركة للزوجين معا كاسرة واحد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لفشل في أي من المراحل السابقة الذكر قد يؤدي إلى الفشل في الزواج.</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1:04:39Z</dcterms:created>
  <dc:creator>toot</dc:creator>
  <dc:description/>
  <dc:language>en-US</dc:language>
  <cp:lastModifiedBy>user</cp:lastModifiedBy>
  <dcterms:modified xsi:type="dcterms:W3CDTF">2010-12-04T10:13:40Z</dcterms:modified>
  <cp:revision>124</cp:revision>
  <dc:subject/>
  <dc:title>مصادر المعلومات في البحث التربوي</dc:title>
</cp:coreProperties>
</file>