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25-271C-4F5F-B8C3-4FCA1DBA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D03-86CD-4E94-BA9B-37B17D6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51B-918F-4A72-A9BB-801349D8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6D-D170-4A8D-BCF1-646AFDB0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1A139-2B20-47E2-B01B-917567B0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A45C-491F-44E1-BE46-CE79844C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2AA55-BE51-40C2-923D-9CAD7C12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2EA9-D96F-4B9B-9C4E-2353CEDE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2F97-9965-42B0-8003-88A1EBCF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6130F-3F08-4FCE-9C09-D8A2FA5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6C6D0-16C5-491D-A9C2-CEA9E877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939-9C5D-43F0-982D-19A0995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B45F-4FB8-489C-A555-295C1E2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9F0B-816A-4F19-89A3-4E5232D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45C2B-CD08-46A7-82E8-EA87F8B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B17B-6F5F-418C-B901-5335227C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F6128-F07C-40F0-8850-B6D7987C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D8F-1A86-4957-AD69-7552A6B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759-74B8-4A66-A098-7E661890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07D-4DF7-4647-AAB7-7AD52E52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7BF-3D99-41C9-8477-0A39A65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614-9913-44B6-A1F2-477F7F8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104-0C94-4C89-A185-8D7A19B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DEA-3BC7-4BDC-8D46-3AB806C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D6C-9227-4276-AA92-7D5658119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1256-499F-4527-B31B-3DFBB16894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فيما يلي بعض المعلومات المالية التي تخص احدى الشركات :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مجمل الربح=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و نسبة هامش الربح الإجمالي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% و نسبة المبيعات الآجلة إلى المبيعات الكلية 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وجودات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طلوبات و حقوق الملك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نقدية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6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الذمم الدائنة       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ذمم المدينة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ديون طويلة الأجل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خزون 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حقوق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الكية    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وجودات الثابتة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مجموع الموجودات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مجموع المطلوبات و حقوق الملكية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طلوب : عمل التحليل المالي للشركة من حيث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قدرة الشركة على الوفاء بالالتزامات قصيرة الاجل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تصريف المخزون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الاقتراض الاضافي 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استغلال الموجودات 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تحصيل الذمم المدين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علما بان معيار الصناعة لبعض النسب المالية كما يلي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عدل دوران الموجودات 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مرات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عدل دوران المخزون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مرات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توسط فترة التحصيل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يوم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نسبة التداول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,8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نسبة الديون الطويلة الأجل إلى حقوق الملكية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J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</cp:lastModifiedBy>
  <dcterms:modified xsi:type="dcterms:W3CDTF">2008-12-14T10:3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