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519-5E43-41AF-9497-642F92B1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700-011E-415C-8723-DC10C9FE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3DC6-22B8-474C-BAFD-FC9CD110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E743-971C-47AF-A653-204EA7054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CE1B8-0F25-482E-817A-8D64C7AE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7BA0D-99BB-4B76-8D74-9BE6A0625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7E1B9-50C3-4A79-B8F8-8C73576D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8E9CA0-1BA7-41B9-9FA2-2D7F1255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5D118-03A1-44CC-9946-27A3BBF2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FE3E0-7CC6-403F-94AC-F2968AAD3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FFCEE-BD67-4335-8CB1-E3BC5969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CC9F-340E-4D47-A2F8-3409E912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4D9337-28AC-4463-9B4C-7FF9B4F5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308CB2-7BF5-455D-B4C9-6A2746CC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C0751-7310-44B0-AF05-7E4247CD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D3BCE-3B06-448C-90D3-BB6A0DD3E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273A2D-F8F6-4FBA-A195-309FBA98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6421-4507-4AE7-B9EB-A08CF864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982-E0A7-46BF-9073-D57CA4D0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A8FA-92B8-4FF5-8F2A-0E9D6175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47C-F75C-4D44-A811-40F61995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74B4-BD07-4C5D-8E01-9CA7FC36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E745-2264-4E11-9241-2CDB5D10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B369-2F66-44DB-B048-7CBC84DF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BF69-76AE-4B23-9679-2B96EF6DEA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FEE7-ABB0-42B7-BB60-185A6761EB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فيما يلي بعض المعلومات المالية التي تخص احدى الشركات :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مجمل الربح=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400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   و نسبة هامش الربح الإجمالي =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% و نسبة المبيعات الآجلة إلى المبيعات الكلية  =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36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%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موجودات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مطلوبات و حقوق الملك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النقدية                               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160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        الذمم الدائنة                                          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الذمم المدينة                        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          ديون طويلة الأجل                                   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مخزون                              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       حقوق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المالكية                                       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الموجودات الثابتة                 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مجموع الموجودات               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          مجموع المطلوبات و حقوق الملكية              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المطلوب : عمل التحليل المالي للشركة من حيث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 algn="r" rtl="1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600" spc="-1" strike="noStrike">
                <a:solidFill>
                  <a:srgbClr val="ffffff"/>
                </a:solidFill>
                <a:latin typeface="Arial"/>
              </a:rPr>
              <a:t>قدرة الشركة على الوفاء بالالتزامات قصيرة الاجل </a:t>
            </a:r>
            <a:r>
              <a:rPr b="1" lang="ar-JO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JO" sz="1600" spc="-1" strike="noStrike">
                <a:solidFill>
                  <a:srgbClr val="ffffff"/>
                </a:solidFill>
                <a:latin typeface="Arial"/>
              </a:rPr>
              <a:t>. قدرة الشركة على تصريف المخزون </a:t>
            </a:r>
            <a:r>
              <a:rPr b="1" lang="ar-JO" sz="1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JO" sz="1600" spc="-1" strike="noStrike">
                <a:solidFill>
                  <a:srgbClr val="ffffff"/>
                </a:solidFill>
                <a:latin typeface="Arial"/>
              </a:rPr>
              <a:t>. قدرة الشركة على الاقتراض الاضافي  </a:t>
            </a:r>
            <a:r>
              <a:rPr b="1" lang="ar-JO" sz="1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JO" sz="1600" spc="-1" strike="noStrike">
                <a:solidFill>
                  <a:srgbClr val="ffffff"/>
                </a:solidFill>
                <a:latin typeface="Arial"/>
              </a:rPr>
              <a:t>. قدرة الشركة على استغلال الموجودات  </a:t>
            </a:r>
            <a:r>
              <a:rPr b="1" lang="ar-JO" sz="1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JO" sz="1600" spc="-1" strike="noStrike">
                <a:solidFill>
                  <a:srgbClr val="ffffff"/>
                </a:solidFill>
                <a:latin typeface="Arial"/>
              </a:rPr>
              <a:t>. قدرة الشركة على تحصيل الذمم المدينة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علما بان معيار الصناعة لبعض النسب المالية كما يلي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 rtl="1">
              <a:lnSpc>
                <a:spcPct val="8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. معدل دوران الموجودات  =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مرات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. معدل دوران المخزون =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مرات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. متوسط فترة التحصيل =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يوم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. نسبة التداول =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1,8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: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. نسبة الديون الطويلة الأجل إلى حقوق الملكية = 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ar-JO" sz="18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ar-JO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</cp:lastModifiedBy>
  <dcterms:modified xsi:type="dcterms:W3CDTF">2008-12-14T10:37:4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