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AF7-D429-4852-8C98-6A35D8AB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003-171C-44C2-89ED-7B84B9D3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399-0DC6-415A-8C3A-82AF314B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4FB-2365-4F50-B0B4-969E179E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1236-AF4B-403C-9CC7-ECA5311C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D11E-8112-487C-8E47-110BB1A6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ABE2-2F13-450F-8FC8-E89DC616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DC22-3D17-4346-B8FC-F303F734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3334-AF42-48F1-A6E8-57484828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1636-2B30-41E8-AA52-18589DDC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587F-15AC-4AF4-94B9-184AFCDC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8E0-AD46-4219-A495-B062DAE5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4B31-3728-4B13-8E7F-9E932C45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F1E8-E29C-4830-AD37-ECD26514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C7DE-8E61-4A87-9A92-7EE08758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725C-60AA-4D5F-8905-FFC3E243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B528-0313-4C61-A10E-AFBDC4CC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5D83-42AF-4B5D-96C2-6E20490B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17EA8-7A4C-4DD3-ACC5-CBF266BE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D1926-822C-4830-BB57-6F2087C2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9F92F-6F5D-42C3-9256-8DADD2E1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B9F30-7E85-41AF-8E16-353A3A65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60A-20B8-4D81-B53C-A1B0AB8B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96FB3-70B7-4CBF-990C-1F6BFB27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A8A7D-00F5-4AA6-AA29-9F5C4326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9E60-3EF0-4EBD-9B9F-F4FB9202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B1AC1-6B2B-45F6-A163-1350154C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91AE6-B438-4CAD-B29B-3555503F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9CD2-0DF6-495C-AEC9-BD69D489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206EE-A841-4CB9-999E-5F43AFD3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DC7D-ECA7-41D2-946D-599BD02B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BE74B-82F7-468B-85DA-5D40097D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54E22-A513-45A1-A21F-448F6EC9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40A-A616-4101-8522-D246352A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D7BED-BF2D-468A-8D09-417768FD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EC703-05D0-41DD-B70B-42BDE5C2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1A16D-E215-4D55-B5D0-3B586360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4DD8F-5EA5-42F5-A3A5-B0F91790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74946-9CD7-4A86-8DE7-50EDBC66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5C7F0-7D81-49C1-9A13-8E72ABD6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D940E-08BA-43AE-9CDB-BCE9A00C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58A45-FCD7-4113-A969-D5B098B5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FB844-118E-40C7-9450-D465897F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0643F-A2DE-4EEB-9A22-510F8AD2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F4B-85D2-4E27-8434-F86C664D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3D2CB-97B5-4F58-B74D-C7C9C709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EB145-0E77-47DB-BF0C-AD7E3CA3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3372B-DCCE-43F9-8366-E93FD436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B52E5-DCAC-4EAE-BBCF-4AF08A1E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B0406-7E51-4E27-900C-23730B69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17F9A-7A64-4B1B-BA3B-5849B853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8F311-79F4-40B9-BE43-AD048A37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6E298-BCC4-48A6-AF97-F52C1323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3D058-F842-4AEB-9E62-97E83516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079FD-A455-43C7-973E-6E828476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D0B-6DCD-4889-A36B-5904E409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D60DD-D835-48DF-BBBE-45F40A27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894-1D88-4A78-9683-DB49A193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6B0-6DC3-402A-AC3A-626B5B32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D91-6BF3-4124-B436-B2A6D0C2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1EF0-D13D-4999-A740-DD5C7853266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FE6E-B177-4507-8CBC-28ADB40D4F10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4691-52A3-4F5D-9307-45765E5D76A9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CF1B-220D-4A6B-97D2-0A20F277895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A09C-7655-4C39-89C6-791901D078E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822240" y="317520"/>
            <a:ext cx="7785360" cy="18032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115640" y="2708280"/>
            <a:ext cx="7273800" cy="273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جامعة الملك سعود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كلية علوم الأغذية والزراع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قسم علوم الأغذية والتغذي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مدرس المادة: أ.د. حمزة محمد أبوطربو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توزيع العناصر الغذائية حسب الوظيف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0000"/>
                </a:solidFill>
                <a:latin typeface="Constantia"/>
              </a:rPr>
              <a:t>مصدر الطاقة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- مباشر: الكربوهيدرات والبروتينات والدهو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- غير مباشر: الفيتامينات والمعادن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0000"/>
                </a:solidFill>
                <a:latin typeface="Constantia"/>
              </a:rPr>
              <a:t>النمو وترميم وصيانة الجسم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- مباشر: البروتينات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- غير مباشر: الفيتامينات والمعادن والماء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0000"/>
                </a:solidFill>
                <a:latin typeface="Constantia"/>
              </a:rPr>
              <a:t>تنظيم عمليات الجسم الحيوية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البروتينات والفيتامينات والمعادن والماء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alibri"/>
              </a:rPr>
              <a:t>العنصر الغذائي الضروري ( الأساسي)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Essential (indispensable</a:t>
            </a:r>
            <a:r>
              <a:rPr b="0" lang="ar-SA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(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هو العنصر الذي يجب أن يحصل عليه الكائن الحي من الغذاء لأن الجسم لا يستطيع تصنيعه بكميات كافية وبسرعة آنية لمواجهة متطلباته الغذائية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العنصر الضروري لجنس معين لا يعني ضرورته لأجناس أخرى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تحتوي الأقسام الستة للعناصر الغذائية على بعض العناصر الضرورية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كل الفيتامينات والمعادن عناصر ضرورية للإنسان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مصدر العناصر الغذائي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أغذية المختلفة هي مصدر العناصر الغذائ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تفاوت الأغذية المختلفة في محتواها من العناصر الغذائ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شكل الماء والكربوهيدرات والبروتينات والدهون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98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٪ عموماً من وزن الغذاء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نسبة الفيتامينات والمعادن ضئيلة في الأغذية ؟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* هل مقولة ” أنت ما تأكل ” صحيحة ؟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sh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4617b"/>
                </a:solidFill>
                <a:latin typeface="Calibri"/>
              </a:rPr>
              <a:t>توزيع الأقسام الرئيسة من العناصر الغذائية في بعض الأغذية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600200"/>
          <a:ext cx="8229600" cy="4429080"/>
        </p:xfrm>
        <a:graphic>
          <a:graphicData uri="http://schemas.openxmlformats.org/drawingml/2006/table">
            <a:tbl>
              <a:tblPr/>
              <a:tblGrid>
                <a:gridCol w="1811160"/>
                <a:gridCol w="2087640"/>
                <a:gridCol w="2016360"/>
                <a:gridCol w="2314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جز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خب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حلي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أغذ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٫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٫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ماء   (٪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٫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٫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كربوهيدرات (٪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٫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٫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٫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دهون (٪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٫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٫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٫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بروتينات (٪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٫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٫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٫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معادن (٪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٫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٫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٫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فيتامينات (٪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ملاحظات عامة على العناصر الغذائي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كل العناصر الغذائية مهمة بغض النظر عن كميتها في الغذاء وكمية احتياج الجسم منها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بعضها يخزن في الجسم في أماكن مختلف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هناك تداخل وترابط بين العناصر الغذائ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عوامل عديدة تؤثر في احتياجات الجسم من العناصر الغذائ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sh dir="r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4617b"/>
                </a:solidFill>
                <a:latin typeface="Calibri"/>
              </a:rPr>
              <a:t>مدى تخزين الجسم لبعض العناصر الغذائية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39640" y="981000"/>
          <a:ext cx="8136000" cy="5877000"/>
        </p:xfrm>
        <a:graphic>
          <a:graphicData uri="http://schemas.openxmlformats.org/drawingml/2006/table">
            <a:tbl>
              <a:tblPr/>
              <a:tblGrid>
                <a:gridCol w="4068720"/>
                <a:gridCol w="406728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وقت اللازم لاختفائها من الجس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عناصر الغذائ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ساعات قلي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أحماض الأمي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س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كربوهيدر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يومين إلا ثلاث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صود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ايا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م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دهو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–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ثيام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حمض الاسكوربيك ( ج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-18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نياس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-18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رايبوفلاف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-365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فيتامين 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5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يوم (لنساء ) ,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يوم(للرجال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حد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يو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كالس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مقدمة عن علم التغذي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تعريف: هنالك تعريفات عديدة لعلم التغذية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أشمل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عري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لعلم التغذية هو تعري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رابطة الأطباء الأمريكيين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” علم الغذاء والعناصر الغذائية والمواد الأخرى ومعرفة عملها وعلاقتها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ببعضها البعض وتوازنها فيما يتعلق بالصحة والمرض. وعلم التغذية هو العمليات المختلفة التي بواسطتها يتناول الكائن الحي غذائه ويقوم بهضمه وامتصاصه ونقله واستخدامه واستخراج فضلات الغذاء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تاريخ علم التغذي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بدء كعلم محدد في القرن العشري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اهتمام بالتغذية بدء منذ أزل بعي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لذا قسم تاريخ علم التغذية إلى حقب هي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   -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المرحلة الطبيعية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Naturalistic Era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- مرحلة الكيمياء التحليلية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Chemical-Analytical E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   -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المرحلة الحيوية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Biological Er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  - مرحلة الخلية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  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Cellular or Molecular Era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أهمية التغذية الجيد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ما هي الأدلة التي تدعم ضرورة العناصر الغذائية للجسم؟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هل التغذية الجيدة كفيلة بالحد من المشاكل المرضية التي نشأت نتيجة لسوء التغذية؟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- مرض البربري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beriberi diseas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- تضخم الغدة الدرقية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goi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- مرض الأسقربوط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scurv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- البلاجرا (الجلد الخشن)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Pellagr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- الأمراض العصرية المرتبطة بتغير النمط الغذائي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* وغيرها من المشاكل الأخرى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مسببات الرئيسة للوفاة في الولايات المتحد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197000"/>
          <a:ext cx="8229600" cy="466236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% للوفيات الك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المرض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ea typeface="Majalla UI"/>
                        </a:rPr>
                        <a:t>2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cs typeface="Majalla UI"/>
                        </a:rPr>
                        <a:t>أمراض القلب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Heart dise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ea typeface="Majalla UI"/>
                        </a:rPr>
                        <a:t>2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cs typeface="Majalla UI"/>
                        </a:rPr>
                        <a:t>السرطان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Can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cs typeface="Majalla UI"/>
                        </a:rPr>
                        <a:t>الجلطة الدماغية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Strok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أمراض الرئة المزمنة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ronic lung dise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لحوادث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ci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ea typeface="Majalla UI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cs typeface="Majalla UI"/>
                        </a:rPr>
                        <a:t>السكري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Diabetes mellitus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ea typeface="Majalla U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ذات الرئة والأنفلونزا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neumonia and influenz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مرض الزهايمر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zhei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أمراض الكلى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dney dise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تلوث الدم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lood infec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لأمراض المكتوبة بالأحمر لها علاقة بالغذ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Times New Roman"/>
              </a:rPr>
              <a:t>Malnutrition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Times New Roman"/>
              </a:rPr>
              <a:t>  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04617b"/>
                </a:solidFill>
                <a:latin typeface="Calibri"/>
              </a:rPr>
              <a:t>سوء التغذية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. زيادة المتناول من العناصر الغذائية خاصة العناصر الكبرى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Overnutr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. قلة المتناول من العناصر الغذائ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Undernutri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4" descr="C:\Users\hamza\Pictures\overnutrition.jpg"/>
          <p:cNvPicPr/>
          <p:nvPr/>
        </p:nvPicPr>
        <p:blipFill>
          <a:blip r:embed="rId1"/>
          <a:stretch/>
        </p:blipFill>
        <p:spPr>
          <a:xfrm>
            <a:off x="1187280" y="3213000"/>
            <a:ext cx="2581560" cy="1728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C:\Users\hamza\Pictures\undernutrition.jpg"/>
          <p:cNvPicPr/>
          <p:nvPr/>
        </p:nvPicPr>
        <p:blipFill>
          <a:blip r:embed="rId2"/>
          <a:stretch/>
        </p:blipFill>
        <p:spPr>
          <a:xfrm>
            <a:off x="5448240" y="2925720"/>
            <a:ext cx="243864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كيف يستخدم الجسم الغذاء (</a:t>
            </a: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1</a:t>
            </a: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0000"/>
                </a:solidFill>
                <a:latin typeface="Constantia"/>
              </a:rPr>
              <a:t>الوظائف الأساسية للغذاء في الجسم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. تزويد الجسم بالطاقة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Source of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. نمو وترميم وصيانة الجس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         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Arial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Growth and maintenance of tiss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. القيام بالوظائف الحيو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Arial"/>
              </a:rPr>
              <a:t>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Regulation of body process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كيف يستخدم الجسم الغذاء (</a:t>
            </a: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349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onstantia"/>
              </a:rPr>
              <a:t>العناصر الغذائية التي تؤدي الوظائف الأساسية للغذاء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ar-SA" sz="11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- الكربوهيدرات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rbohydra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-  البروتينات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- اللبيدات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pid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(الدهون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ts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والزيوت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ils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  - الفيتامينات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itami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- العناصر المعدنية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 - الماء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ater</a:t>
            </a:r>
            <a:r>
              <a:rPr b="1" lang="en-US" sz="7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682560" y="317520"/>
            <a:ext cx="7785000" cy="18032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371600" y="278136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 rtl="1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. عناصر مولدة للطاقة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Energy Yielding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   -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كربوهيدرات (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جم ينتج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سعرات حرارية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     - بروتين (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جم ينتج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سعرات حرارية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     - لبيدات (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جم ينتج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سعرات حرارية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Verdana"/>
              </a:rPr>
              <a:t>.عناصر غير منتجة للطاقة</a:t>
            </a:r>
            <a:r>
              <a:rPr b="1" lang="ar-SA" sz="2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Non-energy Yielding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    - فيتامينات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    - عناصر معدنية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    - ماء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17:14:54Z</dcterms:created>
  <dc:creator>MyName</dc:creator>
  <dc:description/>
  <dc:language>en-US</dc:language>
  <cp:lastModifiedBy>hamza</cp:lastModifiedBy>
  <dcterms:modified xsi:type="dcterms:W3CDTF">2011-02-20T18:01:23Z</dcterms:modified>
  <cp:revision>67</cp:revision>
  <dc:subject/>
  <dc:title>الشريحة 1</dc:title>
</cp:coreProperties>
</file>