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525-0929-4795-95DF-6BA63F1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1D0-AFD7-471E-8B34-95DF1EFE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421-4A35-4E5F-BD31-CA7FC3C5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B48-6C12-4AE1-949A-723478ED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540F-0756-49C7-B3B1-6A2425CA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3360-CA85-4FF6-A30A-FD78ACC5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E9F7-5530-4787-BA87-62FC2539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7A3-4D6D-4E98-BA03-2D4A6984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25A7-8A80-4B25-9D51-40310E95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3519-C616-49B1-92AD-5E0BC9C1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638-E6DF-4E84-9E6F-50956F3D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9BB-53AD-4559-BF89-0A705BF0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32E5-E9B1-46F8-BB92-6FFF410B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C18A-03E0-4CE0-BD93-D0EA1F45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8111-5332-4337-B42F-C69F90D5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017B-F23B-4DA1-A676-050E510D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A098-3A3B-488F-92E7-CBD6EFD7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7BBA-32DD-4A77-9774-17AC580E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A069-5669-4B21-B517-5CA35EFE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0A97-5BB6-4241-A449-7DA4D902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B042-28BB-4034-9EC1-ED99549A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20C2-8E23-4FE2-BC16-83B1CD15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20F-C08C-4917-9F2C-05999A2A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C6EF-49F6-4967-AC09-880C2CBF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262C-A684-4A75-8DA1-9798908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D64D-D96A-4FEA-B334-BD08AE28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4967-7BDB-478C-8CCF-77B3054C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2035-7840-4A1A-B8BB-CC0A20D5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19A2-5959-464B-927A-707EBEE8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E934-48AD-49B2-B414-2847EF8A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256D4-C1FC-4A32-92B0-31AEBB82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8434-1988-4E17-84A2-2BCD506D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9E7C4-22C2-4135-9F14-54355D23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F09-FB58-4E91-80EB-C454D7C2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E55B-2E8C-456F-98AC-EF540B1F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4AC9-C2BB-49DA-B762-35BEC63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BAE0-714D-44E9-8153-1A545938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DD6F-8869-4410-AB94-80C77872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704F-B08A-4B06-BDE4-EEF8B5F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29E68-66CF-4374-AA52-5B080FE9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FFF9-2A5B-4027-A51B-9BE73298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5679-AEA9-4B66-9CC5-9EC48444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F95D2-8D0D-4436-8393-5BDAA091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85F7E-7D17-4876-A4A7-73C6EB97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160-8C65-4AFD-8F35-39F937A1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D6CC-E963-4250-B145-399AED7F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00E70-77CC-4C8B-85DB-CED72727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CCC2-0F75-429E-ADD3-5750EFE2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AA8D-983A-4DC3-A5A9-6E73BBF5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74A50-8258-446E-BC4D-56BF29C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CD352-32D9-411D-B7D9-14DF48E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0E1B-C2CF-4032-BE56-6E81DEEE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347B-689D-4452-9FE5-8774491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D2A7-BEB5-4F8F-BB97-44D6EF6B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9B7F2-1DCB-4603-B45E-6B258462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987-5B4A-4469-8DCA-9B6BB2EF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3E47-FF03-4C68-A0F5-882BBA35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153-6B1F-453B-8FF3-C2833A1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E90-ABA5-44CE-BA82-D44A95F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8B5-49F7-437B-BF37-8FB7E79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3F2-1C2C-4C3D-A210-DE19E575322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F442-02A4-42A0-8E30-0DA56EE910E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DD69-5F19-4417-A4FF-240A1434FB7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5B8A-5600-4BEC-A96F-D63414C3EC5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973C-6D42-44BC-BB7A-0936B0CD2A5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822240" y="317520"/>
            <a:ext cx="7785360" cy="1803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115640" y="2708280"/>
            <a:ext cx="7273800" cy="273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جامعة الملك سعود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كلية علوم الأغذية والزراع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قسم علوم الأغذية والتغذي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مدرس المادة: أ.د. حمزة محمد أبوطربو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توزيع العناصر الغذائية حسب الوظيف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مصدر الطاقة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مباشر: الكربوهيدرات والبروتينات والدهو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غير مباشر: الفيتامينات والمعادن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النمو وترميم وصيانة الجسم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مباشر: البروتينات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- غير مباشر: الفيتامينات والمعادن والما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تنظيم عمليات الجسم الحيوية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البروتينات والفيتامينات والمعادن والما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alibri"/>
              </a:rPr>
              <a:t>العنصر الغذائي الضروري ( الأساسي)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Essential (indispensable</a:t>
            </a:r>
            <a:r>
              <a:rPr b="0" lang="ar-SA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(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هو العنصر الذي يجب أن يحصل عليه الكائن الحي من الغذاء لأن الجسم لا يستطيع تصنيعه بكميات كافية وبسرعة آنية لمواجهة متطلباته الغذائية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عنصر الضروري لجنس معين لا يعني ضرورته لأجناس أخرى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تحتوي الأقسام الستة للعناصر الغذائية على بعض العناصر الضرورية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كل الفيتامينات والمعادن عناصر ضرورية للإنسان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صدر العناصر الغذائ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أغذية المختلفة هي مصدر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تفاوت الأغذية المختلفة في محتواها من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شكل الماء والكربوهيدرات والبروتينات والدهون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98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٪ عموماً من وزن الغذاء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نسبة الفيتامينات والمعادن ضئيلة في الأغذية ؟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* هل مقولة ” أنت ما تأكل ” صحيحة 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4617b"/>
                </a:solidFill>
                <a:latin typeface="Calibri"/>
              </a:rPr>
              <a:t>توزيع الأقسام الرئيسة من العناصر الغذائية في بعض الأغذية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1811160"/>
                <a:gridCol w="2087640"/>
                <a:gridCol w="201636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جز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خب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حلي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غذ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٫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٫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اء  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٫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٫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كربوهيدرات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٫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٫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دهون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٫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٫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روتينات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٫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عادن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٫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فيتامينات (٪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لاحظات عامة على العناصر الغذائ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كل العناصر الغذائية مهمة بغض النظر عن كميتها في الغذاء وكمية احتياج الجسم منها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عضها يخزن في الجسم في أماكن مختلف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هناك تداخل وترابط بين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عوامل عديدة تؤثر في احتياجات الجسم من العناصر الغذائ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4617b"/>
                </a:solidFill>
                <a:latin typeface="Calibri"/>
              </a:rPr>
              <a:t>مدى تخزين الجسم لبعض العناصر الغذائية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9640" y="981000"/>
          <a:ext cx="8136000" cy="587700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وقت اللازم لاختفائها من الجس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عناصر الغذائ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ساعات قلي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حماض الأمي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س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كربوهيد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ين إلا ثلاث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صود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اي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دهو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–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ثيام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حمض الاسكوربيك ( ج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-18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نياس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-18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رايبوفلاف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-36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يتامين 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 (لنساء ) ,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يوم(للرجا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ح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يو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كالسي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قدمة عن علم التغذ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تعريف: هنالك تعريفات عديدة لعلم التغذية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أشم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عري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لعلم التغذية هو تعريف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رابطة الأطباء الأمريكيين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” علم الغذاء والعناصر الغذائية والمواد الأخرى ومعرفة عملها وعلاقتها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بعضها البعض وتوازنها فيما يتعلق بالصحة والمرض. وعلم التغذية هو العمليات المختلفة التي بواسطتها يتناول الكائن الحي غذائه ويقوم بهضمه وامتصاصه ونقله واستخدامه واستخراج فضلات الغذا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تاريخ علم التغذ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دء كعلم محدد في القرن العشري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اهتمام بالتغذية بدء منذ أزل بعي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لذا قسم تاريخ علم التغذية إلى حقب هي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-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مرحلة الطبيع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Naturalistic Era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- مرحلة الكيمياء التحليل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Chemical-Analytical 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-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مرحلة الحيو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Biological E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  - مرحلة الخلي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Cellular or Molecular Era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أهمية التغذية الجيد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ما هي الأدلة التي تدعم ضرورة العناصر الغذائية للجسم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هل التغذية الجيدة كفيلة بالحد من المشاكل المرضية التي نشأت نتيجة لسوء التغذية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مرض البربري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beriberi disea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تضخم الغدة الدرقية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goi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مرض الأسقربوط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scurv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البلاجرا (الجلد الخشن)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Pellag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- الأمراض العصرية المرتبطة بتغير النمط الغذائ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* وغيرها من المشاكل الأخرى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مسببات الرئيسة للوفاة في الولايات المتحد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197000"/>
          <a:ext cx="8229600" cy="466236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% للوفيات الك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onstantia"/>
                          <a:cs typeface="Majalla UI"/>
                        </a:rPr>
                        <a:t>المر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2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أمراض القلب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Heart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2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السرطان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an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الجلطة الدماغية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tro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أمراض الرئة المزمنة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ronic lung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حوادث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i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cs typeface="Majalla UI"/>
                        </a:rPr>
                        <a:t>السكري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Diabetes mellitu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ذات الرئة والأنفلونزا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neumonia and influenz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مرض الزهايم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zhe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أمراض الكلى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dney dis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ea typeface="Majalla U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تلوث الدم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od infe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onstantia"/>
                          <a:cs typeface="Majalla UI"/>
                        </a:rPr>
                        <a:t>الأمراض المكتوبة بالأحمر لها علاقة بالغذ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Times New Roman"/>
              </a:rPr>
              <a:t>Malnutrition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  <a:ea typeface="Times New Roman"/>
              </a:rPr>
              <a:t>  </a:t>
            </a:r>
            <a:r>
              <a:rPr b="0" lang="ar-SA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04617b"/>
                </a:solidFill>
                <a:latin typeface="Calibri"/>
              </a:rPr>
              <a:t>سوء التغذية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. زيادة المتناول من العناصر الغذائية خاصة العناصر الكبر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Overnutr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. قلة المتناول من العناصر الغذائي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Undernutri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C:\Users\hamza\Pictures\overnutrition.jpg"/>
          <p:cNvPicPr/>
          <p:nvPr/>
        </p:nvPicPr>
        <p:blipFill>
          <a:blip r:embed="rId1"/>
          <a:stretch/>
        </p:blipFill>
        <p:spPr>
          <a:xfrm>
            <a:off x="1187280" y="3213000"/>
            <a:ext cx="2581560" cy="1728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Users\hamza\Pictures\undernutrition.jpg"/>
          <p:cNvPicPr/>
          <p:nvPr/>
        </p:nvPicPr>
        <p:blipFill>
          <a:blip r:embed="rId2"/>
          <a:stretch/>
        </p:blipFill>
        <p:spPr>
          <a:xfrm>
            <a:off x="5448240" y="2925720"/>
            <a:ext cx="24386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كيف يستخدم الجسم الغذاء (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1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Constantia"/>
              </a:rPr>
              <a:t>الوظائف الأساسية للغذاء في الجسم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تزويد الجسم بالطاقة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Source of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نمو وترميم وصيانة الجس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Growth and maintenance of t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القيام بالوظائف الحيو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Arial"/>
              </a:rPr>
              <a:t>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Regulation of body proc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كيف يستخدم الجسم الغذاء (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onstantia"/>
              </a:rPr>
              <a:t>العناصر الغذائية التي تؤدي الوظائف الأساسية للغذاء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11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- الكربوهيدر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rbohydr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-  البروتين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- اللبيد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pid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(الدهون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ts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والزيوت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ils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  - الفيتامينات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itami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- العناصر المعدنية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     - الماء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ater</a:t>
            </a:r>
            <a:r>
              <a:rPr b="1" lang="en-US" sz="7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682560" y="317520"/>
            <a:ext cx="7785000" cy="18032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 rtl="1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Constantia"/>
              </a:rPr>
              <a:t>. عناصر مولدة للطاقة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Energy Yield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   -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كربوهيدرات (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جم ينتج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سعرات حرارية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 - بروتين (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جم ينتج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سعرات حرارية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 - لبيدات (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جم ينتج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سعرات حرارية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.عناصر غير منتجة للطاقة</a:t>
            </a:r>
            <a:r>
              <a:rPr b="1" lang="ar-SA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Non-energy Yieldin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- فيتامينات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- عناصر معدنية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    - ماء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7:14:54Z</dcterms:created>
  <dc:creator>MyName</dc:creator>
  <dc:description/>
  <dc:language>en-US</dc:language>
  <cp:lastModifiedBy>hamza</cp:lastModifiedBy>
  <dcterms:modified xsi:type="dcterms:W3CDTF">2011-02-20T18:01:23Z</dcterms:modified>
  <cp:revision>67</cp:revision>
  <dc:subject/>
  <dc:title>الشريحة 1</dc:title>
</cp:coreProperties>
</file>