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612B-1E2A-486C-971E-26BEB15D5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24B4-F9B7-4833-B27E-E72AACF7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36DF-3D6F-4A50-9076-1708ABC8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CC25-C854-4D30-94F6-EF6A56607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99DD-57F9-415B-931D-B72A65754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2D94-5A19-45BE-9688-BD309FB735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4279-3AED-48C7-9977-092CC521BA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EB4C-6A44-4783-A04B-5608E21CE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4D7D-CF20-45E0-A448-353AE74D5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173C-8DF2-49ED-AA63-2508D0EBE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AD7A-788D-47AC-9871-FA73833D3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5E25-FDF1-4ECB-AE37-EC18A7FF0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A55F-8D81-4519-81BF-CA134B0211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C234-CE38-4D0C-BC5B-3989D01D8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1676-FD63-424F-BAD8-A5FEA972B1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43D6-1B62-4B9D-B7F9-70B18C7DC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5D36-6F86-43BE-B247-9634D50E2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66AF-D6AA-437F-B73C-914C9212E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7D14-3932-473A-8B86-F4B59F50D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A9A1-BBD6-48F6-AC50-2230E85EB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A9E4-7D26-4C51-834F-D851324BB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4B07-9395-405C-8481-70FAD642F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B64D-7F44-4F88-BB85-9020896CF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C244-3C0E-44E6-BEA7-FF3327361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038-33B8-4C65-8E1F-6860A8BF13A9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4200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8C5D-28D7-46AC-B92A-F5DEE841D1D5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lc.edu.sa/vb/showthread.php?t=499" TargetMode="External"/><Relationship Id="rId2" Type="http://schemas.openxmlformats.org/officeDocument/2006/relationships/hyperlink" Target="http://www.elkhodary.net/06/Maharat%2520Al-Etsal.ppt" TargetMode="Externa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هارات الإتصال الشخص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000"/>
                </a:solidFill>
                <a:latin typeface="Andalus"/>
                <a:cs typeface="Andalus"/>
              </a:rPr>
              <a:t>إشراك المستمع</a:t>
            </a:r>
            <a:endParaRPr b="0" lang="en-US" sz="48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292680" indent="-29268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تخاطب أي جانب من جوانب</a:t>
            </a:r>
            <a:r>
              <a:rPr b="0" lang="en-US" sz="3200" spc="-1" strike="noStrike">
                <a:solidFill>
                  <a:srgbClr val="dd2067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عقل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جانب العاطفي أو الجانب الفكر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لا تصل إلى الجانب الفكري مباش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في أغلب الحال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2680" indent="-2926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لابد أن تصنع تواصلاً عاطفياً مع المستمع حتى يسمع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7432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صوت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سموع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تدخل إلى العقل الأول قبل أن تنقل إلى العقل الجدي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Calibri Bold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إستعانة بالنصوص المكتوب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سموعة تحتاج لخمسة أضعاف الوقت المستخدم لإستيعاب المعلومات المقروء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معلومات المقروءة قد تصل مباشرة للجانب الفكري من العق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يعتمد على نوع المادة المقروء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مث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أوراق العم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عرض الشرائ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Calibri Bold"/>
              </a:rPr>
              <a:t>تحسين مهارة إشراك المس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ريك كل أحاسيس المستمعين وكل عقوله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إنهاك المستم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دفعه للمشاركة اكث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إثارة حماس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نتيج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واصل اكثر مع المستمع، وازدادت قدرتك على إقناعه برسالت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دوّامات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Grande"/>
                <a:cs typeface="Geeza Pro"/>
              </a:rPr>
              <a:t>دوّامات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أي شئ يقوم به الملقي ينتج منه لحظة انهماك في عقول مستمعي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إذاً الدوّامات هدف نسعى له اثناء إلقاء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ويمكن إنارة هذه الدوامات، من خلال آليات إشراك المستم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تمحورهذه الآليات حول ثلاث مجالات رئيس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لأسلوب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لتفاع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محتو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جانب المسرح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بدأ حديثك بافتتاح قو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ث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بيان مشكلة مهم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رواية قصيرة مؤثر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طرح سؤال جدل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ضع عنصراً مثيرا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ث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وقفة طويل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نغمة صوتي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تغيرات في درجة الصو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ختم اتصالك باقتباس مثير أو بعبارة مهم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Geeza Pro"/>
              </a:rPr>
              <a:t> اتصال العي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تصال العيني المباش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مسحاً شاملاً لكل المستمعي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تصال الموسع بالعين مع كل فردٍ على حد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  <a:cs typeface="Geeza Pro"/>
              </a:rPr>
              <a:t>قس ردود أفعال المستمعين خلال تقديم العر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وجه الخطاب مباشراً لمن تلاحظ ان ردود افعالهم بطيئه او منشغلين عن العرض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فت انتباهه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حرك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غيّر آلية التقديم كلما أمكن ذل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رّك نحوالمستمعين خاصة في بداية الاتصال وفي نهايت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أسلو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الأدوات البصر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أعط المستمعين شيئاً ما ينظرون إليه غير النظر إلى شخص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ستعمل أنواعا مختلفة من الأدوات البصرية في أي عرض رسم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عرض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الكتابة على السبو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التدرب على هذه الوسائل مسبقاً حتى يكون استعمالك لها سهلاً وغير صارف للاهتم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إشراك المستمعين أو أحدهم إشراكا عفويا دون سابق إعدا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سئل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نواع الإسئل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سئلة الجدل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ستبقي على المستمعين نشطين ومفكر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طلب رفع الأيدي للموافقة أو عدمها على بعض الأمو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طلب متطوعا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حتو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مقدمة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جوانب العق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ما هو الأتصال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عريف بالمهارة و أهميتها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هدف السلوكي 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تحسين مهارة إشراك المستمع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آليات إشراك المستمع والتأثير عليه 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نشاط</a:t>
            </a: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عرض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خطط سلفاً لكل خطوة أو أجراء وتأكد من توقيت العرض بدقة قبل البداي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خذ متطوعاً من المجموعة لكي يساعدك في عرضك إذا كان ذلك ممكنا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تفاع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ألعاب والحي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أدخل بعض الألعاب التعليمية والفوازير والحي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Geeza Pro"/>
              </a:rPr>
              <a:t> لرفع الملل دون أن يخل ذلك بالهدف الرئي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تبقي مسيطراً على الجلس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ل الإبداع والحيل والألعاب التي يمكن استعمالها بشكل فعال في كثير من الأوضا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لكن حافظ على مستوى رفيع من الذو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محتو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اهتما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قبل أن تتكلم راجع ما تود أن تقوله بسؤا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كيف أفيد مستمع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تذكر أن ذاكرة المستمع قصيرة المد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فحاول تركيز المعلومات وجذب الانتبا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ل الاتصال العيني لإثارة الاهتم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آليات إشراك المستمع والتأثير عليه</a:t>
            </a:r>
            <a:r>
              <a:rPr b="0" lang="ar-SA" sz="4400" spc="-1" strike="noStrike">
                <a:solidFill>
                  <a:srgbClr val="953734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Calibri Bold"/>
              </a:rPr>
              <a:t>المحتو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cs typeface="Geeza Pro"/>
              </a:rPr>
              <a:t>المر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بدأ بتعليق حميمي وود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اجعل دعابتك ذات صلة بمستمعيك ولها علاقة بموضوع الحدي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كن محترفاً في إظهار إنسانيتك في الوقت المناسب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cs typeface="Geeza Pro"/>
              </a:rPr>
              <a:t>صور إحساس المرح وروح الدعاب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يمكن ذلك عن طريق بعض القصص أو المواقف الطريف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cs typeface="Geeza Pro"/>
              </a:rPr>
              <a:t>استعمال تعليقات المستمعين لخلق جو من المرح والدعاب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نشا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تقوم نورة بإلقاء محاضرة على زميلاتها في إحدى المقررات، و اثناء ذلك لاحظت أ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اثنتان من زميلاتها يتشاركن الأحاديث الجانبية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و أخرى على طرف القاعة تعبث بهاتفها المحمول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lnSpc>
                <a:spcPct val="100000"/>
              </a:lnSpc>
              <a:buClr>
                <a:srgbClr val="953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 Bold"/>
                <a:cs typeface="ヒラギノ角ゴ ProN W6"/>
              </a:rPr>
              <a:t>و ثالثة تكاد أن تغط بالنوم في أخر القاع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 Bold"/>
                <a:cs typeface="ヒラギノ角ゴ ProN W6"/>
              </a:rPr>
              <a:t>ماذا تنصح نورة بأن تفعل للفت إنتباهه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elc.edu.sa/vb/showthread.php?t=4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elkhodary.net/06/Maharat%20Al-Etsal.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131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000"/>
                </a:solidFill>
                <a:latin typeface="Andalus"/>
                <a:cs typeface="Andalus"/>
              </a:rPr>
              <a:t>شكراً للإنصات و المشاركة</a:t>
            </a:r>
            <a:r>
              <a:rPr b="1" lang="en-US" sz="5400" spc="-1" strike="noStrike">
                <a:solidFill>
                  <a:srgbClr val="ffc000"/>
                </a:solidFill>
                <a:latin typeface="Andalus"/>
                <a:ea typeface="Andalus"/>
              </a:rPr>
              <a:t> 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أعد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هذا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العرض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ct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أبرار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معجل -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4272030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ctr" rtl="1">
              <a:lnSpc>
                <a:spcPct val="100000"/>
              </a:lnSpc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سارة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سماحي -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4282025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lnSpc>
                <a:spcPct val="100000"/>
              </a:lnSpc>
              <a:spcBef>
                <a:spcPts val="799"/>
              </a:spcBef>
              <a:buClr>
                <a:srgbClr val="9537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تحت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953734"/>
                </a:solidFill>
                <a:latin typeface="Lucida Grande"/>
                <a:cs typeface="Arial"/>
              </a:rPr>
              <a:t>إشراف</a:t>
            </a:r>
            <a:r>
              <a:rPr b="0" lang="en-US" sz="3200" spc="-1" strike="noStrike">
                <a:solidFill>
                  <a:srgbClr val="953734"/>
                </a:solidFill>
                <a:latin typeface="Lucida Grande"/>
              </a:rPr>
              <a:t>: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أ.خلود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Lucida Grande"/>
                <a:cs typeface="Arial"/>
              </a:rPr>
              <a:t>السلطان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حن نعيش بعالم من الإتصال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نتمكن من التواصل بأفضل طريقه ممكنه علينا ان نتقن فن الإتص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لال الإسابيع القادمة سنتعلم معاً عن مهارات الإتصال الإحدى عش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20DA-861C-434F-8A5A-A25694EB2536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جوانب الع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انب فكري (الفص الأيمن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جانب الفهم والتفكير والرأي والاستيعا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غلب عليه مهارات الربط الأدبي والفني والألوان وربط أفكار متباعدة في ظاهرها وغير متصلة منطقيا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انب العاطفي(الفص الأيسر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غلب عليه الوظائف والعمليات التحلي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مسؤول عن المنطق والاستنتاجات المنطق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987E-0125-4D3F-8FFE-2DA5C7FF0DAC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صال هو الاتفاق والاتحاد والانسجام مع الآخري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ه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لوك أفضل السبل والوسائل لنقل المعلومات والمعاني والأحاسيس والآراء إلى أشخاص آخرين والتأثير في أفكارهم و إقناعهم بما تريد سواء كان ذلك بطريقة لغوية أو غير لغوية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.عوض القر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712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4920" indent="-30492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تصال أمر حيو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الاتصال موجود في أغلب أعمالنا اليومية، في الاجتماعات، في محادثة صديق، مهمة تعليم، جلسة تدريب وغير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6720" indent="-30492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كثير من الأحيان الاتصال الغير مناسب يسبب صعوبات في العلاق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233-9ECB-48F8-9403-324A3E3290F2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539-C5D8-4B48-8F39-F0CBC649393A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تابع</a:t>
            </a:r>
            <a:r>
              <a:rPr b="0" lang="ar-SA" sz="4400" spc="-1" strike="noStrike">
                <a:solidFill>
                  <a:srgbClr val="ffc000"/>
                </a:solidFill>
                <a:latin typeface="Calibri Bold"/>
                <a:ea typeface="Calibri Bold"/>
              </a:rPr>
              <a:t>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ماهو الاتصال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الاتصال ف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قد يتقن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عض 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الكثير من الناس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تقن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8584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ن القدرة على التواصل بشكل جيد من واجب كل فرد، وهي مهارة تحتاج باستمرار إلى تعزيز وتطوي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يجب العم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إتقان فن الإتص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527-9775-4FBB-8AE5-2F08039A3A43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SA" sz="4400" spc="-1" strike="noStrike">
                <a:solidFill>
                  <a:srgbClr val="ffc000"/>
                </a:solidFill>
                <a:latin typeface="Lucida Grande"/>
                <a:cs typeface="Arial"/>
              </a:rPr>
              <a:t>المهارة الاولى: </a:t>
            </a: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إشراك المستمع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د مهارة إشراك المستمع مهارة مهمة لجلب انتباه المستمعين وإشراكهم، ليتم بذلك إيصال  ما يود المتحدّث قوله ومناقشته بشكل جي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يؤدي أيضاً إلى تفاعلهم مع  المتحدّث وتبادل الأفكار حتى لا يشعر الجانبان بالملل أو بفجوة في إيصال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442360" y="6467400"/>
            <a:ext cx="244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D91D-8060-4047-AE8E-A40D53B7AA95}" type="slidenum">
              <a:rPr b="0" lang="en-US" sz="1200" spc="-1" strike="noStrike">
                <a:solidFill>
                  <a:srgbClr val="878787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53734"/>
                </a:solidFill>
                <a:latin typeface="Lucida Grande"/>
                <a:cs typeface="Arial"/>
              </a:rPr>
              <a:t>الهدف السلوك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Calibri"/>
                <a:cs typeface="Arial"/>
              </a:rPr>
              <a:t>الهدف السلوكي: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احتفاظ باهتمام الشخص الذي تتواصل معه و إشراكه فيما تقو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لتالي يستطيع المتحدّث أن يوصل أفكاره إلى المستمعين بكل أريح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يستفيد المستمع على أكبر قدر ممكن من المعلومات المقدمة ل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h</dc:creator>
  <dc:description/>
  <cp:keywords/>
  <dc:language>en-US</dc:language>
  <cp:lastModifiedBy>alfares</cp:lastModifiedBy>
  <dcterms:modified xsi:type="dcterms:W3CDTF">2011-11-22T01:50:45Z</dcterms:modified>
  <cp:revision>18</cp:revision>
  <dc:subject/>
  <dc:title>مهارات الإتصال الشخصي</dc:title>
</cp:coreProperties>
</file>