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A0E5-0DB2-4994-AFC5-ADFADBC20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275B-0B75-4EE1-8AB7-761F8C617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7939-ADB7-47D0-8EB8-3A8B30EF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F6FD-4B79-4213-9E34-97C3F11A1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94AB-81D6-4ACF-A2BF-691CCC4D1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4248-D9AA-48A7-90E5-CF874E2D9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25AC-CE66-48B7-9983-B063C3790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843A-989E-48FC-A87A-692AA7D683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FFCA-C699-4C46-BD6B-9E5C6E2A2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2982-E8C7-47A3-983E-A5AE545912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6160-9397-4ADB-9E85-AC5426EBA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8B95-403E-4FBE-A347-C8F6D491E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6E48-BF13-4DF4-BFF0-BB2DDDBFE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6276-8C93-4C9A-A691-8789B52A57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81C2-5BDF-4F90-AF6D-D58401CA13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575B-6615-44E3-85A2-70A46DDCBF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472B-F413-4444-812F-481E6F5E4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F74A-D186-4244-94E7-ABD7641FD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D701-3647-4170-B558-464BC1ECD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2214-4CBE-4CF0-BF16-0BD6CA9D9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11FC-2983-40FE-AE41-C8C8FE38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00BA-F4AF-426F-B65E-8CDCD13D7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E162-032F-4B5B-8805-2E4E8B311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F297-6FFF-4D0D-BEFB-90E15B926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4200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932-A236-4BEF-AA4C-31F38BCF64AC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4200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246-F429-4CE2-A49C-469A90A2ABB4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lc.edu.sa/vb/showthread.php?t=499" TargetMode="External"/><Relationship Id="rId2" Type="http://schemas.openxmlformats.org/officeDocument/2006/relationships/hyperlink" Target="http://www.elkhodary.net/06/Maharat%2520Al-Etsal.ppt" TargetMode="Externa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هارات الإتصال الشخص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Andalus"/>
                <a:cs typeface="Andalus"/>
              </a:rPr>
              <a:t>إشراك المستمع</a:t>
            </a:r>
            <a:endParaRPr b="0" lang="en-US" sz="48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تحسين مهارة إشراك المس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292680" indent="-29268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تخاطب أي جانب من جوانب</a:t>
            </a:r>
            <a:r>
              <a:rPr b="0" lang="en-US" sz="3200" spc="-1" strike="noStrike">
                <a:solidFill>
                  <a:srgbClr val="dd2067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العقل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743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جانب العاطفي أو الجانب الفكر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743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لا تصل إلى الجانب الفكري مباش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في أغلب الحال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2680" indent="-2926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لابد أن تصنع تواصلاً عاطفياً مع المستمع حتى يسمع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743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صوت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المسموع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تدخل إلى العقل الأول قبل أن تنقل إلى العقل الجدي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Calibri Bold"/>
              </a:rPr>
              <a:t>تحسين مهارة إشراك المس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الإستعانة بالنصوص المكتوب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المسموعة تحتاج لخمسة أضعاف الوقت المستخدم لإستيعاب المعلومات المقروء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المقروءة قد تصل مباشرة للجانب الفكري من العق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يعتمد على نوع المادة المقروء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مث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أوراق العم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عرض الشرائ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Calibri Bold"/>
              </a:rPr>
              <a:t>تحسين مهارة إشراك المس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حريك كل أحاسيس المستمعين وكل عقوله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إنهاك المستم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دفعه للمشاركة اكث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إثارة حماس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نتيج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واصل اكثر مع المستمع، وازدادت قدرتك على إقناعه برسالت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دوّامات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Grande"/>
                <a:cs typeface="Geeza Pro"/>
              </a:rPr>
              <a:t>دوّامات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أي شئ يقوم به الملقي ينتج منه لحظة انهماك في عقول مستمعي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إذاً الدوّامات هدف نسعى له اثناء إلقاء المعلوما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ويمكن إنارة هذه الدوامات، من خلال آليات إشراك المستم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تمحورهذه الآليات حول ثلاث مجالات رئيسي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لأسلوب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لتفاع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محتو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جانب المسرح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بدأ حديثك بافتتاح قو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مث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بيان مشكلة مهم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رواية قصيرة مؤثر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طرح سؤال جدل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ضع عنصراً مثيرا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مث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وقفة طويل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نغمة صوتي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تغيرات في درجة الصو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ختم اتصالك باقتباس مثير أو بعبارة مهم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Geeza Pro"/>
              </a:rPr>
              <a:t> اتصال العي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اتصال العيني المباش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مسحاً شاملاً لكل المستمعي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اتصال الموسع بالعين مع كل فردٍ على حد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  <a:cs typeface="Geeza Pro"/>
              </a:rPr>
              <a:t>قس ردود أفعال المستمعين خلال تقديم العر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cs typeface="Geeza Pro"/>
              </a:rPr>
              <a:t>وجه الخطاب مباشراً لمن تلاحظ ان ردود افعالهم بطيئه او منشغلين عن العرض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فت انتباهه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حرك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غيّر آلية التقديم كلما أمكن ذل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تحرّك نحوالمستمعين خاصة في بداية الاتصال وفي نهايت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الأدوات البصري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أعط المستمعين شيئاً ما ينظرون إليه غير النظر إلى شخص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ستعمل أنواعا مختلفة من الأدوات البصرية في أي عرض رسم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عرض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كتابة على السبو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التدرب على هذه الوسائل مسبقاً حتى يكون استعمالك لها سهلاً وغير صارف للاهتم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إشراك المستمعين أو أحدهم إشراكا عفويا دون سابق إعدا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تفاع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أسئل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نواع الإسئل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أسئلة الجدل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ستبقي على المستمعين نشطين ومفكر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طلب رفع الأيدي للموافقة أو عدمها على بعض الأمو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طلب متطوعا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محتوي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مقدمة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جوانب العق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ما هو الأتصال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عريف بالمهارة و أهميتها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هدف السلوكي 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حسين مهارة إشراك المستمع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آليات إشراك المستمع والتأثير عليه 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نشاط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تفاع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عرض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خطط سلفاً لكل خطوة أو أجراء وتأكد من توقيت العرض بدقة قبل البدا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خذ متطوعاً من المجموعة لكي يساعدك في عرضك إذا كان ذلك ممكنا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تفاع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ألعاب والحي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أدخل بعض الألعاب التعليمية والفوازير والحي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Geeza Pro"/>
              </a:rPr>
              <a:t> لرفع الملل دون أن يخل ذلك بالهدف الرئي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تبقي مسيطراً على الجلس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ستعمل الإبداع والحيل والألعاب التي يمكن استعمالها بشكل فعال في كثير من الأوضا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لكن حافظ على مستوى رفيع من الذو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محتو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اهتما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قبل أن تتكلم راجع ما تود أن تقوله بسؤا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كيف أفيد مستمع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تذكر أن ذاكرة المستمع قصيرة المد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فحاول تركيز المعلومات وجذب الانتبا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ستعمل الاتصال العيني لإثارة الاهتم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محتو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مر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بدأ بتعليق حميمي وود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جعل دعابتك ذات صلة بمستمعيك ولها علاقة بموضوع الحدي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كن محترفاً في إظهار إنسانيتك في الوقت المناسب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صور إحساس المرح وروح الدعاب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يمكن ذلك عن طريق بعض القصص أو المواقف الطريف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ستعمال تعليقات المستمعين لخلق جو من المرح والدعاب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نشا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تقوم نورة بإلقاء محاضرة على زميلاتها في إحدى المقررات، و اثناء ذلك لاحظت أ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اثنتان من زميلاتها يتشاركن الأحاديث الجانبية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و أخرى على طرف القاعة تعبث بهاتفها المحمول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و ثالثة تكاد أن تغط بالنوم في أخر القاع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 Bold"/>
                <a:cs typeface="ヒラギノ角ゴ ProN W6"/>
              </a:rPr>
              <a:t>ماذا تنصح نورة بأن تفعل للفت إنتباهه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elc.edu.sa/vb/showthread.php?t=4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elkhodary.net/06/Maharat%20Al-Etsal.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131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Andalus"/>
                <a:cs typeface="Andalus"/>
              </a:rPr>
              <a:t>شكراً للإنصات و المشاركة</a:t>
            </a:r>
            <a:r>
              <a:rPr b="1" lang="en-US" sz="5400" spc="-1" strike="noStrike">
                <a:solidFill>
                  <a:srgbClr val="ffc000"/>
                </a:solidFill>
                <a:latin typeface="Andalus"/>
                <a:ea typeface="Andalus"/>
              </a:rPr>
              <a:t> 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3701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أعد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هذا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العرض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ctr" rtl="1">
              <a:lnSpc>
                <a:spcPct val="10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أبرار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المعجل -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4272030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ctr" rtl="1">
              <a:lnSpc>
                <a:spcPct val="10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سارة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السماحي -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4282025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تحت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إشراف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: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أ.خلود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السلطان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حن نعيش بعالم من الإتصال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نتمكن من التواصل بأفضل طريقه ممكنه علينا ان نتقن فن الإتص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لال الإسابيع القادمة سنتعلم معاً عن مهارات الإتصال الإحدى عش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C9A-8CF5-4EB9-B34B-C5FA47B36D6C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جوانب الع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جانب فكري (الفص الأيمن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جانب الفهم والتفكير والرأي والاستيعا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غلب عليه مهارات الربط الأدبي والفني والألوان وربط أفكار متباعدة في ظاهرها وغير متصلة منطقيا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جانب العاطفي(الفص الأيسر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غلب عليه الوظائف والعمليات التحلي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مسؤول عن المنطق والاستنتاجات المنطق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F68-AF88-4420-91FB-2633960D525F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اهو الاتصال 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صال هو الاتفاق والاتحاد والانسجام مع الآخري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ه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لوك أفضل السبل والوسائل لنقل المعلومات والمعاني والأحاسيس والآراء إلى أشخاص آخرين والتأثير في أفكارهم و إقناعهم بما تريد سواء كان ذلك بطريقة لغوية أو غير لغوي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.عوض القر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اهو الاتصال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712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صال أمر حيو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الاتصال موجود في أغلب أعمالنا اليومية، في الاجتماعات، في محادثة صديق، مهمة تعليم، جلسة تدريب وغير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 كثير من الأحيان الاتصال الغير مناسب يسبب صعوبات في العلاق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562-4C99-40F2-A944-29307558D9C7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1455-FF7E-4314-8695-2C6E1EA8A348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اهو الاتصال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الاتصال ف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قد يتقنه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عض 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الكثير من الناس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تقن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ن القدرة على التواصل بشكل جيد من واجب كل فرد، وهي مهارة تحتاج باستمرار إلى تعزيز وتطوي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يجب العم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إتقان فن الإتص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0DB4-5DEB-4D80-9617-4449461C47F9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المهارة الاولى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إشراك المستمع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د مهارة إشراك المستمع مهارة مهمة لجلب انتباه المستمعين وإشراكهم، ليتم بذلك إيصال  ما يود المتحدّث قوله ومناقشته بشكل جي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يؤدي أيضاً إلى تفاعلهم مع  المتحدّث وتبادل الأفكار حتى لا يشعر الجانبان بالملل أو بفجوة في إيصال المعلوما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EC43-E0A2-40F8-94B8-A61003729983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هدف السلوك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Calibri"/>
                <a:cs typeface="Arial"/>
              </a:rPr>
              <a:t>الهدف السلوكي: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درة على الاحتفاظ باهتمام الشخص الذي تتواصل معه و إشراكه فيما تقو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لتالي يستطيع المتحدّث أن يوصل أفكاره إلى المستمعين بكل أريح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يستفيد المستمع على أكبر قدر ممكن من المعلومات المقدمة ل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h</dc:creator>
  <dc:description/>
  <cp:keywords/>
  <dc:language>en-US</dc:language>
  <cp:lastModifiedBy>alfares</cp:lastModifiedBy>
  <dcterms:modified xsi:type="dcterms:W3CDTF">2011-11-22T01:50:45Z</dcterms:modified>
  <cp:revision>18</cp:revision>
  <dc:subject/>
  <dc:title>مهارات الإتصال الشخصي</dc:title>
</cp:coreProperties>
</file>