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163-D13A-4822-B5C2-D5583485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69C-CB78-4273-BC19-CBEF14BE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D0A-3BBB-4AB2-86CD-B69D6A94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66B-B3F4-4FC5-BE7F-5326B5E9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C42-CF0C-4FBF-A6A2-03B9C2C1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29A-C1EB-476E-BD23-FE860D2B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C5D-1C1D-4BC8-8F11-16E48DFA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D3F-E868-4175-A333-D9CA6533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3A7-C49D-4A71-8B97-339DFE29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2C2-A183-4C87-9E3C-575C459E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DE8-8C5E-4A86-A6E4-89BA7857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B8F-4314-40AB-9F21-68002E8C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DE1F-DB0E-4462-B838-33B58DC949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مارين شاملة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ادة الك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مقدار الضريبة = نسبة الضريبة * الربح بعد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مقدار الضريبة في كل سنة كما يل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اولى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ثاني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ثالث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رابع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خامس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الربح بعد الضريبية = الربح بعد الاستهلاك – الضري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صافي التدفق النقدي = الربح بعد الضريبة +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1981080"/>
          <a:ext cx="7543800" cy="4535640"/>
        </p:xfrm>
        <a:graphic>
          <a:graphicData uri="http://schemas.openxmlformats.org/drawingml/2006/table">
            <a:tbl>
              <a:tblPr/>
              <a:tblGrid>
                <a:gridCol w="1441440"/>
                <a:gridCol w="1096920"/>
                <a:gridCol w="1028880"/>
                <a:gridCol w="958680"/>
                <a:gridCol w="1176480"/>
                <a:gridCol w="920880"/>
                <a:gridCol w="92052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جدول النهائ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1600200"/>
          <a:ext cx="838188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143000"/>
                <a:gridCol w="1067040"/>
                <a:gridCol w="1306440"/>
                <a:gridCol w="1022400"/>
                <a:gridCol w="10238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ن الجدول السابق نج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ترة الاسترد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اذا كان معدل ال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ترة الاسترداد المخصو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فترة الاستر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بلغ الاستثمار الاول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 السنة الاولى مجموع ما نحصل علية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 السنة الثانية مجموع ما نحصل علي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 السنة الثالثة مجموع ما نحصل علي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94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بقى من مبلغ الاستثمار الاول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94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نحصل عليهم خلال لسنة الراب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التالي فترة الاستر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كاملة +(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/78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 شه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9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ن الشه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عند معدل خص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ولا نجد القيمة الحالية للتدفقات النقدية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259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57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30.0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93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4.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8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35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خامس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2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80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900.3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ثانيا نجد مجموع القيم الحالية للتدفق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للتدفقات النقد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230.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7144.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900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قانون صافي القيمة الح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= مجموع القيم الحالية – الاستثمار الاو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(عند معدل 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يمة موجبة المشروع مقب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000000"/>
                </a:solidFill>
                <a:latin typeface="Arial"/>
              </a:rPr>
              <a:t>معايير تقييم الاستثمارات الرأس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= مجموع القيم الحالية / الاستثمار الاو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(عند معدل 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)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/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.200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اكبر من واحد صحيح المشروع مقب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فترة الاسترداد المخصو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للتدفقات خلال الثلاث سنوات الاولى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230.08+7144.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53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62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.7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شه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التالي فترة الاسترداد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.7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شه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عدل العائد الداخ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 u="sng">
                <a:solidFill>
                  <a:srgbClr val="000000"/>
                </a:solidFill>
                <a:uFillTx/>
                <a:latin typeface="Arial"/>
              </a:rPr>
              <a:t>اولا نجد متوسط التدفقات النقد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تدفقات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8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2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4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توسط التدفقات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44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88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ريال سنوي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 u="sng">
                <a:solidFill>
                  <a:srgbClr val="000000"/>
                </a:solidFill>
                <a:uFillTx/>
                <a:latin typeface="Arial"/>
              </a:rPr>
              <a:t>ثانيا نطبق المعادلة التالية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استثمار الاولي / متوسط التدفقات النقد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88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7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 u="sng">
                <a:solidFill>
                  <a:srgbClr val="000000"/>
                </a:solidFill>
                <a:uFillTx/>
                <a:latin typeface="Arial"/>
              </a:rPr>
              <a:t>ثالثا نبحث عن هذا الرقم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78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 في جدول القيمة الحالية للتدفقات المنتظمة المتساوية عند السنة الخامس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هذا الرقم بي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ذا 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+ (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433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378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/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433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)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فكر الشركة العربية بتنفيذ احد مشروعين بديلين . يتطلب كل من المشروعين استثمارا اوليا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دينار . و لكل مشروع حياة انتاجية قدرت بخمس سنوات . و تدفع الشركة العربية ضرائب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تشترط عائد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. و سيتم استهلاك المشروعين بإتباع طريقة القسط الثابت مع افتراض عدم وجود اية قيمة للخردة لكل من المشروعين و من المتوقع ان تكون التدفقات النقدية قبل الاستهلاك و الضريبة  من المشروعين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رباح قبل الاستهلاك و الضرائ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ا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حساب ما يلي للمشروعي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سترداد الاستثم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ولا : قسط الاستهلا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قسط الاستهلاك السنوي للمشروع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قسط الاستهلاك السنوي للمشروع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ثانيا :صافي الدخل و صافي التدفقات النقدية بعد الضرائب للمشرو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هم المعايير المستخدمة في تقيم الاستثمارات الرأسمالي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ترة  الاسترداد العا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ترة  الاسترداد المخصو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( مؤشر الربحية او نسبة المنفعة الى التكالي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دة استرداد الاستثم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دة الاسترداد = الاستثمار الاولي \متوسط صافي التدفق النقدي السن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 للمشروع الاول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,3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 للمشروع الثان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توسط صافي التدفق النقد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 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1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,2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سترداد المشروع الثاني افضل من المشروع الا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دة الاسترداد المخصو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شروع الأو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لا :نجد مجموع القيم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مجموع القيم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79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ثانيا :نجد المتوس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/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274.4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ابعا :نطبق قانون مدة الاسترد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/2274.4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مشروع الثان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ولا نجد مجموع القيم الحال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909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63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826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0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قيمة الحالية للمبلغ الثالث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751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0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قيمة الحالية للمبلغ الرابع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683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39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قيمة الحالية للمبلغ الخامس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6209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17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1768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ثانيا . نجد متوسط القيم الحال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متوسط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1768.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353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طبق قانون مدة الاستردا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353.7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.2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س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79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ث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09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63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264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1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50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83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39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خامس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209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17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.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76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ثاني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768.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 اكبر من صافي القيمة الحالية للمشروع الأول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372.4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 لذلك يكون المشروع الثاني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372.4/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7/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.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اكبر من دليل الربحية للمشروع الأول لذلك يكون المشروع الأول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مشروع الأو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طبق القانون المتبع في مدة الاسترداد  مباشرة لان التدفقات متساو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دة الاسترداد للمشروع الاول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,333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بحث عن هذا الرقم في جدول القيم الحالية المتساوية في صف السنة الخامس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جد هذا الرقم محصور بي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) و (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عدل العائد الداخلي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33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/(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24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عدل العائد الداخلي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.23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 للمشروع الثان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متوسط صافي التدفقات لأنها غير متسا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توسط صافي التدفق النقد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قانون مدة الاسترد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 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1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,235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بحث عن الناتج في جدول القيم الحالية المتساوية في صف  السنة الخامس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جد هذا الرقم محصور ب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1272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%) و (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,235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/(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127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26%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6.2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للمشروع الثاني اكبر من المشروع الأول اذا المشروع الثاني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قييم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523880"/>
          <a:ext cx="8076960" cy="533376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1676520"/>
                <a:gridCol w="3047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فض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أو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3</a:t>
                      </a: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4</a:t>
                      </a: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ة الاستردا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ة الاسترداد المخصوم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قيمة الحال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ليل الربح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6</a:t>
                      </a: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2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عد العائد الداخلي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ما يلي الوفورات ( الربح التشغيلي او الربح قبل الاستهلاك و الضرائب  ) التي تحققها احدى الالات عدا الضرائب والاستهلاك خلال السنوات الخمس التالية من عمرها الاقتصاد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ثابت في الاستهلاك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علما بأنه لا يوجد للمشروع اية قيمة للخردة بعد الاستهلاك , كما ان معدل العائد المطلوب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من المتوقع ان يدر المشروع تدفقات نقدية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دفقات النقدية قبل الضرائب و الاستهلا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يا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ل تنصح المنشاة بقبول لمشروع اذا تم تقييمه على اساس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هز البيانات لغايات التقيي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السنو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/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حسب مدة الاستر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توسط التدفقات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25000/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القانو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/12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حسب 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69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696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6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561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5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187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571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لقيمة الحالية للمبلغ الخامس = 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17500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0.4972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8701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ريا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                                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75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سالب اذا المشروع مرف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3242.5/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قل م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ذا المشروع مرفو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توسط التدفقات 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625000/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طبق القانو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00000/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بحث في جدول القيمة الحالية في السنة الخامس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جدة بين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.992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عند فائدة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و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100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عند فائدة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ذا معدل العائد الداخلي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100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/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100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.992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.9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اقل من معدل العائد المطلوب اذا المشروع مرف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تمارين متنوعة</a:t>
            </a:r>
            <a:br>
              <a:rPr sz="4000"/>
            </a:b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 الاستمارات الرأسمالية يجب على الشركة قبولها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الجواب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ستطيع الشركة قبول المشروعات الاستثمارية المجدية و التي يكون العائد المتوقع منها أعلى من تكلفة الاستثمار. وبإمكان المنشأة قبول المشروعات المجدية إلى أن تنفذ الأموال المخصصة للاستثما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440"/>
                <a:gridCol w="41144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فو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تمرين رقم 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دى شركة ينبع المقترحات الاستثمارية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ذا علمت أن تكلفة رأس الما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% و الأموال المرغوب استثمارها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,000,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. المطلوب المفاضلة بين المقترحات الاستثمارية السابقة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1397160"/>
          <a:ext cx="6096240" cy="3108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سبة الإيرادات المتوق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أموال المستثم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قم المشرو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ح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اك ثلاثة معايير أساسية يجب أخذها في الاعتبار عند المفاضلة بين المشروعات المقترح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بعاد أي مشروع عوائده أقل من تكلفة رأس الم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بول المشروعات الأكثر عائ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أخذ في الاعتبار حجم الأموال المتاحة للاستثم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ذن المقترحات الواجب قبولها هي كالتالي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76520" y="4114800"/>
          <a:ext cx="6095880" cy="21938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سبة الإيرادات المتوق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أموال المستثم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قم المشرو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60280"/>
            <a:ext cx="9144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إذا توفرت لديك البيانات التالية عن مشرو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38280" y="1752480"/>
          <a:ext cx="4319640" cy="2827080"/>
        </p:xfrm>
        <a:graphic>
          <a:graphicData uri="http://schemas.openxmlformats.org/drawingml/2006/table">
            <a:tbl>
              <a:tblPr/>
              <a:tblGrid>
                <a:gridCol w="3048120"/>
                <a:gridCol w="1271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دفقات النقدية السن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طلوب نصح الشركة بقبول المشروع أو رفضه باستخدا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حساب فترة الاسترداد (حسب طريقة المتوسط و القيم لتراكمية) (مع العلم بأن الشركة تقبل أي مشروع تكون فترة استرداده اقل م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سنوات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حساب صافي القيمة الحالية (مع العلم بأن الشركة تقبل أي مشروع تتجاوز صافي القيمة الحالي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00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ريال ومعدل الخصم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%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حساب دليل الربحية؟ (مع العلم بأن الشركة تقبل أي مشروع تتجاوز فيه دليل الربحي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حساب معدل العائد الداخلي (مع العلم بأن الشركة تقبل أي مشروع يتجاوز فيه معدل العائد الداخل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%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فترة الاستردا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أ-  على أساس المتوس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متوسط التدفقات النقدية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59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فترة الاسترداد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3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18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2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سن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يتم قبول المشرو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ب- على أساس القيم التراكم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سنوات) + [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5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*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يوم]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سنوات و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65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يو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يتم قبول المشرو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85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385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385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385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85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385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385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صافي القيمة الح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92.8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580.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694.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037.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901.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3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4106.1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3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106.1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يتم رفض المشرو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دليل الربحية: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4106.1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3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يتم رفض المشرو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- معدل العائد الداخ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أذن معدل العائد الداخلي للمشروع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+ {[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) *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0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 /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0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7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}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% + (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3.1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8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3.6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يتم رفض المشرو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08000" y="1052640"/>
          <a:ext cx="5878800" cy="3981240"/>
        </p:xfrm>
        <a:graphic>
          <a:graphicData uri="http://schemas.openxmlformats.org/drawingml/2006/table">
            <a:tbl>
              <a:tblPr/>
              <a:tblGrid>
                <a:gridCol w="1656000"/>
                <a:gridCol w="1241280"/>
                <a:gridCol w="2087640"/>
                <a:gridCol w="893880"/>
              </a:tblGrid>
              <a:tr h="7038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قيمة الحالية للتدفقات النق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دفقات النق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تدفقات النقدية الحا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ثمار المبدئ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قيمة الحا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متحان يو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ثابت في الاستهلاك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علما بأنه لا يوجد للمشروع اية قيمة للخردة بعد الاستهلاك , كما ان معدل العائد المطلوب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من المتوقع ان يدر المشروع تدفقات نقدية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دفقات النقدية قبل الضرائب و الاستهلا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يا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ل تنصح المنشاة بقبول لمشروع اذا تم تقييمه على اساس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فإذا كانت الشركة تتبع طريقة القسط الثابت في الاستهلاك و تخضع لضريبة معدلها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و ثمن الالة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الف و تشترط عائد مقداره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جهيز البيانات من اجل التقي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يجا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فترة الاستردا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صافي القيمة الحالية اذا كان معدل الخصم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فترة الاسترداد المخصو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هز البيانات لغايات التقيي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السنو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/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حسب مدة الاستر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توسط التدفقات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25000/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القانو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/12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حسب 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69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696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6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561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5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187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571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لقيمة الحالية للمبلغ الخامس = 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17500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0.4972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8701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ريا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                                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75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سالب اذا المشروع مرف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3242.5/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قل م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ذا المشروع مرفو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توسط التدفقات 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625000/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طبق القانو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00000/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بحث في جدول القيمة الحالية في السنة الخامس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جدة بين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.992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عند فائدة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و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100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عند فائدة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ذا معدل العائد الداخلي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100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/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100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.992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.9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اقل من معدل العائد المطلوب اذا المشروع مرف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طبيقات عملية 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نفرض انك ورثت قطعة ارض فيها اشجار حرجية و لكي تستطيع قطع الاشجار من هذه الارض لبيعها فانه عليك ان تنشئ فيها الطرق و التسهيلات الضرورية للقيام بذلك . و لكنك كلما انتظرت كلما نمت الاشجار و اصبح مردودة على شكل حجمها و سعرها افضل و كلما ارتفعت ايضا تكاليف انشاء الطرق و التسهيلات لقطعها و لكن نمو الاشجار سيكون بمعدلات متناقصة  بمرور الزمن و خاصة بعد بلوغها عمرا معينا . لنفرض ان صافي القيمة المستقبلية للأشجار في كل سنة من السنوات القادمة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قيمة المستقبل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هاية 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ريا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ري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ري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ري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ري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4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ريا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إذا كان معدل الخصم المرغوب فيه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. المطلوب في أي سنة يكون من الافضل قطع الاشجار و بيع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لاحظة صافي القيمة المستقبلية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لقيمة المستقبلية للأشجار ـ القيمة المستقبلية للتكاليف اللازمة لقطع الاشجار و بيعها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ستخرج القيمة الحالية لصافي القيمة المستقبلية للأشجار في كل سنة بعدل خصم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نختار الزمن الذي يحققه اعلى صافي قيمه حال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 قسط الاستهلاك السنوي حسب المعادلة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= (القيمة في بداية العمر الانتاجي – الخردة )\العمر الانتا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 نعمل جدول ك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3048120"/>
                <a:gridCol w="243828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حال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بلغ × المعامل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× 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ن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46,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09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231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 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17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166,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× 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13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ar-JO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68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 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83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926,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4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 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209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لاحظ ان القيمة الحالية لصافي القيمة المستقبلية في نهاية السنة الرابعة هي اعلى واحدة اذن يتم تأجيل قطع الاشجار الى نهاية السنة الرابع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طبيقات عملية 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فرض انك تملك مزرعة لتسمين العجول و انك اشتريت عجولا رضيعة عمرها شهران بمبلغ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ريال و تريد الاحتفاظ بها لمدة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شهور على الاقل ثم بيعها بعد ذلك فمتى تنصح ببيعها ( بعد الشهور الاربعة الاولى ) اذا كا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كاليف التسمين من اعلاف و عناية بيطرية ... الخ تبلغ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ريال في الشهر و انك اشتريت هذه الاعلاف و اللوازم في بداية كل ش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نمو حاجة العجول الى الاعلاف ب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في الشهر خلال الشهور الستة الاولى و ب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بعد ذل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ينمو ثمن العجول ب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في الشهر في الشهور الستة الاولى و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في الشهور الستة التالية و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في الشهور الاربعة التي تليها ثم يستقر على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 فيما بع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عدل الخصم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تى تنصح ببيع العجول بموجب طريقة صافي القيمة الحالي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زيزي الطال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يرجى  منك مراعاة ما يلي عند الامتحان النهائ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حضار الهوية الجامعية و بطاقة الاحو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إحضار الحاسبة الشخصية حيث لن يسمح بإدخال التلفونات  الجوا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راجعة قاعة الامتحان قبل موعد الامتحان بنصف ساعة على الاقل لمعرفة قاعة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لتقيد بتعليمات المراقب و المحافظة على ال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خروج من قاعة الامتحان قبل مضي نصف وقت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تجمع بالممرات بعد الانتهاء من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ع امنياتي لكم بالنجاح و التوفي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د. محمد الموم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مد لله رب العا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ربح بعد الاستهلاك = الربح قبل الاستهلاك –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3-23T07:13:1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