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1518-CCEA-427F-91BF-0F8BA7D7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DB52-479A-4C59-A28A-8E34A7B5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1AD0-5A80-41B0-8E1B-C020CEB81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B79-5D86-40CD-AF5D-9DF0EB26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BFCD-8128-4A38-88F9-F0455F44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3AB-3043-45DD-B775-7346A816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2187-4373-4BAC-A707-802ECD33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5C4-7DD7-4B88-896C-8C712857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8D4-7EB9-4715-B9C4-582E4E94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DDE-5DCE-4869-91E8-44D6E67C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FCC-30ED-4A75-94E9-EE22AEC8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FDD0-1F77-4BC8-B585-03235801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A0D4-F535-4F68-B7FB-4169C5BEE8D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تمارين شامل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مقدار الضريبة = نسبة الضريبة * الربح بعد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مقدار الضريبة في كل سنة كما يل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اولى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ني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لث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رابع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خامس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الربح بعد الضريبية = الربح بعد الاستهلاك – الضري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صافي التدفق النقدي = الربح بعد الضريبة +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1981080"/>
          <a:ext cx="7543800" cy="4535640"/>
        </p:xfrm>
        <a:graphic>
          <a:graphicData uri="http://schemas.openxmlformats.org/drawingml/2006/table">
            <a:tbl>
              <a:tblPr/>
              <a:tblGrid>
                <a:gridCol w="1441440"/>
                <a:gridCol w="1096920"/>
                <a:gridCol w="1028880"/>
                <a:gridCol w="958680"/>
                <a:gridCol w="1176480"/>
                <a:gridCol w="920880"/>
                <a:gridCol w="92052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جدول النهائ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ن الجدول السابق نج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ترة الاسترد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اذا كان معدل ال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ترة الاسترداد المخصو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فترة الاستر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بلغ الاستثمار الاول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السنة الاولى مجموع ما نحصل علية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السنة الثانية مجموع ما نحصل علي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السنة الثالثة مجموع ما نحصل علي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94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بقى من مبلغ الاستثمار الاول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94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نحصل عليهم خلال لسنة الرابع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التالي فترة الاستر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كاملة +(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/78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 شه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9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ن الشه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عند معدل خص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ولا نجد القيمة الحالية للتدفقات النقدية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25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57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93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35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0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ثانيا نجد مجموع القيم الحالية للتدفق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للتدفقات النقد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قانون صافي القيمة الح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مجموع القيم الحالية – الاستثمار الاو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يمة موجبة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4400" spc="-1" strike="noStrike">
                <a:solidFill>
                  <a:srgbClr val="000000"/>
                </a:solidFill>
                <a:latin typeface="Arial"/>
              </a:rPr>
              <a:t>معايير تقييم الاستثمارات الرأس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= مجموع القيم الحالية / الاستثمار الاو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/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.200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اكبر من واحد صحيح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فترة الاسترداد المخصو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للتدفقات خلال الثلاث سنوات الاولى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230.08+7144.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53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62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.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شه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التالي فترة الاسترداد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.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شه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 u="sng">
                <a:solidFill>
                  <a:srgbClr val="000000"/>
                </a:solidFill>
                <a:uFillTx/>
                <a:latin typeface="Arial"/>
              </a:rPr>
              <a:t>اولا نجد متوسط التدفقات النقد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تدفقات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+ 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4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توسط التدفقات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44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88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ريال سنوي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 u="sng">
                <a:solidFill>
                  <a:srgbClr val="000000"/>
                </a:solidFill>
                <a:uFillTx/>
                <a:latin typeface="Arial"/>
              </a:rPr>
              <a:t>ثانيا نطبق المعادلة التالية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استثمار الاولي / متوسط التدفقات النقد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88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7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 u="sng">
                <a:solidFill>
                  <a:srgbClr val="000000"/>
                </a:solidFill>
                <a:uFillTx/>
                <a:latin typeface="Arial"/>
              </a:rPr>
              <a:t>ثالثا نبحث عن هذا الرقم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78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 في جدول القيمة الحالية للتدفقات المنتظمة المتساوية عند السنة الخامس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هذا الرقم بي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ذا 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+ (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433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378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/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433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)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4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فكر الشركة العربية بتنفيذ احد مشروعين بديلين . يتطلب كل من المشروعين استثمارا اوليا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دينار . و لكل مشروع حياة انتاجية قدرت بخمس سنوات . و تدفع الشركة العربية ضرائب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تشترط عائد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و سيتم استهلاك المشروعين بإتباع طريقة القسط الثابت مع افتراض عدم وجود اية قيمة للخردة لكل من المشروعين و من المتوقع ان تكون التدفقات النقدية قبل الاستهلاك و الضريبة  من المشروعين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رباح قبل الاستهلاك و الضرائ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ا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حساب ما يلي للمشروعي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سترداد الاستثم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ولا : قسط الاستهلا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ثانيا :صافي الدخل و صافي التدفقات النقدية بعد الضرائب للمشرو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هم المعايير المستخدمة في تقيم الاستثمارات الرأسمالية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ترة  الاسترداد العاد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ترة  الاسترداد المخصو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( مؤشر الربحية او نسبة المنفعة الى التكالي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دة استرداد الاستثم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دة الاسترداد = الاستثمار الاولي \متوسط صافي التدفق النقدي السنو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 للمشروع الاول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,3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 للمشروع الثان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توسط صافي التدفق النقد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,2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سترداد المشروع الثاني افضل من المشروع الا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دة الاسترداد المخصوم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شروع الأو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لا :نجد مجموع القيم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79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ثانيا :نجد المتوس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/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274.4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ابعا :نطبق قانون مدة الاسترد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/2274.4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شروع الثان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ولا نجد مجموع القيم الحال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ثانيا . نجد متوسط القيم الحال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توسط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1768.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353.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طبق قانون مدة الاسترد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2353.7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.2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79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 اكبر من صافي القيمة الحالية للمشروع الأول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 لذلك يكون المشروع الثاني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7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اكبر من دليل الربحية للمشروع الأول لذلك يكون المشروع الأول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شروع الأول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طبق القانون المتبع في مدة الاسترداد  مباشرة لان التدفقات متساوي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دة الاسترداد للمشروع الاول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,333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بحث عن هذا الرقم في جدول القيم الحالية المتساوية في صف السنة الخامس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جد هذا الرقم محصور بين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) و (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عائد الداخلي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33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352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%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0.243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.23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 للمشروع الثان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متوسط صافي التدفقات لأنها غير متساو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توسط صافي التدفق النقد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قانون مدة الاستردا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1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,235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بحث عن الناتج في جدول القيم الحالية المتساوية في صف  السنة الخامس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جد هذا الرقم محصور ب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1272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%) و (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ند معدل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,235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/(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274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3.127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%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26%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6.2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للمشروع الثاني اكبر من المشروع الأول اذا المشروع الثاني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قييم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523880"/>
          <a:ext cx="8076960" cy="533376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1676520"/>
                <a:gridCol w="3047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فض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أو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3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4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ة الاستردا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5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دة الاسترداد المخصوم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قيمة الحال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ليل الربح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26</a:t>
                      </a: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2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عد العائد الداخلي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ما يلي الوفورات ( الربح التشغيلي او الربح قبل الاستهلاك و الضرائب  ) التي تحققها احدى الالات عدا الضرائب والاستهلاك خلال السنوات الخمس التالية من عمرها الاقتصاد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كما ان معدل العائد المطلوب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من المتوقع ان يدر المشروع تدفقات نقدية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دفقات النقدية قبل الضرائب و الاستهلا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ل تنصح المنشاة بقبول لمشروع اذا تم تقييمه على اسا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هز البيانات لغايات التقيي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السنو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/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مدة الاستر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توسط التدفقات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25000/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القانو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/12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69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696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6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561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5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187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571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لقيمة الحالية للمبلغ الخامس = 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17500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0.4972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8701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ريا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                                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75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سال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3242.5/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قل م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ذا المشروع مرفو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توسط التدفقات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625000/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طبق القانو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/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بحث في جدول القيمة الحالية في السنة الخامس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جدة بين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.992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عند فائدة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و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عند فائدة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ذا معدل العائد الداخلي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/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.992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.9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اقل من معدل العائد المطلو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تمارين متنوعة</a:t>
            </a:r>
            <a:br>
              <a:rPr sz="4000"/>
            </a:b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ي الاستمارات الرأسمالية يجب على الشركة قبولها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الجواب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ستطيع الشركة قبول المشروعات الاستثمارية المجدية و التي يكون العائد المتوقع منها أعلى من تكلفة الاستثمار. وبإمكان المنشأة قبول المشروعات المجدية إلى أن تنفذ الأموال المخصصة للاستثمار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440"/>
                <a:gridCol w="41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فو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تمرين رقم 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لدى شركة ينبع المقترحات الاستثمارية التال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ذا علمت أن تكلفة رأس الما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% و الأموال المرغوب استثمارها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3,000,000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. المطلوب المفاضلة بين المقترحات الاستثمارية السابقة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523880" y="1397160"/>
          <a:ext cx="6096240" cy="31082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سبة الإيرادات المتوق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أموال المستثم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قم المشر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هناك ثلاثة معايير أساسية يجب أخذها في الاعتبار عند المفاضلة بين المشروعات المقترح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ستبعاد أي مشروع عوائده أقل من تكلفة رأس الم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قبول المشروعات الأكثر عائ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الأخذ في الاعتبار حجم الأموال المتاحة للاستثم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أذن المقترحات الواجب قبولها هي كالتالي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676520" y="4114800"/>
          <a:ext cx="6095880" cy="21938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1191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سبة الإيرادات المتوقع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قيمة الأموال المستثمر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قم المشرو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60280"/>
            <a:ext cx="91440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0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إذا توفرت لديك البيانات التالية عن مشرو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68580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438280" y="1752480"/>
          <a:ext cx="4319640" cy="2827080"/>
        </p:xfrm>
        <a:graphic>
          <a:graphicData uri="http://schemas.openxmlformats.org/drawingml/2006/table">
            <a:tbl>
              <a:tblPr/>
              <a:tblGrid>
                <a:gridCol w="3048120"/>
                <a:gridCol w="1271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دفقات النقدية السنو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طلوب نصح الشركة بقبول المشروع أو رفضه باستخدا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حساب فترة الاسترداد (حسب طريقة المتوسط و القيم لتراكمية) (مع العلم بأن الشركة تقبل أي مشروع تكون فترة استرداده اقل م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سنوات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حساب صافي القيمة الحالية (مع العلم بأن الشركة تقبل أي مشروع تتجاوز صافي القيمة الحالي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ريال ومعدل الخصم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%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حساب دليل الربحية؟ (مع العلم بأن الشركة تقبل أي مشروع تتجاوز فيه دليل الربحية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حساب معدل العائد الداخلي (مع العلم بأن الشركة تقبل أي مشروع يتجاوز فيه معدل العائد الداخل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%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- فترة الاستردا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أ-  على أساس المتوس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متوسط التدفقات النقدية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59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فترة الاسترداد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3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18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.2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سن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يتم قبول المشرو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ب- على أساس القيم التراكمي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سنوات) + [(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70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950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) *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يوم] =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سنوات و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65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يو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(يتم قبول المشرو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385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385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" dur="385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385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385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385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385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85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385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385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385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صافي القيمة الح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92.8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580.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694.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037.4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901.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3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4106.1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3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106.1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يتم رفض المشرو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دليل الربحية: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4106.1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3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(يتم رفض المشروع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- معدل العائد الداخل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أذن معدل العائد الداخلي للمشروع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+ {[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) *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0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06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7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} =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% + (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3.1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8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3.6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يتم رفض المشرو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08000" y="1052640"/>
          <a:ext cx="5878800" cy="3981240"/>
        </p:xfrm>
        <a:graphic>
          <a:graphicData uri="http://schemas.openxmlformats.org/drawingml/2006/table">
            <a:tbl>
              <a:tblPr/>
              <a:tblGrid>
                <a:gridCol w="1656000"/>
                <a:gridCol w="1241280"/>
                <a:gridCol w="2087640"/>
                <a:gridCol w="893880"/>
              </a:tblGrid>
              <a:tr h="70380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قيمة الحالية للتدفقات النق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دفقات النق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تدفقات النقدية الح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0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ثمار المبدئ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5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قيمة الحال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متحان يوم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كما ان معدل العائد المطلوب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من المتوقع ان يدر المشروع تدفقات نقدية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دفقات النقدية قبل الضرائب و الاستهلا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ل تنصح المنشاة بقبول لمشروع اذا تم تقييمه على اسا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دة الاستردا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فإذا كانت الشركة تتبع طريقة القسط الثابت في الاستهلاك و تخضع لضريبة معدلها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و ثمن الالة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الف و تشترط عائد مقداره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جهيز البيانات من اجل التقيي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يج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فترة الاستردا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صافي القيمة الحالية اذا كان معدل الخصم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فترة الاسترداد المخصوم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هز البيانات لغايات التقيي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السنو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/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مدة الاسترداد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توسط التدفقات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25000/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القانون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/12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69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696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6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561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5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187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571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لقيمة الحالية للمبلغ الخامس = 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17500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0.4972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8701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ريا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                                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75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سال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3242.5/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قل م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ذا المشروع مرفو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عدل العائد الداخ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توسط التدفقات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625000/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طبق القانون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/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بحث في جدول القيمة الحالية في السنة الخامس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نجدة بين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.992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عند فائدة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و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عند فائدة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ذا معدل العائد الداخلي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/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.100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.992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+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.9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عدل العائد الداخلي اقل من معدل العائد المطلو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طبيقات عملية 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نفرض انك ورثت قطعة ارض فيها اشجار حرجية و لكي تستطيع قطع الاشجار من هذه الارض لبيعها فانه عليك ان تنشئ فيها الطرق و التسهيلات الضرورية للقيام بذلك . و لكنك كلما انتظرت كلما نمت الاشجار و اصبح مردودة على شكل حجمها و سعرها افضل و كلما ارتفعت ايضا تكاليف انشاء الطرق و التسهيلات لقطعها و لكن نمو الاشجار سيكون بمعدلات متناقصة  بمرور الزمن و خاصة بعد بلوغها عمرا معينا . لنفرض ان صافي القيمة المستقبلية للأشجار في كل سنة من السنوات القادمة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قيمة المستقبل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نهاية 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إذا كان معدل الخصم المرغوب فيه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المطلوب في أي سنة يكون من الافضل قطع الاشجار و بيع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لاحظة صافي القيمة المستقبلية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لقيمة المستقبلية للأشجار ـ القيمة المستقبلية للتكاليف اللازمة لقطع الاشجار و بيعها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ستخرج القيمة الحالية لصافي القيمة المستقبلية للأشجار في كل سنة بعدل خصم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نختار الزمن الذي يحققه اعلى صافي قيمه حالي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 قسط الاستهلاك السنوي حسب المعادلة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= (القيمة في بداية العمر الانتاجي – الخردة )\العمر الانتا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\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 نعمل جدول ك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3048120"/>
                <a:gridCol w="243828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حال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بلغ × المعامل 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× 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ن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546,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09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231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5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 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417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166,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× 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13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ar-JO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68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 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83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926,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9400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 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20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لاحظ ان القيمة الحالية لصافي القيمة المستقبلية في نهاية السنة الرابعة هي اعلى واحدة اذن يتم تأجيل قطع الاشجار الى نهاية السنة الرابع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طبيقات عملية 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نفرض انك تملك مزرعة لتسمين العجول و انك اشتريت عجولا رضيعة عمرها شهران بمبلغ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ريال و تريد الاحتفاظ بها لمدة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شهور على الاقل ثم بيعها بعد ذلك فمتى تنصح ببيعها ( بعد الشهور الاربعة الاولى ) اذا كان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كاليف التسمين من اعلاف و عناية بيطرية ... الخ تبلغ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ريال في الشهر و انك اشتريت هذه الاعلاف و اللوازم في بداية كل شه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تنمو حاجة العجول الى الاعلاف ب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في الشهر خلال الشهور الستة الاولى و ب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بعد ذل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ينمو ثمن العجول بمعدل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في الشهر في الشهور الستة الاولى و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في الشهور الستة التالية و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في الشهور الاربعة التي تليها ثم يستقر على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  فيما بع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عدل الخصم 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متى تنصح ببيع العجول بموجب طريقة صافي القيمة الحالية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زيزي الطال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رجى  منك مراعاة ما يلي عند الامتحان النهائ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حضار الهوية الجامعية و بطاقة الاحو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إحضار الحاسبة الشخصية حيث لن يسمح بإدخال التلفونات  الجو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راجعة قاعة الامتحان قبل موعد الامتحان بنصف ساعة على الاقل لمعرفة قاعة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لتقيد بتعليمات المراقب و المحافظة على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خروج من قاعة الامتحان قبل مضي نصف وقت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تجمع بالممرات بعد الانتهاء من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ع امنياتي لكم بالنجاح و التوف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د. محمد الموم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ربح بعد الاستهلاك = الربح قبل الاستهلاك –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23T07:13:1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