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95B-68DE-4C3E-9E6A-4C11CC3F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5AC-DB7B-4ADA-9588-C98C8E3D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2EA-CE99-41C8-847E-52ED5987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3FC-0E57-410E-88FF-C4656078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ACE7-C972-491D-AA31-ACC28A09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E22-F0C9-4438-951B-FFADD4A5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5321-552C-4515-ADAA-5F2CF494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0570-4241-44B5-8208-941CF25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74A3-35A7-4D74-BEAA-6598467E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2696-D87D-4530-93BC-5E41428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E5C4-6F08-4704-9833-4CF338B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724-82CB-4DC3-ACF7-FE060C2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9D8-CD81-4C4F-B279-05CF4BC9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CC1-2AD3-42C4-BEE1-089F022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C7B-51DE-44AA-AC20-87BE361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607-B323-4584-8DEE-86F21828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A139-986A-4286-AC12-E94CA52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56E-D914-472B-BE21-1219678D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3C0-DCAF-4F6E-9879-EBD2CB6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3F2-A25A-428F-8A67-DBF716C3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0BC-39A0-4DE8-82A3-88E01E19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3A9-3E0C-4008-AD51-83B4466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68D-A1A7-47E2-BB67-DC6D02C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B95-23E7-4049-B77D-0EA7DB74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A8C-018D-4DF3-B51D-8EBECF49D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232C-A957-44ED-A2AC-885E3EC64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Physi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581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 &amp;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Fun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capture energy &amp; assimilate carb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distribute nutrients &amp; 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grow &amp; deve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respond to the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repro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809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ell Wal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Prim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Cellulose Microfibrils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0%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Pectin 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Glycans (10%)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ms X-linka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tween Microfibril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66720" y="18288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lasmodesmat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tion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smalem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smotubul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tion of 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8640" y="18288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5943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imary Pit Fiel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condary C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its, Pit Pai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28640" y="18288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lls --&gt; T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photosynthesis;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lor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; undifferentia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enchy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lerenchym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y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tracheids &amp; vessels) conduc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&amp; min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lo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seive tube elements &amp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on cells); conduc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c food 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lls --&gt; T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piderm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protective covering; replac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lellem; (guard cells, cuti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de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(Cork or phlellem cells); forms c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b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t Develop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ed --&gt;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&gt;  adult pla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28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st Seed Known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ri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scular camb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k camb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24480" y="1676520"/>
            <a:ext cx="4162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9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pl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us/nucleopl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sol  (g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56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ult Plant Body (angiosperm organ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3581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2400" y="1447920"/>
            <a:ext cx="4521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79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ocots vs. Dic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031840"/>
            <a:ext cx="8028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eav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tiole &amp; Bl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62160" y="167652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4343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9625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eav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tiole &amp; Bl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962160" y="167652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lasmalemma</a:t>
            </a:r>
            <a:br>
              <a:rPr sz="4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Unit Membran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Fluid Mozai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8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8584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 1.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gral,  Periph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res, enzym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ycolip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tic Material D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Membrane - p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ucleol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&gt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ibo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tein produ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43040" y="182880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ytoskele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-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tub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ubu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fila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ynamic -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toplasmic Strea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14800" y="18288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ulin       Ac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08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tochondr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membrane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respiration -&gt; AT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ebs Cy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85840" y="18288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911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lor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ymbiosis”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52320" y="182880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639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lastid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t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lor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mylopla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ch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hromopl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gment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1440" y="18288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. 1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 Ce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mallest functiona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crobo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eo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lipid storage; mainly in s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/2 membrane cover; from smooth 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oxi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contain catalase; rid hydrogen perox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layer membrane cover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yoxy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fatty-acid metabo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layer membrane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14800" y="18288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1:34:20Z</dcterms:created>
  <dc:creator>rushin</dc:creator>
  <dc:description/>
  <dc:language>en-US</dc:language>
  <cp:lastModifiedBy>user</cp:lastModifiedBy>
  <dcterms:modified xsi:type="dcterms:W3CDTF">2007-09-06T22:01:53Z</dcterms:modified>
  <cp:revision>18</cp:revision>
  <dc:subject/>
  <dc:title>Plant Physiology</dc:title>
</cp:coreProperties>
</file>