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FB9-71B0-4619-A839-FCB795BC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4D9-454E-4CFC-B172-E8FC8853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383-1E8A-4569-BA77-03D02544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E96-2043-4D91-A483-581DA9C9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E6C7-9862-46EA-A5C8-2F1F83C8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76D4-A60E-4D24-AE74-A3F1C5A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F8BB-E0ED-4749-A937-B998647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CCF-D30D-4334-8812-93353864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9E11-7965-498F-95C1-92480B61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830A-2181-40F1-AE10-DDE138B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438F-3AC2-40DC-9DEA-2AA3E3A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8FF-FA6F-44A3-8F9F-80823311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06D0-EC30-48D3-93D3-B06A98DA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66AC-661C-452A-A82E-DB66EBB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49EF-7140-49CB-ADF6-95C15413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0DE3-8F57-4F33-8042-5B2E5292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6D79-885B-48E3-9F75-5AF33535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76B-6E78-4F56-A707-605F612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ABD-A6CD-4AD6-A207-D1AFD13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A34-78D5-4C8B-BA57-56DFBEA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558-86EF-4C18-A73B-93078169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47E-36D6-412D-804C-842B056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D6D-AC2D-478A-8D04-681F74A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E00-6692-4198-AC6F-5289500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7ED-62BB-4DE9-BA7C-B02E0E0E5F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A192-E7FC-4A54-B412-0728652BCD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Physi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5812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 &amp;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Func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capture energy &amp; assimilate carb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distribute nutrients &amp; 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grow &amp; devel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respond to the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reprodu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809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ell Wal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Prim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Cellulose Microfibrils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0%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Pectin 3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Glycans (10%)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ms X-linka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tween Microfibril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66720" y="18288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648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lasmodesmat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tion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smalem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smotubul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tion of 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8640" y="18288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5943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imary Pit Fiel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econdary C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its, Pit Pair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28640" y="18288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79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lls --&gt; T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enchy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photosynthesis;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lorenchy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; undifferentia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lenchy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lerenchym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y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tracheids &amp; vessels) conduc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&amp; min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lo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seive tube elements &amp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nion cells); conduc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c food 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lls --&gt; T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piderm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protective covering; replac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lellem; (guard cells, cuti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ide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Cork or phlellem cells); forms c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b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nt Develop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ed --&gt;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--&gt;  adult pla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28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st Seed Known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ult Plant Body (angiosperm organ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5812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ri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scular camb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k camb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2400" y="1447920"/>
            <a:ext cx="4521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24480" y="1676520"/>
            <a:ext cx="4162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ult Plant Body (angiosperm organ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5812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2400" y="1447920"/>
            <a:ext cx="4521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9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pl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cleus/nucleopla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tosol  (g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5638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ult Plant Body (angiosperm organ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5812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2400" y="1447920"/>
            <a:ext cx="4521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79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ocots vs. Dic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031840"/>
            <a:ext cx="8028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eave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tiole &amp; Bl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62160" y="167652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4343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9625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eave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tiole &amp; Bl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962160" y="167652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1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lasmalemma</a:t>
            </a:r>
            <a:br>
              <a:rPr sz="40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Unit Membran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Fluid Mozai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Mode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008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85840" y="152352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 1.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ral,  Periph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res, enzym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lycolip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tic Material D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Membrane - p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ibo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tein produ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43040" y="1828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ytoskele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-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crotub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ubu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crofila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ynamic -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toplasmic Strea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14800" y="18288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bulin       Ac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708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tochondr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membrane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respiration -&gt; AT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ebs Cy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85840" y="18288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911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lor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ymbiosis”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5639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lastid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t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lor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myl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ch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romopl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gment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71440" y="18288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. 1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crobo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leoso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lipid storage; mainly in s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/2 membrane cover; from smooth 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oxiso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ain catalase; rid hydrogen perox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layer membrane cover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yoxyso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fatty-acid metabo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layer membrane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14800" y="18288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1:34:20Z</dcterms:created>
  <dc:creator>rushin</dc:creator>
  <dc:description/>
  <dc:language>en-US</dc:language>
  <cp:lastModifiedBy>user</cp:lastModifiedBy>
  <dcterms:modified xsi:type="dcterms:W3CDTF">2007-09-06T22:01:53Z</dcterms:modified>
  <cp:revision>18</cp:revision>
  <dc:subject/>
  <dc:title>Plant Physiology</dc:title>
</cp:coreProperties>
</file>