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89DDD-BBFF-4FA9-9ED5-A482A72B0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FD89D-DB84-47A3-AE31-D14AC26D4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0B42C-7F50-47C4-89AB-4929D7DA1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3A9FE-7DC5-4444-BF22-CA506D8F3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9AED3-3CE6-4DBD-9AF9-97A854092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7870-EF48-4382-A197-F3B070E5B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E2732-9F7A-4C55-9731-F66D308B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E357F-ED3E-4B21-863A-5008C8ACE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56505-2988-4B2E-8602-E870A1330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C3DC6-0EB1-4FC8-9525-FE495A1F9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E261B-F130-4196-AE29-B912D635D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F98B6-8CDB-435A-8B4E-052616EFC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5071-FFC4-42FE-855F-797788CD373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ميل دور كايم</a:t>
            </a:r>
            <a:endParaRPr b="0" lang="en-US" sz="4400" spc="-1" strike="noStrike">
              <a:solidFill>
                <a:srgbClr val="000000"/>
              </a:solidFill>
              <a:latin typeface="Calibri"/>
            </a:endParaRPr>
          </a:p>
        </p:txBody>
      </p:sp>
      <p:pic>
        <p:nvPicPr>
          <p:cNvPr id="42" name="صورة 3" descr="دووووور كايم"/>
          <p:cNvPicPr/>
          <p:nvPr/>
        </p:nvPicPr>
        <p:blipFill>
          <a:blip r:embed="rId1"/>
          <a:stretch/>
        </p:blipFill>
        <p:spPr>
          <a:xfrm>
            <a:off x="3108240" y="2560680"/>
            <a:ext cx="3578400" cy="665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تمتاز الظواهر الاجتماعية بأنها مزودة بصفة الجبر والالزام أي بقوة قاهرة تفرض نفسها فرضاً على الأفراد ولا يسع هؤلاء أن يخالفوها بل يتحتم عليهم أن يراعوها ويصبوا أعمالهم سواء وافق ذلك رغباتهم الفردية أم لم يوافق شاءوا أم لم يشاءوا ومن يحاول أن يخرج عما يرسمه المجتمع من حدود و أوضاع قوبل في هذا الصدد بمقاومة عنيف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سس الدراسات الاجتماعية ومناهج البحث .</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لم الاجتماع علم نظري غايته دراسة المجتمع وما ينبعث عنه من ظواهر دراسة علمية وصفية تحليلية.ولكي يتحقق هذا الهدف لابد من وجود منهج علمي له أسس معينة ممكن السير عليها من أجل الوصول لنتائج.</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رغم أن اوجست كونت وضع لنا عدد  من المناهج العلمية الاجتماعية إلا أن الفضل ينسب إلى دور كايم في أنه كان أول من حدد الشروط الضرورية التي يجب توافرها للسير سيرا صحيحاً في البحث الاجتماعي أي أنه هو الذي حدد أسس الدراسة التي يجب أن يلتزمها الباحث حتى يصل إلى نتائج أدنى إلى الصحة و أقرب إلى حقائق الأمو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أسس الدراسة التي وضعها كايم:</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يجب دراسة الظواهر الاجتماعية باعتبارها أشياء بمعنى أنها تعالج كما تعالج الظواهر الوضعية الأخرى.وتستطيع أن تقدم نفسها مادة للملاحظة والتجربة وينظر إليها الباحث نظرته إلى أشياء اجتماعية خارجية منفصلة عن شعوره الداخلي.</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يجب على الباحث أن يتحرر من كل فكرة سابقة يعرفها عن الظاهرة موضوع الدراسة حتى لا يقع اسيرا لأفكاره الشخصية ومدركاته السابقة ويجب عليه أيضاً أن يتحرر من تلك الآراء الكاذبة التي يتوارثها الافراد بخصوص شئون الحياة الاجتماعية.</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ثل: الرقية وبحثنا فيه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جب على الباحث أن يبدأ بتعريف الظواهر التي يتخذها مادة لدراسته لأن الانسان لا يستطيع أن يتحقق من صدق نظرية ما إلا إذا قام بتحديد الظواهر التي ينبغي أن تفسرها هذه النظرية.(بمعنى تحديد المفاهيم ثم تعريفه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يجب على الباحث عند دراسة طائفة خاصة من الظواهر الاجتماعية أن يبذل قصارى جهده في ملاحظة هذه الظواهر من الناحية التي تبدو فيها مستقلة عن صورها الفرد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هم قواعد أو خطوات المنهج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دراسة نشأة الظاهرة والوقوف على عناصرها لأن الظاهرة شيء معقد وتتألف من اجزاء كثيرة فلا يمكن فهم طبيعتها إلا بتحليلها إلى عناصرها المكونة. (مثل الاسر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دراسة تطور الظواهر والوقوف على مختلف أشكالها فلا يقتصر في شرح الظاهرة على حالتها الحاضرة ولكن ينبغي الرجوع إلى الماضي وربطه بالحاضر.</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دراسة العلاقات التي تربط الظاهرة بما عداها من الظواهر التي تنتمي إلى شعبتها ولا بأس أيضا من دراسة علاقتها بظواهر أخرى ليست من فصيلت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 الانتفاع بمنطق المقارنة في دراسة الظواهر.</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 الكشف عن الوظيفة الاجتماعية التي تؤديها الظاهرة ومدى ما خضعت  له هذه الوظيفة من تطور وذلك  في ضوء دراسة تاريخ الظاهرة..</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6</a:t>
            </a:r>
            <a:r>
              <a:rPr b="0" lang="ar-SA" sz="3000" spc="-1" strike="noStrike">
                <a:solidFill>
                  <a:srgbClr val="000000"/>
                </a:solidFill>
                <a:latin typeface="Calibri"/>
              </a:rPr>
              <a:t>- تحديد القوانين (النتائج) التي يصل إليها الباحث من دراساته ويجب صياغة هذه القوانين بدقة لأنها هي التي تكون مادة العلم .</a:t>
            </a:r>
            <a:endParaRPr b="0" lang="en-US" sz="3000" spc="-1" strike="noStrike">
              <a:solidFill>
                <a:srgbClr val="000000"/>
              </a:solidFill>
              <a:latin typeface="Calibri"/>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يجب أن تكون دقيقة . وقد تصاغ القوانين في صور كمية عن الظاهرة بالأرقام أو في صور كيفية تحدد الخواص والصفات العامة والدعائم الأساسية التي تقوم عليها الظاهر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5</a:t>
            </a:r>
            <a:r>
              <a:rPr b="0" lang="ar-SA" sz="4000" spc="-1" strike="noStrike">
                <a:solidFill>
                  <a:srgbClr val="ff0000"/>
                </a:solidFill>
                <a:latin typeface="Calibri"/>
              </a:rPr>
              <a:t>- أشهر النظريات الاجتماعية التي عالجها.</a:t>
            </a:r>
            <a:br>
              <a:rPr sz="4000"/>
            </a:br>
            <a:endParaRPr b="0" lang="en-US" sz="4000" spc="-1" strike="noStrike">
              <a:solidFill>
                <a:srgbClr val="000000"/>
              </a:solidFill>
              <a:latin typeface="Calibri"/>
            </a:endParaRPr>
          </a:p>
        </p:txBody>
      </p:sp>
      <p:sp>
        <p:nvSpPr>
          <p:cNvPr id="71" name=""/>
          <p:cNvSpPr txBox="1"/>
          <p:nvPr/>
        </p:nvSpPr>
        <p:spPr>
          <a:xfrm>
            <a:off x="457200" y="1052280"/>
            <a:ext cx="8229600" cy="5073480"/>
          </a:xfrm>
          <a:prstGeom prst="rect">
            <a:avLst/>
          </a:prstGeom>
          <a:noFill/>
          <a:ln w="0">
            <a:noFill/>
          </a:ln>
        </p:spPr>
        <p:txBody>
          <a:bodyPr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زخر دراسات وبحوث دور كايم بعدد هال من النظريات في مختلف شئون الحياة الاجتماعية.</a:t>
            </a:r>
            <a:endParaRPr b="0" lang="en-US" sz="3200" spc="-1" strike="noStrike">
              <a:solidFill>
                <a:srgbClr val="000000"/>
              </a:solidFill>
              <a:latin typeface="Calibri"/>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قد تكلم عن طبيعة المجتمع, وفي تقسيم المجتمعات وتوزيع الأعمال وفي الدين والمعرفة والأسرة والتربية والجريمة والانتحار وما إلى ذلك من الموضوعات التي عرض لها.</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سنتناول بعض هذا النظريات وهي:</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1</a:t>
            </a:r>
            <a:r>
              <a:rPr b="0" lang="ar-SA" sz="3200" spc="-1" strike="noStrike">
                <a:solidFill>
                  <a:srgbClr val="ff0000"/>
                </a:solidFill>
                <a:latin typeface="Calibri"/>
              </a:rPr>
              <a:t>- طبيعة المجتمعات وأشكالها.</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نظريته في الدين.</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3</a:t>
            </a:r>
            <a:r>
              <a:rPr b="0" lang="ar-SA" sz="3200" spc="-1" strike="noStrike">
                <a:solidFill>
                  <a:srgbClr val="ff0000"/>
                </a:solidFill>
                <a:latin typeface="Calibri"/>
              </a:rPr>
              <a:t>- في الأسرة </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4</a:t>
            </a:r>
            <a:r>
              <a:rPr b="0" lang="ar-SA" sz="3200" spc="-1" strike="noStrike">
                <a:solidFill>
                  <a:srgbClr val="ff0000"/>
                </a:solidFill>
                <a:latin typeface="Calibri"/>
              </a:rPr>
              <a:t>- الانتحا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نظريته حول طبيعة المجتمعات وأشكالها:</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سم دور كايم المجتمعات إلى قسمين وقد التزم في هذا التقسيم على مبدأين أو معيارين هم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التركيب المورفولوج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توزيع العم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836280"/>
            <a:ext cx="8229600" cy="5289480"/>
          </a:xfrm>
          <a:prstGeom prst="rect">
            <a:avLst/>
          </a:prstGeom>
          <a:noFill/>
          <a:ln w="0">
            <a:noFill/>
          </a:ln>
        </p:spPr>
        <p:txBody>
          <a:bodyPr anchor="t">
            <a:normAutofit fontScale="97000"/>
          </a:bodyPr>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على هذا يكون التقسيم كالتالي, فهو يقسم المجتمعات إلى قسمين:</a:t>
            </a:r>
            <a:endParaRPr b="0" lang="en-US" sz="3000" spc="-1" strike="noStrike">
              <a:solidFill>
                <a:srgbClr val="000000"/>
              </a:solidFill>
              <a:latin typeface="Calibri"/>
            </a:endParaRPr>
          </a:p>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ff0000"/>
                </a:solidFill>
                <a:uFillTx/>
                <a:latin typeface="Calibri"/>
              </a:rPr>
              <a:t>مجتمعات محدودة النطاق : (خصائصها)</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1</a:t>
            </a:r>
            <a:r>
              <a:rPr b="0" lang="ar-SA" sz="3000" spc="-1" strike="noStrike" u="sng">
                <a:solidFill>
                  <a:srgbClr val="ff0000"/>
                </a:solidFill>
                <a:uFillTx/>
                <a:latin typeface="Calibri"/>
              </a:rPr>
              <a:t>- </a:t>
            </a:r>
            <a:r>
              <a:rPr b="0" lang="ar-SA" sz="3000" spc="-1" strike="noStrike">
                <a:solidFill>
                  <a:srgbClr val="000000"/>
                </a:solidFill>
                <a:latin typeface="Calibri"/>
              </a:rPr>
              <a:t>ساذجة </a:t>
            </a:r>
            <a:r>
              <a:rPr b="0" lang="ar-SA" sz="3000" spc="-1" strike="noStrike" u="sng">
                <a:solidFill>
                  <a:srgbClr val="ff0000"/>
                </a:solidFill>
                <a:uFillTx/>
                <a:latin typeface="Calibri"/>
              </a:rPr>
              <a:t>بسيطة</a:t>
            </a:r>
            <a:r>
              <a:rPr b="0" lang="ar-SA" sz="3000" spc="-1" strike="noStrike" u="sng">
                <a:solidFill>
                  <a:srgbClr val="000000"/>
                </a:solidFill>
                <a:uFillTx/>
                <a:latin typeface="Calibri"/>
              </a:rPr>
              <a:t> </a:t>
            </a:r>
            <a:r>
              <a:rPr b="0" lang="ar-SA" sz="3000" spc="-1" strike="noStrike">
                <a:solidFill>
                  <a:srgbClr val="e46c0a"/>
                </a:solidFill>
                <a:latin typeface="Calibri"/>
              </a:rPr>
              <a:t>غير معقدة </a:t>
            </a:r>
            <a:r>
              <a:rPr b="0" lang="ar-SA" sz="3000" spc="-1" strike="noStrike">
                <a:solidFill>
                  <a:srgbClr val="000000"/>
                </a:solidFill>
                <a:latin typeface="Calibri"/>
              </a:rPr>
              <a:t>التركيب وغير مميزة الوظائف </a:t>
            </a:r>
            <a:r>
              <a:rPr b="0" lang="ar-SA" sz="3000" spc="-1" strike="noStrike" u="sng">
                <a:solidFill>
                  <a:srgbClr val="ff0000"/>
                </a:solidFill>
                <a:uFillTx/>
                <a:latin typeface="Calibri"/>
              </a:rPr>
              <a:t>وغير خاضعة لمبدأ توزيع العمل </a:t>
            </a:r>
            <a:r>
              <a:rPr b="0" lang="ar-SA" sz="3000" spc="-1" strike="noStrike">
                <a:solidFill>
                  <a:srgbClr val="000000"/>
                </a:solidFill>
                <a:latin typeface="Calibri"/>
              </a:rPr>
              <a:t>.</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2</a:t>
            </a:r>
            <a:r>
              <a:rPr b="0" lang="ar-SA" sz="3000" spc="-1" strike="noStrike">
                <a:solidFill>
                  <a:srgbClr val="ff0000"/>
                </a:solidFill>
                <a:latin typeface="Calibri"/>
              </a:rPr>
              <a:t>- ولا يوجد مؤسسات معينة تقوم بالاهتمام  بالاقتصاد والتربية بل أن المجتمع ككل </a:t>
            </a:r>
            <a:r>
              <a:rPr b="0" lang="ar-SA" sz="3000" spc="-1" strike="noStrike">
                <a:solidFill>
                  <a:srgbClr val="000000"/>
                </a:solidFill>
                <a:latin typeface="Calibri"/>
              </a:rPr>
              <a:t>يقوم بكل شئون الاقتصاد والسياسة والتشريع .</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3</a:t>
            </a:r>
            <a:r>
              <a:rPr b="0" lang="ar-SA" sz="3000" spc="-1" strike="noStrike" u="sng">
                <a:solidFill>
                  <a:srgbClr val="ff0000"/>
                </a:solidFill>
                <a:uFillTx/>
                <a:latin typeface="Calibri"/>
              </a:rPr>
              <a:t>- ويذهب دور كايم كذلك إلى أن الدين هو أقوى مظاهر الحياة الجمعية في هذا الشكل الأولي</a:t>
            </a:r>
            <a:r>
              <a:rPr b="0" lang="ar-SA" sz="3000" spc="-1" strike="noStrike">
                <a:solidFill>
                  <a:srgbClr val="000000"/>
                </a:solidFill>
                <a:latin typeface="Calibri"/>
              </a:rPr>
              <a:t> ويسمي دور كايم المجتمعات التي تعيش هذا الشكل من الحياة الاجتماعية (المجتمعات البدائية)</a:t>
            </a:r>
            <a:endParaRPr b="0" lang="en-US" sz="3000" spc="-1" strike="noStrike">
              <a:solidFill>
                <a:srgbClr val="000000"/>
              </a:solidFill>
              <a:latin typeface="Calibri"/>
            </a:endParaRPr>
          </a:p>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981000"/>
            <a:ext cx="8229600" cy="51451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مجتمعات واسعة النطاق : (خصائصها)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e46c0a"/>
                </a:solidFill>
                <a:uFillTx/>
                <a:latin typeface="Calibri"/>
              </a:rPr>
              <a:t>معقدة التركيب ومميزة الوظائف وتخضع لمبدأ توزيع العمل وهي ما يسمية دور كايم بالمجتمعات التاريخية </a:t>
            </a:r>
            <a:r>
              <a:rPr b="0" lang="ar-SA" sz="3000" spc="-1" strike="noStrike">
                <a:solidFill>
                  <a:srgbClr val="000000"/>
                </a:solidFill>
                <a:latin typeface="Calibri"/>
              </a:rPr>
              <a:t>ويضرب لها مثلا نظام المدينة (كالمدن اليونانية )والامبروطورات القديمة .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e46c0a"/>
                </a:solidFill>
                <a:uFillTx/>
                <a:latin typeface="Calibri"/>
              </a:rPr>
              <a:t>وفي هذه المجتمعات يتعقد التركيب الاجتماعي فنجد الجماعات والهيئات والمؤسسات وتوزع الأعمال وتنوع الوظائف </a:t>
            </a:r>
            <a:r>
              <a:rPr b="0" lang="ar-SA" sz="3000" spc="-1" strike="noStrike">
                <a:solidFill>
                  <a:srgbClr val="000000"/>
                </a:solidFill>
                <a:latin typeface="Calibri"/>
              </a:rPr>
              <a:t>وتزيد درجة التخصص ويصبح الفرد أداه من أدوات الانتاج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u="sng">
                <a:solidFill>
                  <a:srgbClr val="e46c0a"/>
                </a:solidFill>
                <a:uFillTx/>
                <a:latin typeface="Calibri"/>
              </a:rPr>
              <a:t>وتغلب عليه سلطة القانون </a:t>
            </a:r>
            <a:r>
              <a:rPr b="0" lang="ar-SA" sz="3000" spc="-1" strike="noStrike">
                <a:solidFill>
                  <a:srgbClr val="000000"/>
                </a:solidFill>
                <a:latin typeface="Calibri"/>
              </a:rPr>
              <a:t>وقوة التعاقدات  والمعاملات القانون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موضوعات:</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نبذة عن حي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هم مؤلف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تعريف الظاهرة الاجتماعية وتحديد خصائص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أسس الدراسات الاجتماعية ومناهج البحث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أشهر النظريات الاجتماعية التي عالج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عض أهم الانتقادات التي وجهت لنظريات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00"/>
                </a:solidFill>
                <a:uFillTx/>
                <a:latin typeface="Calibri"/>
              </a:rPr>
              <a:t>نظريته في الدين:</a:t>
            </a:r>
            <a:endParaRPr b="0" lang="en-US" sz="4400" spc="-1" strike="noStrike">
              <a:solidFill>
                <a:srgbClr val="000000"/>
              </a:solidFill>
              <a:latin typeface="Calibri"/>
            </a:endParaRPr>
          </a:p>
        </p:txBody>
      </p:sp>
      <p:sp>
        <p:nvSpPr>
          <p:cNvPr id="77" name=""/>
          <p:cNvSpPr txBox="1"/>
          <p:nvPr/>
        </p:nvSpPr>
        <p:spPr>
          <a:xfrm>
            <a:off x="457200" y="1267920"/>
            <a:ext cx="8229600" cy="5185080"/>
          </a:xfrm>
          <a:prstGeom prst="rect">
            <a:avLst/>
          </a:prstGeom>
          <a:noFill/>
          <a:ln w="0">
            <a:noFill/>
          </a:ln>
        </p:spPr>
        <p:txBody>
          <a:bodyPr anchor="t">
            <a:normAutofit fontScale="89000"/>
          </a:bodyPr>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توصل دور كايم في دراسته لدين أن أصل الدين والتدين هو الاتجاه ”التوتمي“ </a:t>
            </a:r>
            <a:r>
              <a:rPr b="0" lang="ar-SA" sz="3200" spc="-1" strike="noStrike">
                <a:solidFill>
                  <a:srgbClr val="000000"/>
                </a:solidFill>
                <a:latin typeface="Calibri"/>
              </a:rPr>
              <a:t>ومن هذا الاتجاه تفرعت الاتجاهات الدينية كل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 </a:t>
            </a:r>
            <a:r>
              <a:rPr b="0" lang="ar-SA" sz="3200" spc="-1" strike="noStrike" u="sng">
                <a:solidFill>
                  <a:srgbClr val="ff0000"/>
                </a:solidFill>
                <a:uFillTx/>
                <a:latin typeface="Calibri"/>
              </a:rPr>
              <a:t>وصل دور كايم إلى هذه النتيجة من خلال دراسته للمجتمعات التوتمية </a:t>
            </a:r>
            <a:r>
              <a:rPr b="0" lang="ar-SA" sz="3200" spc="-1" strike="noStrike">
                <a:solidFill>
                  <a:srgbClr val="000000"/>
                </a:solidFill>
                <a:latin typeface="Calibri"/>
              </a:rPr>
              <a:t>التي تعبر في نظره وفي نظر طائفة كبيرة من العلماء أنها ممثلة لأقدم مظاهر الحياة الاجتماعية.</a:t>
            </a:r>
            <a:endParaRPr b="0" lang="en-US" sz="3200" spc="-1" strike="noStrike">
              <a:solidFill>
                <a:srgbClr val="000000"/>
              </a:solidFill>
              <a:latin typeface="Calibri"/>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كانت هذه المجتمعات تعيش تسير في حياتها الدينية على عبادة التوتم وهو عبارة عن أصل حيواني أو نباتي تعتقد العشيرة التوتمية أنها منحدرة منه </a:t>
            </a:r>
            <a:r>
              <a:rPr b="0" lang="ar-SA" sz="3200" spc="-1" strike="noStrike">
                <a:solidFill>
                  <a:srgbClr val="000000"/>
                </a:solidFill>
                <a:latin typeface="Calibri"/>
              </a:rPr>
              <a:t>وترتبط  معه برابط قرابة دموية وأنه يؤلف معها وحدة اجتما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كانت العشائر تتجه لتوتم بالعبادة والتقديس وتعتبره رمزا لها وعلماً لجميع أفرادها وهي أساس وجودها الاجتماع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ي أن التوتم هو المجتمع وهو معبودة ومصدر القوى الحيوية المحركة له.</a:t>
            </a:r>
            <a:endParaRPr b="0" lang="en-US" sz="3200" spc="-1" strike="noStrike">
              <a:solidFill>
                <a:srgbClr val="000000"/>
              </a:solidFill>
              <a:latin typeface="Calibri"/>
            </a:endParaRPr>
          </a:p>
          <a:p>
            <a:pPr marL="343080" indent="-34308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46c0a"/>
                </a:solidFill>
                <a:uFillTx/>
                <a:latin typeface="Calibri"/>
              </a:rPr>
              <a:t>وفي ضوء هذه الاعتبارات ينهي دور كايم إلى تقرير حقيقة دينية أن المجتمع قد عبد نفسه في أول مظهر من مظاهر التدي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3</a:t>
            </a:r>
            <a:r>
              <a:rPr b="0" lang="ar-SA" sz="4000" spc="-1" strike="noStrike">
                <a:solidFill>
                  <a:srgbClr val="ff0000"/>
                </a:solidFill>
                <a:latin typeface="Calibri"/>
              </a:rPr>
              <a:t>-نظريته  في الأسرة :</a:t>
            </a:r>
            <a:br>
              <a:rPr sz="4000"/>
            </a:br>
            <a:endParaRPr b="0" lang="en-US" sz="4000" spc="-1" strike="noStrike">
              <a:solidFill>
                <a:srgbClr val="000000"/>
              </a:solidFill>
              <a:latin typeface="Calibri"/>
            </a:endParaRPr>
          </a:p>
        </p:txBody>
      </p:sp>
      <p:sp>
        <p:nvSpPr>
          <p:cNvPr id="80" name=""/>
          <p:cNvSpPr txBox="1"/>
          <p:nvPr/>
        </p:nvSpPr>
        <p:spPr>
          <a:xfrm>
            <a:off x="457200" y="981000"/>
            <a:ext cx="8229600" cy="51451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e46c0a"/>
                </a:solidFill>
                <a:uFillTx/>
                <a:latin typeface="Calibri"/>
              </a:rPr>
              <a:t>درس دور كايم الأسرة بوصفها أول خلية في المجمع.</a:t>
            </a:r>
            <a:endParaRPr b="0" lang="en-US" sz="3200" spc="-1" strike="noStrike">
              <a:solidFill>
                <a:srgbClr val="000000"/>
              </a:solidFill>
              <a:latin typeface="Calibri"/>
            </a:endParaRPr>
          </a:p>
          <a:p>
            <a:pPr marL="305280" indent="-30528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46c0a"/>
                </a:solidFill>
                <a:uFillTx/>
                <a:latin typeface="Calibri"/>
              </a:rPr>
              <a:t>درس طبيعتها وأشكالها و وظائف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984807"/>
                </a:solidFill>
                <a:uFillTx/>
                <a:latin typeface="Calibri"/>
              </a:rPr>
              <a:t>ورجع في دراسته إلى أقدم الأشكال الأسرية في المجمعات التوتمية </a:t>
            </a:r>
            <a:r>
              <a:rPr b="0" lang="ar-SA" sz="3200" spc="-1" strike="noStrike">
                <a:solidFill>
                  <a:srgbClr val="000000"/>
                </a:solidFill>
                <a:latin typeface="Calibri"/>
              </a:rPr>
              <a:t>التي يعتبرها دائماً أقدم أشكال المجتمعات الإنسان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984807"/>
                </a:solidFill>
                <a:uFillTx/>
                <a:latin typeface="Calibri"/>
              </a:rPr>
              <a:t>وتوصل من خلال دراسته إلى أن الاجتماع الأسري لا يقوم على الغريزة ودوافع الطبيعة والقرابة الدموية  ولكن هذا الاجتماع في طبيعته يقوم على قواعد وأساليب يرتضيها العقل الجمعي</a:t>
            </a:r>
            <a:r>
              <a:rPr b="0" lang="ar-SA" sz="3200" spc="-1" strike="noStrike">
                <a:solidFill>
                  <a:srgbClr val="000000"/>
                </a:solidFill>
                <a:latin typeface="Calibri"/>
              </a:rPr>
              <a:t> وتدعو إليها الحياة الاجتماعية ذات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692280"/>
            <a:ext cx="8229600" cy="5433840"/>
          </a:xfrm>
          <a:prstGeom prst="rect">
            <a:avLst/>
          </a:prstGeom>
          <a:noFill/>
          <a:ln w="0">
            <a:noFill/>
          </a:ln>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a:t>
            </a:r>
            <a:r>
              <a:rPr b="0" lang="ar-SA" sz="3200" spc="-1" strike="noStrike" u="sng">
                <a:solidFill>
                  <a:srgbClr val="984807"/>
                </a:solidFill>
                <a:uFillTx/>
                <a:latin typeface="Calibri"/>
              </a:rPr>
              <a:t>وقرر من خلال دراسته لنطاق الأسرة أن نطاقها تطور من الاتساع إلى الضيق</a:t>
            </a:r>
            <a:r>
              <a:rPr b="0" lang="ar-SA" sz="3200" spc="-1" strike="noStrike">
                <a:solidFill>
                  <a:srgbClr val="000000"/>
                </a:solidFill>
                <a:latin typeface="Calibri"/>
              </a:rPr>
              <a:t>.</a:t>
            </a:r>
            <a:endParaRPr b="0" lang="en-US" sz="3200" spc="-1" strike="noStrike">
              <a:solidFill>
                <a:srgbClr val="000000"/>
              </a:solidFill>
              <a:latin typeface="Calibri"/>
            </a:endParaRPr>
          </a:p>
          <a:p>
            <a:pPr marL="322200" indent="-3222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بمعنى</a:t>
            </a:r>
            <a:r>
              <a:rPr b="0" lang="ar-SA" sz="3200" spc="-1" strike="noStrike">
                <a:solidFill>
                  <a:srgbClr val="000000"/>
                </a:solidFill>
                <a:latin typeface="Calibri"/>
              </a:rPr>
              <a:t> أنها كانت أسرة ممتدة ثم ضاقت إلى أن أصبحت كما هي في المجتمعات الحديثة الحالية أسرة زواجيه (نووية)</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a:t>
            </a:r>
            <a:r>
              <a:rPr b="0" lang="ar-SA" sz="3200" spc="-1" strike="noStrike">
                <a:solidFill>
                  <a:srgbClr val="e46c0a"/>
                </a:solidFill>
                <a:latin typeface="Calibri"/>
              </a:rPr>
              <a:t>وكان لهذا التطور أثر على الوظائف فقد كانت تقوم بجميع الوظائف الاجتماعية سواء اقتصادية أو تعليمية أو تربوي ..</a:t>
            </a:r>
            <a:endParaRPr b="0" lang="en-US" sz="3200" spc="-1" strike="noStrike">
              <a:solidFill>
                <a:srgbClr val="000000"/>
              </a:solidFill>
              <a:latin typeface="Calibri"/>
            </a:endParaRPr>
          </a:p>
          <a:p>
            <a:pPr marL="322200" indent="-32220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6c0a"/>
                </a:solidFill>
                <a:latin typeface="Calibri"/>
              </a:rPr>
              <a:t>ومع تطور المجتمعات تغيرت هذ الوظائف وأصبحت لها مؤسسات خاصة تقوم بها فالمدرسة مثلاً أخذت وضيفة التربية والتعليم</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انتقادات التي وجهت لدور كايم:</a:t>
            </a:r>
            <a:endParaRPr b="0" lang="en-US" sz="4400" spc="-1" strike="noStrike">
              <a:solidFill>
                <a:srgbClr val="000000"/>
              </a:solidFill>
              <a:latin typeface="Calibri"/>
            </a:endParaRPr>
          </a:p>
        </p:txBody>
      </p:sp>
      <p:sp>
        <p:nvSpPr>
          <p:cNvPr id="83" name=""/>
          <p:cNvSpPr txBox="1"/>
          <p:nvPr/>
        </p:nvSpPr>
        <p:spPr>
          <a:xfrm>
            <a:off x="457200" y="1268280"/>
            <a:ext cx="8229600" cy="485784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لا يمكن التسليم بصحة نظريته في الدين . فقد أرجع الدين إلى أصل أرضي أي إلى طبيعة المجتمع الانساني ولم يعترف بارتباطه بالنزول سماوي إلهي.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يؤكد دور كايم طبيعة الأسرة الاجتماعية ويضغط على وظيفتها الأخلاقية ويبالغ في ذلك. وفي هذه النظرية كثير من الصواب غير أن للأسرة بجانب ذلك وظائف أساسية أخرى يتعلق بعضها بالناحية البيولوجية وتنظيم الاتصالات الجنسية وحفظ النوع ودوام بقائه. ويتعلق بعضها الأخر بوظيفة التنشئة الاجتماعية وللأسرة دور كبير في هذه العملية بجانب المؤسسات المجتمعية الأخرى كالمدرسة و وسائل الإعلا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حياته:</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د اميل دور كايم </a:t>
            </a:r>
            <a:r>
              <a:rPr b="0" lang="ar-SA" sz="3200" spc="-1" strike="noStrike">
                <a:solidFill>
                  <a:srgbClr val="000000"/>
                </a:solidFill>
                <a:latin typeface="Calibri"/>
              </a:rPr>
              <a:t>1858</a:t>
            </a:r>
            <a:r>
              <a:rPr b="0" lang="ar-SA" sz="3200" spc="-1" strike="noStrike">
                <a:solidFill>
                  <a:srgbClr val="000000"/>
                </a:solidFill>
                <a:latin typeface="Calibri"/>
              </a:rPr>
              <a:t>م في فرنسا من عائلة يهود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تم بدراسات اوجست كونت وتأثر فيه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الم اجتماع يعتبر أحد مؤسسي علم الاجتم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وضع لهاذ العلم منهجية مستقلة تقوم على النظرية والتطبيق في نفس الوقت.</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شتغل مدرساً فأستاذا جامعي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2</a:t>
            </a:r>
            <a:r>
              <a:rPr b="0" lang="ar-SA" sz="4400" spc="-1" strike="noStrike">
                <a:solidFill>
                  <a:srgbClr val="ff0000"/>
                </a:solidFill>
                <a:latin typeface="Calibri"/>
              </a:rPr>
              <a:t>- أهم مؤلفاته :</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ك دور كايم مؤلفات وبحوث كثيرة نشر بعضها في حياته ونشر اتباعه البعض الآخر بعد وفاته. وأهم المؤلفات التي نشرت في حيات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عمل, قواعد المنهج الاجتماعي, الانتحار دراسة اجتماعية, الأشكال الأولى للحياة الدي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3</a:t>
            </a:r>
            <a:r>
              <a:rPr b="0" lang="ar-SA" sz="4000" spc="-1" strike="noStrike">
                <a:solidFill>
                  <a:srgbClr val="ff0000"/>
                </a:solidFill>
                <a:latin typeface="Calibri"/>
              </a:rPr>
              <a:t>-تعريف الظاهرة الاجتماعية وتحديد خصائصها.</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يعتبر البحث في الظاهرة الاجتماعية وتحديد خواصها النوعية من أهم موضوعات الدراسة الاجتماعية لأنه مرتبط أشد الارتباط بإمكان قيام علم الاجتماع ومدى استقلاله</a:t>
            </a:r>
            <a:r>
              <a:rPr b="0" lang="ar-SA" sz="3200" spc="-1" strike="noStrike">
                <a:solidFill>
                  <a:srgbClr val="000000"/>
                </a:solidFill>
                <a:latin typeface="Calibri"/>
              </a:rPr>
              <a:t>. فإذا استطاع العلماء من الناحية النظرية أن يصلوا إلى استقلال الظاهرة الاجتماعية في ذاتها وأمكن قيام العلم مستقلا في ذاته أيضاً أما إذا عجزوا في هذا الصدد تعثر العلم وفقد شخصيته وتجاذبته فروع المعرفة الأخرى.</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لذلك اهتم دور كايم في هذا الموضوع لانه يريد أن يضع علم الاجتماع على قواعد ثابت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تعريف الظاهر:</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رف دور كايم الظاهر بأنها : ”</a:t>
            </a:r>
            <a:r>
              <a:rPr b="0" lang="ar-SA" sz="3200" spc="-1" strike="noStrike">
                <a:solidFill>
                  <a:srgbClr val="953735"/>
                </a:solidFill>
                <a:latin typeface="Calibri"/>
              </a:rPr>
              <a:t>عبارة عن ضرب من السلوك العام واتجاهات وأساليب و أوضاع يصب فيها الانسان تفكيره و أعماله وليست هذه الظاهرة من صنع فرد أو بضعة أفراد ولكنها من صنع المجتمع وهي عامة ولها كيان خاص مستقل عن الصور التي تتشكل بها في الحالات الفردية ومزودة بقوة ملزمة مجبرة</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2</a:t>
            </a:r>
            <a:r>
              <a:rPr b="0" lang="ar-SA" sz="4400" spc="-1" strike="noStrike">
                <a:solidFill>
                  <a:srgbClr val="000000"/>
                </a:solidFill>
                <a:latin typeface="Calibri"/>
              </a:rPr>
              <a:t>- أهم خصائص الظاهرة:</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ظواهر الاجتماعية ظواهر إنسانية تنشأ بنشأة الاجتماع وبهذه الصفة تتميز هذه الظواهر عن الظواهر التي تدرسها علوم الرياضة والفلك والطبيعة والكيمياء والبيولوجيا العامة والجيولوجيا والجغرافي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متاز الظواهر الاجتماعية بأنها عبارة عن أساليب وقوالب و أوضاع للتفكير والعمل الانساني وهذه الخاصة تحدد لنا دائرة الصفة الانسانية التي أشرنا إلي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تمتاز الظواهر الاجتماعية بأنها ظواهر شيئية ولها صفة الخارجية وهذه أول صفة يذكرها في كتابه (قواعد المنهج) ويقصد دور كايم بهذه الصفة أن الظاهرة الاجتماعية موجودة في المجتمع خارج شعور الفرد كحقيقة موضوعية شيئية دائمة وتنتقل من جيل إلى جيل وهي ثابته لا تتغير بتغيير الأفراد إلا في حدود ضيقة وهي سابقة في الوجود على الوجود الفردي بمعنى أن الافراد منذ ولادتهم يخضعون لنظم وظواهر اجتماعية سابقة على وجودهم في هذه الحيا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04280"/>
            <a:ext cx="8229600" cy="572148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تمتاز الظواهر الاجتماعية بأنها ليست من وضع فرد أو بضعة أفراد ولكنها من صنع ومن خلقه وتظهر على مسرحية بصورة تلقائية وبوحي من العقل الجمعي.</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الظواهر الاجتماعية ظواهر عامة ويقصد دور كايم بالعمومية (الانتشار في داخل المجتمع) .</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خذ العمومية ثلاث مظاهر هي:</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أن تنتشر الظواهر الاجتماعية في محيط مجتمع معين في جميع هيئاته وطبقاته وريفه ومدنه.</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ن يكون انتشارها في طائفة من المجتمعات التي تتشابه في ظروفها الطبيعية والمورفولوجية والاجتماعية.</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أن يكون انتشارها في نماذج اجتماعية مختلف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03:54:57Z</dcterms:created>
  <dc:creator>Windows User</dc:creator>
  <dc:description/>
  <dc:language>en-US</dc:language>
  <cp:lastModifiedBy>njla</cp:lastModifiedBy>
  <dcterms:modified xsi:type="dcterms:W3CDTF">2014-05-01T08:47:58Z</dcterms:modified>
  <cp:revision>57</cp:revision>
  <dc:subject/>
  <dc:title>اميل دور كايم</dc:title>
</cp:coreProperties>
</file>