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337-A186-401E-8C09-9CD949D7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52BE-88D4-4529-A4B7-ADCDD524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91A-C9B5-4EB1-8A92-512EBEF5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E427-B1EA-480D-899D-6D1B81D18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30C9-71E4-4EF0-B691-9DC37CCA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168-FB55-4218-978F-CA6CD1AA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DE2-10A7-47D3-B4A5-BEF44E56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9BAB-8857-47A7-839D-3EBDA3726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BB2-AE37-481B-AA52-CFF3487B8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025-69AF-4384-97C2-E446BBB5B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652F-94F6-4606-A9BD-DD38D7F7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A029-5751-4648-BAA0-232AAD88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039C-3CAA-48BD-BF67-2ABDF6AF1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Arial"/>
              </a:rPr>
              <a:t>الفصل العاش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مقدار الضريبة = نسبة الضريبة * الربح بعد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جد مقدار الضريبة في كل سنة كما يل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اولى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ني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ثالث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رابع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سنة الخامس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*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الربح بعد الضريبية = الربح بعد الاستهلاك – الضريب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600" spc="-1" strike="noStrike">
                <a:solidFill>
                  <a:srgbClr val="000000"/>
                </a:solidFill>
                <a:latin typeface="Arial"/>
              </a:rPr>
              <a:t>صافي التدفق النقدي = الربح بعد الضريبة +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066680" y="1981080"/>
          <a:ext cx="7543800" cy="4535640"/>
        </p:xfrm>
        <a:graphic>
          <a:graphicData uri="http://schemas.openxmlformats.org/drawingml/2006/table">
            <a:tbl>
              <a:tblPr/>
              <a:tblGrid>
                <a:gridCol w="1441440"/>
                <a:gridCol w="1096920"/>
                <a:gridCol w="1028880"/>
                <a:gridCol w="958680"/>
                <a:gridCol w="1176480"/>
                <a:gridCol w="920880"/>
                <a:gridCol w="920520"/>
              </a:tblGrid>
              <a:tr h="22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جدول النهائ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حسا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صافي التدفق النقدي للمشروعين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ولا :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قسط الاستهلاك السنوي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ثانيا :صافي الدخل و صافي التدفقات النقدية بعد الضرائب للمشروعي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ثاب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ي حالة قسط الاستهلاك المتناق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و من المتوقع ان يدر المشروع تدفقات نقدية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دفقات النقدية قبل الضرائب و الاستهلا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ريا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</a:rPr>
              <a:t>ايجاد صافي التدفق النقدي السنوي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السنو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إياد صافي التدفق النقدي في حالة قسط الاستهلاك المتناق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أرباح قبل الاستهلاك و الضرائب  التي تحققها احدى الالات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جدول التا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يجاد صافي التدفق النقدي في حالة الاستهلاك الثاب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3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8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2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3.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5.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6.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4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57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فكر الشركة العربية بتنفيذ احد مشروعين بديلين . يتطلب كل من المشروعين استثمارا اوليا مقدار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دينار . و لكل مشروع حياة انتاجية قدرت بخمس سنوات . و تدفع الشركة العربية ضرائب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سيتم استهلاك المشروعين بإتباع طريقة القسط المتناقص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. ومن المتوقع ان تكون الأرباح  قبل الاستهلاك و الضريبة  من المشروعين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أرباح قبل الاستهلاك و الضرائ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2743200"/>
                <a:gridCol w="2742840"/>
                <a:gridCol w="27432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او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قسط الاستهلاك لكل مشروع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7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219320"/>
          <a:ext cx="8229600" cy="45720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9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8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8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متناقص في الاستهلاك بنس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و من المتوقع ان الأرباح قبل الاستهلاك و الضرائب ك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ما يلي الوفورات ( الربح التشغيلي او الربح قبل الاستهلاك و الضرائب  ) التي تحققها احدى الالات عدا الضرائب والاستهلاك خلال السنوات الخمس التالية من عمرها الاقتصادي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ايجاد صافي التدفق النقد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1600200"/>
          <a:ext cx="8229600" cy="4716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نه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قسط الاستهلا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قيمة الدفترية في بداية الفتر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523880"/>
          <a:ext cx="8229600" cy="47516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8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18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3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فرع أ من كتاب الإدارة التمويلية في الشركا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قدر المبيعات الناتجة عن مشروع استثماري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في السنه , يذهب من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تكاليف تشغيل نقدية في السنة . أن تكلفة الاستثمار الرأسمالي للمشروع ت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, و حياته الاقتصادية تقدر ب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, و تكلفة رأس الما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, و معدل ضريبة الدخل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. المطلوب : حساب صافي التدفق النقدي السنوي للمشروع علما بان المشروع يستهلاك بطريقة القسط الثابت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إجاب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قسط الاستهلا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قسط الاستهلاك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حسب الربح قبل الاستهلاك و الضري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بح قبل الاستهلاك و الضريبة = الايرادات – النفق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دينار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نعمل جدول كما ي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600200"/>
          <a:ext cx="8229600" cy="493884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229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سنو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و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زيزي الطال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رجى  منك مراعاة ما يلي عند الامتحان النهائي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حضار الهوية الجامعية و بطاقة الاحوا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إحضار الحاسبة الشخصية حيث لن يسمح بإدخال التلفونات  الجوال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راجعة قاعة الامتحان قبل موعد الامتحان بنصف ساعة على الاقل لمعرفة قاعة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التقيد بتعليمات المراقب و المحافظة على النظا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خروج من قاعة الامتحان قبل مضي نصف وقت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عدم التجمع بالممرات بعد الانتهاء من الامتح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ع امنياتي لكم بالنجاح و التوفي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د. محمد المومن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8880" cy="4525920"/>
        </p:xfrm>
        <a:graphic>
          <a:graphicData uri="http://schemas.openxmlformats.org/drawingml/2006/table">
            <a:tbl>
              <a:tblPr/>
              <a:tblGrid>
                <a:gridCol w="4114440"/>
                <a:gridCol w="411444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وفور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ال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إذا كانت الشركة تتبع طريقة القسط الثابت في الاستهلاك و تخضع لضريبة معدل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ثمن الال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ل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طلوب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جهيز البيانات من اجل التقييم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و ايجاد صافي التدفق النقدي السنو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حسب قسط الاستهلاك السنوي حسب المعادلة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سط الاستهلاك = (القيمة في بداية العمر الانتاجي – الخردة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عمر الانتاج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÷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سنوي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 نعمل جدول كالتا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ربح بعد الاستهلاك = الربح قبل الاستهلاك – الاستهلاك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4554360"/>
        </p:xfrm>
        <a:graphic>
          <a:graphicData uri="http://schemas.openxmlformats.org/drawingml/2006/table">
            <a:tbl>
              <a:tblPr/>
              <a:tblGrid>
                <a:gridCol w="1571760"/>
                <a:gridCol w="1197000"/>
                <a:gridCol w="1122120"/>
                <a:gridCol w="1046160"/>
                <a:gridCol w="1282680"/>
                <a:gridCol w="1005120"/>
                <a:gridCol w="100476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mumani</cp:lastModifiedBy>
  <dcterms:modified xsi:type="dcterms:W3CDTF">2010-03-14T06:24:36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