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C42-C21A-4D14-836A-45A0C1D8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32C0-C80D-4A17-9018-7A578AEF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1C6-FC19-4822-9AB6-2DEEC5AB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FAD7-F391-4BFC-A27E-3438F0E8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CC0-BB82-4955-9EA5-134C5DB4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811D-F531-49B8-94F5-F29D8289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9DE-304C-4D31-A68F-686AF421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155-8E42-4E55-868A-15F8A3AB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A6A-4B67-484B-A803-2219ED9C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4B7-6541-4A44-A599-85C5C8D7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DE0-0D3F-4D01-9854-FFF8FC5D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0BD-C2A6-4378-9878-15DA906F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1129-433D-45EA-918B-3DFAF8220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فصل العاش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ادة الك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مقدار الضريبة = نسبة الضريبة * الربح بعد الاستهلاك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جد مقدار الضريبة في كل سنة كما يلي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اولى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ثاني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ثالث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رابع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خامس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الربح بعد الضريبية = الربح بعد الاستهلاك – الضري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صافي التدفق النقدي = الربح بعد الضريبة + الاستهلاك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66680" y="1981080"/>
          <a:ext cx="7543800" cy="4535640"/>
        </p:xfrm>
        <a:graphic>
          <a:graphicData uri="http://schemas.openxmlformats.org/drawingml/2006/table">
            <a:tbl>
              <a:tblPr/>
              <a:tblGrid>
                <a:gridCol w="1441440"/>
                <a:gridCol w="1096920"/>
                <a:gridCol w="1028880"/>
                <a:gridCol w="958680"/>
                <a:gridCol w="1176480"/>
                <a:gridCol w="920880"/>
                <a:gridCol w="920520"/>
              </a:tblGrid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جدول النهائ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04920" y="1600200"/>
          <a:ext cx="8381880" cy="4708440"/>
        </p:xfrm>
        <a:graphic>
          <a:graphicData uri="http://schemas.openxmlformats.org/drawingml/2006/table">
            <a:tbl>
              <a:tblPr/>
              <a:tblGrid>
                <a:gridCol w="1600200"/>
                <a:gridCol w="1218960"/>
                <a:gridCol w="1143000"/>
                <a:gridCol w="1067040"/>
                <a:gridCol w="1306440"/>
                <a:gridCol w="1022400"/>
                <a:gridCol w="102384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فكر الشركة العربية بتنفيذ احد مشروعين بديلين . يتطلب كل من المشروعين استثمارا اوليا مقدار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دينار . و لكل مشروع حياة انتاجية قدرت بخمس سنوات . و تدفع الشركة العربية ضرائب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. و سيتم استهلاك المشروعين بإتباع طريقة القسط الثابت مع افتراض عدم وجود اية قيمة للخردة لكل من المشروعين و من المتوقع ان تكون التدفقات النقدية قبل الاستهلاك و الضريبة  من المشروعين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أرباح قبل الاستهلاك و الضرائ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او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حسا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افي التدفق النقدي للمشروعين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ح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ولا : قسط الاستهلا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قسط الاستهلاك السنوي للمشروع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قسط الاستهلاك السنوي للمشروع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ثانيا :صافي الدخل و صافي التدفقات النقدية بعد الضرائب للمشروع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 الأو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النقدي للمشروع الثان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يجاد صافي التدفق النقد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ي حالة قسط الاستهلاك الثاب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ي حالة قسط الاستهلاك المتناق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وي إحدى الشركات الاستثمار بمشروع كلفتة الرأسمال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, و تستعمل الشركة طريقة القسط الثابت في الاستهلاك , و تدفع ضرائب على الأرباح نسبت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علما بأنه لا يوجد للمشروع اية قيمة للخردة بعد الاستهلاك , و من المتوقع ان يدر المشروع تدفقات نقدية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تدفقات النقدية قبل الضرائب و الاستهلا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يا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طلو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يجاد صافي التدفق النقدي السنوي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سط الاستهلاك السنو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ياد صافي التدفق النقدي في حالة قسط الاستهلاك المتناق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ما يلي الأرباح قبل الاستهلاك و الضرائب  التي تحققها احدى الالات خلال السنوات الخمس التالية من عمرها الاقتصادي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8880" cy="4525920"/>
        </p:xfrm>
        <a:graphic>
          <a:graphicData uri="http://schemas.openxmlformats.org/drawingml/2006/table">
            <a:tbl>
              <a:tblPr/>
              <a:tblGrid>
                <a:gridCol w="4114440"/>
                <a:gridCol w="41144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وفو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إذا كانت الشركة تتبع طريقة القسط المتناقص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في الاستهلاك و تخضع لضريبة معدل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ثمن الال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ل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يجاد صافي التدفق النقد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حسب قسط الاستهلاك السنوي حسب الجدول التا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يجاد صافي التدفق النقدي في حالة الاستهلاك الثاب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نه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سط الاستهلا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بد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3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7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2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83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5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6.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4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فكر الشركة العربية بتنفيذ احد مشروعين بديلين . يتطلب كل من المشروعين استثمارا اوليا مقدار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دينار . و لكل مشروع حياة انتاجية قدرت بخمس سنوات . و تدفع الشركة العربية ضرائب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و سيتم استهلاك المشروعين بإتباع طريقة القسط المتناقص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. ومن المتوقع ان تكون الأرباح  قبل الاستهلاك و الضريبة  من المشروعين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أرباح قبل الاستهلاك و الضرائ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او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ايجاد صافي التدفق النقدي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قسط الاستهلاك لكل مشروع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نه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سط الاستهلا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بد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 الأو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8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النقدي للمشروع الثان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219320"/>
          <a:ext cx="8229600" cy="45720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8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وي إحدى الشركات الاستثمار بمشروع كلفتة الرأسمال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, و تستعمل الشركة طريقة القسط المتناقص في الاستهلاك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و تدفع ضرائب على الأرباح نسبت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و من المتوقع ان الأرباح قبل الاستهلاك و الضرائب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ما يلي الوفورات ( الربح التشغيلي او الربح قبل الاستهلاك و الضرائب  ) التي تحققها احدى الالات عدا الضرائب والاستهلاك خلال السنوات الخمس التالية من عمرها الاقتصادي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طلو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ايجاد صافي التدفق النقد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نه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سط الاستهلا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بد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523880"/>
          <a:ext cx="8229600" cy="47516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8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18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18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فرع أ من كتاب الإدارة التمويلية في الشرك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قدر المبيعات الناتجة عن مشروع استثماري 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4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ينار في السنه , يذهب من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ينار تكاليف تشغيل نقدية في السنة . أن تكلفة الاستثمار الرأسمالي للمشروع تبلغ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ينار , و حياته الاقتصادية تقدر 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سنوات , و تكلفة رأس الما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% , و معدل ضريبة الدخ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% . المطلوب : حساب صافي التدفق النقدي السنوي للمشروع علما بان المشروع يستهلاك بطريقة القسط الثاب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إجاب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حسب قسط الاستهلا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سط الاستهلاك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ينار سنو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حسب الربح قبل الاستهلاك و الضري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ربح قبل الاستهلاك و الضريبة = الايرادات – النفق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4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ينار سنو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عمل جدول كما ي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9388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22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سنوي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سن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سن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و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عزيزي الطال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يرجى  منك مراعاة ما يلي عند الامتحان النهائ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احضار الهوية الجامعية و بطاقة الاحوا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إحضار الحاسبة الشخصية حيث لن يسمح بإدخال التلفونات  الجوال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راجعة قاعة الامتحان قبل موعد الامتحان بنصف ساعة على الاقل لمعرفة قاعة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التقيد بتعليمات المراقب و المحافظة على ال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عدم الخروج من قاعة الامتحان قبل مضي نصف وقت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عدم التجمع بالممرات بعد الانتهاء من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ع امنياتي لكم بالنجاح و التوفي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د. محمد الموم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مد لله رب العال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8880" cy="4525920"/>
        </p:xfrm>
        <a:graphic>
          <a:graphicData uri="http://schemas.openxmlformats.org/drawingml/2006/table">
            <a:tbl>
              <a:tblPr/>
              <a:tblGrid>
                <a:gridCol w="4114440"/>
                <a:gridCol w="41144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وفو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إذا كانت الشركة تتبع طريقة القسط الثابت في الاستهلاك و تخضع لضريبة معدل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ثمن الال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ل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جهيز البيانات من اجل التقييم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و ايجاد صافي التدفق النقدي السنو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حسب قسط الاستهلاك السنوي حسب المعادلة التا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سط الاستهلاك = (القيمة في بداية العمر الانتاجي – الخردة 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عمر الانتا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سنو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 نعمل جدول كالتا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ربح بعد الاستهلاك = الربح قبل الاستهلاك – الاستهلاك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mumani</cp:lastModifiedBy>
  <dcterms:modified xsi:type="dcterms:W3CDTF">2010-03-14T06:24:3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