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072-96CE-43BC-A6BF-EDB250F5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2E9-E81D-40C6-B3AD-A9C63321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2B1-089E-40BD-B780-D4AB55FC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C91-7FEA-45F8-AFE1-EF9608E2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830-DDC3-44AE-A0E8-A56EFBA1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74F-EA5B-4C57-A476-2DDC144B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7F7-1BD7-42EA-BC2E-1A70CA87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AEB-C898-4D4A-BF55-7AC80689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252-5F48-46E0-AB67-413D987A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29E-45DD-4E83-B873-FFDEAD2D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B57-934E-4CDF-BCCA-33AEB815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657-626C-41B8-93EB-7818E83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1733-E47F-4DD1-83C6-7EE836C3D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فصل العاش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مقدار الضريبة = نسبة الضريبة * الربح بعد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مقدار الضريبة في كل سنة كما يل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اولى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ني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لث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رابع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خامس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الربح بعد الضريبية = الربح بعد الاستهلاك – الضري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صافي التدفق النقدي = الربح بعد الضريبة +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1981080"/>
          <a:ext cx="7543800" cy="4535640"/>
        </p:xfrm>
        <a:graphic>
          <a:graphicData uri="http://schemas.openxmlformats.org/drawingml/2006/table">
            <a:tbl>
              <a:tblPr/>
              <a:tblGrid>
                <a:gridCol w="1441440"/>
                <a:gridCol w="1096920"/>
                <a:gridCol w="1028880"/>
                <a:gridCol w="958680"/>
                <a:gridCol w="1176480"/>
                <a:gridCol w="920880"/>
                <a:gridCol w="92052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جدول النهائ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فكر الشركة العربية بتنفيذ احد مشروعين بديلين . يتطلب كل من المشروعين استثمارا اوليا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دينار . و لكل مشروع حياة انتاجية قدرت بخمس سنوات . و تدفع الشركة العربية ضرائب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و سيتم استهلاك المشروعين بإتباع طريقة القسط الثابت مع افتراض عدم وجود اية قيمة للخردة لكل من المشروعين و من المتوقع ان تكون التدفقات النقدية قبل الاستهلاك و الضريبة  من المشروعين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رباح قبل الاستهلاك و الضرائ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ا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حسا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افي التدفق النقدي للمشروعي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ولا : قسط الاستهلا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ثانيا :صافي الدخل و صافي التدفقات النقدية بعد الضرائب للمشرو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يجاد صافي التدفق النقد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حالة قسط الاستهلاك الثا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حالة قسط الاستهلاك المتناق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و من المتوقع ان يدر المشروع تدفقات نقدية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دفقات النقدية قبل الضرائب و الاستهلا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يجاد صافي التدفق النقدي السنوي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السنو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ياد صافي التدفق النقدي في حالة قسط الاستهلاك المتناق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ما يلي الأرباح قبل الاستهلاك و الضرائب  التي تحققها احدى الالات خلال السنوات الخمس التالية من عمرها الاقتصاد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440"/>
                <a:gridCol w="41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فو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إذا كانت الشركة تتبع طريقة القسط المتناقص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في الاستهلاك و تخضع لضريبة معدل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ثمن الال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ل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يجاد صافي التدفق النق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 قسط الاستهلاك السنوي حسب الجدول التا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يجاد صافي التدفق النقدي في حالة الاستهلاك الثاب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83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5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6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4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فكر الشركة العربية بتنفيذ احد مشروعين بديلين . يتطلب كل من المشروعين استثمارا اوليا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دينار . و لكل مشروع حياة انتاجية قدرت بخمس سنوات . و تدفع الشركة العربية ضرائب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سيتم استهلاك المشروعين بإتباع طريقة القسط المتناقص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ومن المتوقع ان تكون الأرباح  قبل الاستهلاك و الضريبة  من المشروعين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رباح قبل الاستهلاك و الضرائ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ا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ايجاد صافي التدفق النقد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قسط الاستهلاك لكل مشروع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219320"/>
          <a:ext cx="8229600" cy="45720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متناقص في الاستهلاك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من المتوقع ان الأرباح قبل الاستهلاك و الضرائب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ما يلي الوفورات ( الربح التشغيلي او الربح قبل الاستهلاك و الضرائب  ) التي تحققها احدى الالات عدا الضرائب والاستهلاك خلال السنوات الخمس التالية من عمرها الاقتصاد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ايجاد صافي التدفق النق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523880"/>
          <a:ext cx="8229600" cy="4751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8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1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1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فرع أ من كتاب الإدارة التمويلية في الشرك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قدر المبيعات الناتجة عن مشروع استثماري 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في السنه , يذهب من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تكاليف تشغيل نقدية في السنة . أن تكلفة الاستثمار الرأسمالي للمشروع تبلغ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, و حياته الاقتصادية تقدر 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نوات , و تكلفة رأس الم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, و معدل ضريبة الدخ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. المطلوب : حساب صافي التدفق النقدي السنوي للمشروع علما بان المشروع يستهلاك بطريقة القسط الثاب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إجاب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حسب قسط الاستهلا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سط الاستهلاك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حسب الربح قبل الاستهلاك و الضري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ربح قبل الاستهلاك و الضريبة = الايرادات – النفق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عمل جدول كما ي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9388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و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زيزي الطال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رجى  منك مراعاة ما يلي عند الامتحان النهائ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حضار الهوية الجامعية و بطاقة الاحو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إحضار الحاسبة الشخصية حيث لن يسمح بإدخال التلفونات  الجو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راجعة قاعة الامتحان قبل موعد الامتحان بنصف ساعة على الاقل لمعرفة قاعة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لتقيد بتعليمات المراقب و المحافظة على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خروج من قاعة الامتحان قبل مضي نصف وقت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تجمع بالممرات بعد الانتهاء من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ع امنياتي لكم بالنجاح و التوف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د. محمد الموم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440"/>
                <a:gridCol w="41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فو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إذا كانت الشركة تتبع طريقة القسط الثابت في الاستهلاك و تخضع لضريبة معدل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ثمن الال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ل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جهيز البيانات من اجل التقيي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و ايجاد صافي التدفق النقدي السنو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 قسط الاستهلاك السنوي حسب المعادلة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= (القيمة في بداية العمر الانتاجي – الخردة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عمر الانتا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 نعمل جدول ك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ربح بعد الاستهلاك = الربح قبل الاستهلاك –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mumani</cp:lastModifiedBy>
  <dcterms:modified xsi:type="dcterms:W3CDTF">2010-03-14T06:24:3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