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AD51-EA3D-4E1F-93A4-09A584F33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4AA8-1494-44B3-997D-B2AC56931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CC47-5330-49EF-AB88-50CE66A76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284B-C15A-468C-94A5-5ACF957AB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2795-5400-4CDE-8253-049F8474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266F-D3C4-4848-B8E0-BAB3EED3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BEE1-E502-4D3B-BC1D-D948EBE6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41FE-3801-4DE4-8074-8C17EED4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52E6-4C2D-4256-8C19-11F81441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132E-3535-463B-A933-1AE78BC2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72EC-EC0F-4D1F-BFF6-8989268F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4975-6AE9-41DB-B406-4DC7AC16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CBB1-368C-496A-AE3C-63A912C6F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فصل العاش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ادة الك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00"/>
                </a:solidFill>
                <a:latin typeface="Arial"/>
              </a:rPr>
              <a:t>مقدار الضريبة = نسبة الضريبة * الربح بعد الاستهلاك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جد مقدار الضريبة في كل سنة كما يلي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سنة الاولى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*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سنة الثاني 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*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6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سنة الثالثة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*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سنة الرابع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*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سنة الخامسة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*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00"/>
                </a:solidFill>
                <a:latin typeface="Arial"/>
              </a:rPr>
              <a:t>الربح بعد الضريبية = الربح بعد الاستهلاك – الضريب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8229600" cy="4554360"/>
        </p:xfrm>
        <a:graphic>
          <a:graphicData uri="http://schemas.openxmlformats.org/drawingml/2006/table">
            <a:tbl>
              <a:tblPr/>
              <a:tblGrid>
                <a:gridCol w="1571760"/>
                <a:gridCol w="1197000"/>
                <a:gridCol w="1122120"/>
                <a:gridCol w="1046160"/>
                <a:gridCol w="1282680"/>
                <a:gridCol w="1005120"/>
                <a:gridCol w="100476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0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00"/>
                </a:solidFill>
                <a:latin typeface="Arial"/>
              </a:rPr>
              <a:t>صافي التدفق النقدي = الربح بعد الضريبة + الاستهلاك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066680" y="1981080"/>
          <a:ext cx="7543800" cy="4535640"/>
        </p:xfrm>
        <a:graphic>
          <a:graphicData uri="http://schemas.openxmlformats.org/drawingml/2006/table">
            <a:tbl>
              <a:tblPr/>
              <a:tblGrid>
                <a:gridCol w="1441440"/>
                <a:gridCol w="1096920"/>
                <a:gridCol w="1028880"/>
                <a:gridCol w="958680"/>
                <a:gridCol w="1176480"/>
                <a:gridCol w="920880"/>
                <a:gridCol w="920520"/>
              </a:tblGrid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0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جدول النهائ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04920" y="1600200"/>
          <a:ext cx="8381880" cy="4708440"/>
        </p:xfrm>
        <a:graphic>
          <a:graphicData uri="http://schemas.openxmlformats.org/drawingml/2006/table">
            <a:tbl>
              <a:tblPr/>
              <a:tblGrid>
                <a:gridCol w="1600200"/>
                <a:gridCol w="1218960"/>
                <a:gridCol w="1143000"/>
                <a:gridCol w="1067040"/>
                <a:gridCol w="1306440"/>
                <a:gridCol w="1022400"/>
                <a:gridCol w="102384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0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تمرين رقم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فكر الشركة العربية بتنفيذ احد مشروعين بديلين . يتطلب كل من المشروعين استثمارا اوليا مقداره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دينار . و لكل مشروع حياة انتاجية قدرت بخمس سنوات . و تدفع الشركة العربية ضرائب بنسب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. و سيتم استهلاك المشروعين بإتباع طريقة القسط الثابت مع افتراض عدم وجود اية قيمة للخردة لكل من المشروعين و من المتوقع ان تكون التدفقات النقدية قبل الاستهلاك و الضريبة  من المشروعين كما يل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أرباح قبل الاستهلاك و الضرائ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شروع الثان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شروع الاو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جمو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مطلوب حساب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صافي التدفق النقدي للمشروعين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ح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حس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اولا : قسط الاستهلا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قسط الاستهلاك السنوي للمشروع الأول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قسط الاستهلاك السنوي للمشروع الثاني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ثانيا :صافي الدخل و صافي التدفقات النقدية بعد الضرائب للمشروع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للمشروع الأو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1600200"/>
          <a:ext cx="8229600" cy="47512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النقدي للمشروع الثان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600200"/>
          <a:ext cx="8229600" cy="53038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جمو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يجاد صافي التدفق النقد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في حالة قسط الاستهلاك الثاب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في حالة قسط الاستهلاك المتناق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تمرين رقم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نوي إحدى الشركات الاستثمار بمشروع كلفتة الرأسمالي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ريال , و تستعمل الشركة طريقة القسط الثابت في الاستهلاك , و تدفع ضرائب على الأرباح نسبتها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, علما بأنه لا يوجد للمشروع اية قيمة للخردة بعد الاستهلاك , و من المتوقع ان يدر المشروع تدفقات نقدية كما يل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تدفقات النقدية قبل الضرائب و الاستهلا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يال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مطلو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يجاد صافي التدفق النقدي السنوي 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قسط الاستهلاك السنوي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0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للمشرو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600200"/>
          <a:ext cx="8229600" cy="47512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إياد صافي التدفق النقدي في حالة قسط الاستهلاك المتناق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تمرين رقم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يما يلي الأرباح قبل الاستهلاك و الضرائب  التي تحققها احدى الالات خلال السنوات الخمس التالية من عمرها الاقتصادي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600200"/>
          <a:ext cx="8228880" cy="4525920"/>
        </p:xfrm>
        <a:graphic>
          <a:graphicData uri="http://schemas.openxmlformats.org/drawingml/2006/table">
            <a:tbl>
              <a:tblPr/>
              <a:tblGrid>
                <a:gridCol w="4114440"/>
                <a:gridCol w="411444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وفور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إذا كانت الشركة تتبع طريقة القسط المتناقص بنسب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في الاستهلاك و تخضع لضريبة معدلها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و ثمن الال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الف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مطلوب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يجاد صافي التدفق النقد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حسب قسط الاستهلاك السنوي حسب الجدول التال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يجاد صافي التدفق النقدي في حالة الاستهلاك الثاب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00200"/>
          <a:ext cx="8229600" cy="4716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يمة الدفترية في نهاية الفتر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سط الاستهلا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يمة الدفترية في بداية الفتر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3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7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4554360"/>
        </p:xfrm>
        <a:graphic>
          <a:graphicData uri="http://schemas.openxmlformats.org/drawingml/2006/table">
            <a:tbl>
              <a:tblPr/>
              <a:tblGrid>
                <a:gridCol w="1571760"/>
                <a:gridCol w="1197000"/>
                <a:gridCol w="1122120"/>
                <a:gridCol w="1046160"/>
                <a:gridCol w="1282680"/>
                <a:gridCol w="1005120"/>
                <a:gridCol w="100476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600200"/>
          <a:ext cx="8229600" cy="4554360"/>
        </p:xfrm>
        <a:graphic>
          <a:graphicData uri="http://schemas.openxmlformats.org/drawingml/2006/table">
            <a:tbl>
              <a:tblPr/>
              <a:tblGrid>
                <a:gridCol w="1571760"/>
                <a:gridCol w="1197000"/>
                <a:gridCol w="1122120"/>
                <a:gridCol w="1046160"/>
                <a:gridCol w="1282680"/>
                <a:gridCol w="1005120"/>
                <a:gridCol w="100476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0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2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56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7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83.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5.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6.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4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7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تمرين رقم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فكر الشركة العربية بتنفيذ احد مشروعين بديلين . يتطلب كل من المشروعين استثمارا اوليا مقداره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دينار . و لكل مشروع حياة انتاجية قدرت بخمس سنوات . و تدفع الشركة العربية ضرائب بنسب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, و سيتم استهلاك المشروعين بإتباع طريقة القسط المتناقص بنسب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. ومن المتوقع ان تكون الأرباح  قبل الاستهلاك و الضريبة  من المشروعين كما يل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أرباح قبل الاستهلاك و الضرائ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شروع الثان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شروع الاو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جمو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مطلوب ايجاد صافي التدفق النقدي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قسط الاستهلاك لكل مشروع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600200"/>
          <a:ext cx="8229600" cy="4716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يمة الدفترية في نهاية الفتر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سط الاستهلا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يمة الدفترية في بداية الفتر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7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8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للمشروع الأو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47512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9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81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8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النقدي للمشروع الثان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219320"/>
          <a:ext cx="8229600" cy="457200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59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81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8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تمرين رقم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نوي إحدى الشركات الاستثمار بمشروع كلفتة الرأسمالي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ريال , و تستعمل الشركة طريقة القسط المتناقص في الاستهلاك بنسب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, و تدفع ضرائب على الأرباح نسبتها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, و من المتوقع ان الأرباح قبل الاستهلاك و الضرائب كما يل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تمرين رقم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يما يلي الوفورات ( الربح التشغيلي او الربح قبل الاستهلاك و الضرائب  ) التي تحققها احدى الالات عدا الضرائب والاستهلاك خلال السنوات الخمس التالية من عمرها الاقتصادي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مطلو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مطلوب ايجاد صافي التدفق النقد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600200"/>
          <a:ext cx="8229600" cy="4716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يمة الدفترية في نهاية الفتر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سط الاستهلا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يمة الدفترية في بداية الفتر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للمشرو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1523880"/>
          <a:ext cx="8229600" cy="475164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81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18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18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تمرين رقم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فرع أ من كتاب الإدارة التمويلية في الشرك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قدر المبيعات الناتجة عن مشروع استثماري ب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40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دينار في السنه , يذهب منه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دينار تكاليف تشغيل نقدية في السنة . أن تكلفة الاستثمار الرأسمالي للمشروع تبلغ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دينار , و حياته الاقتصادية تقدر ب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سنوات , و تكلفة رأس المال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% , و معدل ضريبة الدخل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% . المطلوب : حساب صافي التدفق النقدي السنوي للمشروع علما بان المشروع يستهلاك بطريقة القسط الثابت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إجاب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حسب قسط الاستهلا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سط الاستهلاك =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÷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دينار سنوي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حسب الربح قبل الاستهلاك و الضري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ربح قبل الاستهلاك و الضريبة = الايرادات – النفق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40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0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دينار سنوي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عمل جدول كما يل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600200"/>
          <a:ext cx="8229600" cy="493884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229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و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سنوي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سنو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سنو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و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عزيزي الطال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يرجى  منك مراعاة ما يلي عند الامتحان النهائ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احضار الهوية الجامعية و بطاقة الاحوا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إحضار الحاسبة الشخصية حيث لن يسمح بإدخال التلفونات  الجوال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مراجعة قاعة الامتحان قبل موعد الامتحان بنصف ساعة على الاقل لمعرفة قاعة الامتح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التقيد بتعليمات المراقب و المحافظة على النظ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عدم الخروج من قاعة الامتحان قبل مضي نصف وقت الامتح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عدم التجمع بالممرات بعد الانتهاء من الامتح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مع امنياتي لكم بالنجاح و التوفي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د. محمد المومن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حمد لله رب العالم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8880" cy="4525920"/>
        </p:xfrm>
        <a:graphic>
          <a:graphicData uri="http://schemas.openxmlformats.org/drawingml/2006/table">
            <a:tbl>
              <a:tblPr/>
              <a:tblGrid>
                <a:gridCol w="4114440"/>
                <a:gridCol w="411444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وفور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إذا كانت الشركة تتبع طريقة القسط الثابت في الاستهلاك و تخضع لضريبة معدلها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و ثمن الال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ال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مطلوب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جهيز البيانات من اجل التقييم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أو ايجاد صافي التدفق النقدي السنو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حسب قسط الاستهلاك السنوي حسب المعادلة التالي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قسط الاستهلاك = (القيمة في بداية العمر الانتاجي – الخردة 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÷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عمر الانتاج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 (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÷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6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ريال سنوي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. نعمل جدول كالتال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4554360"/>
        </p:xfrm>
        <a:graphic>
          <a:graphicData uri="http://schemas.openxmlformats.org/drawingml/2006/table">
            <a:tbl>
              <a:tblPr/>
              <a:tblGrid>
                <a:gridCol w="1571760"/>
                <a:gridCol w="1197000"/>
                <a:gridCol w="1122120"/>
                <a:gridCol w="1046160"/>
                <a:gridCol w="1282680"/>
                <a:gridCol w="1005120"/>
                <a:gridCol w="100476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ربح بعد الاستهلاك = الربح قبل الاستهلاك – الاستهلاك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554360"/>
        </p:xfrm>
        <a:graphic>
          <a:graphicData uri="http://schemas.openxmlformats.org/drawingml/2006/table">
            <a:tbl>
              <a:tblPr/>
              <a:tblGrid>
                <a:gridCol w="1571760"/>
                <a:gridCol w="1197000"/>
                <a:gridCol w="1122120"/>
                <a:gridCol w="1046160"/>
                <a:gridCol w="1282680"/>
                <a:gridCol w="1005120"/>
                <a:gridCol w="100476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0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mumani</cp:lastModifiedBy>
  <dcterms:modified xsi:type="dcterms:W3CDTF">2010-03-14T06:24:3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