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3CAF-CCCB-492D-935C-13BBA038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E9AE-0AE0-4163-AF35-6ED28629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364-820A-4E1A-A829-A76388DA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2B3-87B5-447C-90C1-33AC390C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AF3A-0DD0-49C5-8129-898D07DC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8FF4-8B20-4B9A-A20F-FC4A5D21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DE58-8DC0-4AB6-A82E-FD0B8699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5108-2397-403D-B70F-5C3BF7A9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48EB-EEE6-4B5B-9B02-21572EEE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273F-4528-48C1-9CB7-33D731CD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B7B4-C9BC-445B-9A2A-C1416308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2CA-2863-424C-9AF7-E92BA7B4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81B7-605A-4729-8D3B-7DF2CCAA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43C6-E9B4-4A90-9056-C535E72E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766F-EF81-4CEA-B604-966714FF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6C43-C5D5-45C0-8297-AC88B414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7AB1-9C2C-445A-BE8A-E949C17D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7ACC3-B542-4CA6-BBC1-1264F489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CCF72-8A69-4F4E-9D4A-D0679819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69F27-35DB-461C-ACA7-FEFCACC0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A8293-6693-4736-A038-E95EA1A6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9C15E-1B62-4AFC-A05B-ABAE9954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2B7-71C1-45A5-9E6E-3A0879AA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E986B-8592-4FF1-BEF8-F75795F5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07BE9-A8AD-47FA-95BE-8C4B3148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BDE03-22E9-4F38-867A-E7EA0B19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2D1DA-FC38-47C8-BD8F-91CF548A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8AE4B-78A7-4E22-A158-A7380A54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82390-16E6-49A7-B9C9-4F296603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77928-3F76-47AA-991F-8D521E80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1EB23-2C3A-4810-9907-E51126E0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B4874-116F-4CBA-A95F-3ECC83A7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C959D-12A8-480F-ADCE-93276EA5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F03-D5CA-4153-8F1B-C800619B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D0145-9BA4-4FB4-84E9-EA50512F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CD23F-10AF-4267-B906-0664DB5B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533F4-B461-477E-A4C9-549CE47A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5B707-29A7-4B3D-BF4C-97DA950C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A8888-D690-473C-A0DA-FA1A8107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4CD6E-DE3C-4235-AE58-98BA5F41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6A183-8151-4BE3-8EEE-078C8098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76ABC-AF90-4B8D-816A-3A62D3C4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D74DC-BC54-4587-82DE-A96DA3FB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AAEBE-59D5-46F3-B88B-18D224FF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446-875F-49A2-8804-9187E155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A1D0C-30DB-4005-BD54-C2F3D233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53BFE-42C5-46D4-B969-39931F33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548DE-D9FA-47F4-88E2-BE86AAD4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87818-DE68-4059-A56E-2090C272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12CFF-DB40-42D0-914C-23DA0CD2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30145-B977-41A5-A06F-263585A1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408AC-240C-4DAC-AFE2-9D2B9785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4A551-1F90-48D2-A9FF-5C765A39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BAFBD-7431-4B0D-A29D-7610E422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89804-F925-45F8-B1B5-8FD54845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41C6-F012-420D-A77C-A360CB8D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8ECE6-1252-40F1-8694-FE1D9BEF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F06C-08CB-408A-9D59-EB6E6FB2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0EF-6DD4-4A83-BE53-818AEB95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568-1967-4E23-84BC-79A7B0B7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6713-F151-4FB0-B78F-B6729C5EE15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76C2-619A-49A0-8A56-4E60A599AA6D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مستطيل مستدير الزوايا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مستطيل مستدير الزوايا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مستطيل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مستطيل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مستطيل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83B1-4583-4E3E-8615-81E866D89A5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مستطيل مستدير الزوايا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9AC8-4D7D-45C6-BEE4-B74E656C4F1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مستطيل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مستطيل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مستطيل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9B28-5C61-467A-81F2-7A406F085204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900000" y="1341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Franklin Gothic Book"/>
                <a:cs typeface="PT Bold Heading"/>
              </a:rPr>
              <a:t>مقيـاس فاينلاند للنضج الاجتماع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255" name="مستطيل 3"/>
          <p:cNvSpPr/>
          <p:nvPr/>
        </p:nvSpPr>
        <p:spPr>
          <a:xfrm>
            <a:off x="1979640" y="213372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مستطيل 4"/>
          <p:cNvSpPr/>
          <p:nvPr/>
        </p:nvSpPr>
        <p:spPr>
          <a:xfrm>
            <a:off x="1908000" y="278136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مستطيل 5"/>
          <p:cNvSpPr/>
          <p:nvPr/>
        </p:nvSpPr>
        <p:spPr>
          <a:xfrm>
            <a:off x="1908000" y="342900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مستطيل 6"/>
          <p:cNvSpPr/>
          <p:nvPr/>
        </p:nvSpPr>
        <p:spPr>
          <a:xfrm>
            <a:off x="1908000" y="422100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مستطيل 7"/>
          <p:cNvSpPr/>
          <p:nvPr/>
        </p:nvSpPr>
        <p:spPr>
          <a:xfrm>
            <a:off x="1908000" y="479736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مستطيل 8"/>
          <p:cNvSpPr/>
          <p:nvPr/>
        </p:nvSpPr>
        <p:spPr>
          <a:xfrm>
            <a:off x="1979640" y="5516640"/>
            <a:ext cx="50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39640" y="475920"/>
            <a:ext cx="8183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يسمى السقف الاختبار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ن تكون جميع إجابات الأم عن المفحوص بلا أي أن المفحوص لا يستطيع أن يقوم بهذه الفقرات من هذا البند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539640" y="475920"/>
            <a:ext cx="81835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38320" indent="-2383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بعدها لا بد أن أعود إلى الأمام حتى يتم تحديد العمر القاعدي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العمر القاعدي 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ن تكون إجابات الأم عن المفحوص كاملة بنعم في بند معين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8785440" cy="4600440"/>
          </a:xfrm>
          <a:prstGeom prst="rect">
            <a:avLst/>
          </a:prstGeom>
          <a:ln w="0">
            <a:noFill/>
          </a:ln>
        </p:spPr>
      </p:pic>
      <p:sp>
        <p:nvSpPr>
          <p:cNvPr id="264" name="مستطيل 3"/>
          <p:cNvSpPr/>
          <p:nvPr/>
        </p:nvSpPr>
        <p:spPr>
          <a:xfrm>
            <a:off x="2268360" y="263700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ستطيل 4"/>
          <p:cNvSpPr/>
          <p:nvPr/>
        </p:nvSpPr>
        <p:spPr>
          <a:xfrm>
            <a:off x="2268360" y="2924280"/>
            <a:ext cx="50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5"/>
          <p:cNvSpPr/>
          <p:nvPr/>
        </p:nvSpPr>
        <p:spPr>
          <a:xfrm>
            <a:off x="2268360" y="321300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مستطيل 6"/>
          <p:cNvSpPr/>
          <p:nvPr/>
        </p:nvSpPr>
        <p:spPr>
          <a:xfrm>
            <a:off x="2268360" y="342900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مستطيل 7"/>
          <p:cNvSpPr/>
          <p:nvPr/>
        </p:nvSpPr>
        <p:spPr>
          <a:xfrm>
            <a:off x="2268360" y="364500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مستطيل 8"/>
          <p:cNvSpPr/>
          <p:nvPr/>
        </p:nvSpPr>
        <p:spPr>
          <a:xfrm>
            <a:off x="2268360" y="386064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مستطيل 9"/>
          <p:cNvSpPr/>
          <p:nvPr/>
        </p:nvSpPr>
        <p:spPr>
          <a:xfrm>
            <a:off x="2268360" y="407664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مستطيل 10"/>
          <p:cNvSpPr/>
          <p:nvPr/>
        </p:nvSpPr>
        <p:spPr>
          <a:xfrm>
            <a:off x="2268360" y="436572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مستطيل 11"/>
          <p:cNvSpPr/>
          <p:nvPr/>
        </p:nvSpPr>
        <p:spPr>
          <a:xfrm>
            <a:off x="2268360" y="4508640"/>
            <a:ext cx="50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مستطيل 12"/>
          <p:cNvSpPr/>
          <p:nvPr/>
        </p:nvSpPr>
        <p:spPr>
          <a:xfrm>
            <a:off x="2268360" y="479736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مستطيل 13"/>
          <p:cNvSpPr/>
          <p:nvPr/>
        </p:nvSpPr>
        <p:spPr>
          <a:xfrm>
            <a:off x="2268360" y="522936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مستطيل 14"/>
          <p:cNvSpPr/>
          <p:nvPr/>
        </p:nvSpPr>
        <p:spPr>
          <a:xfrm>
            <a:off x="2195640" y="5084640"/>
            <a:ext cx="50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ستطيل 15"/>
          <p:cNvSpPr/>
          <p:nvPr/>
        </p:nvSpPr>
        <p:spPr>
          <a:xfrm>
            <a:off x="2268360" y="537372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مستطيل 16"/>
          <p:cNvSpPr/>
          <p:nvPr/>
        </p:nvSpPr>
        <p:spPr>
          <a:xfrm>
            <a:off x="2268360" y="566100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مستطيل 17"/>
          <p:cNvSpPr/>
          <p:nvPr/>
        </p:nvSpPr>
        <p:spPr>
          <a:xfrm>
            <a:off x="2268360" y="587700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مستطيل 18"/>
          <p:cNvSpPr/>
          <p:nvPr/>
        </p:nvSpPr>
        <p:spPr>
          <a:xfrm>
            <a:off x="2268360" y="616572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539640" y="475920"/>
            <a:ext cx="81835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العمر القاعدي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سنة – سنتين  إذ سيكون العمر القاعدي </a:t>
            </a:r>
            <a:r>
              <a:rPr b="0" lang="ar-SA" sz="2600" spc="-1" strike="noStrike">
                <a:solidFill>
                  <a:srgbClr val="ff0000"/>
                </a:solidFill>
                <a:latin typeface="Times New Roman"/>
                <a:cs typeface="PT Bold Heading"/>
              </a:rPr>
              <a:t>سنتان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عنصر نائب للمحتوى 2"/>
          <p:cNvSpPr/>
          <p:nvPr/>
        </p:nvSpPr>
        <p:spPr>
          <a:xfrm>
            <a:off x="684360" y="1700280"/>
            <a:ext cx="8183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سقف الاختبار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4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–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5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سنوات إذ سيكون سقف الاختبار </a:t>
            </a:r>
            <a:r>
              <a:rPr b="0" lang="ar-SA" sz="26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5</a:t>
            </a:r>
            <a:r>
              <a:rPr b="0" lang="ar-SA" sz="26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 سنوات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عنصر نائب للمحتوى 2"/>
          <p:cNvSpPr/>
          <p:nvPr/>
        </p:nvSpPr>
        <p:spPr>
          <a:xfrm>
            <a:off x="755640" y="2924280"/>
            <a:ext cx="8183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تحويل العمر القاعدي إلى الأشهر عن طريق ضربها في </a:t>
            </a:r>
            <a:r>
              <a:rPr b="0" lang="ar-SA" sz="2600" spc="-1" strike="noStrike">
                <a:solidFill>
                  <a:srgbClr val="d34817"/>
                </a:solidFill>
                <a:latin typeface="Times New Roman"/>
                <a:ea typeface="PT Bold Heading"/>
              </a:rPr>
              <a:t>12</a:t>
            </a:r>
            <a:r>
              <a:rPr b="0" lang="ar-SA" sz="2600" spc="-1" strike="noStrike">
                <a:solidFill>
                  <a:srgbClr val="d34817"/>
                </a:solidFill>
                <a:latin typeface="Times New Roman"/>
                <a:ea typeface="PT Bold Heading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x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12 = 24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شه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عنصر نائب للمحتوى 2"/>
          <p:cNvSpPr/>
          <p:nvPr/>
        </p:nvSpPr>
        <p:spPr>
          <a:xfrm>
            <a:off x="960480" y="4221000"/>
            <a:ext cx="8183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حساب الأيام المضافة عن طريق القانون التالي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الدرجة </a:t>
            </a:r>
            <a:r>
              <a:rPr b="0" lang="en-US" sz="2600" spc="-1" strike="noStrike">
                <a:solidFill>
                  <a:srgbClr val="d34817"/>
                </a:solidFill>
                <a:latin typeface="Times New Roman"/>
                <a:ea typeface="PT Bold Heading"/>
              </a:rPr>
              <a:t>x</a:t>
            </a:r>
            <a:r>
              <a:rPr b="0" lang="en-US" sz="2600" spc="-1" strike="noStrike">
                <a:solidFill>
                  <a:srgbClr val="d34817"/>
                </a:solidFill>
                <a:latin typeface="Times New Roman"/>
                <a:ea typeface="PT Bold Heading"/>
              </a:rPr>
              <a:t> </a:t>
            </a:r>
            <a:r>
              <a:rPr b="0" lang="ar-SA" sz="2600" spc="-1" strike="noStrike">
                <a:solidFill>
                  <a:srgbClr val="d34817"/>
                </a:solidFill>
                <a:latin typeface="Times New Roman"/>
                <a:ea typeface="PT Bold Heading"/>
              </a:rPr>
              <a:t> وزن البند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عنصر نائب للمحتوى 2"/>
          <p:cNvSpPr/>
          <p:nvPr/>
        </p:nvSpPr>
        <p:spPr>
          <a:xfrm>
            <a:off x="468360" y="189000"/>
            <a:ext cx="8183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حساب الأيام المضافة عن طريق القانون التالي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درجة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وزن البند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24000" y="1397160"/>
          <a:ext cx="8569080" cy="2620800"/>
        </p:xfrm>
        <a:graphic>
          <a:graphicData uri="http://schemas.openxmlformats.org/drawingml/2006/table">
            <a:tbl>
              <a:tblPr/>
              <a:tblGrid>
                <a:gridCol w="3084480"/>
                <a:gridCol w="1854000"/>
                <a:gridCol w="1990800"/>
                <a:gridCol w="1639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PT Bold Heading"/>
                        </a:rPr>
                        <a:t>الدرجة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T Bold Heading"/>
                        </a:rPr>
                        <a:t>x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T Bold Heading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T Bold Heading"/>
                        </a:rPr>
                        <a:t> وزن البن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وزن البند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درج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بن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9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5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</a:t>
                      </a: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 – </a:t>
                      </a: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</a:t>
                      </a: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</a:t>
                      </a: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- </a:t>
                      </a: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مـــــــــــــــــجــــــــــــو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539640" y="475920"/>
            <a:ext cx="81835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2920" indent="-23292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تحويل الأيام المضافة إلى أشهر وذلك عن طريق قسمتها على </a:t>
            </a:r>
            <a:r>
              <a:rPr b="0" lang="ar-SA" sz="2600" spc="-1" strike="noStrike">
                <a:solidFill>
                  <a:srgbClr val="d34817"/>
                </a:solidFill>
                <a:latin typeface="Times New Roman"/>
                <a:ea typeface="PT Bold Heading"/>
              </a:rPr>
              <a:t>30</a:t>
            </a:r>
            <a:r>
              <a:rPr b="0" lang="ar-SA" sz="2600" spc="-1" strike="noStrike">
                <a:solidFill>
                  <a:srgbClr val="d34817"/>
                </a:solidFill>
                <a:latin typeface="Times New Roman"/>
                <a:ea typeface="PT Bold Heading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2920" indent="-23292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408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/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0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=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3.6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تقريباً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4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تسمى الأشهر المضاف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2920" indent="-23292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2920" indent="-2329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2920" indent="-2329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عنصر نائب للمحتوى 2"/>
          <p:cNvSpPr/>
          <p:nvPr/>
        </p:nvSpPr>
        <p:spPr>
          <a:xfrm>
            <a:off x="684360" y="1700280"/>
            <a:ext cx="81835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نحسب العمر الاجتماعي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شهر المضافة + العمر القاعد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4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+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24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=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8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عنصر نائب للمحتوى 2"/>
          <p:cNvSpPr/>
          <p:nvPr/>
        </p:nvSpPr>
        <p:spPr>
          <a:xfrm>
            <a:off x="960480" y="3645000"/>
            <a:ext cx="81835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تحويل العمر الزمني إلى أشهر عن طريق ضربها في </a:t>
            </a:r>
            <a:r>
              <a:rPr b="0" lang="ar-SA" sz="2600" spc="-1" strike="noStrike">
                <a:solidFill>
                  <a:srgbClr val="d34817"/>
                </a:solidFill>
                <a:latin typeface="Times New Roman"/>
                <a:ea typeface="PT Bold Heading"/>
              </a:rPr>
              <a:t>12</a:t>
            </a:r>
            <a:r>
              <a:rPr b="0" lang="ar-SA" sz="2600" spc="-1" strike="noStrike">
                <a:solidFill>
                  <a:srgbClr val="d34817"/>
                </a:solidFill>
                <a:latin typeface="Times New Roman"/>
                <a:ea typeface="PT Bold Heading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4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x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12 = 48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شهرا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عنصر نائب للمحتوى 2"/>
          <p:cNvSpPr/>
          <p:nvPr/>
        </p:nvSpPr>
        <p:spPr>
          <a:xfrm>
            <a:off x="324000" y="333360"/>
            <a:ext cx="81835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حساب نسبة الذكاء الاجتماعي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مر الاجتماعي / العمر الزمني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x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8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/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48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x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= </a:t>
            </a:r>
            <a:r>
              <a:rPr b="0" lang="ar-SA" sz="26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79.1</a:t>
            </a:r>
            <a:r>
              <a:rPr b="0" lang="ar-SA" sz="26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 تقريباً </a:t>
            </a:r>
            <a:r>
              <a:rPr b="0" lang="ar-SA" sz="26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79</a:t>
            </a:r>
            <a:r>
              <a:rPr b="0" lang="ar-SA" sz="26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عنصر نائب للمحتوى 2"/>
          <p:cNvSpPr/>
          <p:nvPr/>
        </p:nvSpPr>
        <p:spPr>
          <a:xfrm>
            <a:off x="539640" y="3716280"/>
            <a:ext cx="8183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صنف أن الطفل أقل من المتوس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39640" y="475920"/>
            <a:ext cx="8183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مقدمة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Times New Roman"/>
              </a:rPr>
              <a:t>وضعه دول لتقدير القدرة الاجتماعية وهو يتكون من </a:t>
            </a:r>
            <a:r>
              <a:rPr b="0" lang="ar-SA" sz="2400" spc="-1" strike="noStrike">
                <a:solidFill>
                  <a:srgbClr val="262626"/>
                </a:solidFill>
                <a:latin typeface="Times New Roman"/>
              </a:rPr>
              <a:t>117</a:t>
            </a:r>
            <a:r>
              <a:rPr b="0" lang="ar-SA" sz="2400" spc="-1" strike="noStrike">
                <a:solidFill>
                  <a:srgbClr val="262626"/>
                </a:solidFill>
                <a:latin typeface="Times New Roman"/>
              </a:rPr>
              <a:t> بند مرتبة من حيث صعوبتها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تغطي ثمانية جوانب رئيسية في النضج الاجتماعي للسلوك بوصفه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Times New Roman"/>
              </a:rPr>
              <a:t>*الاعتماد على النفس بوجه عام.                  *الانشغال بأعمال ( المهنة 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Times New Roman"/>
              </a:rPr>
              <a:t>*الاعتماد على النفس في الطعام والشراب.      *الاتصال ( التخاطب 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Times New Roman"/>
              </a:rPr>
              <a:t>*الاعتماد على النفس في الملبس.                 *  الحركة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Times New Roman"/>
              </a:rPr>
              <a:t>* توجيه النفس.                                     * التطبيع الاجتماعي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Times New Roman"/>
              </a:rPr>
              <a:t>يقيس الاختبار الارتقاء منذ الميلاد وحتى السنة الخامسة والعشرين للمتخلفين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Times New Roman"/>
              </a:rPr>
              <a:t>ويقيس منذ الميلاد حتى السنة الحادي عشر فقط للعاديين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Times New Roman"/>
              </a:rPr>
              <a:t>الاختبار يعتمد على المعلومات مصدرها الأم أو الممرضة أو المربية القائمة على رعاية الطفل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9640" y="475920"/>
            <a:ext cx="8183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عند بداية تطبيق الاختبار لابد من البدء من العمر الذي يسبق العمر الزمني بسن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احتمالات الاجابة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70c0"/>
                </a:solidFill>
                <a:latin typeface="Times New Roman"/>
                <a:cs typeface="PT Bold Heading"/>
              </a:rPr>
              <a:t>غالباً أو نعم ( + ) ـــــــــــــ تحصل على درجة واحد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لا ( - )  ـــــــــــــــ تحصل على صفر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70c0"/>
                </a:solidFill>
                <a:latin typeface="Times New Roman"/>
                <a:cs typeface="PT Bold Heading"/>
              </a:rPr>
              <a:t>أحياناً ( + / - )  ــــــــــــ نصف درج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احتمال ( + / ؟ )  ــــــــــــــــــــ لها عدة حالات كالتالي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ea typeface="PT Bold Heading"/>
              </a:rPr>
              <a:t>1</a:t>
            </a:r>
            <a:r>
              <a:rPr b="0" lang="ar-SA" sz="2600" spc="-1" strike="noStrike">
                <a:solidFill>
                  <a:srgbClr val="00b050"/>
                </a:solidFill>
                <a:latin typeface="Times New Roman"/>
                <a:ea typeface="PT Bold Heading"/>
              </a:rPr>
              <a:t>/ إذا كانت ( + / - ) في أول فقرة في البند أو أخر فقرة يعطى نصف درجة.ص</a:t>
            </a:r>
            <a:r>
              <a:rPr b="0" lang="ar-SA" sz="2600" spc="-1" strike="noStrike">
                <a:solidFill>
                  <a:srgbClr val="00b050"/>
                </a:solidFill>
                <a:latin typeface="Times New Roman"/>
                <a:ea typeface="PT Bold Heading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b050"/>
                </a:solidFill>
                <a:latin typeface="Times New Roman"/>
                <a:ea typeface="PT Bold Heading"/>
              </a:rPr>
              <a:t>2</a:t>
            </a:r>
            <a:r>
              <a:rPr b="0" lang="ar-SA" sz="2600" spc="-1" strike="noStrike">
                <a:solidFill>
                  <a:srgbClr val="00b050"/>
                </a:solidFill>
                <a:latin typeface="Times New Roman"/>
                <a:ea typeface="PT Bold Heading"/>
              </a:rPr>
              <a:t>/ إذاكان الموجب أكثر من السالب فتعطى درجة واحد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b050"/>
                </a:solidFill>
                <a:latin typeface="Times New Roman"/>
                <a:ea typeface="PT Bold Heading"/>
              </a:rPr>
              <a:t>3</a:t>
            </a:r>
            <a:r>
              <a:rPr b="0" lang="ar-SA" sz="2600" spc="-1" strike="noStrike">
                <a:solidFill>
                  <a:srgbClr val="00b050"/>
                </a:solidFill>
                <a:latin typeface="Times New Roman"/>
                <a:ea typeface="PT Bold Heading"/>
              </a:rPr>
              <a:t>/ إذا كان السالب أكثر من الموجب تعطى صفر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b050"/>
                </a:solidFill>
                <a:latin typeface="Times New Roman"/>
                <a:ea typeface="PT Bold Heading"/>
              </a:rPr>
              <a:t>4</a:t>
            </a:r>
            <a:r>
              <a:rPr b="0" lang="ar-SA" sz="2600" spc="-1" strike="noStrike">
                <a:solidFill>
                  <a:srgbClr val="00b050"/>
                </a:solidFill>
                <a:latin typeface="Times New Roman"/>
                <a:ea typeface="PT Bold Heading"/>
              </a:rPr>
              <a:t>/ إذا كان الموجب والسالب متساويان تعطى درجة واحد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39640" y="475920"/>
            <a:ext cx="8183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خطوات الحل 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تحديد العمر الزمني( </a:t>
            </a:r>
            <a:r>
              <a:rPr b="0" lang="ar-SA" sz="2600" spc="-1" strike="noStrike">
                <a:solidFill>
                  <a:srgbClr val="00b050"/>
                </a:solidFill>
                <a:latin typeface="Times New Roman"/>
                <a:cs typeface="PT Bold Heading"/>
              </a:rPr>
              <a:t>لا بد من حسابة فوراً </a:t>
            </a:r>
            <a:r>
              <a:rPr b="0" lang="ar-SA" sz="2600" spc="-1" strike="noStrike">
                <a:solidFill>
                  <a:srgbClr val="d34817"/>
                </a:solidFill>
                <a:latin typeface="Times New Roman"/>
                <a:ea typeface="PT Bold Heading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مر المفحوص لدي أربع سنوات و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4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أيام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ا بد أن نبدأ قبل عمر المفحوص بسنة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237" name="مستطيل 3"/>
          <p:cNvSpPr/>
          <p:nvPr/>
        </p:nvSpPr>
        <p:spPr>
          <a:xfrm>
            <a:off x="2268360" y="1916280"/>
            <a:ext cx="503280" cy="43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مستطيل 4"/>
          <p:cNvSpPr/>
          <p:nvPr/>
        </p:nvSpPr>
        <p:spPr>
          <a:xfrm>
            <a:off x="2268360" y="2421000"/>
            <a:ext cx="5032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مستطيل 5"/>
          <p:cNvSpPr/>
          <p:nvPr/>
        </p:nvSpPr>
        <p:spPr>
          <a:xfrm>
            <a:off x="2268360" y="2852640"/>
            <a:ext cx="5032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مستطيل 6"/>
          <p:cNvSpPr/>
          <p:nvPr/>
        </p:nvSpPr>
        <p:spPr>
          <a:xfrm>
            <a:off x="1908000" y="3284640"/>
            <a:ext cx="1079640" cy="504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+/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مستطيل 7"/>
          <p:cNvSpPr/>
          <p:nvPr/>
        </p:nvSpPr>
        <p:spPr>
          <a:xfrm>
            <a:off x="2124000" y="3716280"/>
            <a:ext cx="1008000" cy="504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cs typeface="Times New Roman"/>
              </a:rPr>
              <a:t>؟/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مستطيل 8"/>
          <p:cNvSpPr/>
          <p:nvPr/>
        </p:nvSpPr>
        <p:spPr>
          <a:xfrm>
            <a:off x="2340000" y="4221000"/>
            <a:ext cx="5032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مستطيل 9"/>
          <p:cNvSpPr/>
          <p:nvPr/>
        </p:nvSpPr>
        <p:spPr>
          <a:xfrm>
            <a:off x="2340000" y="4581360"/>
            <a:ext cx="5032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مستطيل 10"/>
          <p:cNvSpPr/>
          <p:nvPr/>
        </p:nvSpPr>
        <p:spPr>
          <a:xfrm>
            <a:off x="2268360" y="5013360"/>
            <a:ext cx="50328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مستطيل 11"/>
          <p:cNvSpPr/>
          <p:nvPr/>
        </p:nvSpPr>
        <p:spPr>
          <a:xfrm>
            <a:off x="2268360" y="5445000"/>
            <a:ext cx="5032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مستطيل 12"/>
          <p:cNvSpPr/>
          <p:nvPr/>
        </p:nvSpPr>
        <p:spPr>
          <a:xfrm>
            <a:off x="2268360" y="5877000"/>
            <a:ext cx="50328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893080" cy="6264360"/>
          </a:xfrm>
          <a:prstGeom prst="rect">
            <a:avLst/>
          </a:prstGeom>
          <a:ln w="0">
            <a:noFill/>
          </a:ln>
        </p:spPr>
      </p:pic>
      <p:sp>
        <p:nvSpPr>
          <p:cNvPr id="248" name="مستطيل 2"/>
          <p:cNvSpPr/>
          <p:nvPr/>
        </p:nvSpPr>
        <p:spPr>
          <a:xfrm>
            <a:off x="2050920" y="2421000"/>
            <a:ext cx="5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مستطيل 3"/>
          <p:cNvSpPr/>
          <p:nvPr/>
        </p:nvSpPr>
        <p:spPr>
          <a:xfrm>
            <a:off x="1979640" y="306864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مستطيل 4"/>
          <p:cNvSpPr/>
          <p:nvPr/>
        </p:nvSpPr>
        <p:spPr>
          <a:xfrm>
            <a:off x="1619280" y="371628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+/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مستطيل 5"/>
          <p:cNvSpPr/>
          <p:nvPr/>
        </p:nvSpPr>
        <p:spPr>
          <a:xfrm flipV="1">
            <a:off x="2050920" y="4365720"/>
            <a:ext cx="513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مستطيل 6"/>
          <p:cNvSpPr/>
          <p:nvPr/>
        </p:nvSpPr>
        <p:spPr>
          <a:xfrm>
            <a:off x="1979640" y="501336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مستطيل 7"/>
          <p:cNvSpPr/>
          <p:nvPr/>
        </p:nvSpPr>
        <p:spPr>
          <a:xfrm>
            <a:off x="1979640" y="558972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5:49:32Z</dcterms:created>
  <dc:creator>Micro</dc:creator>
  <dc:description/>
  <dc:language>en-US</dc:language>
  <cp:lastModifiedBy>ABUMADA</cp:lastModifiedBy>
  <dcterms:modified xsi:type="dcterms:W3CDTF">2012-10-09T03:02:59Z</dcterms:modified>
  <cp:revision>10</cp:revision>
  <dc:subject/>
  <dc:title>مقيـاس الطمــوح</dc:title>
</cp:coreProperties>
</file>