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8D5-DDD8-49BF-92A3-B38AD232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F8B0-E287-47DB-8F4E-E9476964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055-0D7F-489B-805E-C04A6E0C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1CFA-E0B1-45EB-B72B-2DA632D0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B231-404A-42E4-9797-6B4FFC01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AD5E-6660-4B1F-BC46-52CC50314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6721-D82F-49B4-BBA5-E581164C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A977-D415-41C4-ADC5-5B1CEC60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324E-F5CF-4B3B-AFB8-FE66D6A0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7DEB-7D34-4B48-AB32-34DDBC5F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F2E4-4A4B-4EFA-9C46-6510933F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DEB5-48AE-4A36-8E58-8472475B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E30-F6F2-49FE-887A-20120927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35F9-5F70-4499-B80B-4082A70D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48B18-20E3-4759-A5F1-FB3444AE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F8DB-53CB-4AD1-9F81-3CF76331E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18D7-F4D7-4B52-8E09-3055F1388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8C679-9B7C-4B4F-8DCC-CA348356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F4B7F-F7B3-4A09-8C2D-61DC035A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9E02A-2BBE-4C9A-95B6-46579B43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7EA92-2551-4C29-BC45-65EFFE3F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24390-0F5E-416D-87FE-E33D8564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5753-DAB4-4ECD-8897-A3329DBC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85791-2A75-4D67-BEA6-CCD497F9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3F406-8CAB-43B0-9581-2A1B6DDB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74C9F-D229-4112-B32A-B85F4320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CCF6-0EA2-48A4-B402-B0840E549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D85ED-9680-44A9-BBC0-A8563CAB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4F9B7-D5A5-4B68-8B4E-4E4603DA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B9F21-5317-4B7E-BAD2-BFED18EF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600B-80E2-4F75-A890-6F600B52D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BEB51-62FC-4D7F-B736-A184FC80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08D61-A199-4C4A-840F-C6087FE36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E023-2D38-40B0-A168-4215EC0D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BC28E-E4B6-4310-9711-7E2FD270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48EC6-3F89-4C6E-BDE9-636F7365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307E9-58E9-4673-9BBA-243268B2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8CAA2-0492-449A-B4C2-32AD9CEA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17550-FABB-40E4-92FC-456626D5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E57C0-88B2-45AD-A736-C5779FD7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D0881-EB87-4DCE-A0AF-0AD0FDDFD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D1FE0-AF03-4541-AA31-F393EDBB0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84E5-9866-4A55-9956-6BA757A0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F3A00-49ED-459D-AE7F-49E8277CD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11DB-51A6-45B5-9B38-1CB052AF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816E3-939F-4C5E-AD1D-BB387BE8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70DE8-0C79-411E-B384-B717BFD1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74619-F513-45B9-A57D-656E08EF8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571A0-FE14-4AA5-A1BB-87488A76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151E-3146-4EA1-BCEE-300E7168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FA759-6995-4560-801E-FC6F4A5F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3F656-BF3A-4651-BEF1-27E7E3F5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45AD-E674-41C3-A446-8729E6EA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0BAD0-B7A9-48ED-AB41-F886690C5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1C7F-4931-4CC9-85E9-7E62F9F8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4F0D-7FE9-446C-BE28-31EAA742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B07BF-740C-41D9-A677-5BD57675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9FD9-5D13-4969-A63B-2448640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0D93-DD67-4F99-94B0-3E5C3D09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9055-730D-4C76-8B0A-505E8605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921F-CBB8-42C8-8FED-E3E17FC0C293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مستطيل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مستطيل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مستطيل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7CE9-DA42-4DBF-B4A3-B9FEA29B8772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مستطيل مستدير الزوايا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مستطيل مستدير الزوايا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مستطيل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مستطيل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مستطيل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055E-1825-435A-A81A-EACCFC81647B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مستطيل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مستطيل مستدير الزوايا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6013-25FD-4330-9329-BF9A0C984DC8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مستطيل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مستطيل مستدير الزوايا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مستطيل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مستطيل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مستطيل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 algn="r" rtl="1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 algn="r" rtl="1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 algn="r" rtl="1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 algn="r" rtl="1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 algn="r" rtl="1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4F2D-2ABC-4664-9D50-925834099BB7}" type="slidenum">
              <a:rPr b="0" lang="ar-SA" sz="1400" spc="-1" strike="noStrike">
                <a:solidFill>
                  <a:srgbClr val="ffffff"/>
                </a:solidFill>
                <a:latin typeface="Franklin Gothic Book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 rtl="1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2600" spc="-1" strike="noStrike">
              <a:solidFill>
                <a:srgbClr val="69646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900000" y="134136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ffffff"/>
                </a:solidFill>
                <a:latin typeface="Franklin Gothic Book"/>
                <a:cs typeface="PT Bold Heading"/>
              </a:rPr>
              <a:t>مقيـاس فاينلاند للنضج الاجتماعي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p:transition spd="med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sp>
        <p:nvSpPr>
          <p:cNvPr id="255" name="مستطيل 3"/>
          <p:cNvSpPr/>
          <p:nvPr/>
        </p:nvSpPr>
        <p:spPr>
          <a:xfrm>
            <a:off x="1979640" y="2133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مستطيل 4"/>
          <p:cNvSpPr/>
          <p:nvPr/>
        </p:nvSpPr>
        <p:spPr>
          <a:xfrm>
            <a:off x="1908000" y="2781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مستطيل 5"/>
          <p:cNvSpPr/>
          <p:nvPr/>
        </p:nvSpPr>
        <p:spPr>
          <a:xfrm>
            <a:off x="190800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مستطيل 6"/>
          <p:cNvSpPr/>
          <p:nvPr/>
        </p:nvSpPr>
        <p:spPr>
          <a:xfrm>
            <a:off x="1908000" y="422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مستطيل 7"/>
          <p:cNvSpPr/>
          <p:nvPr/>
        </p:nvSpPr>
        <p:spPr>
          <a:xfrm>
            <a:off x="190800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مستطيل 8"/>
          <p:cNvSpPr/>
          <p:nvPr/>
        </p:nvSpPr>
        <p:spPr>
          <a:xfrm>
            <a:off x="1979640" y="5516640"/>
            <a:ext cx="50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يسمى السقف الاختبار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 تكون جميع إجابات الأم عن المفحوص بلا أي أن المفحوص لا يستطيع أن يقوم بهذه الفقرات من هذا البند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39640" y="475920"/>
            <a:ext cx="81835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بعدها لا بد أن أعود إلى الأمام حتى يتم تحديد العمر القاعد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عمر القاعدي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أن تكون إجابات الأم عن المفحوص كاملة بنعم في بند معين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8320" indent="-2383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785440" cy="4600440"/>
          </a:xfrm>
          <a:prstGeom prst="rect">
            <a:avLst/>
          </a:prstGeom>
          <a:ln w="0">
            <a:noFill/>
          </a:ln>
        </p:spPr>
      </p:pic>
      <p:sp>
        <p:nvSpPr>
          <p:cNvPr id="264" name="مستطيل 3"/>
          <p:cNvSpPr/>
          <p:nvPr/>
        </p:nvSpPr>
        <p:spPr>
          <a:xfrm>
            <a:off x="2268360" y="2637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مستطيل 4"/>
          <p:cNvSpPr/>
          <p:nvPr/>
        </p:nvSpPr>
        <p:spPr>
          <a:xfrm>
            <a:off x="2268360" y="2924280"/>
            <a:ext cx="503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مستطيل 5"/>
          <p:cNvSpPr/>
          <p:nvPr/>
        </p:nvSpPr>
        <p:spPr>
          <a:xfrm>
            <a:off x="2268360" y="3213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مستطيل 6"/>
          <p:cNvSpPr/>
          <p:nvPr/>
        </p:nvSpPr>
        <p:spPr>
          <a:xfrm>
            <a:off x="2268360" y="3429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مستطيل 7"/>
          <p:cNvSpPr/>
          <p:nvPr/>
        </p:nvSpPr>
        <p:spPr>
          <a:xfrm>
            <a:off x="2268360" y="3645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مستطيل 8"/>
          <p:cNvSpPr/>
          <p:nvPr/>
        </p:nvSpPr>
        <p:spPr>
          <a:xfrm>
            <a:off x="2268360" y="386064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مستطيل 9"/>
          <p:cNvSpPr/>
          <p:nvPr/>
        </p:nvSpPr>
        <p:spPr>
          <a:xfrm>
            <a:off x="2268360" y="407664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مستطيل 10"/>
          <p:cNvSpPr/>
          <p:nvPr/>
        </p:nvSpPr>
        <p:spPr>
          <a:xfrm>
            <a:off x="2268360" y="4365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مستطيل 11"/>
          <p:cNvSpPr/>
          <p:nvPr/>
        </p:nvSpPr>
        <p:spPr>
          <a:xfrm>
            <a:off x="2268360" y="4508640"/>
            <a:ext cx="5032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مستطيل 12"/>
          <p:cNvSpPr/>
          <p:nvPr/>
        </p:nvSpPr>
        <p:spPr>
          <a:xfrm>
            <a:off x="2268360" y="479736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مستطيل 13"/>
          <p:cNvSpPr/>
          <p:nvPr/>
        </p:nvSpPr>
        <p:spPr>
          <a:xfrm>
            <a:off x="2268360" y="522936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مستطيل 14"/>
          <p:cNvSpPr/>
          <p:nvPr/>
        </p:nvSpPr>
        <p:spPr>
          <a:xfrm>
            <a:off x="2195640" y="5084640"/>
            <a:ext cx="50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مستطيل 15"/>
          <p:cNvSpPr/>
          <p:nvPr/>
        </p:nvSpPr>
        <p:spPr>
          <a:xfrm>
            <a:off x="2268360" y="537372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مستطيل 16"/>
          <p:cNvSpPr/>
          <p:nvPr/>
        </p:nvSpPr>
        <p:spPr>
          <a:xfrm>
            <a:off x="2268360" y="566100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مستطيل 17"/>
          <p:cNvSpPr/>
          <p:nvPr/>
        </p:nvSpPr>
        <p:spPr>
          <a:xfrm>
            <a:off x="2268360" y="5877000"/>
            <a:ext cx="503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مستطيل 18"/>
          <p:cNvSpPr/>
          <p:nvPr/>
        </p:nvSpPr>
        <p:spPr>
          <a:xfrm>
            <a:off x="2268360" y="6165720"/>
            <a:ext cx="503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عمر القاعد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سنة – سنتين  إذ سيكون العمر القاعدي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cs typeface="PT Bold Heading"/>
              </a:rPr>
              <a:t>سنتان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1" name="عنصر نائب للمحتوى 2"/>
          <p:cNvSpPr/>
          <p:nvPr/>
        </p:nvSpPr>
        <p:spPr>
          <a:xfrm>
            <a:off x="684360" y="1700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سقف الاختبار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–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5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سنوات إذ سيكون سقف الاختبار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5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سنوات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عنصر نائب للمحتوى 2"/>
          <p:cNvSpPr/>
          <p:nvPr/>
        </p:nvSpPr>
        <p:spPr>
          <a:xfrm>
            <a:off x="755640" y="2924280"/>
            <a:ext cx="8183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عمر القاعدي إلى الأشهر عن طريق ضربها في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2 = 2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شه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عنصر نائب للمحتوى 2"/>
          <p:cNvSpPr/>
          <p:nvPr/>
        </p:nvSpPr>
        <p:spPr>
          <a:xfrm>
            <a:off x="960480" y="4221000"/>
            <a:ext cx="8183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الأيام المضافة عن طريق القانون التا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لدرجة </a:t>
            </a:r>
            <a:r>
              <a:rPr b="0" lang="en-US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x</a:t>
            </a:r>
            <a:r>
              <a:rPr b="0" lang="en-US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 وزن البن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عنصر نائب للمحتوى 2"/>
          <p:cNvSpPr/>
          <p:nvPr/>
        </p:nvSpPr>
        <p:spPr>
          <a:xfrm>
            <a:off x="468360" y="189000"/>
            <a:ext cx="8183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الأيام المضافة عن طريق القانون التالي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ct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درجة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وزن البن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324000" y="1397160"/>
          <a:ext cx="8569080" cy="2620800"/>
        </p:xfrm>
        <a:graphic>
          <a:graphicData uri="http://schemas.openxmlformats.org/drawingml/2006/table">
            <a:tbl>
              <a:tblPr/>
              <a:tblGrid>
                <a:gridCol w="3084480"/>
                <a:gridCol w="1854000"/>
                <a:gridCol w="1990800"/>
                <a:gridCol w="163980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PT Bold Heading"/>
                        </a:rPr>
                        <a:t>الدرجة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x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PT Bold Heading"/>
                        </a:rPr>
                        <a:t> وزن البن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وزن البند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درج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بن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3481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19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5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– 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2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6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.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3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- </a:t>
                      </a: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e9e7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ea typeface="Times New Roman"/>
                        </a:rPr>
                        <a:t>40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3200" spc="-1" strike="noStrike">
                          <a:solidFill>
                            <a:srgbClr val="000000"/>
                          </a:solidFill>
                          <a:latin typeface="Perpetua"/>
                          <a:cs typeface="Times New Roman"/>
                        </a:rPr>
                        <a:t>المـــــــــــــــــجــــــــــــوع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c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539640" y="475920"/>
            <a:ext cx="81835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أيام المضافة إلى أشهر وذلك عن طريق قسمتها على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30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0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/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0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=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3.6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 تقريباً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تسمى الأشهر المضاف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32920" indent="-2329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87" name="عنصر نائب للمحتوى 2"/>
          <p:cNvSpPr/>
          <p:nvPr/>
        </p:nvSpPr>
        <p:spPr>
          <a:xfrm>
            <a:off x="684360" y="1700280"/>
            <a:ext cx="818352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نحسب العمر الاجتماع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أشهر المضافة + العمر القاعد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1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+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2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=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عنصر نائب للمحتوى 2"/>
          <p:cNvSpPr/>
          <p:nvPr/>
        </p:nvSpPr>
        <p:spPr>
          <a:xfrm>
            <a:off x="960480" y="3645000"/>
            <a:ext cx="8183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ويل العمر الزمني إلى أشهر عن طريق ضربها في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2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2 = 4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شهرا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عنصر نائب للمحتوى 2"/>
          <p:cNvSpPr/>
          <p:nvPr/>
        </p:nvSpPr>
        <p:spPr>
          <a:xfrm>
            <a:off x="324000" y="333360"/>
            <a:ext cx="81835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حساب نسبة الذكاء الاجتماعي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العمر الاجتماعي / العمر الزمني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3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/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8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x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=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79.1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تقريباً 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79</a:t>
            </a:r>
            <a:r>
              <a:rPr b="0" lang="ar-SA" sz="2600" spc="-1" strike="noStrike">
                <a:solidFill>
                  <a:srgbClr val="ff0000"/>
                </a:solidFill>
                <a:latin typeface="Times New Roman"/>
                <a:ea typeface="PT Bold Heading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عنصر نائب للمحتوى 2"/>
          <p:cNvSpPr/>
          <p:nvPr/>
        </p:nvSpPr>
        <p:spPr>
          <a:xfrm>
            <a:off x="539640" y="3716280"/>
            <a:ext cx="8183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يصنف أن الطفل أقل من المتوس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مقدمة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وضعه دول لتقدير القدرة الاجتماعية وهو يتكون من </a:t>
            </a: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117</a:t>
            </a: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 بند مرتبة من حيث صعوبتها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غطي ثمانية جوانب رئيسية في النضج الاجتماعي للسلوك بوصفه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بوجه عام.                  *الانشغال بأعمال ( المهنة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في الطعام والشراب.      *الاتصال ( التخاطب )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الاعتماد على النفس في الملبس.                 *  الحركة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* توجيه النفس.                                     * التطبيع الاجتماعي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يقيس الاختبار الارتقاء منذ الميلاد وحتى السنة الخامسة والعشرين للمتخلفي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ويقيس منذ الميلاد حتى السنة الحادي عشر فقط للعاديين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262626"/>
                </a:solidFill>
                <a:latin typeface="Times New Roman"/>
              </a:rPr>
              <a:t>الاختبار يعتمد على المعلومات مصدرها الأم أو الممرضة أو المربية القائمة على رعاية الطفل.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43720" indent="-24372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عند بداية تطبيق الاختبار لابد من البدء من العمر الذي يسبق العمر الزمني بسن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حتمالات الاجابة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Times New Roman"/>
                <a:cs typeface="PT Bold Heading"/>
              </a:rPr>
              <a:t>غالباً أو نعم ( + ) ـــــــــــــ تحصل على درجة واحد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لا ( - )  ـــــــــــــــ تحصل على صفر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70c0"/>
                </a:solidFill>
                <a:latin typeface="Times New Roman"/>
                <a:cs typeface="PT Bold Heading"/>
              </a:rPr>
              <a:t>أحياناً ( + / - )  ــــــــــــ نصف درج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احتمال ( + / ؟ )  ــــــــــــــــــــ لها عدة حالات كالتالي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1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ت ( + / - ) في أول فقرة في البند أو أخر فقرة يعطى نصف درجة.ص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2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كان الموجب أكثر من السالب فتعطى درج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3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 السالب أكثر من الموجب تعطى صفر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ea typeface="PT Bold Heading"/>
              </a:rPr>
              <a:t>/ إذا كان الموجب والسالب متساويان تعطى درجة واحدة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539640" y="475920"/>
            <a:ext cx="81835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خطوات الحل 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d34817"/>
                </a:solidFill>
                <a:latin typeface="Times New Roman"/>
                <a:cs typeface="PT Bold Heading"/>
              </a:rPr>
              <a:t>تحديد العمر الزمني( </a:t>
            </a:r>
            <a:r>
              <a:rPr b="0" lang="ar-SA" sz="2600" spc="-1" strike="noStrike">
                <a:solidFill>
                  <a:srgbClr val="00b050"/>
                </a:solidFill>
                <a:latin typeface="Times New Roman"/>
                <a:cs typeface="PT Bold Heading"/>
              </a:rPr>
              <a:t>لا بد من حسابة فوراً </a:t>
            </a:r>
            <a:r>
              <a:rPr b="0" lang="ar-SA" sz="2600" spc="-1" strike="noStrike">
                <a:solidFill>
                  <a:srgbClr val="d34817"/>
                </a:solidFill>
                <a:latin typeface="Times New Roman"/>
                <a:ea typeface="PT Bold Heading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عمر المفحوص لدي أربع سنوات و 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4</a:t>
            </a:r>
            <a:r>
              <a:rPr b="0" lang="ar-SA" sz="2600" spc="-1" strike="noStrike">
                <a:solidFill>
                  <a:srgbClr val="000000"/>
                </a:solidFill>
                <a:latin typeface="Times New Roman"/>
                <a:ea typeface="PT Bold Heading"/>
              </a:rPr>
              <a:t> أيام 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600" spc="-1" strike="noStrike">
                <a:solidFill>
                  <a:srgbClr val="000000"/>
                </a:solidFill>
                <a:latin typeface="Times New Roman"/>
                <a:cs typeface="PT Bold Heading"/>
              </a:rPr>
              <a:t>لا بد أن نبدأ قبل عمر المفحوص بسنة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64960" indent="-264960" algn="r" rtl="1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237" name="مستطيل 3"/>
          <p:cNvSpPr/>
          <p:nvPr/>
        </p:nvSpPr>
        <p:spPr>
          <a:xfrm>
            <a:off x="2268360" y="1916280"/>
            <a:ext cx="503280" cy="43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مستطيل 4"/>
          <p:cNvSpPr/>
          <p:nvPr/>
        </p:nvSpPr>
        <p:spPr>
          <a:xfrm>
            <a:off x="2268360" y="2421000"/>
            <a:ext cx="50328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مستطيل 5"/>
          <p:cNvSpPr/>
          <p:nvPr/>
        </p:nvSpPr>
        <p:spPr>
          <a:xfrm>
            <a:off x="2268360" y="285264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مستطيل 6"/>
          <p:cNvSpPr/>
          <p:nvPr/>
        </p:nvSpPr>
        <p:spPr>
          <a:xfrm>
            <a:off x="1908000" y="3284640"/>
            <a:ext cx="107964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مستطيل 7"/>
          <p:cNvSpPr/>
          <p:nvPr/>
        </p:nvSpPr>
        <p:spPr>
          <a:xfrm>
            <a:off x="2124000" y="3716280"/>
            <a:ext cx="1008000" cy="504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cs typeface="Times New Roman"/>
              </a:rPr>
              <a:t>؟/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مستطيل 8"/>
          <p:cNvSpPr/>
          <p:nvPr/>
        </p:nvSpPr>
        <p:spPr>
          <a:xfrm>
            <a:off x="2340000" y="4221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مستطيل 9"/>
          <p:cNvSpPr/>
          <p:nvPr/>
        </p:nvSpPr>
        <p:spPr>
          <a:xfrm>
            <a:off x="2340000" y="458136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مستطيل 10"/>
          <p:cNvSpPr/>
          <p:nvPr/>
        </p:nvSpPr>
        <p:spPr>
          <a:xfrm>
            <a:off x="2268360" y="5013360"/>
            <a:ext cx="5032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مستطيل 11"/>
          <p:cNvSpPr/>
          <p:nvPr/>
        </p:nvSpPr>
        <p:spPr>
          <a:xfrm>
            <a:off x="2268360" y="5445000"/>
            <a:ext cx="5032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مستطيل 12"/>
          <p:cNvSpPr/>
          <p:nvPr/>
        </p:nvSpPr>
        <p:spPr>
          <a:xfrm>
            <a:off x="2268360" y="5877000"/>
            <a:ext cx="503280" cy="431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248" name="مستطيل 2"/>
          <p:cNvSpPr/>
          <p:nvPr/>
        </p:nvSpPr>
        <p:spPr>
          <a:xfrm>
            <a:off x="2050920" y="242100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مستطيل 3"/>
          <p:cNvSpPr/>
          <p:nvPr/>
        </p:nvSpPr>
        <p:spPr>
          <a:xfrm>
            <a:off x="1979640" y="306864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مستطيل 4"/>
          <p:cNvSpPr/>
          <p:nvPr/>
        </p:nvSpPr>
        <p:spPr>
          <a:xfrm>
            <a:off x="1619280" y="3716280"/>
            <a:ext cx="1152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/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مستطيل 5"/>
          <p:cNvSpPr/>
          <p:nvPr/>
        </p:nvSpPr>
        <p:spPr>
          <a:xfrm flipV="1">
            <a:off x="2050920" y="4365720"/>
            <a:ext cx="513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مستطيل 6"/>
          <p:cNvSpPr/>
          <p:nvPr/>
        </p:nvSpPr>
        <p:spPr>
          <a:xfrm>
            <a:off x="1979640" y="5013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مستطيل 7"/>
          <p:cNvSpPr/>
          <p:nvPr/>
        </p:nvSpPr>
        <p:spPr>
          <a:xfrm>
            <a:off x="1979640" y="558972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0000"/>
                </a:solidFill>
                <a:latin typeface="Perpetua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5:49:32Z</dcterms:created>
  <dc:creator>Micro</dc:creator>
  <dc:description/>
  <dc:language>en-US</dc:language>
  <cp:lastModifiedBy>ABUMADA</cp:lastModifiedBy>
  <dcterms:modified xsi:type="dcterms:W3CDTF">2012-10-09T03:02:59Z</dcterms:modified>
  <cp:revision>10</cp:revision>
  <dc:subject/>
  <dc:title>مقيـاس الطمــوح</dc:title>
</cp:coreProperties>
</file>