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A3D-EF67-44CD-A822-7846017E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5EE-9B60-49A8-AEFB-4DD43907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0DC-4867-47EF-A99D-53A10A78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71B-669B-44E1-AD2E-004F17AC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244-9684-4978-B347-767CB8D8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19F-B601-43E3-AFA0-3C2A342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654-34D0-4A15-97AD-65BB688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AD4-0D03-405D-B0BE-B99815D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3BF-2572-4615-94EF-4C3780D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21A-26BB-4122-8228-22E13EAA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668-5283-424D-9395-D3EC649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2DB-C72F-4DAC-A0A9-4C1FD457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C8F0-89F7-44D2-9036-9D86E0818A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مساهمة في الشركات و المؤسسات و ادارة ألأملاك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الحكم الشخصي للمسؤول عن منح الق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بر نظام التصنيف وسيلة للتبويب لغرض الرقاب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وجد انواع للتدريج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يج لاموضوع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حساب مؤشرات التحليل المالي المستمد من الكشوفات المالية و مؤشرات سوق المال , مؤشرات الموازنة و مراجعه الضمانة و التوثيق و المستند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نظام التدرج الذات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هذا النظام على الحكم الشخصي للمسؤول عن مراجعه ا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قوم بالتبويب من دون الرجوع الى البيان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بدون وضع مؤشرات كمية مستمدة من المعلومات والكشوف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مثلة على نظام الشرائح و خصائص كل واح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أ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شمل الديون من الدرجة الاو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ستندة ال ضمانة سائ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هامش امان كاف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دعومة بمعلومات حديثة التاري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يمتازالمقترض سواء كان شركة او فرد بالسلوك الرفيع و المقدرة الممتاز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سيولة العال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قروض ذات صفات مرغوب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قل مستوى من شريحة 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معلومات و الكشوفات تعكس وضعا ماليا قو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ضمانة العقارية اضعف من الشريحة الاو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قروض قائمة على قاعدة متينة من الموجود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لها مصدر تسديد سلي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قروض ذات اداء مرض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افراد ومنشات ذات مقدرة مالية متوسط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هامش امان ضعي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ضعف 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جزء من الموجودات لايمتاز بال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عاني من نقص بعض المعلومات المه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برز بهذه الشريحة  مجموعة من مؤشرات التحذي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جالات ضعف عديدة لايمكن تصحيحها في الاجل القصي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مؤشرات المالية المهمة قد تدهور و بحاجة الى تصحي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ضم احيانا تبويبا موقتا لبعض الدي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ريحة (ها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جموعة من القروض دون المستوى المعيا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اقية بدون تسديد منذ مدة و تعاني من مشكل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مديونية عالية للفرد و المنشأ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ترض لا يتعاون مع البن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دم القدرة على التكييف للتبدل في الظروف الاقتصادية العا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ذه القروض مشكوك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ريحة (و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قروض مشكوك بها و تتبلور فيها علامات الخسارة المحتم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زء من هذه القروض يتعرض للشط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مانات ضعيف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اج الى اجراءات تصحيحه اساسية و جذ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وجودات غير مشغلة و تعمل اقل من طاقت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شريحة (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ديون معدو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غير قابلة للتحصي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مرافعات القضائية لا تجدي نفعا بتحصيل هذه الديون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دارتها تكلف المصرف بسبب ضرورة متابعتها بشكل متواصل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تذكير بالاستثمار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نك اللعقاري يضم كلا من القروض و الاستثما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روض تمنح مباشرة من المصرف الى المقترض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تشترى بالسوق الما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متنوعة : طويلة اجل , متوسطة اجل, وقصيرة اج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تتفاوت عن الاحتياط الثانو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 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وعية العال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خاطر الائتمانية يجب ان تكون منخفضة بالنسبة لادوات المديون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هم يجب ان يكون لها مركز مالي مت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ن يكون المصرف قادر على بيع الاستثمارات وقت الحاجة  مثل البيع الكامل , اعاداه تشكيل المحفظة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تنوي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 بد ان تتمتع المحفظة الاستثمارية بدرجه من التنويع القطاعي و الجغرافي و حسب الجهة المصدره للأس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قيق المستوى المطلوب من التنويع يتوقف على توفر قاعدة عريضة من  الاوراق المالية المتاحة في السوق للاختيار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ذا امر غير متحقق غالبا بالسوق العربية المح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مر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اهم اهداف الاستثمارات العقا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بد من قيام المصرف بدراسة ربح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يس كل الديون التي يمنحها المصرف هي ديون جي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غايات تشخيص الديون المشكوك بها لا بد من مراجعة القروض دوريا و استثنائ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ان تمارس مراجعة القروض العقارية في مراحل ثلاث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راجعة القروض قبل منح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ساعدة مسؤؤل مانح القرض في صياغة هيكل اتفاقية القرض قبل منح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تعتبر بديل عن عمل قسم المعلومات الائتمان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يست الزامية لكل قرض يمنح من قبل المصر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ضمن هذه المراجعه 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راجعة التحاليل المالية التي اجريت في قسم المعلومات الائتما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قييم التدفق النقدي للقروض و جدولة تسديداتها و طرق التسدي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ارنة بين منح القروض و بين متطلبات السياسة الاقتراض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ساعده في هيكلة تفاصيل ا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ح بعض التساؤلات امام مسؤؤل القرض  لغرض التفكير بها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مراجعة القروض بعد منح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تستاء احوال بعض القروض بعد منح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هدف مراجعه القروض القائمة ما ي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وجه القصو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وجه الابتعاد بين الفعلي و المخط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روق سياسات الق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مراجعه الاستثنائية ل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مراجعة استثنائية لدين معين بسبب احتمال نشوء صعوب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عبارة عن وسيلة لتبويب الدين ووضعه في شرائح و فئات لغايات رقاب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بويب ليس ثابت و انما يتغير مع تغير احوال القرض و مراجعت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واع نظم التدريج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يج الوضعي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مؤشرات التحليل المالي المستمدة من الكوشوفات الما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ج الذات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1:11Z</dcterms:created>
  <dc:creator>Administrator</dc:creator>
  <dc:description/>
  <dc:language>en-US</dc:language>
  <cp:lastModifiedBy>Administrator</cp:lastModifiedBy>
  <dcterms:modified xsi:type="dcterms:W3CDTF">2010-12-12T05:16:33Z</dcterms:modified>
  <cp:revision>13</cp:revision>
  <dc:subject/>
  <dc:title>ادارة محفظه القروض العقارية</dc:title>
</cp:coreProperties>
</file>