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1FD-3AF0-4580-906E-83E3741A3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FB3F-8D32-4B30-AEC7-3A7B46D2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031E-081B-4FD3-95FB-E6C2F5A6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F12A-A971-44C8-A3DB-8EFB8E8C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5965-95F7-442B-AADE-1ED0EA9C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D89-2364-4920-A92B-4048EC49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15D-DCE9-4234-84DF-F8C85DF1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4D68-FD12-431B-B37E-8C3ABBE5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5B3-4D8B-467E-B275-B4755736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54F-422B-446E-9DBA-6E15F39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FC78-7698-4E88-A1C5-C5015EC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088-263C-41AE-B3C0-12924D1A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8416-40E1-49F3-9691-FA8717F2553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لمساهمة في الشركات و المؤسسات و ادارة ألأملاك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على الحكم الشخصي للمسؤول عن منح القر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بر نظام التصنيف وسيلة للتبويب لغرض الرقاب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وجد انواع للتدريج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ظام التدريج لاموضوع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-5482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على حساب مؤشرات التحليل المالي المستمد من الكشوفات المالية و مؤشرات سوق المال , مؤشرات الموازنة و مراجعه الضمانة و التوثيق و المستند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82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نظام التدرج الذات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هذا النظام على الحكم الشخصي للمسؤول عن مراجعه القر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قوم بالتبويب من دون الرجوع الى البيان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بدون وضع مؤشرات كمية مستمدة من المعلومات والكشوف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مثلة على نظام الشرائح و خصائص كل واح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شريحة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 أ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تشمل الديون من الدرجة الاولى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مستندة ال ضمانة سائ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هامش امان كاف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مدعومة بمعلومات حديثة التاريخ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يمتازالمقترض سواء كان شركة او فرد بالسلوك الرفيع و المقدرة الممتاز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سيولة العال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شريحة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قروض ذات صفات مرغوب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قل مستوى من شريحة 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معلومات و الكشوفات تعكس وضعا ماليا قو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ضمانة العقارية اضعف من الشريحة الاول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قروض قائمة على قاعدة متينة من الموجود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لها مصدر تسديد سلي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شريحة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قروض ذات اداء مرض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افراد ومنشات ذات مقدرة مالية متوسط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هامش امان ضعي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ضعف سي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جزء من الموجودات لايمتاز بالسي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تعاني من نقص بعض المعلومات المهم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شريحة 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تبرز بهذه الشريحة  مجموعة من مؤشرات التحذي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مجالات ضعف عديدة لايمكن تصحيحها في الاجل القصي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المؤشرات المالية المهمة قد تدهور و بحاجة الى تصحيح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ffff"/>
                </a:solidFill>
                <a:latin typeface="Arial"/>
              </a:rPr>
              <a:t>تضم احيانا تبويبا موقتا لبعض الديو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شريحة (هاء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جموعة من القروض دون المستوى المعيار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اقية بدون تسديد منذ مدة و تعاني من مشكل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سبة المديونية عالية للفرد و المنشأ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قترض لا يتعاون مع البنك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عدم القدرة على التكييف للتبدل في الظروف الاقتصادية العام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ذه القروض مشكوك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شريحة (و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-قروض مشكوك بها و تتبلور فيها علامات الخسارة المحتم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جزء من هذه القروض يتعرض للشطب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ضمانات ضعيف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تاج الى اجراءات تصحيحه اساسية و جذر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وجودات غير مشغلة و تعمل اقل من طاقته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نظام تصنيف( التدريج)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شريحة (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ديون معدوم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غير قابلة للتحصي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مرافعات القضائية لا تجدي نفعا بتحصيل هذه الديون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دارتها تكلف المصرف بسبب ضرورة متابعتها بشكل متواصل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تذكير بالاستثمار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بنك اللعقاري يضم كلا من القروض و الاستثما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روض تمنح مباشرة من المصرف الى المقترض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ثمارات تشترى بالسوق المال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ثمارات متنوعة : طويلة اجل , متوسطة اجل, وقصيرة اج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ستثمارات تتفاوت عن الاحتياط الثانو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 اهداف السياسة الاستثمارية للمصر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نوعية العالية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خاطر الائتمانية يجب ان تكون منخفضة بالنسبة لادوات المديون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سهم يجب ان يكون لها مركز مالي متي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 rtl="1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.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ان يكون المصرف قادر على بيع الاستثمارات وقت الحاجة  مثل البيع الكامل , اعاداه تشكيل المحفظة 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هداف السياسة الاستثمارية للمصر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التنوي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ا بد ان تتمتع المحفظة الاستثمارية بدرجه من التنويع القطاعي و الجغرافي و حسب الجهة المصدره للأسه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حقيق المستوى المطلوب من التنويع يتوقف على توفر قاعدة عريضة من  الاوراق المالية المتاحة في السوق للاختيار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ذا امر غير متحقق غالبا بالسوق العربية المحل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اهداف السياسة الاستثمارية للمصرف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المردود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اهم اهداف الاستثمارات العقار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ابد من قيام المصرف بدراسة ربح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مراجعة القروض العقارية و تدريجها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يس كل الديون التي يمنحها المصرف هي ديون جي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غايات تشخيص الديون المشكوك بها لا بد من مراجعة القروض دوريا و استثنائي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 ان تمارس مراجعة القروض العقارية في مراحل ثلاث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راجعة القروض قبل منحه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مساعدة مسؤؤل مانح القرض في صياغة هيكل اتفاقية القرض قبل منح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تعتبر بديل عن عمل قسم المعلومات الائتمان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يست الزامية لكل قرض يمنح من قبل المصر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مراجعة القروض العقارية و تدريجها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تضمن هذه المراجعه ما يلي 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راجعة التحاليل المالية التي اجريت في قسم المعلومات الائتما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قييم التدفق النقدي للقروض و جدولة تسديداتها و طرق التسدي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قارنة بين منح القروض و بين متطلبات السياسة الاقتراض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مساعده في هيكلة تفاصيل القر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طرح بعض التساؤلات امام مسؤؤل القرض  لغرض التفكير بها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مراجعة القروض العقارية و تدريجها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مراجعة القروض بعد منحه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تستاء احوال بعض القروض بعد منحه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هدف مراجعه القروض القائمة ما يل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وجه القصور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وجه الابتعاد بين الفعلي و المخط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خروق سياسات القر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المراجعه الاستثنائية للقر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مراجعة استثنائية لدين معين بسبب احتمال نشوء صعوبات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b7e7ff"/>
                </a:solidFill>
                <a:latin typeface="Arial"/>
              </a:rPr>
              <a:t>نظام تصنيف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ي عبارة عن وسيلة لتبويب الدين ووضعه في شرائح و فئات لغايات رقابت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تبويب ليس ثابت و انما يتغير مع تغير احوال القرض و مراجعته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نواع نظم التدريج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ظام التدريج الوضعي</a:t>
            </a:r>
            <a:br>
              <a:rPr sz="3200"/>
            </a:b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عتمد على مؤشرات التحليل المالي المستمدة من الكوشوفات المال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 algn="r" rtl="1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نظام التدرج الذات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2:11:11Z</dcterms:created>
  <dc:creator>Administrator</dc:creator>
  <dc:description/>
  <dc:language>en-US</dc:language>
  <cp:lastModifiedBy>Administrator</cp:lastModifiedBy>
  <dcterms:modified xsi:type="dcterms:W3CDTF">2010-12-12T05:16:33Z</dcterms:modified>
  <cp:revision>13</cp:revision>
  <dc:subject/>
  <dc:title>ادارة محفظه القروض العقارية</dc:title>
</cp:coreProperties>
</file>