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1EAE-BB41-437B-BDAE-270BEEE7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B248-0D3C-4AF6-A566-BB01F89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8DCA-7FC0-4748-B9C0-54380B4A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62CC-FFD9-4843-B4AC-8B97EBE5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C8F7-BBB8-4755-B63A-49404C53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AF55-5592-4DC2-A19E-B4030EA2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EB6-1420-4B8A-AEAE-B821C9F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AFB-7762-4CAB-A287-CD95CF9C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B6C9-B5C4-4CAB-B45D-14D49F3B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D8B-1F04-45CD-82F6-5FDEC6DB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9F4F-C726-4046-8CC9-047D898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ACDC-9FC9-44D9-873F-E2EE8088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3100-7C35-4E01-9822-2AEF221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DC1B-62A8-42DD-961F-6D6D169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0012-52C5-4C1C-BC13-0C776A3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E3E2-1AC2-4000-8050-A231630F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418E-D59E-4663-B4C5-54064C4A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3867-FBA2-42D2-A09D-543E87E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516C-DF24-4757-A3C5-B388873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DC16-3AFE-427F-9496-830DFAF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3639-70E0-47FC-81A3-13390FD1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963A-DF2A-4382-B7E1-B7914B6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77EF-414C-450B-9413-D2F20658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5CE1-BCBE-438D-AF15-9F4139B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1705-CA8B-4459-B573-5BF51802E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ABF4-C9B7-44EE-9D03-52345CAF87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500" spc="-1" strike="noStrike">
                <a:solidFill>
                  <a:srgbClr val="ffffff"/>
                </a:solidFill>
                <a:latin typeface="Arial"/>
                <a:cs typeface="Andalus"/>
              </a:rPr>
              <a:t>بسم الله الرحمن الرحيم</a:t>
            </a:r>
            <a:br>
              <a:rPr sz="5500"/>
            </a:br>
            <a:r>
              <a:rPr b="0" lang="ar-DZ" sz="5500" spc="-1" strike="noStrike">
                <a:solidFill>
                  <a:srgbClr val="ffffff"/>
                </a:solidFill>
                <a:latin typeface="Arial"/>
                <a:cs typeface="Andalus"/>
              </a:rPr>
              <a:t>بحوث في علم اللغة التطبيقي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DZ" sz="5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ديم الدكتور</a:t>
            </a:r>
            <a:r>
              <a:rPr b="0" i="1" lang="ar-DZ" sz="5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i="1" lang="ar-DZ" sz="5200" spc="-1" strike="noStrike">
                <a:solidFill>
                  <a:srgbClr val="ffffff"/>
                </a:solidFill>
                <a:latin typeface="Arial"/>
                <a:ea typeface="Traditional Arabic"/>
              </a:rPr>
              <a:t>: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DZ" sz="5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i="1" lang="ar-DZ" sz="5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جمعي محمود بولعراس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A305-099F-4927-ADF4-4BCB1FDA89E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كنولوجيات تعليم اللغة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طبيق نظريات التعلم في تعليم اللغة الأم واللغة الثانية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غذية الأداء والكفاءة في تعلم وتعليم اللغة الثانية كاللغة العربية للناطقين بغيرها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صميم المواد اللغوية وتعدادها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طبيق معطيات علم النفس التربوي في تعليم اللغة .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8FFF-3986-4038-9FD7-F216F25E2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بناء الأسئلة والاختبارات اللغوية المناسبة في تعليم اللغة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نظر في أركان التعليم: (المعلم،المتعلم،المادة التعليمية، الوسائل التعليمية، الخِطة الدراسية، تحديد الأهداف التعليمية،المحصلات اللغوية ...وغيرها)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طبيق أسس الخطاب التربوي اللغوي وأنواعه .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4FD3-2099-4CC2-9C23-D7176FDD3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نظر في معوقات التعلم وتحديدها ، وإعطاء حلول لها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خوض في المشاكل اللغوية التربوية كمحو الأمية والمصطلحات العلمية والترجمة وتحديد الوسائل اللازمة للتعلم اللغوي ، وكذا النظر في التفاعل بين اللغات.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D15C-9A06-43D9-856F-910A8A0BB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نفسي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 مواضيعه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كتساب اللغ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سلوك اللغوي ونمو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أنماط الإدراك اللغوي ، والتكون الذهني للمدلول اللغوي ، وكذا النظر في أنماط الأدلة التي يستقبلها متعلم اللغ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الاستقبال والتواصل اللغوي في مستواه النفسي والإدراك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CF11-C909-4487-8990-2B8D5DB5C5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نفسي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فيزيولوجية النشاط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تشريح جهاز الإرسال واستقبال الكلام ، وكذا جهاز الإبصار ( القراءة ) والنشاط الحسي الحركي ( الكتاب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تعديل الانحرافات اللغوية والكلامية ومعالجة الأمراض الكلامية كالحبسة والتأتأة والاضطرابات اللغوية الأخر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77A9-E772-4F96-9112-A564C5C928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اجتماع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 مواضيعه 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الأطالس اللغوية ، والصراع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أنماط الأنظمة التواصلية عند المجتمعات المختلفة وأنواع تلق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دراسة التقويمية لأنظمة التواصل العام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مستويات الخطاب ( عامي ، فصيح ، معاصر... وغيرها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دراسة الاختلافات اللهجية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8D2A-BF6C-4B70-A0F1-12DFD892AA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اجتماع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تسجيل النماذج الأدبية والفلكلورية كمنتج خطابي متسام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مدى انتشار الظواهر المختلفة للهجات وتأثير البيئة على الأنماط اللغوية ودرجة أصحابها من الحضار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تأثير الحالة الاقتصادية على أنواع التواصل بين المجموعات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الخصوصيات اللغوية عند كل مجتمع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82EB-84F0-491D-81C0-D0CF56590F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اجتماع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محاربة الأمية كغرض اجتماع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الازدواجية  والثنائية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التنمية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4603-B5CF-4B81-AAB3-2DB449C4A6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حاسوبي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 مواضيعه 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هندسة الاتصال ، وإلكترونيك اللغة ، وبرمجة قواعد اللغة لأجل تيسير تعليم اللغات الح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رجمة الآ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قارنة اللغة البشرية باللغة الآ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تصميم اللغات الآلية ...وغيرها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2E04-963D-43DC-AEAF-33B3E324D8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300" spc="-1" strike="noStrike">
                <a:solidFill>
                  <a:srgbClr val="ffffff"/>
                </a:solidFill>
                <a:latin typeface="Arial"/>
              </a:rPr>
              <a:t>وهناك مواضيع شتى يعتني بها علم اللغة التطبيقي هي وليدة تقاطع ميادين هذه العلوم باللغة</a:t>
            </a:r>
            <a:r>
              <a:rPr b="0" lang="ar-DZ" sz="4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ه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لغة الإشهار والإعلان التجار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خطيط والإحصاء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كتابة المعاج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النصوص وتحليل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حصيل التربوي اللغوي...وغير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3F8F-CAC7-42D7-A6EE-78AB88F849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فصل الأول :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مدخل إلى: بحوث في علم اللغة التطبيقي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قبل الخوض في إنجاز بحث في علم اللغة التطبيقي، وقبل التطرق إلى منهجية البحث  العلمي فيه ، يجب أن نتعرف  على الميدان الذي نبحث فيه، لنلم بالمواضيع والأطروحات التي   يجب أن نبحثها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4175-C06D-442E-99BA-A5B8F9E37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أسئلة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ا الفائدة مما يقدمه علم اللغة الحديث لعلم اللغة التطبيقي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ا هي أهم مجالات علم اللغة التطبيقي 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ا هي أهم الظواهر اللغوية التي هي  بحاجة إلى الدراسة الحالية وتتعلق بعلم اللغة التطبيقي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هل بإمكانك اختيار موضوع لبحثك حاليا أو على الأقل التفكير فيه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B997-C905-45C8-8932-AC13F7A096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  <a:cs typeface="Andalus"/>
              </a:rPr>
              <a:t>الأهداف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  <a:ea typeface="Andalus"/>
              </a:rPr>
              <a:t>: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بعد هذا الدرس نتصور أن نصل إلى أن يكون بمقدورنا أن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- نحدد بدقة أشكال مواضيع علم اللغة التطبيق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 – نشخص  المواضيع التي يجب أن نختارها لمواضيع بحوثنا فيما بع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 – نحدد بدقة الأهداف التي يجب أن نصفها ونصنفها ونفسرها وأن نفهمها للآخرين من زملائنا أو لمتعلمي اللغة العربية كلغة ثانية .</a:t>
            </a:r>
            <a:r>
              <a:rPr b="0" lang="ar-DZ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8D01-FE35-448C-AF0D-BC4D6B8F27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84360" y="188280"/>
            <a:ext cx="7934400" cy="6171120"/>
            <a:chOff x="684360" y="188280"/>
            <a:chExt cx="7934400" cy="6171120"/>
          </a:xfrm>
        </p:grpSpPr>
        <p:sp>
          <p:nvSpPr>
            <p:cNvPr id="121" name="_s18451"/>
            <p:cNvSpPr/>
            <p:nvPr/>
          </p:nvSpPr>
          <p:spPr>
            <a:xfrm flipH="1" flipV="1">
              <a:off x="3082680" y="2399040"/>
              <a:ext cx="788040" cy="49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8450"/>
            <p:cNvSpPr/>
            <p:nvPr/>
          </p:nvSpPr>
          <p:spPr>
            <a:xfrm>
              <a:off x="1288440" y="1098360"/>
              <a:ext cx="201780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تربو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Pedago-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8467"/>
            <p:cNvSpPr/>
            <p:nvPr/>
          </p:nvSpPr>
          <p:spPr>
            <a:xfrm flipH="1">
              <a:off x="2695320" y="3574800"/>
              <a:ext cx="982080" cy="17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8466"/>
            <p:cNvSpPr/>
            <p:nvPr/>
          </p:nvSpPr>
          <p:spPr>
            <a:xfrm>
              <a:off x="684360" y="3142080"/>
              <a:ext cx="201672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اجتماع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Socio-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8465"/>
            <p:cNvSpPr/>
            <p:nvPr/>
          </p:nvSpPr>
          <p:spPr>
            <a:xfrm flipH="1">
              <a:off x="3785760" y="4116960"/>
              <a:ext cx="439560" cy="71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8464"/>
            <p:cNvSpPr/>
            <p:nvPr/>
          </p:nvSpPr>
          <p:spPr>
            <a:xfrm>
              <a:off x="2340000" y="4758480"/>
              <a:ext cx="201780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حاسوب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 Black"/>
                </a:rPr>
                <a:t>Computationa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 Black"/>
                </a:rPr>
                <a:t> 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 Black"/>
                </a:rPr>
                <a:t>linguistics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8463"/>
            <p:cNvSpPr/>
            <p:nvPr/>
          </p:nvSpPr>
          <p:spPr>
            <a:xfrm>
              <a:off x="5100120" y="4114440"/>
              <a:ext cx="434160" cy="72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8462"/>
            <p:cNvSpPr/>
            <p:nvPr/>
          </p:nvSpPr>
          <p:spPr>
            <a:xfrm>
              <a:off x="4933080" y="4724640"/>
              <a:ext cx="201672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سياس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Politic 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8461"/>
            <p:cNvSpPr/>
            <p:nvPr/>
          </p:nvSpPr>
          <p:spPr>
            <a:xfrm>
              <a:off x="5642280" y="3572280"/>
              <a:ext cx="982800" cy="17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8460"/>
            <p:cNvSpPr/>
            <p:nvPr/>
          </p:nvSpPr>
          <p:spPr>
            <a:xfrm>
              <a:off x="6602040" y="3129120"/>
              <a:ext cx="201672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اقتصادي</a:t>
              </a: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والتجار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Economical 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commercial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linguis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8473"/>
            <p:cNvSpPr/>
            <p:nvPr/>
          </p:nvSpPr>
          <p:spPr>
            <a:xfrm flipV="1">
              <a:off x="5448600" y="2399040"/>
              <a:ext cx="788040" cy="49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8472"/>
            <p:cNvSpPr/>
            <p:nvPr/>
          </p:nvSpPr>
          <p:spPr>
            <a:xfrm>
              <a:off x="6010560" y="1050840"/>
              <a:ext cx="2234520" cy="18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وغيرها من المواضيع التي تتقاطع</a:t>
              </a: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ea typeface="Arabic Transparent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ومواضيع علم اللغة التطبيقي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كالصحة العضوية والنفسية والعصبية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والتطبيقات الميدانية الأخرى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8447"/>
            <p:cNvSpPr/>
            <p:nvPr/>
          </p:nvSpPr>
          <p:spPr>
            <a:xfrm flipV="1">
              <a:off x="4660200" y="1796760"/>
              <a:ext cx="0" cy="799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8446"/>
            <p:cNvSpPr/>
            <p:nvPr/>
          </p:nvSpPr>
          <p:spPr>
            <a:xfrm>
              <a:off x="3634920" y="188280"/>
              <a:ext cx="201672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نفس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Psycho-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8445"/>
            <p:cNvSpPr/>
            <p:nvPr/>
          </p:nvSpPr>
          <p:spPr>
            <a:xfrm>
              <a:off x="3651480" y="2597040"/>
              <a:ext cx="201672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بحوث علم اللغة التطبيق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CA6E-891D-42D1-AB2A-507BAF560F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500" spc="-1" strike="noStrike">
                <a:solidFill>
                  <a:srgbClr val="ffffff"/>
                </a:solidFill>
                <a:latin typeface="Arial"/>
              </a:rPr>
              <a:t>تمهيد: مفهوم علم اللغة  التطبيقي وعلاقته بعلم اللغة الحديث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ظهر علم اللغة التطبيقي  سنة 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946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 ، في الوقت الذي اُستدعي  النظر ف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شاكل تعليم اللغات الحية للناطقين بغير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دعوة إلى الفائدة البراغماتية في علم اللغة الحديث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مناهج  الحديثة في تعليم اللغة الثانية وطرائق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نظام التنشئة اللغوية عند الطفل وعند المتعلم الناشئ للغة الثان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5A38-D299-45EC-A9F9-4C2B17C40B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7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تدريب الصوتي ومعالجة الأمراض الكلامية والاضطرابات اللغوية. 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علم المهارات اللغوية وفنيات التعبير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إنشاء المعاجم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وسنتعرف بإذن الله تعالى إلى الأسباب الأخرى حين نتطرق بالتفصيل إلى مواضيع  ومجالات علم اللغة التطبيق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EF9A-8B2D-4451-B1EE-275975BBC3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فرق بين علم اللغة التطبيقي وعلم اللغة الحديث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ومن أهمها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نظير في علم اللغة الحديث والتطبيق الميداني للنظريات في علم اللغة التطبي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عموم في علم اللغة الحديث ، أما علم اللغة التطبيقي فيجسد النصوص النظرية التي تجري عليها الدراسة التطبيقية ، ثم تقترح حلولا عملية في إمكانية تطبيق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ينظر علم اللغة الحديث لعمليات التلقي والاكتساب اللغوي ، بينما ينظر علم اللغة التطبيقي  لهذه العمليات من منظور ممارسة اللغة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CB3F-F92E-4419-B12E-7E118E87A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فرق بين علم التطبيقي وعلم اللغة الحديث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يقدم علم اللغة التطبيقي إجراءات البدائل النوعية للتوصيات والاقتراحات التي يتوصل إليها علم اللغة الحديث من أجل الإصلاح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1CFD-A442-4946-BEF3-DBA41235CF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مجالات علم اللغة التطبيقي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علم اللغة التربوي والديداكتيك : ومن أهم مواضيعها 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علم اللغة التقابلي : وضع مقابلات بين لغتين مختلفتي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تحليل الأخطا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بناء المقررات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بناء المحتو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مناهج التربوية  والديداكتي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5C1C-25C5-46CA-9148-A13ECA4156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1:14:27Z</dcterms:created>
  <dc:creator>Djemai</dc:creator>
  <dc:description/>
  <dc:language>en-US</dc:language>
  <cp:lastModifiedBy>Djemai</cp:lastModifiedBy>
  <dcterms:modified xsi:type="dcterms:W3CDTF">2010-10-15T16:20:46Z</dcterms:modified>
  <cp:revision>26</cp:revision>
  <dc:subject/>
  <dc:title>Diapositive 1</dc:title>
</cp:coreProperties>
</file>