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1F430-BA7D-4CE5-A896-80F4FF955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CFD1B-CF7C-4CCB-A7C1-9873BAED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A7B6F-DA2B-430C-8E6F-C117D1CF7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9D6BA-DA67-40DA-B765-C99ACDD6A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E257-0A42-41E9-8CE9-C11390C2F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8933-6507-416C-B313-2CF92B17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9A3C-6C48-44BE-8DCE-C5CC8F2B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5EF7-E8C1-4FA7-A9B3-AC5B1819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0AAD-6FED-4D14-B5F6-D52264E0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99BE-6574-4C66-A799-DB339D7E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8A6E-3C9F-42B5-9534-C6FCB590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836AD-CB8C-4A50-81EF-C02EE9B3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66F3-3287-4E42-B6E1-D70D9EE2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C033-D2D7-4681-A985-2035DE5E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D1A6-AF60-487C-8239-D3F4F9EF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CA1B-438F-4F7F-973E-90AE7A463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E287-2735-42F4-B4A8-BDB274A4D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A9C52-A981-486E-9823-BDB2D312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208CE-57B4-4AEC-BD00-1ACB1403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7A7D2-9950-418D-B175-52B5D81E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9BC33-8D72-49D1-A04F-0A3936B8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F0A0C-4513-4DAD-B2EF-845EFD84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97A98-7456-45B4-9CED-73CCE24C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76C7C-AD12-438B-AF4E-03F86D8C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E0FD-FE8F-4B2B-928E-2D2664460B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FB2E-4E0A-4030-A88B-475B67FE68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5500" spc="-1" strike="noStrike">
                <a:solidFill>
                  <a:srgbClr val="ffffff"/>
                </a:solidFill>
                <a:latin typeface="Arial"/>
                <a:cs typeface="Andalus"/>
              </a:rPr>
              <a:t>بسم الله الرحمن الرحيم</a:t>
            </a:r>
            <a:br>
              <a:rPr sz="5500"/>
            </a:br>
            <a:r>
              <a:rPr b="0" lang="ar-DZ" sz="5500" spc="-1" strike="noStrike">
                <a:solidFill>
                  <a:srgbClr val="ffffff"/>
                </a:solidFill>
                <a:latin typeface="Arial"/>
                <a:cs typeface="Andalus"/>
              </a:rPr>
              <a:t>بحوث في علم اللغة التطبيقي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DZ" sz="5200" spc="-1" strike="noStrike">
                <a:solidFill>
                  <a:srgbClr val="ffffff"/>
                </a:solidFill>
                <a:latin typeface="Arial"/>
                <a:cs typeface="Traditional Arabic"/>
              </a:rPr>
              <a:t>تقديم الدكتور</a:t>
            </a:r>
            <a:r>
              <a:rPr b="0" i="1" lang="ar-DZ" sz="52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i="1" lang="ar-DZ" sz="5200" spc="-1" strike="noStrike">
                <a:solidFill>
                  <a:srgbClr val="ffffff"/>
                </a:solidFill>
                <a:latin typeface="Arial"/>
                <a:ea typeface="Traditional Arabic"/>
              </a:rPr>
              <a:t>:</a:t>
            </a: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DZ" sz="5200" spc="-1" strike="noStrike">
                <a:solidFill>
                  <a:srgbClr val="ffffff"/>
                </a:solidFill>
                <a:latin typeface="Arial"/>
                <a:ea typeface="Traditional Arabic"/>
              </a:rPr>
              <a:t> </a:t>
            </a:r>
            <a:r>
              <a:rPr b="0" i="1" lang="ar-DZ" sz="5200" spc="-1" strike="noStrike">
                <a:solidFill>
                  <a:srgbClr val="ffffff"/>
                </a:solidFill>
                <a:latin typeface="Arial"/>
                <a:cs typeface="Traditional Arabic"/>
              </a:rPr>
              <a:t>الجمعي محمود بولعراس</a:t>
            </a: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C7C6-3C2B-4A63-99C7-1082C5F2F23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2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) تكنولوجيات تعليم اللغة .</a:t>
            </a:r>
            <a:br>
              <a:rPr sz="3900"/>
            </a:b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) تطبيق نظريات التعلم في تعليم اللغة الأم واللغة الثانية .</a:t>
            </a:r>
            <a:br>
              <a:rPr sz="3900"/>
            </a:b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) تغذية الأداء والكفاءة في تعلم وتعليم اللغة الثانية كاللغة العربية للناطقين بغيرها.</a:t>
            </a:r>
            <a:br>
              <a:rPr sz="3900"/>
            </a:b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) تصميم المواد اللغوية وتعدادها .</a:t>
            </a:r>
            <a:br>
              <a:rPr sz="3900"/>
            </a:b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) تطبيق معطيات علم النفس التربوي في تعليم اللغة .  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C3B64-88AD-43AC-8281-18F9E657F2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60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) بناء الأسئلة والاختبارات اللغوية المناسبة في تعليم اللغة .</a:t>
            </a:r>
            <a:br>
              <a:rPr sz="3900"/>
            </a:b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) النظر في أركان التعليم: (المعلم،المتعلم،المادة التعليمية، الوسائل التعليمية، الخِطة الدراسية، تحديد الأهداف التعليمية،المحصلات اللغوية ...وغيرها).</a:t>
            </a:r>
            <a:br>
              <a:rPr sz="3900"/>
            </a:b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) تطبيق أسس الخطاب التربوي اللغوي وأنواعه .   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69562-7447-419C-83D0-FDCB5EF829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61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) النظر في معوقات التعلم وتحديدها ، وإعطاء حلول لها .</a:t>
            </a:r>
            <a:br>
              <a:rPr sz="3900"/>
            </a:b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) الخوض في المشاكل اللغوية التربوية كمحو الأمية والمصطلحات العلمية والترجمة وتحديد الوسائل اللازمة للتعلم اللغوي ، وكذا النظر في التفاعل بين اللغات. 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A0680-3102-4521-AEBA-CEA5DA01BE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علم اللغة النفسي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ومن أهم مواضيعه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اكتساب اللغ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السلوك اللغوي ونمو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أنماط الإدراك اللغوي ، والتكون الذهني للمدلول اللغوي ، وكذا النظر في أنماط الأدلة التي يستقبلها متعلم اللغ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دراسة الاستقبال والتواصل اللغوي في مستواه النفسي والإدراكي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5A8DF-BC43-4666-B776-1E67215D89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علم اللغة النفسي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) دراسة فيزيولوجية النشاط اللغوي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) تشريح جهاز الإرسال واستقبال الكلام ، وكذا جهاز الإبصار ( القراءة ) والنشاط الحسي الحركي ( الكتابة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) تعديل الانحرافات اللغوية والكلامية ومعالجة الأمراض الكلامية كالحبسة والتأتأة والاضطرابات اللغوية الأخر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ECA4B-9BE1-466F-AA42-03F3228304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علم اللغة الاجتماعي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ومن أهم مواضيعه ما يلي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دراسة الأطالس اللغوية ، والصراع اللغوي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أنماط الأنظمة التواصلية عند المجتمعات المختلفة وأنواع تلق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الدراسة التقويمية لأنظمة التواصل العام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دراسة مستويات الخطاب ( عامي ، فصيح ، معاصر... وغيرها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 دراسة الاختلافات اللهجية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EB38E-498B-4EFB-A9C4-A18244C55A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علم اللغة الاجتماعي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) تسجيل النماذج الأدبية والفلكلورية كمنتج خطابي متسامي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) دراسة مدى انتشار الظواهر المختلفة للهجات وتأثير البيئة على الأنماط اللغوية ودرجة أصحابها من الحضار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) دراسة تأثير الحالة الاقتصادية على أنواع التواصل بين المجموعات اللغو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) دراسة الخصوصيات اللغوية عند كل مجتمع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35B2B-3023-4A71-8E0F-F7FC51369C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علم اللغة الاجتماعي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) محاربة الأمية كغرض اجتماعي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) الازدواجية  والثنائية اللغو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) التنمية اللغو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F799D-C746-4FCA-B022-FA806FDEE0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علم اللغة الحاسوبي</a:t>
            </a: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ومن أهم مواضيعه ما يلي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هندسة الاتصال ، وإلكترونيك اللغة ، وبرمجة قواعد اللغة لأجل تيسير تعليم اللغات الح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الترجمة الآل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مقارنة اللغة البشرية باللغة الآل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تصميم اللغات الآلية ...وغيرها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6C285-129A-4703-BCDB-B59F88D9C8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300" spc="-1" strike="noStrike">
                <a:solidFill>
                  <a:srgbClr val="ffffff"/>
                </a:solidFill>
                <a:latin typeface="Arial"/>
              </a:rPr>
              <a:t>وهناك مواضيع شتى يعتني بها علم اللغة التطبيقي هي وليدة تقاطع ميادين هذه العلوم باللغة</a:t>
            </a:r>
            <a:r>
              <a:rPr b="0" lang="ar-DZ" sz="4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ومن أهمها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لغة الإشهار والإعلان التجاري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التخطيط والإحصاء اللغوي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كتابة المعاجم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دراسة النصوص وتحليل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التحصيل التربوي اللغوي...وغيره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713E8-6337-40A5-8EED-579909B277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الفصل الأول :</a:t>
            </a:r>
            <a:br>
              <a:rPr sz="3900"/>
            </a:b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 مدخل إلى: بحوث في علم اللغة التطبيقي</a:t>
            </a: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 قبل الخوض في إنجاز بحث في علم اللغة التطبيقي، وقبل التطرق إلى منهجية البحث  العلمي فيه ، يجب أن نتعرف  على الميدان الذي نبحث فيه، لنلم بالمواضيع والأطروحات التي   يجب أن نبحثها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817DB-76D8-47AB-A8E4-E12963A379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الأسئلة</a:t>
            </a: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ما الفائدة مما يقدمه علم اللغة الحديث لعلم اللغة التطبيقي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ما هي أهم مجالات علم اللغة التطبيقي ؟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ما هي أهم الظواهر اللغوية التي هي  بحاجة إلى الدراسة الحالية وتتعلق بعلم اللغة التطبيقي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هل بإمكانك اختيار موضوع لبحثك حاليا أو على الأقل التفكير فيه 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D9F00-8D7D-4E6A-ABA4-DFC6187D1A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900" spc="-1" strike="noStrike">
                <a:solidFill>
                  <a:srgbClr val="ffffff"/>
                </a:solidFill>
                <a:latin typeface="Arial"/>
                <a:cs typeface="Andalus"/>
              </a:rPr>
              <a:t>الأهداف</a:t>
            </a:r>
            <a:r>
              <a:rPr b="0" lang="ar-DZ" sz="3900" spc="-1" strike="noStrike">
                <a:solidFill>
                  <a:srgbClr val="ffffff"/>
                </a:solidFill>
                <a:latin typeface="Arial"/>
                <a:ea typeface="Andalus"/>
              </a:rPr>
              <a:t>:   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ffffff"/>
                </a:solidFill>
                <a:latin typeface="Arial"/>
              </a:rPr>
              <a:t>بعد هذا الدرس نتصور أن نصل إلى أن يكون بمقدورنا أن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DZ" sz="3200" spc="-1" strike="noStrike">
                <a:solidFill>
                  <a:srgbClr val="ffffff"/>
                </a:solidFill>
                <a:latin typeface="Arial"/>
              </a:rPr>
              <a:t>- نحدد بدقة أشكال مواضيع علم اللغة التطبيق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DZ" sz="3200" spc="-1" strike="noStrike">
                <a:solidFill>
                  <a:srgbClr val="ffffff"/>
                </a:solidFill>
                <a:latin typeface="Arial"/>
              </a:rPr>
              <a:t> – نشخص  المواضيع التي يجب أن نختارها لمواضيع بحوثنا فيما بع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DZ" sz="3200" spc="-1" strike="noStrike">
                <a:solidFill>
                  <a:srgbClr val="ffffff"/>
                </a:solidFill>
                <a:latin typeface="Arial"/>
              </a:rPr>
              <a:t> – نحدد بدقة الأهداف التي يجب أن نصفها ونصنفها ونفسرها وأن نفهمها للآخرين من زملائنا أو لمتعلمي اللغة العربية كلغة ثانية .</a:t>
            </a:r>
            <a:r>
              <a:rPr b="0" lang="ar-DZ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092F5-1B6D-4A18-A9F6-FDDDFAAD5E7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684360" y="188280"/>
            <a:ext cx="7934400" cy="6171120"/>
            <a:chOff x="684360" y="188280"/>
            <a:chExt cx="7934400" cy="6171120"/>
          </a:xfrm>
        </p:grpSpPr>
        <p:sp>
          <p:nvSpPr>
            <p:cNvPr id="121" name="_s18451"/>
            <p:cNvSpPr/>
            <p:nvPr/>
          </p:nvSpPr>
          <p:spPr>
            <a:xfrm flipH="1" flipV="1">
              <a:off x="3082680" y="2399040"/>
              <a:ext cx="788040" cy="498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18450"/>
            <p:cNvSpPr/>
            <p:nvPr/>
          </p:nvSpPr>
          <p:spPr>
            <a:xfrm>
              <a:off x="1288440" y="1098360"/>
              <a:ext cx="2017800" cy="1600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DZ" sz="1900" spc="-1" strike="noStrike">
                  <a:solidFill>
                    <a:srgbClr val="000066"/>
                  </a:solidFill>
                  <a:latin typeface="Arial Black"/>
                </a:rPr>
                <a:t>علم اللغة التربوي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 Black"/>
                </a:rPr>
                <a:t>Pedago-linguistic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_s18467"/>
            <p:cNvSpPr/>
            <p:nvPr/>
          </p:nvSpPr>
          <p:spPr>
            <a:xfrm flipH="1">
              <a:off x="2695320" y="3574800"/>
              <a:ext cx="982080" cy="177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18466"/>
            <p:cNvSpPr/>
            <p:nvPr/>
          </p:nvSpPr>
          <p:spPr>
            <a:xfrm>
              <a:off x="684360" y="3142080"/>
              <a:ext cx="2016720" cy="160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DZ" sz="1900" spc="-1" strike="noStrike">
                  <a:solidFill>
                    <a:srgbClr val="000066"/>
                  </a:solidFill>
                  <a:latin typeface="Arial Black"/>
                </a:rPr>
                <a:t>علم اللغة الاجتماعي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 Black"/>
                </a:rPr>
                <a:t>Socio-linguistic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18465"/>
            <p:cNvSpPr/>
            <p:nvPr/>
          </p:nvSpPr>
          <p:spPr>
            <a:xfrm flipH="1">
              <a:off x="3785760" y="4116960"/>
              <a:ext cx="439560" cy="71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_s18464"/>
            <p:cNvSpPr/>
            <p:nvPr/>
          </p:nvSpPr>
          <p:spPr>
            <a:xfrm>
              <a:off x="2340000" y="4758480"/>
              <a:ext cx="2017800" cy="160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DZ" sz="1900" spc="-1" strike="noStrike">
                  <a:solidFill>
                    <a:srgbClr val="000066"/>
                  </a:solidFill>
                  <a:latin typeface="Arial Black"/>
                </a:rPr>
                <a:t>علم اللغة الحاسوبي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66"/>
                  </a:solidFill>
                  <a:latin typeface="Arial Black"/>
                </a:rPr>
                <a:t>Computational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66"/>
                  </a:solidFill>
                  <a:latin typeface="Arial Black"/>
                </a:rPr>
                <a:t> </a:t>
              </a:r>
              <a:r>
                <a:rPr b="0" lang="en-US" sz="1900" spc="-1" strike="noStrike">
                  <a:solidFill>
                    <a:srgbClr val="000066"/>
                  </a:solidFill>
                  <a:latin typeface="Arial Black"/>
                </a:rPr>
                <a:t>linguistics</a:t>
              </a:r>
              <a:r>
                <a:rPr b="0" lang="en-US" sz="19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_s18463"/>
            <p:cNvSpPr/>
            <p:nvPr/>
          </p:nvSpPr>
          <p:spPr>
            <a:xfrm>
              <a:off x="5100120" y="4114440"/>
              <a:ext cx="434160" cy="72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_s18462"/>
            <p:cNvSpPr/>
            <p:nvPr/>
          </p:nvSpPr>
          <p:spPr>
            <a:xfrm>
              <a:off x="4933080" y="4724640"/>
              <a:ext cx="2016720" cy="1600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DZ" sz="1900" spc="-1" strike="noStrike">
                  <a:solidFill>
                    <a:srgbClr val="000066"/>
                  </a:solidFill>
                  <a:latin typeface="Arial Black"/>
                </a:rPr>
                <a:t>علم اللغة السياسي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 Black"/>
                </a:rPr>
                <a:t>Politic linguistic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18461"/>
            <p:cNvSpPr/>
            <p:nvPr/>
          </p:nvSpPr>
          <p:spPr>
            <a:xfrm>
              <a:off x="5642280" y="3572280"/>
              <a:ext cx="982800" cy="17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18460"/>
            <p:cNvSpPr/>
            <p:nvPr/>
          </p:nvSpPr>
          <p:spPr>
            <a:xfrm>
              <a:off x="6602040" y="3129120"/>
              <a:ext cx="2016720" cy="160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DZ" sz="1900" spc="-1" strike="noStrike">
                  <a:solidFill>
                    <a:srgbClr val="000066"/>
                  </a:solidFill>
                  <a:latin typeface="Arial Black"/>
                </a:rPr>
                <a:t>علم اللغة الاقتصادي</a:t>
              </a:r>
              <a:r>
                <a:rPr b="0" lang="ar-DZ" sz="1900" spc="-1" strike="noStrike">
                  <a:solidFill>
                    <a:srgbClr val="000066"/>
                  </a:solidFill>
                  <a:latin typeface="Arial Black"/>
                </a:rPr>
                <a:t>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DZ" sz="1900" spc="-1" strike="noStrike">
                  <a:solidFill>
                    <a:srgbClr val="000066"/>
                  </a:solidFill>
                  <a:latin typeface="Arial Black"/>
                </a:rPr>
                <a:t>والتجاري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 Black"/>
                </a:rPr>
                <a:t>Economical a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 Black"/>
                </a:rPr>
                <a:t> </a:t>
              </a:r>
              <a:r>
                <a:rPr b="0" lang="en-US" sz="1600" spc="-1" strike="noStrike">
                  <a:solidFill>
                    <a:srgbClr val="000066"/>
                  </a:solidFill>
                  <a:latin typeface="Arial Black"/>
                </a:rPr>
                <a:t>commercial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 Black"/>
                </a:rPr>
                <a:t>linguistic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18473"/>
            <p:cNvSpPr/>
            <p:nvPr/>
          </p:nvSpPr>
          <p:spPr>
            <a:xfrm flipV="1">
              <a:off x="5448600" y="2399040"/>
              <a:ext cx="788040" cy="498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18472"/>
            <p:cNvSpPr/>
            <p:nvPr/>
          </p:nvSpPr>
          <p:spPr>
            <a:xfrm>
              <a:off x="6010560" y="1050840"/>
              <a:ext cx="2234520" cy="187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DZ" sz="1400" spc="-1" strike="noStrike">
                  <a:solidFill>
                    <a:srgbClr val="000066"/>
                  </a:solidFill>
                  <a:latin typeface="Arial Black"/>
                  <a:cs typeface="Arabic Transparent"/>
                </a:rPr>
                <a:t>وغيرها من المواضيع التي تتقاطع</a:t>
              </a:r>
              <a:r>
                <a:rPr b="1" lang="ar-DZ" sz="1400" spc="-1" strike="noStrike">
                  <a:solidFill>
                    <a:srgbClr val="000066"/>
                  </a:solidFill>
                  <a:latin typeface="Arial Black"/>
                  <a:ea typeface="Arabic Transparent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DZ" sz="1400" spc="-1" strike="noStrike">
                  <a:solidFill>
                    <a:srgbClr val="000066"/>
                  </a:solidFill>
                  <a:latin typeface="Arial Black"/>
                  <a:cs typeface="Arabic Transparent"/>
                </a:rPr>
                <a:t>ومواضيع علم اللغة التطبيقي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DZ" sz="1400" spc="-1" strike="noStrike">
                  <a:solidFill>
                    <a:srgbClr val="000066"/>
                  </a:solidFill>
                  <a:latin typeface="Arial Black"/>
                  <a:cs typeface="Arabic Transparent"/>
                </a:rPr>
                <a:t>كالصحة العضوية والنفسية والعصبية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DZ" sz="1400" spc="-1" strike="noStrike">
                  <a:solidFill>
                    <a:srgbClr val="000066"/>
                  </a:solidFill>
                  <a:latin typeface="Arial Black"/>
                  <a:cs typeface="Arabic Transparent"/>
                </a:rPr>
                <a:t>والتطبيقات الميدانية الأخرى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18447"/>
            <p:cNvSpPr/>
            <p:nvPr/>
          </p:nvSpPr>
          <p:spPr>
            <a:xfrm flipV="1">
              <a:off x="4660200" y="1796760"/>
              <a:ext cx="0" cy="799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18446"/>
            <p:cNvSpPr/>
            <p:nvPr/>
          </p:nvSpPr>
          <p:spPr>
            <a:xfrm>
              <a:off x="3634920" y="188280"/>
              <a:ext cx="2016720" cy="1600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DZ" sz="1900" spc="-1" strike="noStrike">
                  <a:solidFill>
                    <a:srgbClr val="000066"/>
                  </a:solidFill>
                  <a:latin typeface="Arial Black"/>
                </a:rPr>
                <a:t>علم اللغة النفسي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 Black"/>
                </a:rPr>
                <a:t>Psycho-linguistic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_s18445"/>
            <p:cNvSpPr/>
            <p:nvPr/>
          </p:nvSpPr>
          <p:spPr>
            <a:xfrm>
              <a:off x="3651480" y="2597040"/>
              <a:ext cx="2016720" cy="160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DZ" sz="1900" spc="-1" strike="noStrike">
                  <a:solidFill>
                    <a:srgbClr val="000066"/>
                  </a:solidFill>
                  <a:latin typeface="Arial Black"/>
                </a:rPr>
                <a:t>بحوث علم اللغة التطبيقي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92363-A849-449E-837F-E8AB8579404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500" spc="-1" strike="noStrike">
                <a:solidFill>
                  <a:srgbClr val="ffffff"/>
                </a:solidFill>
                <a:latin typeface="Arial"/>
              </a:rPr>
              <a:t>تمهيد: مفهوم علم اللغة  التطبيقي وعلاقته بعلم اللغة الحديث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ظهر علم اللغة التطبيقي  سنة </a:t>
            </a: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1946</a:t>
            </a: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م ، في الوقت الذي اُستدعي  النظر في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مشاكل تعليم اللغات الحية للناطقين بغيره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الدعوة إلى الفائدة البراغماتية في علم اللغة الحديث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المناهج  الحديثة في تعليم اللغة الثانية وطرائقه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دراسة نظام التنشئة اللغوية عند الطفل وعند المتعلم الناشئ للغة الثان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50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5E90A-6352-4CAA-983E-A141802925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57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) التدريب الصوتي ومعالجة الأمراض الكلامية والاضطرابات اللغوية. </a:t>
            </a:r>
            <a:br>
              <a:rPr sz="3900"/>
            </a:b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) تعلم المهارات اللغوية وفنيات التعبير .</a:t>
            </a:r>
            <a:br>
              <a:rPr sz="3900"/>
            </a:b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) إنشاء المعاجم .</a:t>
            </a:r>
            <a:br>
              <a:rPr sz="3900"/>
            </a:b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وسنتعرف بإذن الله تعالى إلى الأسباب الأخرى حين نتطرق بالتفصيل إلى مواضيع  ومجالات علم اللغة التطبيقي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EECF9-AFE8-4035-A572-13857F384D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الفرق بين علم اللغة التطبيقي وعلم اللغة الحديث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 ومن أهمها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التنظير في علم اللغة الحديث والتطبيق الميداني للنظريات في علم اللغة التطبيقي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العموم في علم اللغة الحديث ، أما علم اللغة التطبيقي فيجسد النصوص النظرية التي تجري عليها الدراسة التطبيقية ، ثم تقترح حلولا عملية في إمكانية تطبيق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ينظر علم اللغة الحديث لعمليات التلقي والاكتساب اللغوي ، بينما ينظر علم اللغة التطبيقي  لهذه العمليات من منظور ممارسة اللغة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D2B2D-4AA7-44C2-885D-60FC3242ED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الفرق بين علم التطبيقي وعلم اللغة الحديث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) يقدم علم اللغة التطبيقي إجراءات البدائل النوعية للتوصيات والاقتراحات التي يتوصل إليها علم اللغة الحديث من أجل الإصلاح اللغوي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6E11D-FCC7-45EF-9457-E51D784217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900" spc="-1" strike="noStrike">
                <a:solidFill>
                  <a:srgbClr val="ffffff"/>
                </a:solidFill>
                <a:latin typeface="Arial"/>
              </a:rPr>
              <a:t>مجالات علم اللغة التطبيقي 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علم اللغة التربوي والديداكتيك : ومن أهم مواضيعها ما يلي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علم اللغة التقابلي : وضع مقابلات بين لغتين مختلفتين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تحليل الأخطاء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بناء المقررات اللغو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بناء المحتو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ffff"/>
                </a:solidFill>
                <a:latin typeface="Arial"/>
              </a:rPr>
              <a:t>المناهج التربوية  والديداكتيك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3C320-32D7-4E51-BC14-BD7D82AE53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1:14:27Z</dcterms:created>
  <dc:creator>Djemai</dc:creator>
  <dc:description/>
  <dc:language>en-US</dc:language>
  <cp:lastModifiedBy>Djemai</cp:lastModifiedBy>
  <dcterms:modified xsi:type="dcterms:W3CDTF">2010-10-15T16:20:46Z</dcterms:modified>
  <cp:revision>26</cp:revision>
  <dc:subject/>
  <dc:title>Diapositive 1</dc:title>
</cp:coreProperties>
</file>