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32C4E-55EF-4FFA-84E2-0EDBEB698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EBF27-FCF2-4F21-924A-6ACF5118A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7D581-A9AF-4256-AC6B-0E2F31C9D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2D646-2C66-4F8F-8F05-195FBA431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F20624-558E-46DA-A8A9-D19009918E2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62F139-2432-4660-B288-F1F2B32489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CE9211-C743-4110-9CD5-1CF25D60D48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761812-92C6-4350-83D8-F502D05DEA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E083DE-872E-43A5-9FC2-9120E149AF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310B7A-4362-47BC-B7E2-9B160C6559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42F2A-9473-49AF-86E9-D401802CA3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AE957-846F-489E-87BB-FB081C72D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A6A264-3121-4E41-BD68-992898D31B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9D7DDC-AEE6-4535-8173-A3FDCE5EE7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404625-38DA-401C-B0BB-07CDDD83D95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577D4F-6FE5-421C-A188-2150926E36E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DCA9E5-429E-4DD8-BC30-7A0D41AE4CA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35B4B-3619-4E3E-81E5-8E96608F5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D9922-D56D-4B83-81FE-FEE7C62A7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E07DF-A360-40CE-86C4-F9C61C43C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2DDDA-54A1-4743-8E20-7A11811E0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23F80-3AF8-4075-BD9A-A8A69BF7B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EB42C-B0AF-434F-A846-2E6AB86DE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C8288-5A2B-4909-B64A-A43FDE0A4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0A3B-09F5-47AC-BEBB-DB6ADA02A8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3620-E520-4474-A047-6BD726F9BE0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محاضرات في </a:t>
            </a:r>
            <a:br>
              <a:rPr sz="4400"/>
            </a:br>
            <a:r>
              <a:rPr b="0" lang="ar-EG" sz="4400" spc="-1" strike="noStrike">
                <a:solidFill>
                  <a:srgbClr val="ffffff"/>
                </a:solidFill>
                <a:latin typeface="Tahoma"/>
              </a:rPr>
              <a:t>مبادئ التأمين </a:t>
            </a:r>
            <a:r>
              <a:rPr b="0" lang="ar-EG" sz="4400" spc="-1" strike="noStrike">
                <a:solidFill>
                  <a:srgbClr val="ffffff"/>
                </a:solidFill>
                <a:latin typeface="Tahoma"/>
              </a:rPr>
              <a:t>101</a:t>
            </a:r>
            <a:r>
              <a:rPr b="0" lang="ar-EG" sz="4400" spc="-1" strike="noStrike">
                <a:solidFill>
                  <a:srgbClr val="ffffff"/>
                </a:solidFill>
                <a:latin typeface="Tahoma"/>
              </a:rPr>
              <a:t> تأم -</a:t>
            </a:r>
            <a:r>
              <a:rPr b="0" lang="ar-EG" sz="4400" spc="-1" strike="noStrike">
                <a:solidFill>
                  <a:srgbClr val="ffffff"/>
                </a:solidFill>
                <a:latin typeface="Tahoma"/>
              </a:rPr>
              <a:t>202</a:t>
            </a:r>
            <a:r>
              <a:rPr b="0" lang="ar-EG" sz="4400" spc="-1" strike="noStrike">
                <a:solidFill>
                  <a:srgbClr val="ffffff"/>
                </a:solidFill>
                <a:latin typeface="Tahoma"/>
              </a:rPr>
              <a:t> مال</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982680"/>
            <a:ext cx="6400800" cy="15937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دكتور</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حمد المزاري</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ستاذ التأمين المشارك</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كلية المجتمع – جامعة الملك سعود</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قسم الخسارة أيضاً إلى خسارة عامة وخسارة خاصة، وتصادف الخسارة العامة في حالة البضائع المملوكة لأشخاص مختلفين والمنقولة بطريق البحر وتعرضها لحادث بحري اضطر معه المسئول عن السفينة إلى إلقاء جزء من شحنه السفينة في البحر بغرض إنقاذها وما عليها من بضائع. وقد يكون الجزء من البضاعة الذي تخلص منه ربان السفينة مملوكا لشخص أو أكثر. وطالما كان إلقاء هذا الجزء من البضاعة في البحر سببا لإنقاذ باقي الشحنات والسفينة ذاتها فتقسم قيمة هذا الجزء ـ والذي يعتبر خسارة عامة ـ بين أصحاب البضائع الأخرى التي انقذت وعلى أصحاب السفينة أيضا. لأنهم قد جنبوا خسارة كلية لبضائعهم وسفينتهم بتحمل جزء من الخسارة جزئية التي لحقت جزء من شحنة السفينة. والخسارة في هذه الحالة هي خسارة الجزئية التي لحقت جزء من شحنة السفينة. والخسارة في هذه الحالة هي خسارة عامة لاشتراك جميع أصحاب المصالح في تحملها، أما الخسارة الخاصة فهي التي تلحق بشحنة معينة لأي سبب من الأسباب وتحقق هذه الخسارة لا يؤثر في سلامة أو فقد السفينة وما عليها من بضائع.</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2" name=""/>
          <p:cNvSpPr txBox="1"/>
          <p:nvPr/>
        </p:nvSpPr>
        <p:spPr>
          <a:xfrm>
            <a:off x="457200" y="1599840"/>
            <a:ext cx="8229600" cy="5257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التأمين خدمة وليس سلعة مادية ملموس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متاز هيئات التأمين بأنها تقدم خدمة وليس سلعة مادية ملموسة وأيضاً هذه الخدمة مستقبلية، وحيث أن الشخص عادة يهتم بالخدمات الملموسة أولاً، لهذا نجد أن التأمين لا يشعر الشخص بالحاجة إليه إلا بعد حدوث الحادثة مما يصعب من عملية البيع في هيئات التأمين، ولهذا تهتم الهيئات كثيراً بعملية التسويق والدعاية والإعلان.</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أسعار الخدمة المقدمة من هيئات التأمين تعتمد على الخبرة السابق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أن أسعار الخدمة التأمينية لا تخضع لقوانين العرض والطلب ولا تحدد حسب خطة اقتصادية مرسومة بمعرفة الدولة، ولكن عادة ما تحدد على أساس الخبرة السابقة واستخدام الأسس الرياضية والإحصائية، وذلك يستدعى وجود خبراء فنيين للقيام بذلك.</a:t>
            </a:r>
            <a:endParaRPr b="0" lang="en-US" sz="2800" spc="-1" strike="noStrike">
              <a:solidFill>
                <a:srgbClr val="ffffff"/>
              </a:solidFill>
              <a:latin typeface="Tahoma"/>
            </a:endParaRPr>
          </a:p>
          <a:p>
            <a:pPr marL="284400" indent="-2844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خضوع هيئات التأمين للإشراف والرقاب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نتيجة طبيعة الخدمة المقدمة من منشآت التأمين وطبيعة العملية التأمينية، تخضع هيئات التأمين للرقابة والإشراف من جانب الدولة لتنظيم أعمالها من ناحية ولحماية جمهور المتعاقدين من ناحية أخرى، ولهذا تدخلت الحكومات تدخلاً ظاهراً في مراقبة الهيئات التأمينية وتحديد حد أدنى لرأس المال والإشراف على عمليات حساب الأسعار ووضع شروط العقد.</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6"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 ـ عدم إمكانية تحديد ربحية أو خسارة هيئات التأمين عند عملية البيع:</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ن هيئات التأمين يمكنها تقدير أرباحها وليس تحديدها، حيث لا يمكن لهيئات التأمين أن تحدد بدقة مقدار أرباحها أو خسارتها الفعلية عند عملية البيع أو في نهاية السنة المالية، حيث أن بعض العقود تتخطى مدتها نهاية السنة المالية التي عقدت خلالها، أيضاً قيمة المصروفات لا تعرف على وجه التحديد إلا بعد انتهاء مدة العقد وبالتالي تكون المصروفات والأرباح تقديرية وهذا يخالف معظم المشروعات الصناعية والتجارية الأخرى.</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8"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هيئات التأمين تقابلها مشكلة التسويق:</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ن أهم المشكلات التي تقابل هيئات التأمين مشكلة التسويق حيث أن التأمين يعتمد أساساً على ظاهرة انتشار الخسائر المالية بين وحدات متعددة من وحدات الخطر الموجودة في الحياة الاقتصادية، كذلك انتشار هذه الوحدة في مناطق جغرافية متباعدة، كل ذلك أدى إلى وجوم نظم مختلفة في تسويق الخدمة التأمينية متمثلة في نظام البيع المباشر ونظام الفروع ونظام التوكيل العام وبالتالي تجد هيئات التأمين صعوبات حول تحديد الطريقة المثلى للتسويق.</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0" name=""/>
          <p:cNvSpPr txBox="1"/>
          <p:nvPr/>
        </p:nvSpPr>
        <p:spPr>
          <a:xfrm>
            <a:off x="457200" y="1600200"/>
            <a:ext cx="8229600" cy="4829040"/>
          </a:xfrm>
          <a:prstGeom prst="rect">
            <a:avLst/>
          </a:prstGeom>
          <a:noFill/>
          <a:ln w="0">
            <a:noFill/>
          </a:ln>
        </p:spPr>
        <p:txBody>
          <a:bodyPr anchor="t">
            <a:normAutofit fontScale="90000"/>
          </a:bodyPr>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8</a:t>
            </a:r>
            <a:r>
              <a:rPr b="1" lang="ar-EG" sz="2400" spc="-1" strike="noStrike">
                <a:solidFill>
                  <a:srgbClr val="ffffff"/>
                </a:solidFill>
                <a:latin typeface="Tahoma"/>
              </a:rPr>
              <a:t> ـ السياسة الاستثمارية في هيئات التأمين:</a:t>
            </a:r>
            <a:endParaRPr b="0" lang="en-US" sz="2400" spc="-1" strike="noStrike">
              <a:solidFill>
                <a:srgbClr val="ffffff"/>
              </a:solidFill>
              <a:latin typeface="Tahoma"/>
            </a:endParaRPr>
          </a:p>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تكون لدى هيئات التأمين عامة أموال طائلة نتيجة الأقساط المحصلة والاحتياجات الفنية، وهذه الأموال يجب ألا تترك عاطلة وإلا انخفض العائد على رأس المال المستثمر من جهة وارتفعت أسعار التأمين من جهة أخرى، وقد استدعى ذلك وجود خبراء وفنيين في الاستثمار حتى يمكن استثمار هذه الأموال بطريقة سليمة ومناسبة لطبيعة العملية التأمينية حيث أن معظم أموال شركات التأمين تتكون من استثمارات على عكس الشركات التجارية والصناعية التي تتكون غالبية أصولها من آلات ومعدات وبضائع، كذلك يتوقف ضمان حصول ا لمؤمن لهم على حقوقهم عند تحقق الخطر على مدى سلامة السياسة الاستثمارية التي تتبعها هيئات التأمين، ولذلك فإن هيئات التأمين لا تستثمر أموالها في أوجه استثمار غير مضمونة العواقب خشبة من فق أو ضياع رأس المال المستثمر فيها، ولهذا تستعين هيئات التأمين بخبراء في الاستثمار بالإضافة إلى الخبرة في أعمال التأمين وخصائصه.</a:t>
            </a:r>
            <a:endParaRPr b="0" lang="en-US" sz="2400" spc="-1" strike="noStrike">
              <a:solidFill>
                <a:srgbClr val="ffffff"/>
              </a:solidFill>
              <a:latin typeface="Tahoma"/>
            </a:endParaRPr>
          </a:p>
          <a:p>
            <a:pPr marL="308520" indent="-30852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9</a:t>
            </a:r>
            <a:r>
              <a:rPr b="1" lang="ar-EG" sz="2800" spc="-1" strike="noStrike">
                <a:solidFill>
                  <a:srgbClr val="ffffff"/>
                </a:solidFill>
                <a:latin typeface="Tahoma"/>
              </a:rPr>
              <a:t>ـ </a:t>
            </a:r>
            <a:r>
              <a:rPr b="1" lang="ar-EG" sz="2800" spc="-1" strike="noStrike">
                <a:solidFill>
                  <a:srgbClr val="ffffff"/>
                </a:solidFill>
                <a:latin typeface="Tahoma"/>
              </a:rPr>
              <a:t>3</a:t>
            </a:r>
            <a:r>
              <a:rPr b="1" lang="ar-EG" sz="2800" spc="-1" strike="noStrike">
                <a:solidFill>
                  <a:srgbClr val="ffffff"/>
                </a:solidFill>
                <a:latin typeface="Tahoma"/>
              </a:rPr>
              <a:t>) أنواع هيئات التأمين</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يوجد خمسة أنواع مختلفة لهيئات التأمين وه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a:t>
            </a:r>
            <a:r>
              <a:rPr b="0" lang="ar-EG" sz="2800" spc="-1" strike="noStrike">
                <a:solidFill>
                  <a:srgbClr val="ffffff"/>
                </a:solidFill>
                <a:latin typeface="Tahoma"/>
              </a:rPr>
              <a:t>: هيئات التأمين التعاونية أو التبادل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a:t>
            </a:r>
            <a:r>
              <a:rPr b="0" lang="ar-EG" sz="2800" spc="-1" strike="noStrike">
                <a:solidFill>
                  <a:srgbClr val="ffffff"/>
                </a:solidFill>
                <a:latin typeface="Tahoma"/>
              </a:rPr>
              <a:t>: هيئات التأمين الذات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لثاً</a:t>
            </a:r>
            <a:r>
              <a:rPr b="0" lang="ar-EG" sz="2800" spc="-1" strike="noStrike">
                <a:solidFill>
                  <a:srgbClr val="ffffff"/>
                </a:solidFill>
                <a:latin typeface="Tahoma"/>
              </a:rPr>
              <a:t>: هيئات التأمين التجار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رابعاً</a:t>
            </a:r>
            <a:r>
              <a:rPr b="0" lang="ar-EG" sz="2800" spc="-1" strike="noStrike">
                <a:solidFill>
                  <a:srgbClr val="ffffff"/>
                </a:solidFill>
                <a:latin typeface="Tahoma"/>
              </a:rPr>
              <a:t>: هيئات التأمين الحكوم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خامساً</a:t>
            </a:r>
            <a:r>
              <a:rPr b="0" lang="ar-EG" sz="2800" spc="-1" strike="noStrike">
                <a:solidFill>
                  <a:srgbClr val="ffffff"/>
                </a:solidFill>
                <a:latin typeface="Tahoma"/>
              </a:rPr>
              <a:t>: التأمين المساعدة.</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4" name=""/>
          <p:cNvSpPr txBox="1"/>
          <p:nvPr/>
        </p:nvSpPr>
        <p:spPr>
          <a:xfrm>
            <a:off x="457200" y="1905120"/>
            <a:ext cx="8229600" cy="4114800"/>
          </a:xfrm>
          <a:prstGeom prst="rect">
            <a:avLst/>
          </a:prstGeom>
          <a:noFill/>
          <a:ln w="0">
            <a:noFill/>
          </a:ln>
        </p:spPr>
        <p:txBody>
          <a:bodyPr anchor="t">
            <a:normAutofit fontScale="81000"/>
          </a:bodyPr>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Tahoma"/>
              </a:rPr>
              <a:t>والتالي يعرض أهم الجوانب المميزة لكل من هذه الهيئات:</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هيئات التأمين التعاونية أو التبادلي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هيئات التأمين التعاونية تلك الوحدات التي تمارس عمليات التأمين بقصد تقديم الخدمة للأعضاء وبدون السعي في سبيل تحقيق الربح.</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المميزات الرئيسية لهيئات التأمين التعاوني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قائمين بإدارة المشروعات التعاونية هم أنفسهم الأعضاء.</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رأس المال غير موجود أصلاً في هذا النوع من المشروعات.</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ندمج مسئولية المؤمن والمؤمن له (المستأمن) في شخص واحد هو عضو الهيئ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طلق على عملية التأمين التعاوني لفظ التأمين التبادلي لأن العضو المستأمن في المشروع التعاوني يطلب الضمان من غيره من الأعضاء وفي نفس الوقت يضمن للأعضاء الآخرين أخطارهم.</a:t>
            </a:r>
            <a:endParaRPr b="0" lang="en-US" sz="2400" spc="-1" strike="noStrike">
              <a:solidFill>
                <a:srgbClr val="ffffff"/>
              </a:solidFill>
              <a:latin typeface="Tahoma"/>
            </a:endParaRPr>
          </a:p>
          <a:p>
            <a:pPr marL="277560" indent="-2775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6" name=""/>
          <p:cNvSpPr txBox="1"/>
          <p:nvPr/>
        </p:nvSpPr>
        <p:spPr>
          <a:xfrm>
            <a:off x="457200" y="1905120"/>
            <a:ext cx="8229600" cy="4114800"/>
          </a:xfrm>
          <a:prstGeom prst="rect">
            <a:avLst/>
          </a:prstGeom>
          <a:noFill/>
          <a:ln w="0">
            <a:noFill/>
          </a:ln>
        </p:spPr>
        <p:txBody>
          <a:bodyPr anchor="t">
            <a:normAutofit fontScale="95000"/>
          </a:bodyPr>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هيئات التأمين الذاتي:</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في بعض الأحيان قد يجد الفرد أنه من الأفيد له أن يقوم بتغطية وحدات الخطر الموجودة لديه ذاتياً دون معاونة أحد وأن يقوم هو باستقطاع مبالغ مالية ووضعها في حساب خاص ويقوم باستثمارها بنفسه ويعوض نفسه كلما تحققت له خسارة. وفي هذه الحالة نكون بصدد تأمين ذاتي، وبالتالي يمكن تعريف هيئات التأمين الذاتي بأنها تلك الوحدات التي تنشأ بمعرفة المستأمن لكي تقوم بتغطية وحدات الخطر الموجودة لديه دون معاونة أحد.</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8"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هيئات التأمين الذاتي:</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وافر وحدات كثيرة من الخطر وبالتالي توافر قانون الأعداد الكبير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نتشار وحدات الخطر جغرافياً واستقلالها لتجنب حدوث خسائر جسيمة في حالة تحقق حادث لإحداهم.</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قدرة الكبيرة للمستأمن بحيث يستطيع استقطاع مبالغ مالية مناسب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 الهيئات التي يمكن أن تلقي نجاحاً في إتباع فكرة التأمين الذاتي هيئات السكك الحديدية، حيث تملك وحدات من الأخطار المتماثلة والكثيرة العدد والموزعة على مناطق جغرافية متعددة.</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0" name=""/>
          <p:cNvSpPr txBox="1"/>
          <p:nvPr/>
        </p:nvSpPr>
        <p:spPr>
          <a:xfrm>
            <a:off x="457200" y="1599840"/>
            <a:ext cx="8229600" cy="5614920"/>
          </a:xfrm>
          <a:prstGeom prst="rect">
            <a:avLst/>
          </a:prstGeom>
          <a:noFill/>
          <a:ln w="0">
            <a:noFill/>
          </a:ln>
        </p:spPr>
        <p:txBody>
          <a:bodyPr anchor="t">
            <a:normAutofit fontScale="93000"/>
          </a:bodyPr>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 هيئات التأمين التجاري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هيئات التأمين التجارية تلك الوحدات التي تمارس عمليات التأمين بقصد تقديم الخدمة التأمينية لأصحاب وحدات الخطر بجانب تحقيق الربح.</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المميزات الرئيسية لهيئات التأمين التجاري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عتمد على رأسمال كبير يتفق مع حجم النشاط الخاص بها.</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هدف إلى تنمية التعاون بين أصحاب وحدات الخطر بجانب تحقيق ربع يتناسب مع الخدمة المقدم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وجد انفصال بين شخصية المؤمن والمستأمن (المؤمن له) في هذه الهيئات، ونتيجة الاختلافات في الهدف ظهرت المشاكل والمنازعات المالية بين المؤمن التجاري وحملة وثائق التأمين مما استدعى تدخل الحكومات بغرض الإشراف والرقاب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قوم بإدارة هذه الهيئات كفاءات إدارية محترفة ومتخصصة في أداء العملية التأمينية، كذلك أقسام فنية للمساعدة والمعاونة في اختيار الأخطار وحساب الأقساط، أيضاً فنيين في توجيه الاستثمارات.</a:t>
            </a:r>
            <a:endParaRPr b="0" lang="en-US" sz="2400" spc="-1" strike="noStrike">
              <a:solidFill>
                <a:srgbClr val="ffffff"/>
              </a:solidFill>
              <a:latin typeface="Tahoma"/>
            </a:endParaRPr>
          </a:p>
          <a:p>
            <a:pPr marL="318960" indent="-3189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هناك تقسيم ثالث للخسائر نصادفه عند التأمين من الحريق على بعض الأصول المملوكة للأشخاص وسواء كانوا أشخاصاً اعتبارين أو طبيعيين حيث تقسم الخسارة إلى خسارة مباشرة وخسارة غير مباشرة، والخسارة المباشرة هي التي تلحق الأصل الذي تحقق بالنسبة له حادث الحريق والتي تتمثل في قيمة الخسارة المادية التي لحقت هذا الأصل، فلو كان هذا الأصل ممثلاً في مصنع قيمته قبل تحقق خطر الحريق مليون جنيه. وبعد تحقق هذا الخطر تبين أن قيمته صارت </a:t>
            </a:r>
            <a:r>
              <a:rPr b="0" lang="ar-EG" sz="2800" spc="-1" strike="noStrike">
                <a:solidFill>
                  <a:srgbClr val="ffffff"/>
                </a:solidFill>
                <a:latin typeface="Tahoma"/>
              </a:rPr>
              <a:t>800</a:t>
            </a:r>
            <a:r>
              <a:rPr b="0" lang="ar-EG" sz="2800" spc="-1" strike="noStrike">
                <a:solidFill>
                  <a:srgbClr val="ffffff"/>
                </a:solidFill>
                <a:latin typeface="Tahoma"/>
              </a:rPr>
              <a:t> ألف جنيه، وهذا يعني أن هناك نقصاً في خسارة فعلية لحقت المصنع قيمتها </a:t>
            </a:r>
            <a:r>
              <a:rPr b="0" lang="ar-EG" sz="2800" spc="-1" strike="noStrike">
                <a:solidFill>
                  <a:srgbClr val="ffffff"/>
                </a:solidFill>
                <a:latin typeface="Tahoma"/>
              </a:rPr>
              <a:t>200</a:t>
            </a:r>
            <a:r>
              <a:rPr b="0" lang="ar-EG" sz="2800" spc="-1" strike="noStrike">
                <a:solidFill>
                  <a:srgbClr val="ffffff"/>
                </a:solidFill>
                <a:latin typeface="Tahoma"/>
              </a:rPr>
              <a:t> ألف جنيه، وهذه القيمة تمثل خسارة مباشرة لتحقق خطر الحريق.</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أنواع المختلفة لهيئات التأمين التجار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 المشروعات الفرد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 الجماعات الخاص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 الشركات المساهمة.</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4"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 ـ المشروعات الفردية:</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ع بداية انتشار التأمين ظهرت مشروعات فردية كثيرة تزاول أعمال التأمين كمصدر للربح، ولقد كان معظم المؤمنين منذ بداية نشأة التأمين في القرن السابع عشر وأوائل القرن الثامن عشر في أوروبا أفرداً وكانت سوق التأمين تعتمد اعتماداً كبيراً على المشروعات الفردية.</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لمشروعات الفردية للتأمين:</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نشاطها عادة في فرع واحد أو عدد قليل من فروع التأمين.</a:t>
            </a:r>
            <a:endParaRPr b="0" lang="en-US" sz="2800" spc="-1" strike="noStrike">
              <a:solidFill>
                <a:srgbClr val="ffffff"/>
              </a:solidFill>
              <a:latin typeface="Tahoma"/>
            </a:endParaRPr>
          </a:p>
          <a:p>
            <a:pPr marL="315360" indent="-31536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نشاطها في منطقة جغرافية محدودة مما يؤدي إلى اكتساب خبرة كبيرة بفرع معين من فروع التأمين وبرغبات </a:t>
            </a:r>
            <a:r>
              <a:rPr b="0" lang="ar-EG" sz="3200" spc="-1" strike="noStrike">
                <a:solidFill>
                  <a:srgbClr val="ffffff"/>
                </a:solidFill>
                <a:latin typeface="Tahoma"/>
              </a:rPr>
              <a:t>المؤمن لهم في منطقة معينة</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6"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Tahoma"/>
              </a:rPr>
              <a:t>وفي الوقت الحالي نجد أن هناك مشكلات كثيرة أدت إلى اختفاء المشروعات الصغيرة، ومن أمثلة هذه المشكلات ما يلي:</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صعوبات توفير رأس المال الكافي الذي يبعث الثقة في نفوس المؤمن لهم.</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زدياد حجم الخسائر.</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تطلبات الإدارية الكبيرة.</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زيادة الأخطار وتنوعها.</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8" name=""/>
          <p:cNvSpPr txBox="1"/>
          <p:nvPr/>
        </p:nvSpPr>
        <p:spPr>
          <a:xfrm>
            <a:off x="457200" y="1905120"/>
            <a:ext cx="8229600" cy="4114800"/>
          </a:xfrm>
          <a:prstGeom prst="rect">
            <a:avLst/>
          </a:prstGeom>
          <a:noFill/>
          <a:ln w="0">
            <a:noFill/>
          </a:ln>
        </p:spPr>
        <p:txBody>
          <a:bodyPr anchor="t">
            <a:normAutofit fontScale="87000"/>
          </a:bodyPr>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ب ـ الجماعات الخاصة:</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ظهرت هذه الجماعات نتيجة اضمحلال المشروعات الفردية، حيث يقوم بعض ألأفراد الذين تربطهم رابطة العضوية في هيئة أو جماعة بأعمال التأمين بقصد الربح وتقوم الهيئة بتنظيم شروط ممارسة أعمال التأمين لهؤلاء الأعضاء، ونظام هذه الجماعة يعتمد على مساهمة كل عضو فيها في تغطية جزء من الخطر المعروض على الجماعة كل بحسب قدرته وتسمى هذه العملية بالاكتتاب والأفراد القائمين بها بالمؤمنين المكتتبين.</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عتبر جماعة اللويدز بلندن من أشهر الجماعات الخاصة، وقد ظهرت جماعات اللويدز في بلاد أخرى ولكنها فشلت في محاكاة جماعة اللويدز بلندن.</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سنتناول بشيء من التفصيل بعض من الملامح الرئيسية لهذه الجماعة كمثال لأشهر الجماعات الخاصة في العالم.</a:t>
            </a:r>
            <a:endParaRPr b="0" lang="en-US" sz="2400" spc="-1" strike="noStrike">
              <a:solidFill>
                <a:srgbClr val="ffffff"/>
              </a:solidFill>
              <a:latin typeface="Tahoma"/>
            </a:endParaRPr>
          </a:p>
          <a:p>
            <a:pPr marL="298440" indent="-2984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0"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نشأة جماعة اللويدز:</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رجع تاريخ نشاط جماعة اللويدز بلندن إلى النصف الثاني من القرن السابع عشر سنة </a:t>
            </a:r>
            <a:r>
              <a:rPr b="0" lang="ar-EG" sz="2800" spc="-1" strike="noStrike">
                <a:solidFill>
                  <a:srgbClr val="ffffff"/>
                </a:solidFill>
                <a:latin typeface="Tahoma"/>
              </a:rPr>
              <a:t>1688</a:t>
            </a:r>
            <a:r>
              <a:rPr b="0" lang="ar-EG" sz="2800" spc="-1" strike="noStrike">
                <a:solidFill>
                  <a:srgbClr val="ffffff"/>
                </a:solidFill>
                <a:latin typeface="Tahoma"/>
              </a:rPr>
              <a:t>م وهيئة اللويدز لا تعتبر شركة تأمين بل هي جماعة من الأعضاء يكتتب كل منهم لحسابه الخاص وتعبر هيئة اللويدز عن المكان الذي يباشر فيه هؤلاء الأعضاء نشاطهم التأميني.</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دد القانون الصادر عن البرلمان البريطاني عام </a:t>
            </a:r>
            <a:r>
              <a:rPr b="0" lang="ar-EG" sz="2800" spc="-1" strike="noStrike">
                <a:solidFill>
                  <a:srgbClr val="ffffff"/>
                </a:solidFill>
                <a:latin typeface="Tahoma"/>
              </a:rPr>
              <a:t>1871</a:t>
            </a:r>
            <a:r>
              <a:rPr b="0" lang="ar-EG" sz="2800" spc="-1" strike="noStrike">
                <a:solidFill>
                  <a:srgbClr val="ffffff"/>
                </a:solidFill>
                <a:latin typeface="Tahoma"/>
              </a:rPr>
              <a:t>م النظام الأساسي لهيئة اللويدز، ولقد عدل هذا القانون أكثر من مرة ليواجه ما استحدث في عالم التأمين، غالبية أعضاء اللويدز من البريطانيين، ويوجد للويدز في جميع أنحاء العالم وكلاء ووكلاء فرعيين يقومون بتجميع البيانات في موانيهم عن حركة البواخر وكذلك أية معلومات بحرية أخرى.</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2" name=""/>
          <p:cNvSpPr txBox="1"/>
          <p:nvPr/>
        </p:nvSpPr>
        <p:spPr>
          <a:xfrm>
            <a:off x="457200" y="1905120"/>
            <a:ext cx="8229600" cy="411480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تأمينات المغطاة من جماعة اللويدز بلندن:</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جماعة اللويدز بلندن أساساً بأعمال التأمين البحري وإعادة التأمين والتأمينات الشاذة مثل أصابع الموسيقيين، كذلك يقوم الأعضاء بتغطية معظم تأمينات الممتلكات والمسئولية ولا يقومون بتغطية تأمينات الأشخاص.</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تنظيم الداخلي لجماعة اللويدز:</a:t>
            </a:r>
            <a:endParaRPr b="0" lang="en-US" sz="2800" spc="-1" strike="noStrike">
              <a:solidFill>
                <a:srgbClr val="ffffff"/>
              </a:solidFill>
              <a:latin typeface="Tahoma"/>
            </a:endParaRPr>
          </a:p>
          <a:p>
            <a:pPr marL="318960" indent="-31896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كون  جماعة اللويدز بلندن من الأعضاء المكتتبين الذين يمارسون أعمال التأمين في غرفة الاكتتاب، وهناك أكثر من </a:t>
            </a:r>
            <a:r>
              <a:rPr b="0" lang="ar-EG" sz="3200" spc="-1" strike="noStrike">
                <a:solidFill>
                  <a:srgbClr val="ffffff"/>
                </a:solidFill>
                <a:latin typeface="Tahoma"/>
              </a:rPr>
              <a:t>نوع من </a:t>
            </a:r>
            <a:r>
              <a:rPr b="0" lang="ar-EG" sz="2800" spc="-1" strike="noStrike">
                <a:solidFill>
                  <a:srgbClr val="ffffff"/>
                </a:solidFill>
                <a:latin typeface="Tahoma"/>
              </a:rPr>
              <a:t>الأشخاص يحق لهم دخول غرفة الاكتتاب وهم</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أعضاء المكتتبون.. حيث يتكون منهم الهيكل العام للهيئ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وكلاء المكتبون.. ويظهرون في حالة عدم اشتغال بعض الأعضاء المكتتبين بأنفسهم بأعمال التأمين ولذلك يكونون نقابة ويقيمون لهم وكيلاً وتسند له أعمال التأمين مما يستلزم دخوله الغرف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صحاب الاشتراك السنوي، وهم من سماسرة اللويدز وكبار موظفي بيوت السمسرة المتعلقة بأعمال هيئة اللويدز.</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6" name=""/>
          <p:cNvSpPr txBox="1"/>
          <p:nvPr/>
        </p:nvSpPr>
        <p:spPr>
          <a:xfrm>
            <a:off x="457200" y="1905120"/>
            <a:ext cx="8229600" cy="4114800"/>
          </a:xfrm>
          <a:prstGeom prst="rect">
            <a:avLst/>
          </a:prstGeom>
          <a:noFill/>
          <a:ln w="0">
            <a:noFill/>
          </a:ln>
        </p:spPr>
        <p:txBody>
          <a:bodyPr anchor="t">
            <a:normAutofit fontScale="96000"/>
          </a:bodyPr>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نواب.. وهم موظفون إداريون يعملون لحساب مكاتب السماسرة المعتمدين.</a:t>
            </a: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وكلاء الفنيون.. وهم الأشخاص الذين ترتبط أعمالهم الفنية بأعمال الأعضاء المكتتبين أو الوكلاء المكتتبين أو السماسرة وتكون خدماتهم ضرورية لأعمال التأمين.</a:t>
            </a:r>
            <a:endParaRPr b="0" lang="en-US" sz="2800" spc="-1" strike="noStrike">
              <a:solidFill>
                <a:srgbClr val="ffffff"/>
              </a:solidFill>
              <a:latin typeface="Tahoma"/>
            </a:endParaRPr>
          </a:p>
          <a:p>
            <a:pPr marL="329040" indent="-3290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مثلو شركات التأمين البحري الإنجليزية وذلك حتى يتمكنوا من الحصول على معلومات أو مناقشة موضوعات فينة مع أعضاء اللويدز المكتتبين وهم يدفعون اشتراكاً سنوياً لذلك ولكنهم لا يمارسون أعمال التأمين</a:t>
            </a:r>
            <a:r>
              <a:rPr b="0" lang="ar-EG" sz="3200" spc="-1" strike="noStrike">
                <a:solidFill>
                  <a:srgbClr val="ffffff"/>
                </a:solidFill>
                <a:latin typeface="Tahoma"/>
              </a:rPr>
              <a:t>.</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8"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شروط العضوية في هيئة اللويدز:</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قتناع لجنة اللويدز بحسن سمعة حالة العضو المتقدم وقوة مركزه المالي وذلك عن طريق التحريات الدقيقة قبل قبوله كعضو هيئة اللويدز.</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يداع العضو لصندوق الهيئة ضماناً يتناسب مع الحد الأعلى لمبالغ التأمين التي يكتتب فيها والتي لا يجوز أن يتعداها.</a:t>
            </a:r>
            <a:endParaRPr b="0" lang="en-US" sz="2800" spc="-1" strike="noStrike">
              <a:solidFill>
                <a:srgbClr val="ffffff"/>
              </a:solidFill>
              <a:latin typeface="Tahoma"/>
            </a:endParaRPr>
          </a:p>
          <a:p>
            <a:pPr marL="308520" indent="-30852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يام العضو بإنشاء صندوق خاص لعمليات التأمين التي يكتتب فيها، يودع فيه حصيلة الأقساط وفوائد استثمارها وتخصيص أموال هذا الصندوق لمواجهة التزاماته نحو المؤمن لهم</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0"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قوم مراجع حسابات مستقل بمراجعة حسابات الأعضاء ويقدم للهيئة تقريراً سنوياً للتحقق من سلامة مركزه المالي وسلامة العمليات التي يقوم بها.</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ضو الهيئة مسئول غير محدودة أمام المؤمن لهم وذلك عن نصيبه في الأخطار التي قبل تغطيتها، بل إذا لزم الأمر تعتبر جميع ممتلكاته الشخصية ضامنة لمسئوليته في تغطية الخسارة الناتجة عن ذلك الجزء من الخطر الذي قبل تغطيته بصفة الشخصية، وإذا اتضح أن جميع أموال العضو غير كافية فإن اللويدز يقوم بدفع مقدار العجز عن طريق أموال احتياطاته.</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نلاحظ أنه بالنسبة لهذا المصنع أنه قد يستلزم الأمر مدة لإعادة تشغيله وهذه المدة قد تطول أو تقصر بحسب حجم الخسارة المحققة وما يهمنا هو أنه خلال مدة توقف المصنع عن العمل تكون هناك أرباح مفقودة، وهذا الأرباح المفقودة طيلة فترة توقف المصنع لحين إعادته إلى أصله تمثل خسارة غير مباشرة، ونصادف مثل هذه الحالة إذا كان الأصل المملوك هو عقار تحقق بالنسبة له خطر الحريق وأدى تحقق هذا الخطر إلى فقد جزء من قيمة العقار. هذا الجزء يمثل خسارة مباشرة وفي نفس الوقت نجد أنه لإعادة العقار إلى أصله بعد تحقق حادث الحريق يستلزم الأمر مرور بعض الوقت يتوقف فيه إيراد العقار. وهذا الإيراد المفقود يسبب تحقق حادث الحريق يمثل خسارة غير مباشرة</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2"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طريقة التأمين لدى أعضاء هيئة اللويدز:</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بحث طالب التأمين عن أحد سماسرة اللويدز، حيث أن يجوز أن يتعاقد أعضاء اللويدز مع المؤمن لهم مباشرة، ولكن يجب أن تقدم لهم العملية في غرفة الاكتتاب عن طريق أحد السماسرة المعتمدين من لجنة اللويدز، ومن ذلك يتضح أن سمسار اللويدز يلعب دوراً هاماً في سوق اللويدز للتأمين.</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كتب السمسار بطاقة يبنى فيها تفصيلات عن الخطر المراد التأمين منه وذلك من حيث نوعه وموضوعه تفصيلاً وأوصافه، كذلك المبلغ الذي ورد التأمين به والقيمة الأصلية للشيء موضوع التأمين حتى يمكن معرفة ما إذا كان التأمين تاماً أو جزئياً.</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4" name=""/>
          <p:cNvSpPr txBox="1"/>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رر البطاقة على الأعضاء حتى يكتتب في المبلغ بالكامل.</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قوم السمسار بحساب القسط اللازم لتغطية الخطر المؤمن منه، ثم يقوم بتحرير وثيقة التأمين وتوقيعها من مكتتبي التأمين ويطالب المؤمن له بالقسط بالإضافة إلى عمولته ثم يحصل السمسار لكل عضو مكتب حصته من القسط المحصل من المؤمن له بنسبة الحصة التي اكتتب فيها إلى مجموع المبالغ المكتتب فيها.</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حلة تحقق الخطر ووقوع الخسارة، يقوم السمسار بحساب التعويض المستحق ويطالب كل عضو مكتب بحصته في الخسارة، وذلك بنسبة المبلغ الذي اكتتب فيه إلى جميع المبالغ المكتتب فيها.</a:t>
            </a:r>
            <a:endParaRPr b="0" lang="en-US" sz="2800" spc="-1" strike="noStrike">
              <a:solidFill>
                <a:srgbClr val="ffffff"/>
              </a:solidFill>
              <a:latin typeface="Tahoma"/>
            </a:endParaRPr>
          </a:p>
          <a:p>
            <a:pPr marL="284400" indent="-2844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6" name=""/>
          <p:cNvSpPr txBox="1"/>
          <p:nvPr/>
        </p:nvSpPr>
        <p:spPr>
          <a:xfrm>
            <a:off x="457200" y="1905120"/>
            <a:ext cx="8229600" cy="4114800"/>
          </a:xfrm>
          <a:prstGeom prst="rect">
            <a:avLst/>
          </a:prstGeom>
          <a:noFill/>
          <a:ln w="0">
            <a:noFill/>
          </a:ln>
        </p:spPr>
        <p:txBody>
          <a:bodyPr anchor="t">
            <a:normAutofit fontScale="80000"/>
          </a:bodyPr>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ج ـ الشركات المساهمة:</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أصبحت الشركات المساهمة في الوقت الحاضر هي الظاهرة البارزة في المشروعات التي تقوم بأعمال التأمين في معظم أنحاء العالم وأصبحت الشركات المساهمة تحتل مركز الصدارة في سوق التأمين في العالم كله.</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ar-EG" sz="2800" spc="-1" strike="noStrike">
                <a:solidFill>
                  <a:srgbClr val="ffffff"/>
                </a:solidFill>
                <a:latin typeface="Tahoma"/>
              </a:rPr>
              <a:t>الشروط الواجب توافرها لتكوين الشركات المساهمة:</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لا تختلف الشروط الواجب توافرها لتكوين الشركات المساهمة القائمة بأعمال التأمين عن تلك الشركات المساهمة التي تقوم بالأعمال الصناعية والتجارية ولكن ينص القانون على شروط إضافية تتمثل فيما يلي:</a:t>
            </a:r>
            <a:endParaRPr b="0" lang="en-US" sz="2800" spc="-1" strike="noStrike">
              <a:solidFill>
                <a:srgbClr val="ffffff"/>
              </a:solidFill>
              <a:latin typeface="Tahoma"/>
            </a:endParaRPr>
          </a:p>
          <a:p>
            <a:pPr marL="274320" indent="-2743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8" name=""/>
          <p:cNvSpPr txBox="1"/>
          <p:nvPr/>
        </p:nvSpPr>
        <p:spPr>
          <a:xfrm>
            <a:off x="457200" y="1905120"/>
            <a:ext cx="8229600" cy="411480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الحد الأدنى لعدد الأعضاء المؤسسين، وهذا الحد الأدنى قد يختلف طبقاً لنوع التأمين الذي تتعامل فيه الشركة من حيث تأمينات ممتلكات ومسئولية أو تأمينات الحياة.</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الحد الأدنى لرأس المال، وهو يختلف تبعاً لاختلاف طبيعة البلاد من الناحية الاقتصادية، وتبعاً للثقة المالية التي يتمتع بها أفراد المجتمع.</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عدم التضارب بين فروع التأمين المختلفة حيث تنص قوانين التأمين عادة على أنه يجوز للشركة المساهمة أن تتعامل في أكثر من فرع من فروع التأمينات المختلفة في حدود معينة مع مراعاة التفرقة بين حسابات كل فرع في حالة الجمع بين فروع التأمين المختلفة.</a:t>
            </a:r>
            <a:endParaRPr b="0" lang="en-US" sz="2800" spc="-1" strike="noStrike">
              <a:solidFill>
                <a:srgbClr val="ffffff"/>
              </a:solidFill>
              <a:latin typeface="Tahoma"/>
            </a:endParaRPr>
          </a:p>
          <a:p>
            <a:pPr marL="281160" indent="-2811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0" name=""/>
          <p:cNvSpPr txBox="1"/>
          <p:nvPr/>
        </p:nvSpPr>
        <p:spPr>
          <a:xfrm>
            <a:off x="457200" y="1905120"/>
            <a:ext cx="8229600" cy="411480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شركات التأمين المساهمة:</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مكان جمع رأس مال ضخم وبالتالي بعث الثقة في نفوس المؤمن لهم واجتذابهم وإقبالهم على التأمين.</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كن الموارد الضخمة المتاحة لها استخدام كافيات فنية وإدارية مما يساعد على كفاية وفاعلية الخدمات التأمينية.</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أعمال التأمين بغرض تحقيق الربح.</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سئولية المساهمين في الشركة محدودة بقيمة الأسهم التي خصصت لهم.</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ناك استقلال تام بين شخصية المؤمن والمؤمن له.</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2"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رابعاً: هيئات التأمين الحكومية:</a:t>
            </a:r>
            <a:endParaRPr b="0" lang="en-US" sz="2800" spc="-1" strike="noStrike">
              <a:solidFill>
                <a:srgbClr val="ffffff"/>
              </a:solidFill>
              <a:latin typeface="Tahoma"/>
            </a:endParaRPr>
          </a:p>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قد تتدخل الحكومات في سوق التأمين لسبب أو لآخر مثل رفض هيئات التأمين الأخرى لنوع معين من التأمين أو إذا رأت أن شروط شركات التأمين تعتبر مجحفة بالمواطنين، والدولة إذ تقوم بأعمال التأمين لا تهدف إلى تحقيق ربح وإنما تهدف إلى توفير خدمة تأمينية معينة إلى أفراد الشعب أو فئات معينة منه، وتدخل الحكومة لإدارة الأخطار المرفوضة من جانب هيئات التأمين رغم ضرورتها القصوى لأفراد المجتمع، يكون عن طريق إنشاء هيئات إدارية حكومية تقوم بها وأحياناً توكل الحكومة العملية التأمينية إلى هيئة تأمينية </a:t>
            </a:r>
            <a:r>
              <a:rPr b="0" lang="ar-EG" sz="3200" spc="-1" strike="noStrike">
                <a:solidFill>
                  <a:srgbClr val="ffffff"/>
                </a:solidFill>
                <a:latin typeface="Tahoma"/>
              </a:rPr>
              <a:t>خاص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4"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دخل الحكومة في سوق التأمين لا يقتصر فقط على دول معينة (مثل الدول التي كانت تسمى دول اشتراكية)، بل يمتد كذلك إلى الدول الرأسمالية طالما أ هناك أخطار ترفض الشركات التجارية تغطيتها رغم أهميتها للاقتصاد القومي، فعلى سبيل المثال قامت بعض الولايات الأمريكية بإنشاء صناديق تأمين حكومية لتأمين أخطار السيارات والحريق المرفوضة من شركات التأمين الخاصة، أيضاَ تدخل الحكومة المصرية في سوق التأمينات الاجتماعية حيث تعتبر كلها مشروعات حكومية تديرها الدولة عن طريق هيئات حكومية، أيضاً التأمين الإجباري من المسئولية المدنية الناشئة عن حوادث السيارات يعتبر تأمين حكومي تديره شركات التأمين المصرية الثلاثة (مصر، الشرق، الأهلية) كذلك صندوق التأمين الحكومي لضمان أرباب المعاشات والغرض منه تحقيق الضمان لموظفي الحكومة والقطاع الخا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6"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هيئات التأمين الحكوم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متع هذه الهيئات بثقة المؤمن لهم إذ أن الدولة نفسها هي التي تضمن دفع التعويض في حالة تحقق الخطر.</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دار هيئات التأمين الحكومية بنفس طريقة الإدارة الخاصة بشركات التأمين التجارية، ولكن هناك اختلاف فيما يختص بأسعار التغطية حيث قد يسمح لمنشآت التأمين الحكومي أن تحدد أسعار تتناسب مع قيمة الخطر محل التغط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لة المصروفات نسبياً في هذه الهيئات حيث أن كل نوع من التأمين يوجه إلى فئة معينة بالذات ولا يكون ضرورة لاستخدام منتجين أو مندوبين، أو بذل جهود إعلانية لاجتذاب العملاء.</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8"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خامساً: الهيئات المساعدة</a:t>
            </a:r>
            <a:r>
              <a:rPr b="0" lang="ar-EG" sz="2800" spc="-1" strike="noStrike">
                <a:solidFill>
                  <a:srgbClr val="ffffff"/>
                </a:solidFill>
                <a:latin typeface="Tahoma"/>
              </a:rPr>
              <a:t>: تقوم هذه الهيئات بتقديم المساعدات لهيئات التأمين المختلفة حتى تتمكن من تقديم الخدمة التأمينية على أكمل وجه وهذه الهيئات تتمثل في الآت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كاتب عمل الأسعار</a:t>
            </a:r>
            <a:r>
              <a:rPr b="0" lang="ar-EG" sz="2800" spc="-1" strike="noStrike">
                <a:solidFill>
                  <a:srgbClr val="ffffff"/>
                </a:solidFill>
                <a:latin typeface="Tahoma"/>
              </a:rPr>
              <a:t>: وهي تعتبر هيئات مساعدة بالنسبة لهيئات التأمين التعاونية والتجارية، فمكاتب الأسعار موجودة في هيئات التأمين التبادلي ذات الحصص المقدمة وأيضاً هيئات تبادل العقود وجمعيات الأخوة، بالنسبة للشركات المساهمة فإنها لا تحتاج إلى مساعدة مكاتب تحديد الأسعار إلا في حالة الشركات المساهمة الصغيرة التي لا توجد بها إدارات متعددة، وبالنسبة لجماعة اللويدز فهي التي تحدد أسعارها وغرفة الاكتتاب تعتبر الهيئة المساعدة لها.</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40"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كاتب معاينة وتقييم الخسائر</a:t>
            </a:r>
            <a:r>
              <a:rPr b="0" lang="ar-EG" sz="2800" spc="-1" strike="noStrike">
                <a:solidFill>
                  <a:srgbClr val="ffffff"/>
                </a:solidFill>
                <a:latin typeface="Tahoma"/>
              </a:rPr>
              <a:t>: وتظهر أهمية هذه المكاتب بالنسبة لتأمينات الممتلكات والمسئولية خاصة بالنسبة للهيئات التي ليس لديها فنيين لمعاينة الخسارة.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تحادات التأمين</a:t>
            </a:r>
            <a:r>
              <a:rPr b="0" lang="ar-EG" sz="2800" spc="-1" strike="noStrike">
                <a:solidFill>
                  <a:srgbClr val="ffffff"/>
                </a:solidFill>
                <a:latin typeface="Tahoma"/>
              </a:rPr>
              <a:t>: تعتبر اتحادات التأمين هيئات مساعدة لمعظم هيئات التأمين فهي تقدم لهذه الهيئات مساعدات كثيرة في عمليات الاكتئاب، وأيضاً تساعد في وضع شروط الوثيقة الوثيقة وكذلك تقوم بجمع معلومات عن خسائر هامة مثل خسائر البترول، وخسائر تلوث الجو والمدن والمصانع، وتساعد في عمل الأسعار أحياناً، كذلك تقوم بدراسة طرق منع وتقليل الخسائر، وهذه الاتحادات تأخذ الأشكال التالية:</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5</a:t>
            </a:r>
            <a:r>
              <a:rPr b="1" lang="ar-EG" sz="2800" spc="-1" strike="noStrike">
                <a:solidFill>
                  <a:srgbClr val="ffffff"/>
                </a:solidFill>
                <a:latin typeface="Tahoma"/>
              </a:rPr>
              <a:t>) عدم التأكد:</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قع حالة  عدم التأكد بين حالتي الاستحالة المطلقة والتأكد المطلق، وهذا يسوقنا إلى تعريف الاحتمال حيث أن الاحتمال عبارة عن كسر أكبر من الصفر وأقل من الواحد الصحيح ويساوي عدد الحالات الموافقة لتحقيق حادث معين على عدد الحالات الممكنة لتحقيق هذا الحادث فإذا كانت قيمة هذا الاحتمال تساوي صفر فإننا لسنا الآن بصدد احتمال وإنما نحن بصدد حالة استحالة مطلقة لتحقيق هذا الحادث، أما إذا القيمة تساوي الواحد الصحيح فإننا بصدد حالة تأكد مطلق من تحقيق هذا الحادث.</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4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 اتحادات نوعية محلية </a:t>
            </a:r>
            <a:r>
              <a:rPr b="0" lang="ar-EG" sz="2800" spc="-1" strike="noStrike">
                <a:solidFill>
                  <a:srgbClr val="ffffff"/>
                </a:solidFill>
                <a:latin typeface="Tahoma"/>
              </a:rPr>
              <a:t>	</a:t>
            </a:r>
            <a:r>
              <a:rPr b="0" lang="ar-EG" sz="2800" spc="-1" strike="noStrike">
                <a:solidFill>
                  <a:srgbClr val="ffffff"/>
                </a:solidFill>
                <a:latin typeface="Tahoma"/>
              </a:rPr>
              <a:t>	</a:t>
            </a:r>
            <a:r>
              <a:rPr b="0" lang="ar-EG" sz="2800" spc="-1" strike="noStrike">
                <a:solidFill>
                  <a:srgbClr val="ffffff"/>
                </a:solidFill>
                <a:latin typeface="Tahoma"/>
              </a:rPr>
              <a:t>ب) اتحادات محلية عامة </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 الاتحاد العربي للتأمين</a:t>
            </a:r>
            <a:r>
              <a:rPr b="0" lang="ar-EG" sz="2800" spc="-1" strike="noStrike">
                <a:solidFill>
                  <a:srgbClr val="ffffff"/>
                </a:solidFill>
                <a:latin typeface="Tahoma"/>
              </a:rPr>
              <a:t>	</a:t>
            </a:r>
            <a:r>
              <a:rPr b="0" lang="ar-EG" sz="2800" spc="-1" strike="noStrike">
                <a:solidFill>
                  <a:srgbClr val="ffffff"/>
                </a:solidFill>
                <a:latin typeface="Tahoma"/>
              </a:rPr>
              <a:t>د) الاتحاد العام الأفريقي الأسيو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ـ) الاتحاد العالمي</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 </a:t>
            </a:r>
            <a:endParaRPr b="0" lang="en-US" sz="4400" spc="-1" strike="noStrike">
              <a:solidFill>
                <a:srgbClr val="ffffff"/>
              </a:solidFill>
              <a:latin typeface="Tahoma"/>
            </a:endParaRPr>
          </a:p>
        </p:txBody>
      </p:sp>
      <p:sp>
        <p:nvSpPr>
          <p:cNvPr id="344" name=""/>
          <p:cNvSpPr txBox="1"/>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 تأمين النقل البري</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ختص وثائق تأمين النقل البري بتغطية خسائر النقل براً سواء بالسكك الحديدية أو بسيارات النقل، وتغطي هذه الوثائق الخسائر الكلية أو الجزئية التي تنتج خلال أو بسبب النقل. حيث تصدر وثيقة تأمين شحنات السكك الحديدية ووثيقة تأمين شحنات سيارات النقل ووثيقة تأمين الطرود البريدية.</a:t>
            </a:r>
            <a:endParaRPr b="0" lang="en-US" sz="2800" spc="-1" strike="noStrike">
              <a:solidFill>
                <a:srgbClr val="ffffff"/>
              </a:solidFill>
              <a:latin typeface="Tahoma"/>
            </a:endParaRPr>
          </a:p>
          <a:p>
            <a:pPr marL="298440" indent="-29844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ثيقة تأمين النقل البري الموحدة تصدر بحيث تضمن الخسارة الناتجة عن الفقد أو التلف الكلي أو الجزئي للشحنة المؤمن عليها الناتج عن حريق أو وقوع حادث انقلاب أو </a:t>
            </a:r>
            <a:r>
              <a:rPr b="0" lang="ar-EG" sz="3200" spc="-1" strike="noStrike">
                <a:solidFill>
                  <a:srgbClr val="ffffff"/>
                </a:solidFill>
                <a:latin typeface="Tahoma"/>
              </a:rPr>
              <a:t>تصادم كذلك خروج عربات السكك الحديدية عن قضبانها</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46" name=""/>
          <p:cNvSpPr txBox="1"/>
          <p:nvPr/>
        </p:nvSpPr>
        <p:spPr>
          <a:xfrm>
            <a:off x="457200" y="1905120"/>
            <a:ext cx="8229600" cy="4114800"/>
          </a:xfrm>
          <a:prstGeom prst="rect">
            <a:avLst/>
          </a:prstGeom>
          <a:noFill/>
          <a:ln w="0">
            <a:noFill/>
          </a:ln>
        </p:spPr>
        <p:txBody>
          <a:bodyPr anchor="t">
            <a:normAutofit fontScale="93000"/>
          </a:bodyPr>
          <a:p>
            <a:pPr marL="318960" indent="-31896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شترط الوثيقة لسريان مفعولها أن تكون الوحدة الناقلة مشحونة بطريقة سليمة وأن تكون صالحة للقيام بالرحلة، وأن تبدأ الرحلة بعد إتمام شحنها مباشرة، الوثيقة لا تضمن فقد أو تلف الشحنة الناتج عن العيوب الذاتية لها.. كذلك الأضرار والمصروفات الناتجة عن التأخير ومياه الأمطار أو السرقة أو عدم التسليم أو العجز إلا إذا كان ذلك ناشئاً عن حادث حريق أو وقوع حادث انقلاب أو تصادم.. كذلك لا تضمن الوثيقة الفقد أو التلف الناتج عن الإهمال من جانب المؤمن له أو وكلائه كذلك المصادرة أو الحجز وكذلك ما يترتب على الحرب أو الاضطرابات الداخلية</a:t>
            </a:r>
            <a:r>
              <a:rPr b="0" lang="ar-EG" sz="2800" spc="-1" strike="noStrike">
                <a:solidFill>
                  <a:srgbClr val="ffffff"/>
                </a:solidFill>
                <a:latin typeface="Tahoma"/>
              </a:rPr>
              <a:t>.</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48" name=""/>
          <p:cNvSpPr txBox="1"/>
          <p:nvPr/>
        </p:nvSpPr>
        <p:spPr>
          <a:xfrm>
            <a:off x="457200" y="1905120"/>
            <a:ext cx="8229600" cy="4114800"/>
          </a:xfrm>
          <a:prstGeom prst="rect">
            <a:avLst/>
          </a:prstGeom>
          <a:noFill/>
          <a:ln w="0">
            <a:noFill/>
          </a:ln>
        </p:spPr>
        <p:txBody>
          <a:bodyPr anchor="t">
            <a:normAutofit fontScale="76000"/>
          </a:bodyPr>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تأمين النقل النهري</a:t>
            </a:r>
            <a:endParaRPr b="0" lang="en-US" sz="2800" spc="-1" strike="noStrike">
              <a:solidFill>
                <a:srgbClr val="ffffff"/>
              </a:solidFill>
              <a:latin typeface="Tahoma"/>
            </a:endParaRPr>
          </a:p>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ختص وثائق تأمين النقل النهري بتغطية خسائر النقل بالقنوات المائية داخل البلد سواء تم ذلك عن طريق الصنادل أو المراكب البخارية أو الشراعية أو غيرها. وثائق تأمين النقل النهري تغطي خسائر أقل من تلك التي تغطيها وثائق تأمين النقل البري، فقي مصر تقتصر وثيقة تأمين النقل النهري على تغطية الخسارة الكلية دون الخسارة الجزئية للبضائع أو المنقولات المشحونة.</a:t>
            </a:r>
            <a:endParaRPr b="0" lang="en-US" sz="2800" spc="-1" strike="noStrike">
              <a:solidFill>
                <a:srgbClr val="ffffff"/>
              </a:solidFill>
              <a:latin typeface="Tahoma"/>
            </a:endParaRPr>
          </a:p>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ثيقة النقل النهري التي تصدر في مصر تغطي العقد الكلي الناتج عن حريق أو حادث ملاحي للوحدة الناقلة.. والمقصود بالفقد الكلي هو ضياع أو تلف البضاعة المؤمن عليها تلفاً كلياً بحيث تزيد تكاليف إنقاذها وتسليمها في جهة الوصول عن قيمتها عند وصلها، أو أن تصبح البضاعة مغايرة لطبيعتها الأولى.</a:t>
            </a:r>
            <a:endParaRPr b="0" lang="en-US" sz="2800" spc="-1" strike="noStrike">
              <a:solidFill>
                <a:srgbClr val="ffffff"/>
              </a:solidFill>
              <a:latin typeface="Tahoma"/>
            </a:endParaRPr>
          </a:p>
          <a:p>
            <a:pPr marL="260640" indent="-260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50"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شترط لسريان مفعول الوثيقة نفس الشروط السابق الإشارة إليها بالنسبة لوثيقة التأمين البري وهي أن تكون الوحدة الناقلة مشحونة بطريقة سليمة، وإلا تزيد حمولتها على الحد المقرر لها، وأن تكون صالحة للقيام بالرحلة،وأن تبدأ رحلتها بعد إتمام شحنها مباشرة.</a:t>
            </a:r>
            <a:endParaRPr b="0" lang="en-US" sz="2800" spc="-1" strike="noStrike">
              <a:solidFill>
                <a:srgbClr val="ffffff"/>
              </a:solidFill>
              <a:latin typeface="Tahoma"/>
            </a:endParaRPr>
          </a:p>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هذه الوثيقة لا تضمن هي الأخرى تغطية خسارة العيب الذاتي للشحنة، والتأخير، ومياه الأمطار، والسرقة، والإهمال من جانب المؤمن له ووكلائه، والحجز، الحرب الأهلية، والاضطرابات الداخلي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2"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10-1</a:t>
            </a:r>
            <a:r>
              <a:rPr b="0" lang="ar-EG" sz="2800" spc="-1" strike="noStrike">
                <a:solidFill>
                  <a:srgbClr val="ffffff"/>
                </a:solidFill>
                <a:latin typeface="Tahoma"/>
              </a:rPr>
              <a:t> ) إن شركات التأمين تقوم بحساب أسعار التأمين علي أسس فنية وإحصائية مراعي فيها كل عوامل الأمان ، إلا أنه من الناحية العملية لا تستطيع شركات التأمين الاعتماد على ذلك والاحتفاظ لنفسها بكل الأخطار التى تقبل التأمين عليها .. ويرجع ذلك إلى عدة أسباب منها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الظروف الاستثنائية التى تؤدى فى بعض الأحيان إلى انحراف معدل الخسائر عن المعدل الذى أظهرته الإحصائيات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ضخامة وحدة الخطر .. على سبيل المثال : السفن ، الطائرات ، المصانع الضخمة ، معامل تكرير البترول . </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4" name=""/>
          <p:cNvSpPr txBox="1"/>
          <p:nvPr/>
        </p:nvSpPr>
        <p:spPr>
          <a:xfrm>
            <a:off x="457200" y="1599840"/>
            <a:ext cx="8229600" cy="5257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تراكم الأخطار ... مثال ذلك البضائع المؤمن عليها علي سفينة واحدة ، وقد تكون السفية ذاتها مؤمنا عليها لدى نفس الشركة ، التأمين على جسم الطائرة وعلى طاقمها والمسئولية قبل الركاب وأمتعتهم والمسئوليات الأخرى .. كذلك قد يقع حادث لأكثر من طائرة فى مطار واحد أو لأكثر من سفينة فى ميناء واحد مؤمن لدى نفس الشركة وإلى غير ذلك من الظروف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هذه الأسباب وغيرها تقتضى الحكمة توزيع الخطر الواحد على أكثر من هيئة تأمين ، ويتم ذلك بعدة طرق منها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 :- الاشتراك فى التأمين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عنى ذلك اشتراك أكثر من شركة فى تغطية خطر معين ويكون المؤمن له على علم بذلك وتكون كل شركة مسئولة عن حصتها مباشرة قبل المؤمن له . </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6" name=""/>
          <p:cNvSpPr txBox="1"/>
          <p:nvPr/>
        </p:nvSpPr>
        <p:spPr>
          <a:xfrm>
            <a:off x="457200" y="1905120"/>
            <a:ext cx="8229600" cy="4114800"/>
          </a:xfrm>
          <a:prstGeom prst="rect">
            <a:avLst/>
          </a:prstGeom>
          <a:noFill/>
          <a:ln w="0">
            <a:noFill/>
          </a:ln>
        </p:spPr>
        <p:txBody>
          <a:bodyPr anchor="t">
            <a:normAutofit fontScale="94000"/>
          </a:bodyPr>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  إعادة التامين </a:t>
            </a:r>
            <a:endParaRPr b="0" lang="en-US" sz="2800" spc="-1" strike="noStrike">
              <a:solidFill>
                <a:srgbClr val="ffffff"/>
              </a:solidFill>
              <a:latin typeface="Tahoma"/>
            </a:endParaRPr>
          </a:p>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فى هذه الحالة تكون العلاقة بين المستأمن وبين شركة التأمين المباشر فقط ، ويظل المؤمن المباشر مسئولا مسئولية تامة عن مبلغ التأمين بأكمله أمام المستأمن ( المؤمن له ) ، وتقوم شركة التأمين بإسناد جزء من الخطر إلى شركة أو عدة شركات أخرى مقابل التنازل عن جزء من قسط التأمين ، وتتحمل شركات إعادة التأمين مقابل ذلك نصيبها من الخسائر إن حدثت . وتؤدى إعادة التأمين عدة وظائف رئيسية للمؤمن الأصلي ، أهمها : </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8"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زيادة القدرة الإستيعابية للمؤمن فى قبول أخطار أكبر من الأخطار التى يمكن أن يقبلها بدون إعادة تأمين . </a:t>
            </a:r>
            <a:endParaRPr b="0" lang="en-US" sz="2800" spc="-1" strike="noStrike">
              <a:solidFill>
                <a:srgbClr val="ffffff"/>
              </a:solidFill>
              <a:latin typeface="Tahoma"/>
            </a:endParaRPr>
          </a:p>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ساعد عملية إعادة التأمين على استقرار معدل الخسارة ، حيث أنها تتفادى التقلبات الشاذة المفاجئة فى معدل الخسارة . </a:t>
            </a:r>
            <a:endParaRPr b="0" lang="en-US" sz="2800" spc="-1" strike="noStrike">
              <a:solidFill>
                <a:srgbClr val="ffffff"/>
              </a:solidFill>
              <a:latin typeface="Tahoma"/>
            </a:endParaRPr>
          </a:p>
          <a:p>
            <a:pPr marL="335880" indent="-3358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بادل عمليات إعادة التأمين يتيح الفرصة لتطبيق قانون الأعداد الكبيرة وبالتالى يمكن تفادى الخسائر الكبيرة المختلفة مقابل خسارة مؤكسدة صغيرة متمثلة فى أقساط إعادة التأمين </a:t>
            </a:r>
            <a:r>
              <a:rPr b="0" lang="ar-EG" sz="3200" spc="-1" strike="noStrike">
                <a:solidFill>
                  <a:srgbClr val="ffffff"/>
                </a:solidFill>
                <a:latin typeface="Tahoma"/>
              </a:rPr>
              <a:t>.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0"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ملية إعادة التأمين تساعد المؤمن على أن يحل مشكلة التباين بين قيم الأخطار المحتفظ بها دون أن يفقد أحد من عملائه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ؤدى عملية إعادة التأمين وظيفة تمويلية للشركة المسندة ، وذلك من حيث قلة مخصص الأخطار السارية المحتجز وحصولها على عمولة إعادة التأمين الصادر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عن طريق إعادة التأمين دراسة مجال الاستثمار والإنتاج فى منطقة جغرافية أو فى بلد معين، وذلك عن طريق التعرف نتائج عمليات إعادة التأمين في تلك المنطقة وخصائصها، ودراسة هذه النتائج قبل الدخول فى مجال الاستثمار أو الإنتاج فيها .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في نفس الوقت ينتفي وجود الاحتمال، ويتضح التطبيق العملي للحالتين السابقتين الاستحالة المطلقة والتأكد المطلق في حالة طلب التأمين من خطر الغرق على بضاعة وصلت سالمة إلى ميناء الوصول أو حالة التأمين من خطر الوفاة على شخص توفى فعلاً، ففي الحالة</a:t>
            </a:r>
            <a:r>
              <a:rPr b="0" lang="es-ES_tradnl" sz="3200" spc="-1" strike="noStrike">
                <a:solidFill>
                  <a:srgbClr val="ffffff"/>
                </a:solidFill>
                <a:latin typeface="Tahoma"/>
                <a:ea typeface="SimSun"/>
              </a:rPr>
              <a:t>  </a:t>
            </a:r>
            <a:r>
              <a:rPr b="0" lang="ar-EG" sz="3200" spc="-1" strike="noStrike">
                <a:solidFill>
                  <a:srgbClr val="ffffff"/>
                </a:solidFill>
                <a:latin typeface="Tahoma"/>
              </a:rPr>
              <a:t>الأولى نجد أن هناك استحالة لتحقيق خطر الغرق لأن البضاعة وصلت سالمة إلى ميناء الوصول، وكذلك في الحالة الثانية هناك تأكد مطلق لتحقيق خطر الوفاة، وفي كلتا الحالتين السابقتين لا يمكن قبول التأمين عليهما لأن الخطر لا يستوفى الصفة الأولى وهي عدم التأكد</a:t>
            </a:r>
            <a:r>
              <a:rPr b="0" lang="es-ES_tradnl"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2" name=""/>
          <p:cNvSpPr txBox="1"/>
          <p:nvPr/>
        </p:nvSpPr>
        <p:spPr>
          <a:xfrm>
            <a:off x="457200" y="1599840"/>
            <a:ext cx="8229600" cy="5257800"/>
          </a:xfrm>
          <a:prstGeom prst="rect">
            <a:avLst/>
          </a:prstGeom>
          <a:noFill/>
          <a:ln w="0">
            <a:noFill/>
          </a:ln>
        </p:spPr>
        <p:txBody>
          <a:bodyPr anchor="t">
            <a:normAutofit fontScale="95000"/>
          </a:bodyPr>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 </a:t>
            </a:r>
            <a:r>
              <a:rPr b="1" lang="ar-EG" sz="2800" spc="-1" strike="noStrike">
                <a:solidFill>
                  <a:srgbClr val="ffffff"/>
                </a:solidFill>
                <a:latin typeface="Tahoma"/>
              </a:rPr>
              <a:t>10</a:t>
            </a:r>
            <a:r>
              <a:rPr b="1" lang="ar-EG" sz="2800" spc="-1" strike="noStrike">
                <a:solidFill>
                  <a:srgbClr val="ffffff"/>
                </a:solidFill>
                <a:latin typeface="Tahoma"/>
              </a:rPr>
              <a:t> – </a:t>
            </a:r>
            <a:r>
              <a:rPr b="1" lang="ar-EG" sz="2800" spc="-1" strike="noStrike">
                <a:solidFill>
                  <a:srgbClr val="ffffff"/>
                </a:solidFill>
                <a:latin typeface="Tahoma"/>
              </a:rPr>
              <a:t>2</a:t>
            </a:r>
            <a:r>
              <a:rPr b="1" lang="ar-EG" sz="2800" spc="-1" strike="noStrike">
                <a:solidFill>
                  <a:srgbClr val="ffffff"/>
                </a:solidFill>
                <a:latin typeface="Tahoma"/>
              </a:rPr>
              <a:t> ) نشأة وتطور إعادة التأمين : </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رف التاريخ أول وثيقة إعادة تأمين عام </a:t>
            </a:r>
            <a:r>
              <a:rPr b="0" lang="ar-EG" sz="2800" spc="-1" strike="noStrike">
                <a:solidFill>
                  <a:srgbClr val="ffffff"/>
                </a:solidFill>
                <a:latin typeface="Tahoma"/>
              </a:rPr>
              <a:t>1370</a:t>
            </a:r>
            <a:r>
              <a:rPr b="0" lang="ar-EG" sz="2800" spc="-1" strike="noStrike">
                <a:solidFill>
                  <a:srgbClr val="ffffff"/>
                </a:solidFill>
                <a:latin typeface="Tahoma"/>
              </a:rPr>
              <a:t> حيث وجدت شركات التأمين المباشر فى إعادة التأمين طريقها للخلاص من الحد الزائد عن طاقتها فى قبول الأخطار غير أنها لم تتم طبقا لمبادئ وأسس فنية صحيحة . </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مع مطلع القرن التاسع عشر بدأت فكرة إعادة التأمين طريقها إلى الوضوح والاستقرار وأخذت شكل الخدمة الفنية المقدمة لمعاونة شركات التأمين المباشر على زيادة طاقتها الاستيعابية ودعم التوسع الاقتصادي، وأنحصر النشاط الرئيسي لتلك الشركات فى بادئ الأمر على تبادل إعادة التأمين فيما بينها فى نطاق الأسواق المحلية لتغطية الأخطار المحلية . </a:t>
            </a:r>
            <a:endParaRPr b="0" lang="en-US" sz="2800" spc="-1" strike="noStrike">
              <a:solidFill>
                <a:srgbClr val="ffffff"/>
              </a:solidFill>
              <a:latin typeface="Tahoma"/>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4"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ى منتصف القرن التاسع عشر ظهرت الشركات المتخصصة فى إعادة التأمين . وقد أنشئت فى عام </a:t>
            </a:r>
            <a:r>
              <a:rPr b="0" lang="ar-EG" sz="2800" spc="-1" strike="noStrike">
                <a:solidFill>
                  <a:srgbClr val="ffffff"/>
                </a:solidFill>
                <a:latin typeface="Tahoma"/>
              </a:rPr>
              <a:t>1846</a:t>
            </a:r>
            <a:r>
              <a:rPr b="0" lang="ar-EG" sz="2800" spc="-1" strike="noStrike">
                <a:solidFill>
                  <a:srgbClr val="ffffff"/>
                </a:solidFill>
                <a:latin typeface="Tahoma"/>
              </a:rPr>
              <a:t> أول شركة لإعادة التأمين فى ألمانيا ( شركة كولونيا لإعادة التأمين ) ، ثم فى عام </a:t>
            </a:r>
            <a:r>
              <a:rPr b="0" lang="ar-EG" sz="2800" spc="-1" strike="noStrike">
                <a:solidFill>
                  <a:srgbClr val="ffffff"/>
                </a:solidFill>
                <a:latin typeface="Tahoma"/>
              </a:rPr>
              <a:t>1883</a:t>
            </a:r>
            <a:r>
              <a:rPr b="0" lang="ar-EG" sz="2800" spc="-1" strike="noStrike">
                <a:solidFill>
                  <a:srgbClr val="ffffff"/>
                </a:solidFill>
                <a:latin typeface="Tahoma"/>
              </a:rPr>
              <a:t> أنشئت الشركة السويسرية لإعادة التأمين، وأيضا فى عام </a:t>
            </a:r>
            <a:r>
              <a:rPr b="0" lang="ar-EG" sz="2800" spc="-1" strike="noStrike">
                <a:solidFill>
                  <a:srgbClr val="ffffff"/>
                </a:solidFill>
                <a:latin typeface="Tahoma"/>
              </a:rPr>
              <a:t>1883</a:t>
            </a:r>
            <a:r>
              <a:rPr b="0" lang="ar-EG" sz="2800" spc="-1" strike="noStrike">
                <a:solidFill>
                  <a:srgbClr val="ffffff"/>
                </a:solidFill>
                <a:latin typeface="Tahoma"/>
              </a:rPr>
              <a:t>م أنشئت شركة ميونج لإعادة التأمين وتوالى بعد ذلك ظهور شركات كثيرة متخصصة فى إعادة التأمين . </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لقد كان لسلسلة الحرائق الضخمة فى بعض بلدان أوروبا فى نهاية القرن التاسع عشر أثر كبير فى إتساع نطاق عمليات إعادة التأمين واعتبارها وسيلة فعالة للربط بين أسواق التأمين الدولية، وظهرت أهمية إعادة التأمين لتدعيم واستقرار المركز المالي لشركات التأمين المباشر. </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6"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 </a:t>
            </a:r>
            <a:r>
              <a:rPr b="1" lang="ar-EG" sz="2400" spc="-1" strike="noStrike">
                <a:solidFill>
                  <a:srgbClr val="ffffff"/>
                </a:solidFill>
                <a:latin typeface="Tahoma"/>
              </a:rPr>
              <a:t>10-3</a:t>
            </a:r>
            <a:r>
              <a:rPr b="1" lang="ar-EG" sz="2400" spc="-1" strike="noStrike">
                <a:solidFill>
                  <a:srgbClr val="ffffff"/>
                </a:solidFill>
                <a:latin typeface="Tahoma"/>
              </a:rPr>
              <a:t> ) الطرق المختلفة لإعادة التامين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م عمليات إعادة التأمين بين المؤمن المباشر وهيئة إعادة التأمين بالطرق التالية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a:t>
            </a:r>
            <a:r>
              <a:rPr b="0" lang="ar-EG" sz="2400" spc="-1" strike="noStrike">
                <a:solidFill>
                  <a:srgbClr val="ffffff"/>
                </a:solidFill>
                <a:latin typeface="Tahoma"/>
              </a:rPr>
              <a:t> : الطريقة الاختيارية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نيا</a:t>
            </a:r>
            <a:r>
              <a:rPr b="0" lang="ar-EG" sz="2400" spc="-1" strike="noStrike">
                <a:solidFill>
                  <a:srgbClr val="ffffff"/>
                </a:solidFill>
                <a:latin typeface="Tahoma"/>
              </a:rPr>
              <a:t> : الطريقة الإجبارية ( طريقة الاتفاقيات )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a:t>
            </a:r>
            <a:r>
              <a:rPr b="0" lang="ar-EG" sz="2400" spc="-1" strike="noStrike">
                <a:solidFill>
                  <a:srgbClr val="ffffff"/>
                </a:solidFill>
                <a:latin typeface="Tahoma"/>
              </a:rPr>
              <a:t> : طريقة الحساب المشترك ( نظام المجمع )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 الطريق الاختيارية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هى تلك العقود التى يبرمها المؤمن الأصلي مع هيئة إعادة التأمين بقصد إعادة التأمين على خطر واحد بعد الاكتتاب فيه وتعتبر هذه الطريقة هى أقدم طرق إعادة التأمين ، وبمقتضاها يكون للمؤن الأصلي أو المباشر الحرية فى اختيار الهيئة التي يعيد التأمين لديها وأيضا له الحرية في تحديد المبالغ أو المخاطر التى يحتفظ بها وتلك التي يعيد تأمينها ،ومن جانب هيئة إعادة التأمين فإن لها أيضا الحرية فى قبول أو رفض أي عملية تعرض عليها . </a:t>
            </a:r>
            <a:endParaRPr b="0" lang="en-US" sz="2400" spc="-1" strike="noStrike">
              <a:solidFill>
                <a:srgbClr val="ffffff"/>
              </a:solidFill>
              <a:latin typeface="Tahoma"/>
            </a:endParaRPr>
          </a:p>
          <a:p>
            <a:pPr marL="315360" indent="-3153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8" name=""/>
          <p:cNvSpPr txBox="1"/>
          <p:nvPr/>
        </p:nvSpPr>
        <p:spPr>
          <a:xfrm>
            <a:off x="457200" y="1600200"/>
            <a:ext cx="8229600" cy="575784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إجراء الاكتتاب فى إعادة التأمين الاختياري :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يعد المؤمن الأصلي أو المباشر مذكرة موضحا بها بيانات العملية الأصلية من واقع طلب التأمين الأصلي أو وثيقة التأمين، وأهم هذه البيانات : ( اسم المؤمن وعنوانه – مبلغ التأمين – وصف الخطر موضوع التأمين – القسط – المبلغ المحتفظ به ) ويرسل المذكرة لهيئة إعادة التأمين .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تدرس هيئة إعادة التأمين المذكرة وقد تكتتب فى الزيادة عن حد الاحتفاظ للمؤمن المباشر بالكامل أو جزء منه فقط، وفى هذه الحالة لابد من البحث أو الاتصال بهيئات أخرى حتى يتم تغطية الخطر بالكامل، وبعد أن تحدد هيئة إعادة التأمين نصيبها أو الجزء الذى قررت تغطيته توقع على المذكرة، ثم تعد إشعار تغطية يتضمن تعهدا بقبول الاكتتاب فى جزء من الخطر وتوقع على الإشعار وترسله إلى المؤمن المباشر ويبدأ التزامها مباشرة بعد التوقيع . </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0" name=""/>
          <p:cNvSpPr txBox="1"/>
          <p:nvPr/>
        </p:nvSpPr>
        <p:spPr>
          <a:xfrm>
            <a:off x="457200" y="1599840"/>
            <a:ext cx="8229600" cy="497196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 يعد المؤمن المباشر عقد إعادة التأمين متضمنا كافة البيانات التفصيلية المتعلقة بالخطر والشروط التى تحكم التعاقد بين الطرفين وذلك من نسختين بعد التوقيع عليها من الطرفين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يزات الطريقة الاختيارية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تيح للمؤمن الأصلي بأن يحتفظ لنفس بالعمليات المربحة أو العمليات الجيدة وأن يعيد تأمين العمليات ذات درجات الخطورة المرتفعة.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تعطى الفرصة لهيئة إعادة التأمين بالاكتتاب فى العمليات المناسبة أو الجيدة فقط وأن ترفض تأمين العمليات ذات درجات الخطورة المرتفعة، لذلك فإن هذه الطريقة قد تجبر الهيئات أن تتعامل مع بعضها البعض على أساس متبادل. </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2"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عيوب الطريقة الاختيارية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الرغم من المزايا السابقة فهناك بعض نواحي النقص أو العيوب التى توجه لهذه الطريقة يمكن تلخيصها فيما يلي : </a:t>
            </a:r>
            <a:endParaRPr b="0" lang="en-US" sz="28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تطلب الطريقة الاختيارية إجراءات طويلة ومعقدة حيث تقضى تقديم بيانات تفصيلية عن كل خطر على حده وإعداد مذكرة ثم إعداد وثيقة إعادة تأمين وبالتالي تستلم جهداً كبيراً ونفقات إدارية ترفع من معدلات مصروفاتها نتيجة الاتصال المنفرد والمستقل بشأن كل تغطية على حده ويترتب على ذلك صغر قيمة العمولة الصافية التى تمنحها هيئة إعادة التأمين للمؤمن الأصلي</a:t>
            </a:r>
            <a:r>
              <a:rPr b="0" lang="ar-EG"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4"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احتمال عدم قبول هيئة إعادة التأمين أو الهيئات الأخرى الاكتتاب فى الخطر لارتفاع درجة خطورته أو لعدم ملائمة الشروط والأسعار بعد أن تكون الشركة الأصلية قد تورطت فى التعاقد على هذا الخطر، وبالتالي تتحمل نتائجه وحدها. </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قد يتحقق الخطر قبل إتمام عملية إعادة التأمين لأن التزام هيئة إعادة التأمين لا يبدأ من تاريخ الحصول على العملية الأصلية، ولكن يبدأ فى تاريخ لاحق هو تاريخ التوقيع على المذكرة أو إشعار التغطية، فيتحمل المؤمن الأصلي الخسائر بمفرده ... من ناحية أخرى قد يحتاط المؤمن المباشر لذلك فيؤجل القبول للعملية الأصلية لحين الاتفاق على إعادة تأمينها فيواجه احتمال أن يفقدها تماما . </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6" name=""/>
          <p:cNvSpPr txBox="1"/>
          <p:nvPr/>
        </p:nvSpPr>
        <p:spPr>
          <a:xfrm>
            <a:off x="457200" y="1905120"/>
            <a:ext cx="8229600" cy="4114800"/>
          </a:xfrm>
          <a:prstGeom prst="rect">
            <a:avLst/>
          </a:prstGeom>
          <a:noFill/>
          <a:ln w="0">
            <a:noFill/>
          </a:ln>
        </p:spPr>
        <p:txBody>
          <a:bodyPr anchor="t">
            <a:normAutofit fontScale="94000"/>
          </a:bodyPr>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Tahoma"/>
              </a:rPr>
              <a:t>الحالات التى تلجأ فيها شركات التأمين إلى إعادة التأمين الأختيارى : </a:t>
            </a:r>
            <a:endParaRPr b="0" lang="en-US" sz="2800" spc="-1" strike="noStrike">
              <a:solidFill>
                <a:srgbClr val="ffffff"/>
              </a:solidFill>
              <a:latin typeface="Tahoma"/>
            </a:endParaRPr>
          </a:p>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إذا لم يكن لدى شركات التأمين عمليات كثيرة منتظمة تستدعى عمل اتفاقية مستمرة مع شركة إعادة التأمين. </a:t>
            </a:r>
            <a:endParaRPr b="0" lang="en-US" sz="2800" spc="-1" strike="noStrike">
              <a:solidFill>
                <a:srgbClr val="ffffff"/>
              </a:solidFill>
              <a:latin typeface="Tahoma"/>
            </a:endParaRPr>
          </a:p>
          <a:p>
            <a:pPr marL="322200" indent="-3222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إذا كان حد احتفاظ شركة التأمين المباشر أو الفائض من الخطر نتيجة اتفاقية يعتبر كبيرا جدا أو غير مناسب فى عملية أو أكثر فتلجأ شركة التأمين المباشر لإعادة تأمين جزء من حد احتفاظها مرة أخرى عن طريق التأمين الاختياري</a:t>
            </a:r>
            <a:r>
              <a:rPr b="0" lang="ar-EG" sz="3200" spc="-1" strike="noStrike">
                <a:solidFill>
                  <a:srgbClr val="ffffff"/>
                </a:solidFill>
                <a:latin typeface="Tahoma"/>
              </a:rPr>
              <a:t>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8"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الطريقة الإجبارية ( طريقة الاتفاقيات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مقتضى هذه الطريقة يقوم المؤمن المباشر بعمل اتفاقية أو عدة اتفاقيات مع هيئات إعادة التأمين، بمقتضاها يكون مجبراً على التنازل عن جزء معين من جميع العمليات التى تشملها الاتفاقية، كما تكون هيئة إعادة التأمين مجبرة أيضا على قبول هذه العمليات المتنازل عنها والداخلة ضمن الاتفاقية بصورة تلقائية وبنفس الشروط الأصلية، ويحدد فى الاتفاقية المبلغ المعاد تأمينه أو الحد الأعلى للمبلغ المتنازل عنه وطرق إعادة التأمين وتوزيع المبالغ والأقساط والخسائر وعمولة إعادة التأمين، كما يحدد بالاتفاقية طريقة تسوية الحسابات والكشوف.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0" name=""/>
          <p:cNvSpPr txBox="1"/>
          <p:nvPr/>
        </p:nvSpPr>
        <p:spPr>
          <a:xfrm>
            <a:off x="457200" y="1905120"/>
            <a:ext cx="8229600" cy="4114800"/>
          </a:xfrm>
          <a:prstGeom prst="rect">
            <a:avLst/>
          </a:prstGeom>
          <a:noFill/>
          <a:ln w="0">
            <a:noFill/>
          </a:ln>
        </p:spPr>
        <p:txBody>
          <a:bodyPr anchor="t">
            <a:normAutofit fontScale="81000"/>
          </a:bodyPr>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يزات الطريقة الإجبارية ( طريقة الاتفاقيات ) </a:t>
            </a:r>
            <a:endParaRPr b="0" lang="en-US" sz="2800" spc="-1" strike="noStrike">
              <a:solidFill>
                <a:srgbClr val="ffffff"/>
              </a:solidFill>
              <a:latin typeface="Tahoma"/>
            </a:endParaRPr>
          </a:p>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لتزم هيئة إعادة التأمين بتغطية الخطر من تاريخ التزام المؤمن الأصلي وهذه الميزة غير متوفرة فى إعادة التأمين الأختيارى، حيث يبدأ التزام هيئة إعادة التأمين من تاريخ التوقيع على المذكرة أو إشعار التغطية وما يترتب على ذلك من أضرار للمؤمن الأصلي من ناحية تحقق الخطر قبل توزيعه أو ضياع العملية الأصلية نفسها . </a:t>
            </a:r>
            <a:endParaRPr b="0" lang="en-US" sz="2800" spc="-1" strike="noStrike">
              <a:solidFill>
                <a:srgbClr val="ffffff"/>
              </a:solidFill>
              <a:latin typeface="Tahoma"/>
            </a:endParaRPr>
          </a:p>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تتميز طريقة الاتفاقيات بقلة الإجراءات وبالتالي انخفاض المصروفات الإدارية ، ولذلك تتميز هذه الطريقة بانخفاض التكلفة بالمقارنة بالطريقة الاختيارية ، وهذا يشجع على منح شروط أفضل والحصول على عمولة إعادة تأمين أكبر من مثيلتها فى الطريقة الاختيارية . </a:t>
            </a:r>
            <a:endParaRPr b="0" lang="en-US" sz="2800" spc="-1" strike="noStrike">
              <a:solidFill>
                <a:srgbClr val="ffffff"/>
              </a:solidFill>
              <a:latin typeface="Tahoma"/>
            </a:endParaRPr>
          </a:p>
          <a:p>
            <a:pPr marL="277560" indent="-2775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6</a:t>
            </a:r>
            <a:r>
              <a:rPr b="1" lang="ar-EG" sz="2400" spc="-1" strike="noStrike">
                <a:solidFill>
                  <a:srgbClr val="ffffff"/>
                </a:solidFill>
                <a:latin typeface="Tahoma"/>
              </a:rPr>
              <a:t>) تقسيمات الخطر</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ن حياة الإنسان مليئة بالأخطار، ونظراً لتعدد وكثرة الأخطار التي يتعرض له الإنسان، فإنه من الصعب وضع تقسيمات محددة لها ما لم تكن تستند إلى أساس علمي معين.</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ويمكن تقسيم الأخطار من حيث نتائج تحققها إلى نوعين رئيسين وهما:</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أخطار المعنوية</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أخطار لا تسبب ربحاً أو خسارة بصورة مباشرة، ولكن تسبب خسارة معنوية فقط، مثال ذلك حالة عدم التأكد من بقاء صديق عزيز على قيد الحياة أو حالة عدم التأكد من بقاء فنان مشهور على قيد الحياة، مثل هذه الأخطار تخرج عن نطاق دراسة الخطر والتأمين وقد يهتم بدراستها علم النفس والفلسفة والاجتماع.</a:t>
            </a:r>
            <a:endParaRPr b="0" lang="en-US" sz="2400" spc="-1" strike="noStrike">
              <a:solidFill>
                <a:srgbClr val="ffffff"/>
              </a:solidFill>
              <a:latin typeface="Tahoma"/>
            </a:endParaRPr>
          </a:p>
          <a:p>
            <a:pPr marL="3189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2" name=""/>
          <p:cNvSpPr txBox="1"/>
          <p:nvPr/>
        </p:nvSpPr>
        <p:spPr>
          <a:xfrm>
            <a:off x="457200" y="1599840"/>
            <a:ext cx="8229600" cy="5257800"/>
          </a:xfrm>
          <a:prstGeom prst="rect">
            <a:avLst/>
          </a:prstGeom>
          <a:noFill/>
          <a:ln w="0">
            <a:noFill/>
          </a:ln>
        </p:spPr>
        <p:txBody>
          <a:bodyPr anchor="t">
            <a:normAutofit fontScale="97000"/>
          </a:bodyPr>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3</a:t>
            </a:r>
            <a:r>
              <a:rPr b="0" lang="ar-EG" sz="2400" spc="-1" strike="noStrike">
                <a:solidFill>
                  <a:srgbClr val="ffffff"/>
                </a:solidFill>
                <a:latin typeface="Tahoma"/>
              </a:rPr>
              <a:t>. تتضمن الاتفاقية عمليات كثيرة منتظمة ومستمرة بما يساعد على تحقيق قانون الأعداد الكبيرة من ناحية، كما يشجع على إنشاء هيئات متخصصة فى إعادة التأمين من ناحية أخرى. </a:t>
            </a:r>
            <a:endParaRPr b="0" lang="en-US" sz="2400" spc="-1" strike="noStrike">
              <a:solidFill>
                <a:srgbClr val="ffffff"/>
              </a:solidFill>
              <a:latin typeface="Tahoma"/>
            </a:endParaRPr>
          </a:p>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4</a:t>
            </a:r>
            <a:r>
              <a:rPr b="0" lang="ar-EG" sz="2400" spc="-1" strike="noStrike">
                <a:solidFill>
                  <a:srgbClr val="ffffff"/>
                </a:solidFill>
                <a:latin typeface="Tahoma"/>
              </a:rPr>
              <a:t> . إتاحة الفرصة أمام فروع وتوكيلات الشركة المباشرة لممارسة عملها فى حرية تامة دون الرجوع إلى المركز الرئيسي للشركة للحصول على تأكيد بوجود تغطية إضافية أو إمكانية عمل تغطية إضافية مع هيئة إعادة تأمين وذلك قبل قبول العملية . </a:t>
            </a:r>
            <a:endParaRPr b="0" lang="en-US" sz="2400" spc="-1" strike="noStrike">
              <a:solidFill>
                <a:srgbClr val="ffffff"/>
              </a:solidFill>
              <a:latin typeface="Tahoma"/>
            </a:endParaRPr>
          </a:p>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بالرغم من المميزات السابقة فهناك نقد أو عيب يوجه لهذه الطريقة وهو غير موجود فى إعادة التأمين الاختياري، وهذا النقد يتلخص فى أن المؤمن الأصلي يكون ملزما بالتنازل عن جزء من عمليات الداخلة فى نطاق الاتفاقية حتى ولو كانت عمليات جيدة، ومن أخر تعتبر هيئة إعادة التأمين ملزمة بقبول جزء من عمليات المؤمن الأصلي الداخلي فى نطاق الاتفاقية حتى ولو كانت عمليات خطرة أو مرتفعة الخطورة. </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4"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لثا : طريقة الحساب المشترك ( نظام المجمع ) : </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ى بعض العمليات التأمينية ذات درجات الخطورة المرتفعة مثل:</a:t>
            </a:r>
            <a:r>
              <a:rPr b="0" lang="en-US" sz="2800" spc="-1" strike="noStrike">
                <a:solidFill>
                  <a:srgbClr val="ffffff"/>
                </a:solidFill>
                <a:latin typeface="Tahoma"/>
              </a:rPr>
              <a:t> )</a:t>
            </a:r>
            <a:r>
              <a:rPr b="0" lang="ar-EG" sz="2800" spc="-1" strike="noStrike">
                <a:solidFill>
                  <a:srgbClr val="ffffff"/>
                </a:solidFill>
                <a:latin typeface="Tahoma"/>
              </a:rPr>
              <a:t>أخطار الطيران – أخطار الذرة – أخطار الحروب والزلازل والبراكين – أخطار الوحدات الكبيرة ) والتي ترفض عادة شركات التأمين المباشر قبول التأمين عليها لسببين : أولهما : ارتفاع خطورة هذه العمليات، وثانيهما: عدم توافر الخبرة والبيانات الكافية للتنبؤ الدقيق بنتائجها وبالتالي صعوبة حساب أقساطها بدقة مقدار من ناحية أخرى، لذلك تعقد مجموعة من شركات التأمين اتفاقية فيما بينهما تحدد ما يلي : </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6"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إنشاء حساب مشترك لجميع العمليات التى تفقدها الشركات تجاه بعض الأخطار المحددة فى الاتفاقية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تحديد النسبة التى تغطيها كل شركة من العمليات الداخلة فى نطاق الاتفاقية أو المجمعة أو الحساب المشترك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 توزيع الأقساط المجمعة على الشركات المختلفة الداخلة فى نطاق الاتفاقية على أساس النسب السابقة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a:t>
            </a:r>
            <a:r>
              <a:rPr b="0" lang="ar-EG" sz="2800" spc="-1" strike="noStrike">
                <a:solidFill>
                  <a:srgbClr val="ffffff"/>
                </a:solidFill>
                <a:latin typeface="Tahoma"/>
              </a:rPr>
              <a:t> . توزيع الخسائر بين الشركات المختلفة على أساس النسب السابقة.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5</a:t>
            </a:r>
            <a:r>
              <a:rPr b="0" lang="ar-EG" sz="2800" spc="-1" strike="noStrike">
                <a:solidFill>
                  <a:srgbClr val="ffffff"/>
                </a:solidFill>
                <a:latin typeface="Tahoma"/>
              </a:rPr>
              <a:t>. تحديد نسبة العمولة للشركة التى حصلت على العملية الأصلية.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88"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ـ أكتب باختصار عن مفهوم الخطر </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ـ ما هو الفرق بين الخطر والحادث؟</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ـ أكتب عن الخسارة وعن أقسامها المختلفة.</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a:t>
            </a:r>
            <a:r>
              <a:rPr b="0" lang="ar-EG" sz="2800" spc="-1" strike="noStrike">
                <a:solidFill>
                  <a:srgbClr val="ffffff"/>
                </a:solidFill>
                <a:latin typeface="Tahoma"/>
              </a:rPr>
              <a:t> ـ أكتب عن طرق وأساليب مواجهة الخطر.</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5</a:t>
            </a:r>
            <a:r>
              <a:rPr b="0" lang="ar-EG" sz="2800" spc="-1" strike="noStrike">
                <a:solidFill>
                  <a:srgbClr val="ffffff"/>
                </a:solidFill>
                <a:latin typeface="Tahoma"/>
              </a:rPr>
              <a:t> ـ أكتب عن إدارة الخطر، كذلك عن أهم وظائف مدير الأخطار.</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6</a:t>
            </a:r>
            <a:r>
              <a:rPr b="0" lang="ar-EG" sz="2800" spc="-1" strike="noStrike">
                <a:solidFill>
                  <a:srgbClr val="ffffff"/>
                </a:solidFill>
                <a:latin typeface="Tahoma"/>
              </a:rPr>
              <a:t> ـ أكتب باختصار عن معنى التأمين وكيفية  عمل التأمين. </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7</a:t>
            </a:r>
            <a:r>
              <a:rPr b="0" lang="ar-EG" sz="2800" spc="-1" strike="noStrike">
                <a:solidFill>
                  <a:srgbClr val="ffffff"/>
                </a:solidFill>
                <a:latin typeface="Tahoma"/>
              </a:rPr>
              <a:t>ـ اكتب عن وظائف التأمين.</a:t>
            </a:r>
            <a:endParaRPr b="0" lang="en-US" sz="2800" spc="-1" strike="noStrike">
              <a:solidFill>
                <a:srgbClr val="ffffff"/>
              </a:solidFill>
              <a:latin typeface="Tahoma"/>
            </a:endParaRPr>
          </a:p>
          <a:p>
            <a:pPr marL="335880" indent="-33588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0" name=""/>
          <p:cNvSpPr txBox="1"/>
          <p:nvPr/>
        </p:nvSpPr>
        <p:spPr>
          <a:xfrm>
            <a:off x="457200" y="1599840"/>
            <a:ext cx="8229600" cy="4900680"/>
          </a:xfrm>
          <a:prstGeom prst="rect">
            <a:avLst/>
          </a:prstGeom>
          <a:noFill/>
          <a:ln w="0">
            <a:noFill/>
          </a:ln>
        </p:spPr>
        <p:txBody>
          <a:bodyPr anchor="t">
            <a:normAutofit fontScale="84000"/>
          </a:bodyPr>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8</a:t>
            </a:r>
            <a:r>
              <a:rPr b="0" lang="ar-EG" sz="2800" spc="-1" strike="noStrike">
                <a:solidFill>
                  <a:srgbClr val="ffffff"/>
                </a:solidFill>
                <a:latin typeface="Tahoma"/>
              </a:rPr>
              <a:t> ـ ما هي الشروط الواجب توافرها حتى يكون الخطر قابلاً للتأمين، وما هي الأخطار التي لا يجيز القانون التأمين ضد وقوعها؟</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9</a:t>
            </a:r>
            <a:r>
              <a:rPr b="0" lang="ar-EG" sz="2800" spc="-1" strike="noStrike">
                <a:solidFill>
                  <a:srgbClr val="ffffff"/>
                </a:solidFill>
                <a:latin typeface="Tahoma"/>
              </a:rPr>
              <a:t> ـ ما هي المبادئ الأساسية القانونية للتأمين؟</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0</a:t>
            </a:r>
            <a:r>
              <a:rPr b="0" lang="ar-EG" sz="2800" spc="-1" strike="noStrike">
                <a:solidFill>
                  <a:srgbClr val="ffffff"/>
                </a:solidFill>
                <a:latin typeface="Tahoma"/>
              </a:rPr>
              <a:t> ـ ما هي السمات الخاصة بأخطار الحياة والوفاة ووثائق تأمينها؟</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1</a:t>
            </a:r>
            <a:r>
              <a:rPr b="0" lang="ar-EG" sz="2800" spc="-1" strike="noStrike">
                <a:solidFill>
                  <a:srgbClr val="ffffff"/>
                </a:solidFill>
                <a:latin typeface="Tahoma"/>
              </a:rPr>
              <a:t> ـ ما هي مجموعة الوثائق التي تغطي خطر الوفاة؟</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2</a:t>
            </a:r>
            <a:r>
              <a:rPr b="0" lang="ar-EG" sz="2800" spc="-1" strike="noStrike">
                <a:solidFill>
                  <a:srgbClr val="ffffff"/>
                </a:solidFill>
                <a:latin typeface="Tahoma"/>
              </a:rPr>
              <a:t> ـ ما هي مجموعة الوثائق التي تغطي خطر الحياة (خطر طول البقاء)؟</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3</a:t>
            </a:r>
            <a:r>
              <a:rPr b="0" lang="ar-EG" sz="2800" spc="-1" strike="noStrike">
                <a:solidFill>
                  <a:srgbClr val="ffffff"/>
                </a:solidFill>
                <a:latin typeface="Tahoma"/>
              </a:rPr>
              <a:t> ـ ما هو المقصود بالتأمينات العامة؟ أكتب عن أقسام هذه التأمينات.</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4</a:t>
            </a:r>
            <a:r>
              <a:rPr b="0" lang="ar-EG" sz="2800" spc="-1" strike="noStrike">
                <a:solidFill>
                  <a:srgbClr val="ffffff"/>
                </a:solidFill>
                <a:latin typeface="Tahoma"/>
              </a:rPr>
              <a:t> ـ أكتب عن الخسائر المالية ا لمباشرة والخسائر المالية غير المباشرة المترتبة عن حادثة حريق.</a:t>
            </a:r>
            <a:endParaRPr b="0" lang="en-US" sz="2800" spc="-1" strike="noStrike">
              <a:solidFill>
                <a:srgbClr val="ffffff"/>
              </a:solidFill>
              <a:latin typeface="Tahoma"/>
            </a:endParaRPr>
          </a:p>
          <a:p>
            <a:pPr marL="288000" indent="-2880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2"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5</a:t>
            </a:r>
            <a:r>
              <a:rPr b="0" lang="ar-EG" sz="2800" spc="-1" strike="noStrike">
                <a:solidFill>
                  <a:srgbClr val="ffffff"/>
                </a:solidFill>
                <a:latin typeface="Tahoma"/>
              </a:rPr>
              <a:t> ـ ما هي السمات التي يتسم بها تأمين النقل الجوي؟ أكتب بإيجاز عن كل منها.</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6</a:t>
            </a:r>
            <a:r>
              <a:rPr b="0" lang="ar-EG" sz="2800" spc="-1" strike="noStrike">
                <a:solidFill>
                  <a:srgbClr val="ffffff"/>
                </a:solidFill>
                <a:latin typeface="Tahoma"/>
              </a:rPr>
              <a:t>ـ أكتب باختصار عن الأخطار البحر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7</a:t>
            </a:r>
            <a:r>
              <a:rPr b="0" lang="ar-EG" sz="2800" spc="-1" strike="noStrike">
                <a:solidFill>
                  <a:srgbClr val="ffffff"/>
                </a:solidFill>
                <a:latin typeface="Tahoma"/>
              </a:rPr>
              <a:t> ـ أكتب عن باختصار أقسام الخسائر البحر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8</a:t>
            </a:r>
            <a:r>
              <a:rPr b="0" lang="ar-EG" sz="2800" spc="-1" strike="noStrike">
                <a:solidFill>
                  <a:srgbClr val="ffffff"/>
                </a:solidFill>
                <a:latin typeface="Tahoma"/>
              </a:rPr>
              <a:t> ـ ما هي أقسام وثائق التأمين البحري بالنسبة للشيء موضوع التأمين؟</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9</a:t>
            </a:r>
            <a:r>
              <a:rPr b="0" lang="ar-EG" sz="2800" spc="-1" strike="noStrike">
                <a:solidFill>
                  <a:srgbClr val="ffffff"/>
                </a:solidFill>
                <a:latin typeface="Tahoma"/>
              </a:rPr>
              <a:t> ـ ما هي أقسام وثائق التأمين  البحري طبقاً لمدة التغط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0</a:t>
            </a:r>
            <a:r>
              <a:rPr b="0" lang="ar-EG" sz="2800" spc="-1" strike="noStrike">
                <a:solidFill>
                  <a:srgbClr val="ffffff"/>
                </a:solidFill>
                <a:latin typeface="Tahoma"/>
              </a:rPr>
              <a:t>ـ أكتب عن أهمية هيئات التأمين للاقتصاد القومي؟</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1</a:t>
            </a:r>
            <a:r>
              <a:rPr b="0" lang="ar-EG" sz="2800" spc="-1" strike="noStrike">
                <a:solidFill>
                  <a:srgbClr val="ffffff"/>
                </a:solidFill>
                <a:latin typeface="Tahoma"/>
              </a:rPr>
              <a:t>ـ أكتب عن الخصائص المميزة لهيئات التأمين؟</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2</a:t>
            </a:r>
            <a:r>
              <a:rPr b="0" lang="ar-EG" sz="2800" spc="-1" strike="noStrike">
                <a:solidFill>
                  <a:srgbClr val="ffffff"/>
                </a:solidFill>
                <a:latin typeface="Tahoma"/>
              </a:rPr>
              <a:t> ـ ما هي أنواع هيئات التأمين؟</a:t>
            </a:r>
            <a:endParaRPr b="0" lang="en-US" sz="2800" spc="-1" strike="noStrike">
              <a:solidFill>
                <a:srgbClr val="ffffff"/>
              </a:solidFill>
              <a:latin typeface="Tahom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3</a:t>
            </a:r>
            <a:r>
              <a:rPr b="0" lang="ar-EG" sz="2800" spc="-1" strike="noStrike">
                <a:solidFill>
                  <a:srgbClr val="ffffff"/>
                </a:solidFill>
                <a:latin typeface="Tahoma"/>
              </a:rPr>
              <a:t> ـ رغم أن شركات التأمين تقوم بحساب أسعار التأمين على أسس فنية وإحصائية يراعي فيها كل عوامل الأمان، إلاّ أنه من الناحية العملية لا تستطيع شركات التأمين الاعتماد على ذلك والاحتفاظ لنفسها بكل الأخطار التي تقبل التأمين عليها .. أكتب عن أسباب ذلك.</a:t>
            </a:r>
            <a:endParaRPr b="0" lang="en-US" sz="2800" spc="-1" strike="noStrike">
              <a:solidFill>
                <a:srgbClr val="ffffff"/>
              </a:solidFill>
              <a:latin typeface="Tahom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4</a:t>
            </a:r>
            <a:r>
              <a:rPr b="0" lang="ar-EG" sz="2800" spc="-1" strike="noStrike">
                <a:solidFill>
                  <a:srgbClr val="ffffff"/>
                </a:solidFill>
                <a:latin typeface="Tahoma"/>
              </a:rPr>
              <a:t> ـ ما هي وظائف المادة التأمين للمؤمن الأصلي؟</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تجدر الإشارة إلى أن خطر الوفاة هو خطر معنوي ومع ذلك يمكن التأمين ضد الوفاة بشرط أن يكون للمستفيد مصلحة تأمينية في بقاء المؤمن عليه على قيد الحياة.</a:t>
            </a:r>
            <a:endParaRPr b="0" lang="en-US" sz="2800" spc="-1" strike="noStrike">
              <a:solidFill>
                <a:srgbClr val="ffffff"/>
              </a:solidFill>
              <a:latin typeface="Tahoma"/>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الأخطار الاقتصادية</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تلك الأخطار التي ينتج عن تحقق مسبباتها خسارة مالية أو اقتصادية مثل خطر الحريق أو خطر الوفاة، وجدير بالذكر أن هناك بعض الحالات يصعب فيها الفصل بين الأخطار المعنوية والأخطار الاقتصادية، مثال ذلك خطر وفاة رب الأسرة الذي ينطوي على خطر معنوي يتمثل في عاطفة أفراد الأسرة تجاه الوالد، ويتضمن أيضاً خطراً مادياً يتمثل في انقطاع دخل أفراد الأس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وتنقسم الأخطار الاقتصادية من حيث طبيعة أو سبب نشأتها إلى قسمين هما الأخطار التجارية والأخطار البحتة.</a:t>
            </a: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أخطار التجارية</a:t>
            </a:r>
            <a:endParaRPr b="0" lang="en-US" sz="2400" spc="-1" strike="noStrike">
              <a:solidFill>
                <a:srgbClr val="ffffff"/>
              </a:solidFill>
              <a:latin typeface="Tahoma"/>
            </a:endParaRPr>
          </a:p>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أحياناً يطلق عليها "أخطار المضاربة" وهي أخطار يتسبب في نشأتها ظواهر يخلقها الإنسان ينفسه ولنفسه، وأن كان لا يعلم بنتائج تحققها مقدماً، فقد يؤدي تحقق مثل هذه الأخطار إلى ربح أو خسارة مادية، وعادة ما يقبل الأفراد أو المنشآت على مثل هذه الأخطار بمحض إيراداتهم، ومن أمثلة هذه الأخطار المضاربة على الأسهم في سوق الأوراق المالية، فالمستثمر الذي يشتري أسهم منشأة معينة قد يحقق ربحاً كبيراً إذا ارتفع سعر هذه الأسهم أو قد يتحمل بسبب ذلك خسائر كبيرة إذا انخفض سعر هذا النوع من الأسهم، كذلك التاجر الذي يشتري بضاعة بقصد إعادة بيعها فقد يحقق ربحاً وفيراً أو قد يتحمل خسارة في حالات أخر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لذلك تنشأ أخطار المضاربة عادة عند قيام الأفراد والمنشآت بأعمال الاستثمار والإنتاج، ومثل هذه الأخطار تخرج عن نطاق دراسة الخطر والتأمين ويختص بدراستها علوم إدارة الأعمال والمحاسبة والاقتصاد.</a:t>
            </a:r>
            <a:endParaRPr b="0" lang="en-US" sz="2400" spc="-1" strike="noStrike">
              <a:solidFill>
                <a:srgbClr val="ffffff"/>
              </a:solidFill>
              <a:latin typeface="Tahoma"/>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الأخطار البحتة</a:t>
            </a:r>
            <a:endParaRPr b="0" lang="en-US" sz="2400" spc="-1" strike="noStrike">
              <a:solidFill>
                <a:srgbClr val="ffffff"/>
              </a:solidFill>
              <a:latin typeface="Tahoma"/>
            </a:endParaRPr>
          </a:p>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أخطار ينتج عن تحقق مسبباتها خسارة مالية فقط ولا تنطوي على أي فرص للربح، ومن أمثلتها أخطار الوفاة والعجز والشيخوخة والمرض والبطالة والحريق  والسرقة وغيرها، مثل هذه الأخطار تعتبر أخطار بحته، حيث أن وقوعها يؤدي إلى وجود خسارة مالية فقط بالنسبة للأشخاص والمنشآت أو في الممتلكات، وكما أن ما يرتكبه الأشخاص من أخطار قد تسبب وقوع أخطار ينتج عنها خسارة مالية تصيب الغير تعتبر من قبيل الأخطار البحتة أيض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نتج مثل هذه الأخطار عن ظواهر طبيعية أو عامة أو تقع بفعل خارج عن إرادة الأشخاص، ورغم أن هذه الأخطار لا قدرة للإنسان على منع تحقق بعضها (مثل الوفاة) أو تجنبها (مثل البطالة)، إلا أنه يسعى دائماً لحماية نفسه منها. وذلك بالتقليل من أسباب وقوعها بقدر الإمكان أو محاولة التحكم في الظواهر التي تسببها إن أمكن، وهذا أمر مقبول عملياً.</a:t>
            </a:r>
            <a:endParaRPr b="0" lang="en-US" sz="3200" spc="-1" strike="noStrike">
              <a:solidFill>
                <a:srgbClr val="ffffff"/>
              </a:solidFill>
              <a:latin typeface="Tahoma"/>
            </a:endParaRPr>
          </a:p>
          <a:p>
            <a:pPr marL="281160" indent="-28116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يهتم علم الخطر والتأمين بدراسة مثل هذه الأخطار، وذلك لأن الوظيفة الأساسية لشركات التأمين هي التعويض عن الخسائر المادية التي تقع للأشخاص أو الممتلكات أو الغي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1</a:t>
            </a:r>
            <a:r>
              <a:rPr b="1" lang="ar-EG" sz="2800" spc="-1" strike="noStrike">
                <a:solidFill>
                  <a:srgbClr val="ffffff"/>
                </a:solidFill>
                <a:latin typeface="Tahoma"/>
              </a:rPr>
              <a:t>) مفهوم الخطر</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ندما يتحدث شخص ما عن وجود خطر في موقف معين، فإنه يفهم من ذلك أن هناك حالة من عدم التأكد من نتيجة هذا الموقف أو أن هناك احتمالاً لحدوث نتائج غير مواتية عند تحقق هذا الموقف.</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نظراً لأن الإنسان يتعرض في حياته إلى العديد من الموقف التي تستدعى إتخاذ قرارات معينة، فيمكن القول بأن الخطر يعني حالة عدم التأكد من النتيجة النهائية للقرارات التي يتخذها الفرد في نواحي شتى قد تتعلق به شخصياً أو بعمله أو بممتلكاته أو بأسرته أو بالمجتمع الذي يعيش فيه.</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u="sng">
                <a:solidFill>
                  <a:srgbClr val="ffffff"/>
                </a:solidFill>
                <a:uFillTx/>
                <a:latin typeface="Tahoma"/>
              </a:rPr>
              <a:t>وتنقسم الأخطار البحتة عملياً إلى:</a:t>
            </a:r>
            <a:endParaRPr b="0" lang="en-US" sz="2400" spc="-1" strike="noStrike">
              <a:solidFill>
                <a:srgbClr val="ffffff"/>
              </a:solidFill>
              <a:latin typeface="Tahoma"/>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أخطار الأشخاص</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تشمل مجموعة من مصادر الأخطار التي يقع أثره على الأشخاص بصورة مباشرة كالوفاة المبكرة والمرض والبطالة والشيخوخة والإصابة الناتجة عن وقوع حادث معين، لاشك أن وقوع هذه الأخطار يسبب خسارة مادية تصيب الدخل، حيث إنها تؤدي إلى انقطاعه بصورة جزئية أو كاملة.</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أخطار للممتلكات</a:t>
            </a:r>
            <a:endParaRPr b="0" lang="en-US" sz="2400" spc="-1" strike="noStrike">
              <a:solidFill>
                <a:srgbClr val="ffffff"/>
              </a:solidFill>
              <a:latin typeface="Tahoma"/>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الأخطار التي إذا تحققت، تحدث خسائر مباشرة في ممتلكات الأشخاص (منقولة أو ثابتة) سواء كانت عقارات أو آلات أو ماشية أو بضائع، ويقلل ذلك من دخلها أو فاعلية أدائها أو نقص فيها أو زوالها ومن أمثلتها أخطار الحريق والانفجار والسطو والسرقة ومرض أو موت المواشي والفيضانات والزلاز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أخطار المسئولية المدنية</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أخطار يتسبب في تحققها شخص معين، وينتج عن هذا التحقق إصابة الغير بضرر مادي في شخصه أو ممتلكاته أو في الاثنين معاً، ويكون الشخص مسئولاً أمام القانون في عملية التعويض عن هذا الخسائر مما يؤدي إلى نقص في ثروته وليس في شخصه أو ممتلكاته، كما أنها قد تؤدي إلى تأثير على المركز المالي للشخص، ومن هنا يطلق عليها البضائع "أخطار الثروات" ومن أمثلتها أخطرا المسئولية المدنية عن حوادث السيارات والتي تؤدي إلى خسائر مادية تلحق بالغير (في شخصه أو ممتلكاته) ويكون مسئولاً عنها صاحب السيا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مكن تصنيف طرق مواجهة الخطر إلى خمس طرق رئيسية هي:</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جنب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احتفاظ ب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وزيع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خفيض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ويل الخطر</a:t>
            </a:r>
            <a:r>
              <a:rPr b="0" lang="es-ES_tradnl" sz="3200" spc="-1" strike="noStrike">
                <a:solidFill>
                  <a:srgbClr val="ffffff"/>
                </a:solidFill>
                <a:latin typeface="Tahoma"/>
                <a:ea typeface="SimSun"/>
              </a:rPr>
              <a:t>.</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تجنب الخطر</a:t>
            </a:r>
            <a:endParaRPr b="0" lang="en-US" sz="2400" spc="-1" strike="noStrike">
              <a:solidFill>
                <a:srgbClr val="ffffff"/>
              </a:solidFill>
              <a:latin typeface="Tahoma"/>
            </a:endParaRPr>
          </a:p>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في هذه الطريقة لا يتم التعامل مع الأخطار وتستبعد أي قرارات قد تؤدي إلى نشأة الخطر حيث يتم الهروب من مواجهة الأخطار، من أمثلة ذلك تجنب الاستثمار في وعاء إدخاري معين وتفضيل وعاء إدخاري آخر أقل خطورة، تجنب الخطر يقلل من احتمال وقوع الخطر إلى الصفر إلا أنه قد يحرم المجتمع من إنتاج سلع معينة أو تقديم خدمات معينة لتجنب المسئولية أو الخوف من الخسارة.</a:t>
            </a:r>
            <a:endParaRPr b="0" lang="en-US" sz="2400" spc="-1" strike="noStrike">
              <a:solidFill>
                <a:srgbClr val="ffffff"/>
              </a:solidFill>
              <a:latin typeface="Tahoma"/>
            </a:endParaRPr>
          </a:p>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طريقة أو أسلوب تجنب الخطر هو أسلوب سلبي في التعامل مع الأخطار، وهذا الأسلوب قد يصلح في حالة الأخطار الكبيرة الحجم جداً مع ارتفاع حجم الخسارة المالية المتوقعة، تظهر تكلفة هذا الأسلوب في الأرباح الضائعة على المنشأة الاقتصادية لعدم إتخاذها القرار الاقتصادي الذي من شأنه التعامل مع الخطر بطريقة إيجاب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الاحتفاظ بالخطر:</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صد بطريقة أو أسلوب الاحتفاظ بالخطر، أن الفرد يقع على عاتقه تحمل ظاهرة الخطر عند حدوثه، وتعد هذه الطريقة من أكثر طرق مواجهة الخطر شيوعاً، ذلك أن الفرد غالبا يواجه عددا كبيرا من الأخطار، وفي معظم الأحوال لا يتخذ الفرد إجراء إيجابي لتجنب أو تقليل الخطر، طريقة الاحتفاظ بالخطر قد تستخدم في حالة الأخطار الصغيرة الحجم النادرة الحدوث على أن تكون الموارد الطبيعية لصاحب الخطر (سواء كان شخص طبيعي أو اعتباري) كافية لمواجهة الخسائر الناشئة عن تحقق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SimSun"/>
              </a:rPr>
              <a:t>3</a:t>
            </a:r>
            <a:r>
              <a:rPr b="1" lang="ar-EG" sz="2800" spc="-1" strike="noStrike">
                <a:solidFill>
                  <a:srgbClr val="ffffff"/>
                </a:solidFill>
                <a:latin typeface="Tahoma"/>
              </a:rPr>
              <a:t> ـ توزيع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حدى طرق مواجهة الخطر هي أن يتم توزيع الخطر أو المشاركة فيه، مثال ذلك حالة الاتفاق بين مجموعة من رجال الأعمال على المشاركة في تحمل الأخطار بأن يتم تجميع استثماراتهم بحيث يتحمل كل منهم نسبة من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SimSun"/>
              </a:rPr>
              <a:t>4</a:t>
            </a:r>
            <a:r>
              <a:rPr b="1" lang="ar-EG" sz="2800" spc="-1" strike="noStrike">
                <a:solidFill>
                  <a:srgbClr val="ffffff"/>
                </a:solidFill>
                <a:latin typeface="Tahoma"/>
              </a:rPr>
              <a:t> ـ تخفيض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صد بتخفيض الخطر اتخاذ جميع الإجراءات الممكنة لمنع أو تقليل فرص تحقق مسببات الخطر والحد من تأثيرها في حالة تحققها وذلك باستخدام مختلف الأساليب العلمية والتكنولوجية والوسائل الفنية التي من شأنها تقليل فرص حدوث ظاهرة الخطر كذلك التقليل من حجم الخسارة المتوقعة الناشئة عن حدوث تلك الظاه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5</a:t>
            </a:r>
            <a:r>
              <a:rPr b="1" lang="ar-EG" sz="2400" spc="-1" strike="noStrike">
                <a:solidFill>
                  <a:srgbClr val="ffffff"/>
                </a:solidFill>
                <a:latin typeface="Tahoma"/>
              </a:rPr>
              <a:t> ـ تحويل الخطر:</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بمقتضى هذه الطريقة يمكن مواجهة الخطر عن طريق تحويله أو نقله إلى طرف آخره نظير دفع مقابل معين لذلك الطرف مع احتفاظ صاحب الشيء موضوع الخطر الأصلي بملكية هذا الشيء، ويتحقق هذا التحويل بمقتضى عقود النقل أو عقود الإيجار أو عقود التشييد، كمثال على ذلك فإنه في حالة وجود شحنه معينة يرغب صاحبها في نقلها من مكان لآخر، فإنه يتم اتفاق بين صاحب الشحنة والشركة الناقلة وهذا الاتفاق يسمى عقد نقل ويمكن أن ينص العقد على مسئولية الشركة الناقلة عن الأخطار والخسائر المالية التي تحدث للبضائع المنقولة مثل التلف أو السرقة أو الحريق أو الغرق أو ما شابه ذلك من حوادث تصيب البضائع المنقولة براً أو بحراً أو جواً، في مقابل هذه المسئولية تضيف الشركة الناقلة إضافات مالية معينة إلى جانب الأجر العادي للنق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2</a:t>
            </a:r>
            <a:r>
              <a:rPr b="1" lang="ar-EG" sz="3200" spc="-1" strike="noStrike">
                <a:solidFill>
                  <a:srgbClr val="ffffff"/>
                </a:solidFill>
                <a:latin typeface="Tahoma"/>
              </a:rPr>
              <a:t>ـ</a:t>
            </a:r>
            <a:r>
              <a:rPr b="1" lang="ar-EG" sz="3200" spc="-1" strike="noStrike">
                <a:solidFill>
                  <a:srgbClr val="ffffff"/>
                </a:solidFill>
                <a:latin typeface="Tahoma"/>
              </a:rPr>
              <a:t>2</a:t>
            </a:r>
            <a:r>
              <a:rPr b="1" lang="ar-EG" sz="3200" spc="-1" strike="noStrike">
                <a:solidFill>
                  <a:srgbClr val="ffffff"/>
                </a:solidFill>
                <a:latin typeface="Tahoma"/>
              </a:rPr>
              <a:t>) إدارة الأخطار</a:t>
            </a:r>
            <a:endParaRPr b="0" lang="en-US" sz="3200" spc="-1" strike="noStrike">
              <a:solidFill>
                <a:srgbClr val="ffffff"/>
              </a:solidFill>
              <a:latin typeface="Tahoma"/>
            </a:endParaRPr>
          </a:p>
          <a:p>
            <a:pPr marL="301680" indent="-3016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إدارة الأخطار هي الأسلوب العلمي والعملي لمواجهة الأخطار الاقتصادية التي يتعرض لها الأفراد والمنشآت بأفضل الوسائل وأقل التكاليف الممكنة وذلك عن طريق اكتشاف الأخطار، وتحليل هذه الأخطار وتحديد وسائل مواجهة الأخطار مع اختيار أنسب هذه الوسائل لتحقيق الهدف المنشود وهو منع الخطر أو تقليل فرصة حدوثه أو تقليل حجم الخسارة المالية المتوقعة أو مواجهة الخسائر المالية الناشئة عن تحقق ظاهرة الخطر في صورة حادث.</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طلق على القائم بإدارة الخطر عادة "مدير الأخطار" ويقصد بمدير الأخطار الشخص أو الهيئة التي تأخذ وعلى عاتقها التفكير في إدارة الأخطار أو إبداء النصيحة في الطريقة المثلى لإدارتها ومجابهتها المدير المالي في المشروع التجاري والمدير الفني في المشروع الصناعي يمكن أن يمارساً وظيفة مدير الأخطار كل في مجال قراراته واختصاصاته، كما يمكن أن يلجأ كل منهما إلى شخص أو هيئة متخصصة في إدارة الأخطار المالية والصناعية بإدارة أخطار المشروع.</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في البلاد المتقدمة صناعياً أصبحت وظيفة مدير الأخطار متبلورة ومتخصصة لدرجة أن المشروعات أصبحت تلجأ إلى فنيين متخصصين في مهنة إدارة الأخطار، وفي المشروعات التجارية والصناعية الكبيرة أصبحت وظيفة مدير الأخطار لا تقل أهمية عن وظيفة المدير المالي، وبذلك أصبحت إدارة الأخطار من الوظائف الإدارية الهام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وتنحصر أهم وظائف مدير الأخطار فيما يلي</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حديد أهداف إدارة الأخطار وتقرير احتياجات المنشأة من إدارة الخطر، وذلك يتضمن تجنب الخسائر الضخمة التي تعوق المنشأة من أداء أنشطتها المختلفة أو ينتج عنها إفلاس، وأيضاً حماية العاملين بالمنشأة من أخطار العمل مثل الوفاة أو الإصابة أو المرض.</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كتشاف الأخطار الخاصة بكل حالة وبكل عملية على حدة وذلك عن طريق دراسة النشاط الاقتصادي الخاص بالمشروع ودراسة القرارات  الواجب اتخاذها من حين لآخر بغرض الاستمرار في النشاط.</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على سبيل المثال قد يكون من السهل على الطالب أن يقرر اختيار إحدى الكليات أو المعاهد دون الأخرى ليكمل دراسته، ولكن من الصعب عليه أن يعرف مقدما نتيجة دراسته في الكلية التي اختارها أو نتيجة تخرجه منها بالنسبة للوظائف التي قد تكون متاحة له إذا قدر له النجاح، وكذلك التاجر الذي يقرر استثمار أمواله في تجارة معينة يصعب عليه معرفة نتائج أعماله مقدماً في نهاية فترة زمنية معينة، كما يصعب عليه مقارنة هذه النتائج بنتائج الأعمال الخاصة بالاستثمارات الأخرى من ناحية أخرى.</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ليل كل خطر من الأخطار التي تم اكتشافها ومعرفة طبيعية ومسبباته وعلاقته بالأخطار الأخرى.</a:t>
            </a:r>
            <a:endParaRPr b="0" lang="en-US" sz="3200" spc="-1" strike="noStrike">
              <a:solidFill>
                <a:srgbClr val="ffffff"/>
              </a:solidFill>
              <a:latin typeface="Tahoma"/>
            </a:endParaRPr>
          </a:p>
          <a:p>
            <a:pPr marL="609480" indent="-60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قياس درجة الخطورة واحتمال الحادث وتقدير أقصى خسارة متوقعة وتوقع الخسائر سواء الحاضر أو الأجل وعمل المقارنات اللازمة بكل خطر على حدة تم  ترتيب الأخطار الموجودة لدى الفرد أو المشرع ترتيباً علمياً سليم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درجة الخطر</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ختلف درجة الخطر بالنسبة لقرار معين وظاهرة معينة من حالة الأخرى ومن شخص لآخر. من الواضح أنه ليس هناك مقاييس مادية ملموسة لقياس درجة الخطورة التي هي درجة عدم التأكد أو الشك، حيث إنها تحتاج مقاييس معنوية مشابهة للخطر نفسه. فالشخص عندما يقتنع بقرار معين ويقرر اتخاذ إنما يكون ذلك بناء على حالة نفسية معينة وشعور معين بأن درجة الخطورة أقل ما يمكن بالنسبة لقراره والعكس صحيح.</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SimSun"/>
              </a:rPr>
              <a:t>	</a:t>
            </a:r>
            <a:r>
              <a:rPr b="0" lang="ar-EG" sz="2400" spc="-1" strike="noStrike">
                <a:solidFill>
                  <a:srgbClr val="ffffff"/>
                </a:solidFill>
                <a:latin typeface="Tahoma"/>
              </a:rPr>
              <a:t>حساب درجة الخطر حساباً كمياً ليس ممكناً إلا إذا وجدت مقاييس معنوية وقد بذلت محاولات عديدة لقياس درجة الخطورة، إلا أن النتيجة النهائية التي وصل إليها البعض هي تحديد حدود عليا وحدود دنيا لدرجة الخطر، والمقاييس المعنوية لحساب درجة الخطر تخرج عن نطاق المقرر الحالي</a:t>
            </a:r>
            <a:r>
              <a:rPr b="0" lang="es-ES_tradnl" sz="2400" spc="-1" strike="noStrike">
                <a:solidFill>
                  <a:srgbClr val="ffffff"/>
                </a:solidFill>
                <a:latin typeface="Tahoma"/>
                <a:ea typeface="SimSun"/>
              </a:rPr>
              <a:t>.</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حتمال الخسارة</a:t>
            </a:r>
            <a:endParaRPr b="0" lang="en-US" sz="3200" spc="-1" strike="noStrike">
              <a:solidFill>
                <a:srgbClr val="ffffff"/>
              </a:solidFill>
              <a:latin typeface="Tahoma"/>
            </a:endParaRPr>
          </a:p>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سبق أن ذكرنا أن تحقق الظاهرة الطبيعية ـ وهو ما يسمى بالحادث ـ هو الذي يؤثر مادياً على الأشخاص بشرط أن تلحق بهم من جراء ذلك خسارة مادية.</a:t>
            </a:r>
            <a:endParaRPr b="0" lang="en-US" sz="3200" spc="-1" strike="noStrike">
              <a:solidFill>
                <a:srgbClr val="ffffff"/>
              </a:solidFill>
              <a:latin typeface="Tahoma"/>
            </a:endParaRPr>
          </a:p>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احتمال حدوث الحادث وما يترتب عليه من وقوع الخسارة هو مقياس مادي يفيد في تقدير فرص الخسارة المنتظرة، وذلك التقدير يفيد في التعرف على درجة الخطر أو احتمال الخط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47" name="PlaceHolder 2"/>
          <p:cNvSpPr>
            <a:spLocks noGrp="1"/>
          </p:cNvSpPr>
          <p:nvPr>
            <p:ph/>
          </p:nvPr>
        </p:nvSpPr>
        <p:spPr>
          <a:xfrm>
            <a:off x="3995280" y="1483920"/>
            <a:ext cx="3970440" cy="334188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والأمثلة التالية توضح طرق حساب الخسارة في حالات مختلف</a:t>
            </a:r>
            <a:r>
              <a:rPr b="1" i="1" lang="ar-EG" sz="2800" spc="-1" strike="noStrike">
                <a:solidFill>
                  <a:srgbClr val="ffffff"/>
                </a:solidFill>
                <a:latin typeface="Tahoma"/>
              </a:rPr>
              <a:t>مثال (</a:t>
            </a:r>
            <a:r>
              <a:rPr b="1" i="1" lang="ar-EG" sz="2800" spc="-1" strike="noStrike">
                <a:solidFill>
                  <a:srgbClr val="ffffff"/>
                </a:solidFill>
                <a:latin typeface="Tahoma"/>
              </a:rPr>
              <a:t>1</a:t>
            </a:r>
            <a:r>
              <a:rPr b="1" i="1" lang="ar-EG" sz="2800" spc="-1" strike="noStrike">
                <a:solidFill>
                  <a:srgbClr val="ffffff"/>
                </a:solidFill>
                <a:latin typeface="Tahoma"/>
              </a:rPr>
              <a:t>):</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بيانات التالية يعطي الخسائر الناتجة بسبب الحريق لأحد المصانع خلال خمس سنوات متتالية</a:t>
            </a:r>
            <a:endParaRPr b="0" lang="en-US" sz="2800" spc="-1" strike="noStrike">
              <a:solidFill>
                <a:srgbClr val="ffffff"/>
              </a:solidFill>
              <a:latin typeface="Tahoma"/>
            </a:endParaRPr>
          </a:p>
          <a:p>
            <a:pPr marL="2811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48" name=""/>
          <p:cNvGraphicFramePr/>
          <p:nvPr/>
        </p:nvGraphicFramePr>
        <p:xfrm>
          <a:off x="826920" y="5084640"/>
          <a:ext cx="7859880" cy="1465560"/>
        </p:xfrm>
        <a:graphic>
          <a:graphicData uri="http://schemas.openxmlformats.org/drawingml/2006/table">
            <a:tbl>
              <a:tblPr/>
              <a:tblGrid>
                <a:gridCol w="1309680"/>
                <a:gridCol w="1310040"/>
                <a:gridCol w="1311120"/>
                <a:gridCol w="1309680"/>
                <a:gridCol w="1309680"/>
                <a:gridCol w="130968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سنوات</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9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قدار الخسارة</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المطلوب حساب كل من:</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توسط الخسارة </a:t>
            </a:r>
            <a:r>
              <a:rPr b="0" lang="en-US" sz="3200" spc="-1" strike="noStrike">
                <a:solidFill>
                  <a:srgbClr val="ffffff"/>
                </a:solidFill>
                <a:latin typeface="Tahoma"/>
                <a:ea typeface="SimSun"/>
              </a:rPr>
              <a:t>""</a:t>
            </a:r>
            <a:r>
              <a:rPr b="0" lang="ar-EG" sz="3200" spc="-1" strike="noStrike">
                <a:solidFill>
                  <a:srgbClr val="ffffff"/>
                </a:solidFill>
                <a:latin typeface="Tahoma"/>
              </a:rPr>
              <a:t> (القيمة المتوقعة للخسارة بالنسبة التالي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انحراف المعياري للخسار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عامل الاختلاف للخسارة </a:t>
            </a:r>
            <a:r>
              <a:rPr b="0" lang="en-US" sz="3200" spc="-1" strike="noStrike">
                <a:solidFill>
                  <a:srgbClr val="ffffff"/>
                </a:solidFill>
                <a:latin typeface="Tahoma"/>
                <a:ea typeface="SimSun"/>
              </a:rPr>
              <a:t>C.V</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 </a:t>
            </a:r>
            <a:r>
              <a:rPr b="1" lang="ar-EG" sz="2800" spc="-1" strike="noStrike">
                <a:solidFill>
                  <a:srgbClr val="ffffff"/>
                </a:solidFill>
                <a:latin typeface="Tahoma"/>
              </a:rPr>
              <a:t>1</a:t>
            </a:r>
            <a:r>
              <a:rPr b="1" lang="ar-EG" sz="2800" spc="-1" strike="noStrike">
                <a:solidFill>
                  <a:srgbClr val="ffffff"/>
                </a:solidFill>
                <a:latin typeface="Tahoma"/>
              </a:rPr>
              <a:t>) معنى التأمين</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تأمين ـ بوجه عام ـ هو إحدى الوسائل التي يعتمد عليها الأفراد لحماية أنفسهم من أخطار معينة قد تحيق بهم، كالحريق أو الفيضانات أو العواصف أو السرقة أو البطالة أو المرض أو الشيخوخة أو الوفاة...إلخ.</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قوم فكرة التأمين على أساس توزيع الخسائر المالية التي تصيب أحد الأشخاص على عدد كبير من الأشخاص المعرضين لنفس الخطر. </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كيفية عمل التأمين</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ثال الثاني يساعد على إيضاح فكرة التأمين والمبادئ الأساسية التي يتضمنها أي مشروع ل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نفرض أن هناك </a:t>
            </a:r>
            <a:r>
              <a:rPr b="0" lang="ar-EG" sz="2800" spc="-1" strike="noStrike">
                <a:solidFill>
                  <a:srgbClr val="ffffff"/>
                </a:solidFill>
                <a:latin typeface="Tahoma"/>
              </a:rPr>
              <a:t>1000</a:t>
            </a:r>
            <a:r>
              <a:rPr b="0" lang="ar-EG" sz="2800" spc="-1" strike="noStrike">
                <a:solidFill>
                  <a:srgbClr val="ffffff"/>
                </a:solidFill>
                <a:latin typeface="Tahoma"/>
              </a:rPr>
              <a:t> منزل في منطقة ما كلها مشيدة من نفس المواد ولها نفس القيمة المالية وكل منها قيمته خمسون ألف جنيه، فإذا احترق أحد هذه المنازل فإن مالكه سيعاني خسارة قدرها قيمة المنزل.</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SimSun"/>
              </a:rPr>
              <a:t>	</a:t>
            </a:r>
            <a:r>
              <a:rPr b="0" lang="ar-EG" sz="2800" spc="-1" strike="noStrike">
                <a:solidFill>
                  <a:srgbClr val="ffffff"/>
                </a:solidFill>
                <a:latin typeface="Tahoma"/>
              </a:rPr>
              <a:t>إذا كان احتمال احتراق مثل هذا المنزل خلال فترة زمنية معينة (ولتكن سنة مثلاً) صغيراً جداً، ووجد من التجربة الواقعية أن منزلاً واحداً يتعرض لخطر الحريق خلال سنة في تلك المنطقة، فإن احتمال تعرض كل مالك لخطر احتراق منزلة تكون ضئيلة، ومع ذلك فهناك احتمال احتراق أحد المنازل في المنطقة خلال السنة ولا يمكن التكهن أو التوقع مقدماً بأي من هذه المنازل سيحترق فعلاً وأيها لن يتعرض لمثل هذا الحريق</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ظل هذه الظروف فإنه يكون من مصلحة كل من الآلف مالك أن يتفقوا فيما بينهم على أنه عند حدوث الحريق فعلاً فإن كل منهم سيطالب بدفع مبلغ خمسون جنيهاً بدلاً من تحمل احتراق منزل ويترتب عليه خسارة جسيمة ويتحملها بمفرده وتبلغ خمسون ألف جنيه، والنتيجة هي أن كل مالك قد استبدل الخسارة الكبيرة المتوقعة بخسارة ضئيلة مؤكدة.</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ثل ذلك الاتفاق الذي تم شرحه قد يطلق عليه تأمين الحرق التبادلي الجماعي في صورة مبسطة وتحت هذا الاتفاق فإن مساهمة كل فرد في الخسارة تكون بعد وقوعها وغالباً ما يطلق على هذه المساهمة "التعويض".</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من أشكال الاتفاق الشائعة الاستخدام أن يقوم كل فرد في مجموعة الأفراد المعرضين لنفس الخطر يدفع ما يساهم به مقدماً، وفي مثل هذه الحالة تسمى مساهمة الفرد "القسط" ويقوم الشخص بدفع قيمة القسط عند الاتفاق وتتحدد قيمة القسط بناء على الخبرة السابقة للخطر والمؤمن ضده، كذلك فإنه بدلاً من أن يقوم الأشخاص بجمع الأقساط من كل منهم ودفع الخسائر المستحقة يقوم وسيط بهذه الأعمال وهذا الوسيط يسمى المؤمن </a:t>
            </a:r>
            <a:r>
              <a:rPr b="0" lang="en-US" sz="2400" spc="-1" strike="noStrike">
                <a:solidFill>
                  <a:srgbClr val="ffffff"/>
                </a:solidFill>
                <a:latin typeface="Tahoma"/>
                <a:ea typeface="SimSun"/>
              </a:rPr>
              <a:t>Insurer</a:t>
            </a:r>
            <a:r>
              <a:rPr b="0" lang="ar-EG" sz="2400" spc="-1" strike="noStrike">
                <a:solidFill>
                  <a:srgbClr val="ffffff"/>
                </a:solidFill>
                <a:latin typeface="Tahoma"/>
              </a:rPr>
              <a:t>، وقد يكون المؤمن شخصاً طبيعياً أو من خلال الشركة لمادة ما تأخذ شكل الشركة المساهمة ويكون عمل المؤمن هو جمع الأقساط من جميع الأفراد المعرضين لنفس الخطر المعين من الذين يرغبون في التأمين ضد هذا الخطر (عادة ما يسمى كل منهم بالمؤمن له) ومن المبالغ المتجمعة من هذه الأقساط يقوم المؤمن بدفع المطالبات </a:t>
            </a:r>
            <a:r>
              <a:rPr b="0" lang="en-US" sz="2400" spc="-1" strike="noStrike">
                <a:solidFill>
                  <a:srgbClr val="ffffff"/>
                </a:solidFill>
                <a:latin typeface="Tahoma"/>
                <a:ea typeface="SimSun"/>
              </a:rPr>
              <a:t>Chaims</a:t>
            </a:r>
            <a:r>
              <a:rPr b="0" lang="ar-EG" sz="2400" spc="-1" strike="noStrike">
                <a:solidFill>
                  <a:srgbClr val="ffffff"/>
                </a:solidFill>
                <a:latin typeface="Tahoma"/>
              </a:rPr>
              <a:t> التي يتقدم بها من تعرض لخسارة فعليه من بين المؤمن لهم بسبب وقوع الخطر المؤمن ضده.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بموجب هذا الاتفاق يقوم المؤمن بجمع الأقساط مقدماً بعد تحديد قيمة القسط الواجب دفعه بناء على الخبرة السابقة في ذلك المجال، فإذا كانت الأقساط المدفوعة أعلى من المطالبات حقق المؤمن ربحاً أما إذا كانت المطالبات أعلى من الأقساط من الأقساط المدفوعة فيمثل الفرق خسارة يحملها المؤمن طبقاً لهذا الاتفاق وبمعنى أخر فإن القسط طبقاً لهذا الاتفاق يكون مبلغاً ثابتاً لا يخضع للتعديل مهما تكون نتيجة التأمين.</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ستعمل لفظ الخطر في الحياة العامة في أكثر من حالة وبأكثر من معنى فمن حالات استعمالاته المختلفة الحالات النفسية التي تكون قد لازمت الأشخاص في الماضي، أو تلازمهم في الحاضر أو المستقبل، فمن الشائع أن يقول قائل أن خطر المرض قد داهمه في سن العشرين، ويقول آخر أنه واقع في خطر البطالة حالياً ويقول ثالث أن الاختلافات المستمرة مع شريكه يهدد بخطر انخفاض الدخل أو إفلاس الشرك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ا سبق يتضح الآت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ينما يقوم جميع ملاك المنازل المؤمن عليها بدفع الأقساط فإن التعويض لا يحصل عليه سوى هؤلاء المؤمن لهم الذين تتحقق لهم خسارة مادية خلال فترة التامين بسبب وقوع الخطر المؤمن ضده، ولهذا لا يكون منطقياً أن يدعى كل من المؤمن لهم أنه لم تتحقق لهم أي فائدة عند نهاية مدة التأمين حيث أنه لم يتحقق الخسارة المتوقعة وبالتالي لم تدفع لهم تعويضات ـ رغم أنهم قاموا بسداد الأقساط ـ وينبغي من وجهة نظرهم رد قيمة القسط لكل من لم تتحقق له خسارة، وهذا غير منطقي لأنه لو تحققت لكانت شركة التأمين غير قادرة على تعويض الخسارة لمن احترق منزله فعلاً من بين المؤمن له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4"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5544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بينما ينبغي أن يقوم كل مؤمن له بدفع نفس القسط فإنه من المحتم أن يكون الخطر المؤمن ضده متساوياً لكل منهم، فمثلاً في حالة التأمين ضد الحريق على المنازل ينبغي ان تكون المنازل مشيدة من نفس المواد وأن يكون كل منها معرض لخطر متساو فإذا اختلفت مواد بنائها فإن خطر الحريق لن يكون متساوياً في كل منها وفي هذه الحالة يجب أن يختلف القسط الواجب دفعه باختلاف الخط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تعريف التأمين</a:t>
            </a:r>
            <a:endParaRPr b="0" lang="en-US" sz="2800" spc="-1" strike="noStrike">
              <a:solidFill>
                <a:srgbClr val="ffffff"/>
              </a:solidFill>
              <a:latin typeface="Tahoma"/>
            </a:endParaRPr>
          </a:p>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وجد عدة تعاريف مختلفة للتأمين ولكننا نستطيع أن نستعرض فكرة هذه التعاريف المختلفة في نوعين رئيسين لتعريف التأمين وهما التعريف القانوني للتأمين والتعريف الفني.</a:t>
            </a:r>
            <a:endParaRPr b="0" lang="en-US" sz="2800" spc="-1" strike="noStrike">
              <a:solidFill>
                <a:srgbClr val="ffffff"/>
              </a:solidFill>
              <a:latin typeface="Tahoma"/>
            </a:endParaRPr>
          </a:p>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1" lang="ar-EG" sz="2800" spc="-1" strike="noStrike">
                <a:solidFill>
                  <a:srgbClr val="ffffff"/>
                </a:solidFill>
                <a:latin typeface="Tahoma"/>
              </a:rPr>
              <a:t>التعريف القانوني للتأمين</a:t>
            </a:r>
            <a:r>
              <a:rPr b="0" lang="ar-EG" sz="2800" spc="-1" strike="noStrike">
                <a:solidFill>
                  <a:srgbClr val="ffffff"/>
                </a:solidFill>
                <a:latin typeface="Tahoma"/>
              </a:rPr>
              <a:t>: يهتم التعريف القانوني للتأمين بالنظر إلى عقد التأمين كوسيلة قانونية يترتب عليها التزامات معينة وتنشأ حقوقاً معينة للطرفين المتعاقدين، حيث يبرز التعريف القانوني للتأمين العلاقة بين المؤمن والمؤمن له ويحدد التزامات كل طرف منهما والمزايا المترتبة على هذا التعاقد دون مراعاة للجانب الفني لعملية ا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مثلاً يعرف المشرع المصري التأمين بأن "التأمين عقد يلزم المؤمن بمقتضاه أن يؤدي إلى المؤمن له أو المستفيد الذي اشترط التأمين لصالحه مبلغاً من المال أو إيراداً مرتباً أو أي عوض مالي أخر في حالة وقوع الحادث أو تحقق الخطر المبين في العقد، وذلك نظير قسط أو أي مالية أخرى يؤديها المؤمن له للمؤمن.</a:t>
            </a:r>
            <a:endParaRPr b="0" lang="en-US" sz="2800" spc="-1" strike="noStrike">
              <a:solidFill>
                <a:srgbClr val="ffffff"/>
              </a:solidFill>
              <a:latin typeface="Tahoma"/>
            </a:endParaRPr>
          </a:p>
          <a:p>
            <a:pPr marL="305280" indent="-3052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1" lang="ar-EG" sz="2800" spc="-1" strike="noStrike">
                <a:solidFill>
                  <a:srgbClr val="ffffff"/>
                </a:solidFill>
                <a:latin typeface="Tahoma"/>
              </a:rPr>
              <a:t>التعريف الفني للتأمين</a:t>
            </a:r>
            <a:r>
              <a:rPr b="0" lang="ar-EG" sz="2800" spc="-1" strike="noStrike">
                <a:solidFill>
                  <a:srgbClr val="ffffff"/>
                </a:solidFill>
                <a:latin typeface="Tahoma"/>
              </a:rPr>
              <a:t>: ويهتم بإبراز الخصائص الفنية لعملية التأمين والوسيلة إلى يتبعها التأمين لتحقيق الهدف منه وهو تقليل الشعور بظاهرة عدم التأكد والمساعدة على اتخاذ القرار وعلى ذلك يمكن تعريف التأمين بأنه "وسيلة لتعويض الفرد عن الخسارة المالية التي تحل به نتيجة لوقوع خطر معين وذلك بواسطة توزيع هذه الخسارة على مجموعة كبيرة من الأفراد يكون جميعهم معرضين لهذا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الواقع نجد أن التعريف الذي يعتمد على الجانب القانوني فقط، أو الجانب الفني فقط تعريف ناقص حيث يجب أن يتضمن التعريف الشامل للتأمين الجانبين معاً.</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التعريف التالي يعتبر أحد التعاريف الشاملة للتأمين حيث روعى في هذا التعريف كل من الجانبين القانوني والفني،وهذا التعريف هو: "التأمين عملية بمقتضاها يحصل أحد الأطراف وهو المؤمن له نظير دفع قسط على تعهد لصالحه أو الصالح الغير من الطرف الأخر وهو المؤمن بأن يدفع المؤمن بمقتضى ذلك التعهد أداءاً معيناً عند تحقيق خطر معين، وذلك بأن يأخذ على عاتقه مهمة تجميع مجموعة من المخاطر وإجراء المقاصة بينها وفقاً لقوانين الإحصاء.</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2"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1</a:t>
            </a:r>
            <a:r>
              <a:rPr b="1" lang="ar-EG" sz="3200" spc="-1" strike="noStrike">
                <a:solidFill>
                  <a:srgbClr val="ffffff"/>
                </a:solidFill>
                <a:latin typeface="Tahoma"/>
              </a:rPr>
              <a:t>ـ </a:t>
            </a:r>
            <a:r>
              <a:rPr b="1" lang="ar-EG" sz="3200" spc="-1" strike="noStrike">
                <a:solidFill>
                  <a:srgbClr val="ffffff"/>
                </a:solidFill>
                <a:latin typeface="Tahoma"/>
              </a:rPr>
              <a:t>4</a:t>
            </a:r>
            <a:r>
              <a:rPr b="1" lang="ar-EG" sz="3200" spc="-1" strike="noStrike">
                <a:solidFill>
                  <a:srgbClr val="ffffff"/>
                </a:solidFill>
                <a:latin typeface="Tahoma"/>
              </a:rPr>
              <a:t>) وظائف التأمين</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1</a:t>
            </a:r>
            <a:r>
              <a:rPr b="1" lang="ar-EG" sz="3200" spc="-1" strike="noStrike">
                <a:solidFill>
                  <a:srgbClr val="ffffff"/>
                </a:solidFill>
                <a:latin typeface="Tahoma"/>
              </a:rPr>
              <a:t> ـ التأمين يبعث الأمان في نفوس المستأمنين</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أن كلمة التأمين مشتقة من كلمة الأمان، وبالتالي فالتامين يكفل الأمان للمستأمنين ويبث الطمأنينة في نفوسهم حيث يؤمن الفرد ضد ما يتعرض له من أخطار تؤثر في شخصه أو ماله مما يؤثر بدوره في قدرته الإنتاجية حيث يكفل للمستأمن المناخ الحسن والجو المناسب للعمل باطمئنان وزيادة الإنتاج.</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لتأمين يقوم بتجميع المدخرات</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يعتبر التأمين وسيلة لزيادة مدخرات الأفراد والحد من نشاطهم الاستهلاكي حيث بموجب عقد التأمين يلتزم الأفراد بدفع أقساط التأمين، ويتكون من مجموع الأقساط التي يدفعها الأفراد رصيد ضخم من الأموال مما دفع معظم دول العالم للتدخل في كيفية استثمار شركات التأمين لهذا الأموال حفاظاً على حقوق المستأمنين وتحقيقاً لمصلحة الاقتصاد القومي.</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6"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ـ التأمين وسيلة من وسائل تنشيط الائتمان</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عتبر التأمين وسيلة هامة من وسائل الائتمان وذلك على مستوى الأفراد وعلى مستوى الدولة، فبالنسبة للأفراد يوفر التأمين للمدين ضمانات تسهل له عملية الاقتراض حيث يحل تعويض التأمين محل الشيء المرهون إذا هلك نتيجة لتحقق الخطر المؤمن منه. أيضاً على مستوى الدولة يقوم التأمين بتدعيم عملية الائتمان وذلك عن طريق توظيف أموال شركات التأمين في السندات التي تصدرها الدولة، وتغطية القروض العامة، والمساهمة في استثمارات المشروعات العامة مما يساعد على تنشيط الائتمان العام وازدهار الاقتصاد القومي.</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التأمين عامل من عوامل الوقاية في المجتمع</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وم التأمين بالعمل على تقليل نسبة وقوع الحوادث والحد من المخاطر وذلك عن طريق الاستعانة بالخبراء والأخصائيين لدراسة مخاطر العمل بهدف الحد من تحقيق هذه المخاطر تجنب وقوعها مما يساعد على تحقيق الاستقرار الكامل للمشر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التأمين يؤدي وظيفة اجتماعية هامة</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يقوم التأمين الاجتماعي بحماية الطبقات الضعيفة في المجتمع من الأخطار التي يتعرض لها دون أن يكون لديهم المقدرة على حماية أنفسهم من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0"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5</a:t>
            </a:r>
            <a:r>
              <a:rPr b="1" lang="ar-EG" sz="2400" spc="-1" strike="noStrike">
                <a:solidFill>
                  <a:srgbClr val="ffffff"/>
                </a:solidFill>
                <a:latin typeface="Tahoma"/>
              </a:rPr>
              <a:t>) أنواع أو أقسام التأمين</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أدى انتشار التأمين في شتى نواحي الحياة الاقتصادية والاجتماعية إلى ظهور عدة تقسيمات مختلفة للتأمين تختلف باختلاف الغرض من التقسيم ومن أبرز هذه التقسيمات الآتي:ـ</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تقسيم الأول:</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هتم بتقسيم التأمين حسب الشيء المعرض للخطر، ويساعد هذا التقسيم على تصنيف الأخطار وتمييز كل منها وبالتالي إمكانية التعامل معها بصورة أفضل، حيث يقسم التأمين إلى:</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تأمينات أشخاص:</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تأمينات الأشخاص ذلك النوع من التأمين الذي يكون موضوعه شخص المستأمن وبالتالي فإن تأمينات الأشخاص تشمل كافة عمليات التأمين التي تؤمن الأشخاص من الأخطر التي تهدد حياتهم أو سلامة أجسامهم أو صحتهم أو قدرتهم على العمل، وتأمينات الأشخاص تنقسم بدورها إلى قسم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من المعاني المختلفة التي يستعمل في توضيحها أو الإشارة إلى مدلولها لفظ الخطر معاني تدل على وقائع مادية وأخرى تدل على خسائر مالية وثالثة تدل على حالات معنوية.</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فأخطار الحرب والحريق والوفاة والسيارات والطائرات أمثلة ملموسة لوقائع مادية يستعمل في توضيحها لفظ الخطر، وأخطار ضياع رؤوس الأموال أو الدخول نتيجة الحرب والحريق والوفاة وحوادث السيارات أمثلة أخرى لخسائر مالية يستعمل في إظهارها لفظ الخطر أيضاً. وخطر عدم معرفة نتيجة التجارة في آخر العام مقدماً، لفظ الخطر أو مفهوم الخطر في مجال التأمين يعني أحد أمرين هما: مسبب الخسارة (مثل الحريق الذي تتعرض له معظم الممتلكات) أو بقصد به الشخص أو الممتلكات موضوع الحماية التأمينية (مثال ذلك اعتبار أن صغار السن في قيادة السيارات، أخطار رديئة، من وجهة نظر شركات التأم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1</a:t>
            </a:r>
            <a:r>
              <a:rPr b="1" lang="ar-EG" sz="3200" spc="-1" strike="noStrike">
                <a:solidFill>
                  <a:srgbClr val="ffffff"/>
                </a:solidFill>
                <a:latin typeface="Tahoma"/>
              </a:rPr>
              <a:t> ـ التأمين على الحيا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ينقسم بدوره إلى ثلاثة أنواع:</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a:t>
            </a:r>
            <a:r>
              <a:rPr b="0" lang="ar-EG" sz="3200" spc="-1" strike="noStrike">
                <a:solidFill>
                  <a:srgbClr val="ffffff"/>
                </a:solidFill>
                <a:latin typeface="Tahoma"/>
              </a:rPr>
              <a:t>التأمين لحال البقاء.</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ب.</a:t>
            </a:r>
            <a:r>
              <a:rPr b="0" lang="ar-EG" sz="3200" spc="-1" strike="noStrike">
                <a:solidFill>
                  <a:srgbClr val="ffffff"/>
                </a:solidFill>
                <a:latin typeface="Tahoma"/>
              </a:rPr>
              <a:t>التأمين لحال الوفا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ج. التأمين لحال البقاء أو الوفاة (المختلط).</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في جميع الأنواع السابقة نجد أن المؤمن يدفع المبلغ به إلى المستأمن (أو المؤمن له) إذا ظل حياً عند سن معينه أو إلى ورثته أو المستفيد المحدد في العقد عند وفاة المؤمن على حياته.</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لتأمين من الإصابات:</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تنقسم إلى نوعين:</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 ـ التأمين ضد الحوادث.</a:t>
            </a:r>
            <a:r>
              <a:rPr b="0" lang="ar-EG" sz="3200" spc="-1" strike="noStrike">
                <a:solidFill>
                  <a:srgbClr val="ffffff"/>
                </a:solidFill>
                <a:latin typeface="Tahoma"/>
              </a:rPr>
              <a:t>	</a:t>
            </a:r>
            <a:r>
              <a:rPr b="0" lang="ar-EG" sz="3200" spc="-1" strike="noStrike">
                <a:solidFill>
                  <a:srgbClr val="ffffff"/>
                </a:solidFill>
                <a:latin typeface="Tahoma"/>
              </a:rPr>
              <a:t>	</a:t>
            </a:r>
            <a:r>
              <a:rPr b="0" lang="ar-EG" sz="3200" spc="-1" strike="noStrike">
                <a:solidFill>
                  <a:srgbClr val="ffffff"/>
                </a:solidFill>
                <a:latin typeface="Tahoma"/>
              </a:rPr>
              <a:t>ب ـ التأمين ضد الأمراض.</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نياً: تأمينات الممتلكات:</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قصد بتأمينات الممتلكات ذلك النوع من التأمين الذي يكون موضوعه ممتلكات المستأمن وتهدف تأمينات الممتلكات إلى تعويض المستأمن عن الأضرار المادية التي تصيب ذمته المالية مباشرة بسبب تلف أو هلاك بعض ممتلكاته ومن أمثلتها (تأمين الحريق ـ تأمين السرقة ـ تأمينات النقل ـ التأمينات الزراعية ـ التأمينات الهندسي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 تأمينات المسئولي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SimSun"/>
              </a:rPr>
              <a:t>	</a:t>
            </a:r>
            <a:r>
              <a:rPr b="0" lang="ar-EG" sz="2400" spc="-1" strike="noStrike">
                <a:solidFill>
                  <a:srgbClr val="ffffff"/>
                </a:solidFill>
                <a:latin typeface="Tahoma"/>
              </a:rPr>
              <a:t>ويقصد بتأمينات المسئولية، التأمينات التي تغطى أخطاراً لا يقع أثارها بصفة مباشرة على الشخص أو ممتلكاته ولكن يقع أثرها على أفراد آخرين ويكون الشخص مسئولاً عن تعويض الأشخاص المضرورين طبقاًَ لقواعد المسئولية في القانون المدني، أي أن تأمينات المسئولية تهدف إلى تأمين المستأمن ضد رجوع الغير عليه بسبب الأضرار التي لحقته والتي تستوجب مسئولية عنها، ومن أمثلتها التأمين من المسئولية الناشئة عن حوادث السيارات والتأمين من المسئولية المدنية لأصحاب المصاعد والتأمين من المسئولية المهنية</a:t>
            </a:r>
            <a:r>
              <a:rPr b="0" lang="es-ES_tradnl" sz="2400" spc="-1" strike="noStrike">
                <a:solidFill>
                  <a:srgbClr val="ffffff"/>
                </a:solidFill>
                <a:latin typeface="Tahoma"/>
                <a:ea typeface="SimSun"/>
              </a:rPr>
              <a:t>.</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SimSun"/>
              </a:rPr>
              <a:t>II</a:t>
            </a:r>
            <a:r>
              <a:rPr b="1" lang="ar-EG" sz="2400" spc="-1" strike="noStrike">
                <a:solidFill>
                  <a:srgbClr val="ffffff"/>
                </a:solidFill>
                <a:latin typeface="Tahoma"/>
              </a:rPr>
              <a:t> ـ التقسيم الثاني:</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هتم هذا التقسيم بنوع التأمين، وطبقاً له ينقسم التأمين إلى:</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التأمين الاجتماعي:</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قصد به التأمينات الإجبارية التي تحدد بقانون وتفرض على فئة معينة من أفراد المجتمع بقصد حمايتهم من خطر معين أو لصالح أفراد معينيين، وتتميز بوجود هدف اجتماعي من التأمين، وغالباً ما تقوم به الحكومات، ويحدد القانون قيمة الاشتراكات والمزايا والمستفيدين والهيئة التي تقوم به.</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التأمين الاجتماعي يقوم على أساس مبدأ التضامن الاجتماعي المزدوج القائم على توزيع الخسائر والتكلفة لا على أساس درجة الخطر الحقيقية المعرض لها الأفراد ولكن على أساس المقدرة المادية لكل منهم، وسوف نقوم بشرح أهم جوانب التأمين الاجتماعي في فصل قادم بإذن الل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ثانياً: التأمين الخاص:</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ويقصد به ذلك التأمين الذي يقوم فيه الفرد نفس يمحض اختياره بالحصول عن طريق الهيئات المتخصصة في بيع الخدمة التأمينية، و ينقسم هذا التأمين إلى أربعة أنواع:</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على الحياة.</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البحري.</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ضد الحريق.</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أمين الحوادث، ويشمل كل أنواع التأمينات التي لا تدخل أي قسم من الأقسام الثلاثة السابق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92"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في السوق المصري قسم القانون</a:t>
            </a:r>
            <a:r>
              <a:rPr b="0" lang="en-US" sz="2400" spc="-1" strike="noStrike">
                <a:solidFill>
                  <a:srgbClr val="ffffff"/>
                </a:solidFill>
                <a:latin typeface="Tahoma"/>
                <a:ea typeface="SimSun"/>
              </a:rPr>
              <a:t>10</a:t>
            </a:r>
            <a:r>
              <a:rPr b="0" lang="en-US" sz="2400" spc="-1" strike="noStrike">
                <a:solidFill>
                  <a:srgbClr val="ffffff"/>
                </a:solidFill>
                <a:latin typeface="Tahoma"/>
                <a:ea typeface="SimSun"/>
              </a:rPr>
              <a:t>  </a:t>
            </a:r>
            <a:r>
              <a:rPr b="0" lang="ar-EG" sz="2400" spc="-1" strike="noStrike">
                <a:solidFill>
                  <a:srgbClr val="ffffff"/>
                </a:solidFill>
                <a:latin typeface="Tahoma"/>
              </a:rPr>
              <a:t> لسنة </a:t>
            </a:r>
            <a:r>
              <a:rPr b="0" lang="en-US" sz="2400" spc="-1" strike="noStrike">
                <a:solidFill>
                  <a:srgbClr val="ffffff"/>
                </a:solidFill>
                <a:latin typeface="Tahoma"/>
                <a:ea typeface="SimSun"/>
              </a:rPr>
              <a:t>1981</a:t>
            </a:r>
            <a:r>
              <a:rPr b="0" lang="ar-EG" sz="2400" spc="-1" strike="noStrike">
                <a:solidFill>
                  <a:srgbClr val="ffffff"/>
                </a:solidFill>
                <a:latin typeface="Tahoma"/>
              </a:rPr>
              <a:t> والخاص بالإشراف والرقابة على هيئات التأمين، التأمين إلى تسعة فروع مختلفة هي:</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الحياة.</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كوين الأموال.</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حريق والتأمينات التي تحلق به.</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نقل البري والنهري والبحري والجوي وتأمينات المسئولية المتعلقة به.</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أجسام السفن وآلاتها ومهماتها وتأمينات المسئولية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أجسام الطائرات وآلاتها ومهماتها وتأمينات المسئوليات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حوادث والمسئوليات.</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أمين السيارات وتأمين المسئوليات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ات الأخر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94"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2</a:t>
            </a:r>
            <a:r>
              <a:rPr b="1" lang="ar-EG" sz="2400" spc="-1" strike="noStrike">
                <a:solidFill>
                  <a:srgbClr val="ffffff"/>
                </a:solidFill>
                <a:latin typeface="Tahoma"/>
              </a:rPr>
              <a:t>ـ</a:t>
            </a:r>
            <a:r>
              <a:rPr b="1" lang="ar-EG" sz="2400" spc="-1" strike="noStrike">
                <a:solidFill>
                  <a:srgbClr val="ffffff"/>
                </a:solidFill>
                <a:latin typeface="Tahoma"/>
              </a:rPr>
              <a:t>1</a:t>
            </a:r>
            <a:r>
              <a:rPr b="1" lang="ar-EG" sz="2400" spc="-1" strike="noStrike">
                <a:solidFill>
                  <a:srgbClr val="ffffff"/>
                </a:solidFill>
                <a:latin typeface="Tahoma"/>
              </a:rPr>
              <a:t>) تعريف عقد التأمين</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مكن تعريف عقد التأمين في أبسط صورة بأنه: "اتفاق بين طرفين بموجبه يتعهد الطرف الأول بأن يدفع للطرف الثاني مبلغاً معيناً عند وقوع حدث معين محدد في العقد وذلك في مقابل قيام الطرف الثاني بدفع مبلغ بسيط نسبياً"</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سمى الطرف الأول "المؤمن </a:t>
            </a:r>
            <a:r>
              <a:rPr b="0" lang="en-US" sz="2400" spc="-1" strike="noStrike">
                <a:solidFill>
                  <a:srgbClr val="ffffff"/>
                </a:solidFill>
                <a:latin typeface="Tahoma"/>
                <a:ea typeface="SimSun"/>
              </a:rPr>
              <a:t>Insurer</a:t>
            </a:r>
            <a:r>
              <a:rPr b="0" lang="ar-EG" sz="2400" spc="-1" strike="noStrike">
                <a:solidFill>
                  <a:srgbClr val="ffffff"/>
                </a:solidFill>
                <a:latin typeface="Tahoma"/>
              </a:rPr>
              <a:t>" ويسمى الطرف الثاني "المؤمن له أو المستأمن </a:t>
            </a:r>
            <a:r>
              <a:rPr b="0" lang="en-US" sz="2400" spc="-1" strike="noStrike">
                <a:solidFill>
                  <a:srgbClr val="ffffff"/>
                </a:solidFill>
                <a:latin typeface="Tahoma"/>
                <a:ea typeface="SimSun"/>
              </a:rPr>
              <a:t>Insured</a:t>
            </a:r>
            <a:r>
              <a:rPr b="0" lang="ar-EG" sz="2400" spc="-1" strike="noStrike">
                <a:solidFill>
                  <a:srgbClr val="ffffff"/>
                </a:solidFill>
                <a:latin typeface="Tahoma"/>
              </a:rPr>
              <a:t>" أما المبلغ الذي يدفعه المؤمن فيسمى "مبلغ التأمين </a:t>
            </a:r>
            <a:r>
              <a:rPr b="0" lang="en-US" sz="2400" spc="-1" strike="noStrike">
                <a:solidFill>
                  <a:srgbClr val="ffffff"/>
                </a:solidFill>
                <a:latin typeface="Tahoma"/>
                <a:ea typeface="SimSun"/>
              </a:rPr>
              <a:t>Sum Insured</a:t>
            </a:r>
            <a:r>
              <a:rPr b="0" lang="ar-EG" sz="2400" spc="-1" strike="noStrike">
                <a:solidFill>
                  <a:srgbClr val="ffffff"/>
                </a:solidFill>
                <a:latin typeface="Tahoma"/>
              </a:rPr>
              <a:t>" بينما يسمى المبلغ الذي يدفعه المؤمن له أما مرة واحدة أو على دفعات "قسط التأمين </a:t>
            </a:r>
            <a:r>
              <a:rPr b="0" lang="en-US" sz="2400" spc="-1" strike="noStrike">
                <a:solidFill>
                  <a:srgbClr val="ffffff"/>
                </a:solidFill>
                <a:latin typeface="Tahoma"/>
                <a:ea typeface="SimSun"/>
              </a:rPr>
              <a:t>Premium</a:t>
            </a:r>
            <a:r>
              <a:rPr b="0" lang="ar-EG" sz="2400" spc="-1" strike="noStrike">
                <a:solidFill>
                  <a:srgbClr val="ffffff"/>
                </a:solidFill>
                <a:latin typeface="Tahoma"/>
              </a:rPr>
              <a:t>" ويطلق على الشخص أو الشيء المعرض لوقوع الخطر "الشيء موضوع التأمين </a:t>
            </a:r>
            <a:r>
              <a:rPr b="0" lang="en-US" sz="2400" spc="-1" strike="noStrike">
                <a:solidFill>
                  <a:srgbClr val="ffffff"/>
                </a:solidFill>
                <a:latin typeface="Tahoma"/>
                <a:ea typeface="SimSun"/>
              </a:rPr>
              <a:t>The Subject Matter of Insurance</a:t>
            </a:r>
            <a:r>
              <a:rPr b="0" lang="ar-EG" sz="2400" spc="-1" strike="noStrike">
                <a:solidFill>
                  <a:srgbClr val="ffffff"/>
                </a:solidFill>
                <a:latin typeface="Tahoma"/>
              </a:rPr>
              <a:t>" كما يطلق على المستند الذي يثبت العقد ويحتوي على بنوده وشروطه وثيقة أو بوليصة التأمين </a:t>
            </a:r>
            <a:r>
              <a:rPr b="0" lang="en-US" sz="2400" spc="-1" strike="noStrike">
                <a:solidFill>
                  <a:srgbClr val="ffffff"/>
                </a:solidFill>
                <a:latin typeface="Tahoma"/>
                <a:ea typeface="SimSun"/>
              </a:rPr>
              <a:t>Insurance Policy</a:t>
            </a:r>
            <a:r>
              <a:rPr b="0" lang="ar-EG"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196"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الأخطار القابلة للتأمين ضد وقوعه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كي يكون الخطر قابلاً للتأمين يجب أن تتحقق فيه الشروط الآتية:</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أن يكون الخطر شيئاً احتمالي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فالخطر المستحيل الوقوع لا توجد فائدة من التأمين ضده كذلك فإن الخطر المؤكد الوقوع تكون تكلفة التأمين ضده أكبر من الخسارة المحققة بوقوعه، إذ أن الأقساط الصافية وحدها يجب أن تتعادل مع الخسارة.</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ألا يكون الخطر شيئاً إرادياً بحت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هذا الشرط نتيجة حتمية للشرط الأول، إذ أن وقوع الخطر إرادياً ينفي عنه صفة الاحتمال.</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19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ـ أن يكون الخطر قابلاً للقياس:</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معنى ذلك أن يتمكن المؤمن مقدماً من تقدير الخسائر التي تصيب الأشياء موضوع التأمين بسبب تحقق الخطر، وفي هذا المجال يكفي أن يكون الخطر قابلاً للقياس الإحصائي على الأقل حتى يمكن استخدام الأساليب الإحصائية في تقدير الخسارة المتوقعة بدقة معقول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أن يكون الخطر هاماً بدرجة كافي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إذا كان الخطر قليل الأهمية تكون تكلفة التأمين ضده أعلى من الخسارة المادية التي تتحقق بوقوع الخطر.</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ـ ألا تكون تكاليف التامين باهظ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ي يجب أن يكون قسط التأمين معقولاً وإلا انحصرت عمليات التأمين في فئة قليلة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ـ ألا يكون الخطر صعب الإثبات:</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ذلك بأن يكون موزعاً حتى لا تحدث خسارة كبيرة في كارثة واحد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ألا يكون الخطر صعب الإثبات:</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مثلاً لا يجوز التأمين على شخص من الصداع مثلاً أو ضد احتراق نقود ورقية في منزل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8</a:t>
            </a:r>
            <a:r>
              <a:rPr b="1" lang="ar-EG" sz="2800" spc="-1" strike="noStrike">
                <a:solidFill>
                  <a:srgbClr val="ffffff"/>
                </a:solidFill>
                <a:latin typeface="Tahoma"/>
              </a:rPr>
              <a:t> ـ أن تكون المصلحة المطلوب حمايتها مادي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القيمة العاطفية لشيء ما لا تكون مجالاً للتأمين.</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9</a:t>
            </a:r>
            <a:r>
              <a:rPr b="1" lang="ar-EG" sz="2800" spc="-1" strike="noStrike">
                <a:solidFill>
                  <a:srgbClr val="ffffff"/>
                </a:solidFill>
                <a:latin typeface="Tahoma"/>
              </a:rPr>
              <a:t> ـ أن يكون عدد الأخطار كبيراً:</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لتأمين لا يؤدي الفائدة المطلوبة إلا إذا كان عدد المؤمن لهم كبيراً حيث أن فترة التأمين أساساً هي توزيع الخسارة الناتجة من وقوع خطر معين على كبير من الأفراد المعرضين لوقوع هذا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1</a:t>
            </a:r>
            <a:r>
              <a:rPr b="1" lang="ar-EG" sz="3200" spc="-1" strike="noStrike">
                <a:solidFill>
                  <a:srgbClr val="ffffff"/>
                </a:solidFill>
                <a:latin typeface="Tahoma"/>
              </a:rPr>
              <a:t>ـ</a:t>
            </a:r>
            <a:r>
              <a:rPr b="1" lang="ar-EG" sz="3200" spc="-1" strike="noStrike">
                <a:solidFill>
                  <a:srgbClr val="ffffff"/>
                </a:solidFill>
                <a:latin typeface="Tahoma"/>
              </a:rPr>
              <a:t>2</a:t>
            </a:r>
            <a:r>
              <a:rPr b="1" lang="ar-EG" sz="3200" spc="-1" strike="noStrike">
                <a:solidFill>
                  <a:srgbClr val="ffffff"/>
                </a:solidFill>
                <a:latin typeface="Tahoma"/>
              </a:rPr>
              <a:t>) تعريف الخط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وجد العديد من التعريفات المتعلقة بكلمة الخطر منها التعريف التالي، الخطر ظاهرة تؤدي إلى خسارة غير مؤكدة يمكن قياسها كميا ونسبتها إلى سبب لا إرادي.</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من التحديد السابق لمعنى الخطر نجد أن أركان الخطر هي: الخسارة (ناتجة عن حدوث حدث معين)، عدم التأكد، القياس الكمي، المسبب اللاإرادي.</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2"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أخطار التي لا يجيز القانون التأمين ضد وقوعها:</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ضد الغرامة أما لأن الخطر يتوقف على إرادة الجاني إذا كانت الجريمة عمدية أو لأن مبدأ شخصية العقوبة يتنافى مع التأمين ضد الغرامة في حالة الجريمة غير العمدية وعلى ذلك لا يجوز التأمين مثلاً ضد مخالفات المرور.</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ضد المصادرة الشخصية لأنها عقوبة جنائ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على مصلحة تتنافي مع النظام العام أو الآداب، فلا يجوز مثلاً التأمين على عملية تهريب أو  عملية جلب بضائع يحرم القانون استيردا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4"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4</a:t>
            </a:r>
            <a:r>
              <a:rPr b="1" lang="ar-EG" sz="2800" spc="-1" strike="noStrike">
                <a:solidFill>
                  <a:srgbClr val="ffffff"/>
                </a:solidFill>
                <a:latin typeface="Tahoma"/>
              </a:rPr>
              <a:t>) النقاط الأساسية في عقد التأمين (وثيقة أو بوليصة التأمين):</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يمكن تلخيص النقاط الأساسية في أي عقد تأمين فيما يلي:</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سماء الأطراف المتعاقدة.</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شيء موضوع التأمين (شخص أو ممتلكات).</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قيمة المؤمن عليها (أي الحد الأقصى لالتزام المؤمن).</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خطر أو الأخطار المؤمن ضد وقوعها.</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سط التأمين: قيمته وكيفية سداده وموعد استحقاقه.</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دة العقد وتاريخ سريان العقد وتاريخ انتهائه</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6"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لاحظ أنه كثيراً ما يحتوي عقد التأمين على ملحق أو أكثر يحتوي على شروط إضافية خاصة بالتامين الذي يتضمنه العقد ويكون الغرض منها تعديل الشروط العامة أو إضافي أخطار جديدة أو تغيير في أوصاف الأخطار التي تغطيها الوثيقة (بوليصة التأمين).</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5</a:t>
            </a:r>
            <a:r>
              <a:rPr b="1" lang="ar-EG" sz="2800" spc="-1" strike="noStrike">
                <a:solidFill>
                  <a:srgbClr val="ffffff"/>
                </a:solidFill>
                <a:latin typeface="Tahoma"/>
              </a:rPr>
              <a:t>): المبادئ الأساسية القانونية للتأمين:</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خضع عقود التأمين لعدد من المبادئ القانونية الأساسية هي:</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مبدأ المصلحة التأميني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نص هذا المبدأ على ضرورة أن يلحق بالمؤمن له خسارة إذا تحقق الخطر المؤمن ضد وقوعه وإلا فلا محل ا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قال أن للشخص مصلحة تأمينية في الشيء موضوع التأمين عندما يعود عليه بمنفعة مادية نتيجة بقائة على ما هو عليهن ويلحق به خسارة مادية من جراء تحقق حادث معين له، فاللمالك مصلحة تأمينية فيما يملك من عقار ومنقولات، وللعائلة مصلحة تأمينية في رب العائلة الذي يتفق عليها ويعولها، وللشخص مصلحة في ماله الذي ينفقه إيجاراً إجباراً في حالة المرض والعجز وما إلى ذلك منن أمثلة، المصلحة التأمينية تحدد من لهم الحق في التقدم لشرا عقد التأمين وتشترط فيهم شروطاً معينة، وبذلك تبعد عن عملية التأمين الأخطار الشخصية المتعمدة </a:t>
            </a:r>
            <a:r>
              <a:rPr b="0" lang="en-US" sz="2400" spc="-1" strike="noStrike">
                <a:solidFill>
                  <a:srgbClr val="ffffff"/>
                </a:solidFill>
                <a:latin typeface="Tahoma"/>
                <a:ea typeface="SimSun"/>
              </a:rPr>
              <a:t>Moral Hazards</a:t>
            </a:r>
            <a:r>
              <a:rPr b="0" lang="ar-EG" sz="2400" spc="-1" strike="noStrike">
                <a:solidFill>
                  <a:srgbClr val="ffffff"/>
                </a:solidFill>
                <a:latin typeface="Tahoma"/>
              </a:rPr>
              <a:t> وتلك التي تنشا عن إهمال المؤمن له واستهتاره لمجرد شراء عقد التأمين، فالشخص الذي يؤمن على منزل من الحريق لا يمتلكه ولا يستأجره وليس له فيه مصلحة تأمينية أخرى يكون من السهل عليه أن يشعل فيه النار عمداً في سبيل الحصول على التعويض المنصوص عليه في عقد التأمين وما إلى ذلك من الحالات المشابه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مبدأ حسن النية </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ضي مبدأ منتهى حسن النية بأنه يجب على كل طرف من طريفي التعاقد أن يدلى إلى الطرف الآخر بجميع الحقائق أو الأمور الجوهرية المتعلقة بالخطر المؤمن ضده من ناحية، والحقائق المتعلقة بالعقد وشروطه وبياناته من ناحية أخرى.</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مبدأ التعويض</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طبقاً لهذا المبدأ لا يجوز للمؤمن له أن يحصل على أكثر من الخسارة التي تحدث نتيجة لتحقق الخطر المؤمن ضد وقوعه، وتخضع لهذا المبدأ جميع عقود التأمين على الممتلكات بينما لا تخضع له عقود التأمين على الحياة، إذا لا يمكن تقدير قيمة الإنسان وتسمى العقود التي تخضع لهذا المبدأ "عقود التعويض".</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2"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4</a:t>
            </a:r>
            <a:r>
              <a:rPr b="1" lang="ar-EG" sz="2400" spc="-1" strike="noStrike">
                <a:solidFill>
                  <a:srgbClr val="ffffff"/>
                </a:solidFill>
                <a:latin typeface="Tahoma"/>
              </a:rPr>
              <a:t> ـ مبدأ الحلول في الحقوق:</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عتبر هذا المبدأ نتيجة مباشرة لمبدأ التعويض، وطبقاً لهذا المبدأ إذا كان العقد عقد تعويض فقد يكون للمؤمن الحق في أن يحل محل المؤمن له في الحقوق والدعاوي قبل من تسبب في الضرر الذي نجمت عنه مسئولية المؤمن. ويلاحظ أن هذا المبدأ لا ينطبق على عقود التأمين على الحيا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5</a:t>
            </a:r>
            <a:r>
              <a:rPr b="1" lang="ar-EG" sz="2400" spc="-1" strike="noStrike">
                <a:solidFill>
                  <a:srgbClr val="ffffff"/>
                </a:solidFill>
                <a:latin typeface="Tahoma"/>
              </a:rPr>
              <a:t> ـ مبدأ المشاركة في التأمين</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ذا تعددت وثائق التعويض لتأمين نفس الشيء ونفس المصلحة ضد نفس الخطر لنفس المؤمن له فعلى المؤمنين المتعددين أن يشتركوا في دفع التعويض عند وقوع الخطر المؤمن ضده بحيث يتناسب نصيب كل منهم مع مبلغ التأمين المحدد بالوثيقة التي أصدرها، وطبقاً لمبدأ التعويض لا يجوز أن يزيد مجموع التعويضات المستحقة عن قيمة الخسارة بأي حالة من الأحوال ولا عن مجموع مبالغ التأمين، ولا ينطبق هذا المبدأ على وثائق التأمين على الحياة ولا على التأمين من الحوادث الشخص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4"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6</a:t>
            </a:r>
            <a:r>
              <a:rPr b="1" lang="ar-EG" sz="3200" spc="-1" strike="noStrike">
                <a:solidFill>
                  <a:srgbClr val="ffffff"/>
                </a:solidFill>
                <a:latin typeface="Tahoma"/>
              </a:rPr>
              <a:t> ـ مبدأ السبب القريب</a:t>
            </a:r>
            <a:endParaRPr b="0" lang="en-US" sz="3200" spc="-1" strike="noStrike">
              <a:solidFill>
                <a:srgbClr val="ffffff"/>
              </a:solidFill>
              <a:latin typeface="Tahoma"/>
            </a:endParaRPr>
          </a:p>
          <a:p>
            <a:pPr marL="315360" indent="-3153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SimSun"/>
              </a:rPr>
              <a:t>	</a:t>
            </a:r>
            <a:r>
              <a:rPr b="0" lang="ar-EG" sz="3200" spc="-1" strike="noStrike">
                <a:solidFill>
                  <a:srgbClr val="ffffff"/>
                </a:solidFill>
                <a:latin typeface="Tahoma"/>
              </a:rPr>
              <a:t>طبقاً لهذا المبدأ لا يلتزم المؤمن بدفع مبلغ التعويض إلا إذا كان الخطر المؤمن ضد وقوعه هو السبب القريب لوقوع الخسارة، ومعنى ذلك أنه إذا وقعت سلسلة من الحوادث تسبب في بدئها وقوع الخطر المؤمن ضده بدون تدخل من سبب آخر مستقل كان الخطر المؤمن ضد وقوعه هو السبب القريب حتى لو لم يكن هو السبب المباشر للخسارة</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216"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3</a:t>
            </a:r>
            <a:r>
              <a:rPr b="1" lang="ar-EG" sz="2400" spc="-1" strike="noStrike">
                <a:solidFill>
                  <a:srgbClr val="ffffff"/>
                </a:solidFill>
                <a:latin typeface="Tahoma"/>
              </a:rPr>
              <a:t>ـ</a:t>
            </a:r>
            <a:r>
              <a:rPr b="1" lang="ar-EG" sz="2400" spc="-1" strike="noStrike">
                <a:solidFill>
                  <a:srgbClr val="ffffff"/>
                </a:solidFill>
                <a:latin typeface="Tahoma"/>
              </a:rPr>
              <a:t>1</a:t>
            </a:r>
            <a:r>
              <a:rPr b="1" lang="ar-EG" sz="2400" spc="-1" strike="noStrike">
                <a:solidFill>
                  <a:srgbClr val="ffffff"/>
                </a:solidFill>
                <a:latin typeface="Tahoma"/>
              </a:rPr>
              <a:t>) أخطار الحياة:</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تعرض حياة الأفراد لجميع الظواهر الطبيعية التي إذا تحققت تؤدي إلى خسارة مالية يقاسون منها هم أنفسهم أو من يعتمدون عليهم مادياً، فظاهرة الوفاة المبكرة يترتب عليها انقطاع الدخل بالنسبة لحياة المتوفى، وظاهرة الشيخوخة أو طول العمر يترتب على تحققها انخفاض دخل الفرد مع ارتفاع معدلات الإنفاق بالنسبة لتدهور الحالة الصحية والجسمانية، وظاهرة العجز يترتب على تحققها انخفاض الداخل أو انقطاعه حسب جسامة الحادث.</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وثائق تامين الحياة هي تلك العقود التي تغطي الخسائر المالية التي تنتج عن تحقق الظواهر الطبيعية بالنسبة لحياة الأفراد، وعلى ذلك فوثائق تأمين الحياة تغطى حوادث طول العمر (الحياة) كما تغطى حوادث قصر العمر (الوفاة) على حد سواء. كذلك فأنها تغطي معظم الحوادث التي تقع للأفراد في مجال حياتهم مثل حوادث الزواج وتعليم الأطفال ووفاة الزوجة أو الأولاد وما إلى ذلك من حوادث.</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18"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3</a:t>
            </a:r>
            <a:r>
              <a:rPr b="1" lang="ar-EG" sz="2400" spc="-1" strike="noStrike">
                <a:solidFill>
                  <a:srgbClr val="ffffff"/>
                </a:solidFill>
                <a:latin typeface="Tahoma"/>
              </a:rPr>
              <a:t>ـ</a:t>
            </a:r>
            <a:r>
              <a:rPr b="1" lang="ar-EG" sz="2400" spc="-1" strike="noStrike">
                <a:solidFill>
                  <a:srgbClr val="ffffff"/>
                </a:solidFill>
                <a:latin typeface="Tahoma"/>
              </a:rPr>
              <a:t>2</a:t>
            </a:r>
            <a:r>
              <a:rPr b="1" lang="ar-EG" sz="2400" spc="-1" strike="noStrike">
                <a:solidFill>
                  <a:srgbClr val="ffffff"/>
                </a:solidFill>
                <a:latin typeface="Tahoma"/>
              </a:rPr>
              <a:t>) السمات الخاصة بأخطار الحياة والوفاة ووثائق تأمينها</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في حالة تغطية خطر الوفاة نجد أن الوثيقة لا تغطي حادث الوفاة في حد ذاته وإنما تغطي تاريخ حدوث الحادث أي على حادث وقوع الوفاة في تاريخ معين أو فترة معينة.</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زايد درجة خطورة ظاهرة الوفاة مع تزايد السن وتتناقض درجة خطورة الحياة مع تزايد السن.</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في حالة تحقق أخطار الحياة والوفاة تكون الخسارة كلية دائماً ولذلك يدفع المؤمن مبلغ التأمين المحدد مقدماً إلى المؤمن له أو المستفيد بالكامل، وذلك بخلاف التأمينات الأخرى التي تكون فيها الخسارة كلية أو جزئية.</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جميع وثائق تأمينات الحياة من الوثائق المحددة القيمة مقدماً حيث يصعب تحديد مبلغ التأمين تحديداً سليماً، وعملياً يحدد وفقاً لمقدرة المؤمن له على دفع القسط بغض النظر</a:t>
            </a:r>
            <a:r>
              <a:rPr b="0" lang="es-ES_tradnl" sz="2400" spc="-1" strike="noStrike">
                <a:solidFill>
                  <a:srgbClr val="ffffff"/>
                </a:solidFill>
                <a:latin typeface="Tahoma"/>
                <a:ea typeface="SimSun"/>
              </a:rPr>
              <a:t> </a:t>
            </a:r>
            <a:r>
              <a:rPr b="0" lang="ar-EG" sz="2400" spc="-1" strike="noStrike">
                <a:solidFill>
                  <a:srgbClr val="ffffff"/>
                </a:solidFill>
                <a:latin typeface="Tahoma"/>
              </a:rPr>
              <a:t>عن مدى كفايته والتي ترتبط بقدرة المؤمن له الإنتاجية عن المدة التي تلي تاريخ التعاقد.</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55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ثائق تأمينات الحياة من العقود طويلة الأجل التي قد تمتد لتغطي مدى حياة المؤمن له.</a:t>
            </a:r>
            <a:endParaRPr b="0" lang="en-US" sz="2800" spc="-1" strike="noStrike">
              <a:solidFill>
                <a:srgbClr val="ffffff"/>
              </a:solidFill>
              <a:latin typeface="Tahoma"/>
            </a:endParaRPr>
          </a:p>
          <a:p>
            <a:pPr marL="554400" indent="-55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ستطيع المؤمن إلزام المؤمن له على الاستمرار في سداد الأقساط الدورية في وثائق الحياة، ولكن يترتب على توقف دفعها انقضاء عقد التأمين، ولكن نظراً إلى أن عقود تأمين الحياة تحتوي على عنصر استثماري، فإن المؤمن له يكون من حقه سحب ما يستحق له لدى المؤمن من مبالغ تكون قد تكونت لصالحه من جراء عملية الاستثمار هذه، ويطلق عليها القيمة النقدية للوثيقة أو قيمة التصفية </a:t>
            </a:r>
            <a:r>
              <a:rPr b="0" lang="en-US" sz="2800" spc="-1" strike="noStrike">
                <a:solidFill>
                  <a:srgbClr val="ffffff"/>
                </a:solidFill>
                <a:latin typeface="Tahoma"/>
                <a:ea typeface="SimSun"/>
              </a:rPr>
              <a:t>Policy Cash Value</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3</a:t>
            </a:r>
            <a:r>
              <a:rPr b="1" lang="ar-EG" sz="2400" spc="-1" strike="noStrike">
                <a:solidFill>
                  <a:srgbClr val="ffffff"/>
                </a:solidFill>
                <a:latin typeface="Tahoma"/>
              </a:rPr>
              <a:t>) الحوادث</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ن وجود مسببات الخطر من ظواهر طبيعية وعامة في حياة الأفراد والمجتمعات وما يترتب عليه من عدم تأكد الأفراد من ناتج قراراتهم، وهو ما عبرنا عنه بالخطر ليس له أي تأثير مادي في حياة الأفراد، بل إن تأثير ذلك لا يزيد عن كونه خلقا لحالة نفسية تجاه القرار فقط، ولكن التأثير المادي يظهر واضحاً عند تحقق تلك الظواهر الطبيعية في صورة حوادث ملموسة تقع للأفراد، فمثلاً وجود ظاهرة الوفاة في حياة البشر لا تحقق إلا حالة معنوية بحتة في نفوس البشر هي الخوف من الوفاة. ولكن عندما تتحقق الوفاة لأحد أفراد العائلة ـ وخاصة إذا كان رب الأسرة فإن ذلك يحقق خسارة مادية ملموسة، وبذلك تنقلب الوفاة من ظاهرة طبيعية تؤثر في نفوس جميع الأفراد إلى حادث مادي يؤثر على دخل فرد أو أسرة بالذات. كذلك الحال على سبيل المثال بالنسبة لظاهرة الحريق وحادث الحريق وظاهرة الغرق وحادث الغرق وما شابه ذلك.</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على ذلك فمن الأهمية بمكان أن نفرق بين تأثير الظاهرة الطبيعية قبل تحققها وهو الخطر وبعد حدوثها وهو الحادث.</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2"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ترتب على قيام المؤمن له بدفع أقساط دورية متساوية للمؤمن نظير تغطية خطر متزايد سنة بعد أخرى، أن تكون الأقساط أكثر من اللازم لتغطية الخطر في السنوات الأولى من سنوات العقد وأقل من اللازم لتغطية الخطر في السنوات الأخيرة منها، الأجزاء الزائدة من الأقساط المتساوية الأولى يحب الاحتفاظ بها في احتياطي خاص ـ يطلق عليه الاحتياطي الحسابي أو الرياضي أو الفني ـ واستثماره لكي يعاون في سداد العجز في الأقساط الأخيرة أو دفع مبلغ التأمين عندما يستحق</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3</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أنواع المختلفة لوثائق تأمينات الحياة</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سبق أن أشرنا إلى أن أخطار الحياة تنحصر في خطر الوفاة الذي يترتب على تحققه القطاع الدخل، وخطر طول الحياة الذي يترتب على تحققه عدم كفاية الدخل أو انقطاعه بسبب عدم إنتاجية الفرد، كما يمكن أن نضيف هنا خطراً ثالثاً وهو خطر الحياة والوفاة معاً، إذا أن تحقق أي منهما يكلف الفرد خسارة مادية يمكن التأمين عليها، وعلى ذلك يمكن وضع العقود المختلفة لتأمينات الحياة في ثلاثة أقسام أو مجموعات حسب الحادث أو الحوادث المؤمن منها وهي: مجموعة عقود خطر الوفاة، ومجموعة عقود خطر الحياة، مجموعة عقود خطري الحياة الوفاة مع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6"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أول: مجموعة الوثائق التي تغطي خطر الوفا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عقد تأمين مدى الحياة: </a:t>
            </a:r>
            <a:r>
              <a:rPr b="1" lang="en-US" sz="2800" spc="-1" strike="noStrike">
                <a:solidFill>
                  <a:srgbClr val="ffffff"/>
                </a:solidFill>
                <a:latin typeface="Tahoma"/>
                <a:ea typeface="SimSun"/>
              </a:rPr>
              <a:t>Whole life Insurance Contract</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ؤمن المستفيد أو المستفيدين بدون تحديد مدة معينة يتحقق خلالها خطر الوفاة، وعلى ذلك يمكن تعريف عقد تأمين المدى الحياة على أنه اتفاق بين المؤمن والمؤمن يتعهد فيه الأول بدفع مبلغ التأمين المحدد في وثيقة التأمين للمستفيد أو المستفيدين المعينين فيها أيضاً عند وفاة المؤمن على حياته في نظير أن يدفع للمؤمن القسط الوحيد أو الأقساط الدورية المستحقة عن هذا التعا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8"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عقد تأمين الحياة المؤقت: </a:t>
            </a:r>
            <a:r>
              <a:rPr b="1" lang="en-US" sz="2400" spc="-1" strike="noStrike">
                <a:solidFill>
                  <a:srgbClr val="ffffff"/>
                </a:solidFill>
                <a:latin typeface="Tahoma"/>
                <a:ea typeface="SimSun"/>
              </a:rPr>
              <a:t>Term life Insurance Contract</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و يؤمن المستفيد أو المستفيدين خلال مدة محددة تبدأ من تاريخ التعاقد، وعلى ذلك يمكن تعريف عقد تأمين الحياة المؤقت بأنه اتفاق بين المؤمن له يتعهد فيه الأول بسداد مبلغ تأمين متفق عليه للمستفيد أو المستفيدين المعينين في العقد بمجرد وفاة المؤمن على حياته إذا وقعت هذه الوفاة خلال مدة العقد، وذلك نظير قيام المؤمن له بسداد القسط الوحيد أو الأقساط الدورية المستحقة في مواعيدها.</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3</a:t>
            </a:r>
            <a:r>
              <a:rPr b="1" lang="ar-EG" sz="2400" spc="-1" strike="noStrike">
                <a:solidFill>
                  <a:srgbClr val="ffffff"/>
                </a:solidFill>
                <a:latin typeface="Tahoma"/>
              </a:rPr>
              <a:t> ـ عقد تأمين مدى الحياة المؤجل: </a:t>
            </a:r>
            <a:r>
              <a:rPr b="1" lang="en-US" sz="2400" spc="-1" strike="noStrike">
                <a:solidFill>
                  <a:srgbClr val="ffffff"/>
                </a:solidFill>
                <a:latin typeface="Tahoma"/>
                <a:ea typeface="SimSun"/>
              </a:rPr>
              <a:t>Deferred Whole Life</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ؤمن المستفيد أو المستفيدين بعد مضي مدة معينة من تاريخ التعاقد وبدون تحديد مدة بعد ذلك، وعلى ذلك يمكن تعريف عقد تأمين مدى الحياة المؤجل على أنه اتفاق بين المؤمن له يتعهد فيه الأول بدفع مبلغ التأمين المتفق عليه للمستفيدين بمجرد وفاة المؤمن على حياته إذا تحققت هذه الوفاة بعد مدة التأجيل المنصوص عليها في العقد وإينما حدثت الوفاة بعد ذلك، في نظري قيام المستأمن بسداد القسط الوحيد أو ا لأقساط الدورية المستحقة عن هذا العقد عن هذا العقد في مواعيده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عقد التأمين المؤجل المؤقت: </a:t>
            </a:r>
            <a:r>
              <a:rPr b="1" lang="en-US" sz="2800" spc="-1" strike="noStrike">
                <a:solidFill>
                  <a:srgbClr val="ffffff"/>
                </a:solidFill>
                <a:latin typeface="Tahoma"/>
                <a:ea typeface="SimSun"/>
              </a:rPr>
              <a:t>Deferred Term</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و يؤمن المستفيد أو المستفيدين عن خطر وفاة المؤمن على حياته خلال مدة محددة في العقد تبدأ بعد انقضاء مدة تأجيل محددة أيضاً، وعلى ذلك يمكن تعريف العقد بأنه اتفاق بين المؤمن والمؤمن له يتعهد الأول بمقتضاه أن يدفع مبلغ التأمين للمستفيد أو المستفيدين بمجرد وفاة المؤمن على حياته إذا وقعت الوفاة بعد القضاء مدة التأجيل وخلال المدة المؤقتة لسريان الضمان، وذلك في نظري أن يقوم المؤمن له بسداد القسط الوحيد أو الأقساط الدورية المستحقة عن الع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ثاني: مجموعة الوثائق التي تغطي خطر الحياة:</a:t>
            </a:r>
            <a:endParaRPr b="0" lang="en-US" sz="2800" spc="-1" strike="noStrike">
              <a:solidFill>
                <a:srgbClr val="ffffff"/>
              </a:solidFill>
              <a:latin typeface="Tahoma"/>
            </a:endParaRPr>
          </a:p>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عقد تأمين الوقفية البحتة (رأس المال المؤجل): </a:t>
            </a:r>
            <a:r>
              <a:rPr b="1" lang="en-US" sz="2800" spc="-1" strike="noStrike">
                <a:solidFill>
                  <a:srgbClr val="ffffff"/>
                </a:solidFill>
                <a:latin typeface="Tahoma"/>
                <a:ea typeface="SimSun"/>
              </a:rPr>
              <a:t>Pure Endowment</a:t>
            </a:r>
            <a:endParaRPr b="0" lang="en-US" sz="2800" spc="-1" strike="noStrike">
              <a:solidFill>
                <a:srgbClr val="ffffff"/>
              </a:solidFill>
              <a:latin typeface="Tahoma"/>
            </a:endParaRPr>
          </a:p>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ضمن للمؤمن على حياة مبلغاً محدداً في الوثيقة في حالة بقائه حياً إلى نهاية مدة العقد وبذلك يكون مبلغ التأمين موقوفاً على حياة المؤمن على حياته، أما إذا توفى قبل انقضاء المدة المتفق عليها المحددة في العقد فإن العقد يعتبر منتهياً ولا يدفع المؤمن أي شيء إلى ورثة المؤمن على حياته، وعلى ذلك يمكن تعريف عقد تأمين الوقفية البحتة على أنه اتفاق بين المؤمن والمؤمن عليه يتعهد فيه الأول بدفع مبلغ التأمين للثاني في حالة بقائه حياً في نهاية مدة التعاقد، وذلك نظير أن يقوم المؤمن له بسداد القسط الوحيد أو الأقساط الدورية المستحقة عن الع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4"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ـ عقود تأمين المعاشات أو عقود دفعات الحياة: </a:t>
            </a:r>
            <a:r>
              <a:rPr b="1" lang="en-US" sz="2800" spc="-1" strike="noStrike">
                <a:solidFill>
                  <a:srgbClr val="ffffff"/>
                </a:solidFill>
                <a:latin typeface="Tahoma"/>
                <a:ea typeface="SimSun"/>
              </a:rPr>
              <a:t>Life Annuities</a:t>
            </a:r>
            <a:endParaRPr b="0" lang="en-US" sz="2800" spc="-1" strike="noStrike">
              <a:solidFill>
                <a:srgbClr val="ffffff"/>
              </a:solidFill>
              <a:latin typeface="Tahoma"/>
            </a:endParaRPr>
          </a:p>
          <a:p>
            <a:pPr marL="298440" indent="-2984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ضمن للمؤمن على حياته دفعه متساوية، عادة تدفع دورياً ـ سواء في أول أو أخر كل دوره ـ خلال مدة العقد وبشرط أن يكون على قيد الحياة، ويتوقف المؤمن عن دفعها بمجرد وفاة المؤمن على حياته حتى ولو كانت مدة العقد لم تنته بعد، ويحدث أن يكون دفع المعاش سنوياً أو كل نص سنة أو كل ربع سنة أو كل شهر، فيطلق على العقود دفعات الحياة (المعاشات) السنوية أو نصف السنوية أو ربع السنوية أو الشهرية على الترتيب، كما يحدث أن تكون دفعات الحياة هذه متساوية أو متزايدة أو متناقصة حسب رغبة وحاجة المتعاقد علي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6"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تفرع دفعات الحياة (المعاشات) إلى أربعة أنواع حسب المدة في العقد لدفع مبالغ الدفعة خلالها كالآتي:</a:t>
            </a:r>
            <a:endParaRPr b="0" lang="en-US" sz="2400" spc="-1" strike="noStrike">
              <a:solidFill>
                <a:srgbClr val="ffffff"/>
              </a:solidFill>
              <a:latin typeface="Tahoma"/>
            </a:endParaRPr>
          </a:p>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 ـ دفعة أو معاش مدى الحياة: </a:t>
            </a:r>
            <a:r>
              <a:rPr b="1" lang="en-US" sz="2400" spc="-1" strike="noStrike">
                <a:solidFill>
                  <a:srgbClr val="ffffff"/>
                </a:solidFill>
                <a:latin typeface="Tahoma"/>
                <a:ea typeface="SimSun"/>
              </a:rPr>
              <a:t>Whole Life Annuities</a:t>
            </a:r>
            <a:r>
              <a:rPr b="1" lang="en-US" sz="2400" spc="-1" strike="noStrike">
                <a:solidFill>
                  <a:srgbClr val="ffffff"/>
                </a:solidFill>
                <a:latin typeface="Tahoma"/>
                <a:ea typeface="SimSun"/>
              </a:rPr>
              <a:t> </a:t>
            </a:r>
            <a:endParaRPr b="0" lang="en-US" sz="2400" spc="-1" strike="noStrike">
              <a:solidFill>
                <a:srgbClr val="ffffff"/>
              </a:solidFill>
              <a:latin typeface="Tahoma"/>
            </a:endParaRPr>
          </a:p>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تضمن للمؤمن له معاشاً دورياً طالما هو على قيد الحياة وبدون تحديد مدة فإذا كانت الدفعات سنوية مثلاً، فإن الدفعة الأولى من المعاش للمؤمن له أما في أخر السنة الأولى فيطلب عليها دفعات مدى الحياة العادية، أو في أول السنة الأولى فيطلق عليها دفعة مدى الحياة غير العادية أو الفورية، وعلى ذلك يمكن تعريف عقد تأمين معاش أو دفعة مدى الحياة بأنه اتفاق بين المؤمن والمؤمن له بمقتضاه يتعهد الطرف الأول بأن يدفع للطرف الثاني دفعه أو معاش دوري متفق عليه طالما أن المؤمن له على قيد الحياة بشرط أن تدفع الدفعة الأولى خلال وحدة الزمن الأولى، وذلك في نظري أن يقوم المؤمن له بسداد القسط الوحيد المستحق عن العقد دفعة واحدة عند التعاقد، وبهذا يتم سداد القسط قبل أن يستحق دفع الدفعة الأول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ب ـ دفعة أو معاش مدى الحياة المؤجل: </a:t>
            </a:r>
            <a:r>
              <a:rPr b="1" lang="en-US" sz="2800" spc="-1" strike="noStrike">
                <a:solidFill>
                  <a:srgbClr val="ffffff"/>
                </a:solidFill>
                <a:latin typeface="Tahoma"/>
                <a:ea typeface="SimSun"/>
              </a:rPr>
              <a:t>Deferred Whole Life Annuities</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SimSun"/>
              </a:rPr>
              <a:t>	</a:t>
            </a:r>
            <a:r>
              <a:rPr b="0" lang="ar-EG" sz="2800" spc="-1" strike="noStrike">
                <a:solidFill>
                  <a:srgbClr val="ffffff"/>
                </a:solidFill>
                <a:latin typeface="Tahoma"/>
              </a:rPr>
              <a:t>وتضمن للؤمن له معاشاً دورياً طالما هو على قيد الحياة، على أن يبدأ دفع الدفعة أو المعاش بعد انقضاء مدة تأجيل محددة في العقد، وعلى ذلك يمكن تعرف عقد تأمين دفعة مدى الحياة بأنه اتفاق بين المؤمن والمؤمن له بمقتضاه يتعهد الطرف الأول بأن يدفع للطرف الثاني دفعة أو معاش دوري متفق عليه طالما يكون المؤمن له على قيد الحياة، بشرط أن تدفع الدفعة الأولى بعد مضي مدة تأجيل متفق عليها، وذلك في نظير أن يقوم المؤمن له بسداد القسط المستحق عليه دفعة واحدة عند التعاقد أو على أقساط دورية تدفع خلال مدة يكون أقصاها مدة التأجيل المشار إليها، وبهذا يتم سداد القسط أو الأقساط المستحقة قبل استحقاق الدفعة الأولى</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0"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ج ـ دفعة أو معاش الحياة المؤقت: </a:t>
            </a:r>
            <a:r>
              <a:rPr b="1" lang="en-US" sz="2800" spc="-1" strike="noStrike">
                <a:solidFill>
                  <a:srgbClr val="ffffff"/>
                </a:solidFill>
                <a:latin typeface="Tahoma"/>
                <a:ea typeface="SimSun"/>
              </a:rPr>
              <a:t>Term Life Annuities</a:t>
            </a:r>
            <a:r>
              <a:rPr b="1" lang="en-US" sz="2800" spc="-1" strike="noStrike">
                <a:solidFill>
                  <a:srgbClr val="ffffff"/>
                </a:solidFill>
                <a:latin typeface="Tahoma"/>
                <a:ea typeface="SimSun"/>
              </a:rPr>
              <a:t> </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ضمن للمستأمن معاشاً دورياً خلال مدة محددة وطالما هو على قيد الحياة خلال المدة المذكورة، على أن تدفع الدفعة الأولى من المعاش خلال وحدة الزمن الأولى، وعلى ذلك يمكن تعريف عقد دفعة الحياة المؤقتة وأنه اتفاق بين المؤمن والمؤمن له يتعهد بمقتضاه المؤمن بدفع دفعة دورية للمؤمن له خلال مدة محدودة على أن يبدأ دفع الدفعة الأولى منها خلال وحدة الزمن الأولى ويستمر دفعها إلى أن تنتهي المدة وتحدث الوفاة أيهما يقع أولاً، وذلك نظري أن يقوم ا لمؤمن له بسداد القسط المستحق عن العقد دفعة واحدة عند التعاقد، وبهذا يتم سداد القسط قبل أن يستحق دفع الدفعة الأول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4</a:t>
            </a:r>
            <a:r>
              <a:rPr b="1" lang="ar-EG" sz="2400" spc="-1" strike="noStrike">
                <a:solidFill>
                  <a:srgbClr val="ffffff"/>
                </a:solidFill>
                <a:latin typeface="Tahoma"/>
              </a:rPr>
              <a:t>) الخسارة</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نتج عن تحقق الظاهرة الطبيعية في صورة حادث لفرد أو أ:ثر خسارة فعلية في الممتلكات أو الدخول أو كليهما. فإذا شب الحريق في منزل فإن هذا الحادث يترتب عليه نقص في قيمة المنزل أو فناؤه. وهذا النقص أو الفناء يطلق عليه لفظ الخسارة، فإذا تصادف أن كان رب الأسرة بداخلة أثناء الحريق وحدث أن توفى نتيجة الحريق، فإنه يكون قد تحقق كذلك حادث وفاة مما يترتب عليه زوال دخل رب الأسرة بالنسبة لأسرته وضياع هذا الدخل يطلق عليه خسارة حادث وفاة والخسارة أما أن تكون خسارة كلية أو خسارة جزئية.</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والخسارة الكلية تعني فقد الدخل جميعه أو فقد الأصل المملوك فقداً تاماً. فعلى سبيل المثال نجد أن واقعة الوفاة تمثل خطراً يصيب الأسرة بخسارة فعلية كلية لفقد عائلها، ونفس الشيء نلاحظه في حالة واقعة الحريق الذي يصيب أصلاً من الأصول التي يمتلكها الإنسان ويؤدي إلى فقده فقداً تاماً. وفي هذه الحالة نجد أن قيمة الأصل وعائده قد فقداًَ كليهما بسبب فقد الأصل ذاته، وبذلك تكون الخسارة كل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2"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د ـ دفعة أو معاش الحياة المؤقت المؤجل: </a:t>
            </a:r>
            <a:r>
              <a:rPr b="1" lang="en-US" sz="2800" spc="-1" strike="noStrike">
                <a:solidFill>
                  <a:srgbClr val="ffffff"/>
                </a:solidFill>
                <a:latin typeface="Tahoma"/>
                <a:ea typeface="SimSun"/>
              </a:rPr>
              <a:t>Deferred Term Life Annuities</a:t>
            </a:r>
            <a:endParaRPr b="0" lang="en-US" sz="2800" spc="-1" strike="noStrike">
              <a:solidFill>
                <a:srgbClr val="ffffff"/>
              </a:solidFill>
              <a:latin typeface="Tahoma"/>
            </a:endParaRPr>
          </a:p>
          <a:p>
            <a:pPr marL="291600" indent="-2916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تضمن للمستأمن معاشاً دورياً يدفع في حالة بقائه حياً خلال مدة محددة ولكن بعد مضي مدة تأجيل محددة أيضاً، وعلى ذلك يمكن تعرف عقد دفعة الحياة المؤجلة المؤقتة على أنه اتفاق بين المؤمن والمؤمن له يتعهد الأول بمقتضاه أن يدفع إلى الثاني معاشاً دورياً خلال مدة محددة متفق عليها في العقد طالما كان المؤمن له حياً خلال مدة الدفع هذه على أن تدفع الأولى بعد مضي مدة محددة أخرى يطلق عليها مدة التأجيل، ويتم ذلك نظير أن يقوم المؤمن له بسداد القسط المستحقة عن العقد دفعه واحده أو خلال مدة لا تطول عن مدة التأجيل وبهذا يتم سداد الأقساط الدورية قبل استحقاق الدفعة الأول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4"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ثالث: مجموعة الوثائق التي تغطي خطري الحياة والوفاة معاً (العقود المختلطة):</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هتم مجموعة العقود هذه ـ والتي يطلق عليها عادة العقود المختلطة ـ بتأمين خطري الحياة والوفاة معاً بالنسبة لشخص واحد خلال مدة معينة، فإذا حدثت الوفاة خلال المدة يقوم المؤمن بسداد مبلغ تأمين الوفاة إلى الورثة، أما إذا بقى المستأمن حياً إلى نهاية المدة فإنه يتقاضى مبلغ تأمين الحياة هو شخصياً، وقد يتساوى مبلغاً تأمين الحياة والوفاة وقد يختلفان وعلى ذلك يوجد صور متعددة لعقد التأمين المختلفة يظهر معظمها على الصورة التالي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6"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عقد التأمين المختلط: </a:t>
            </a:r>
            <a:endParaRPr b="0" lang="en-US" sz="2400" spc="-1" strike="noStrike">
              <a:solidFill>
                <a:srgbClr val="ffffff"/>
              </a:solidFill>
              <a:latin typeface="Tahoma"/>
            </a:endParaRPr>
          </a:p>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ضمن للؤمن عليه دفع مبلغ تأمين متفق عليه للورثة إذا توفى خلال مدة العقد، كما يضمن أن يدفع له شخصياً نفس مبلغ التأمين إذا بقى حياً إلى نهاية المدة المذكورة، وعلى ذلك يمكن تعريف عقد التأمين المختلط بأنه اتفاق بين المؤمن والمؤمن له يتعهد الأول بمقتضاه أن يدفع للمستفيد أو للمستفيدين مبلغ التأمين في حالة وفاة المؤمن على حياته خلال مدة العقد، كما يتعهد بأن يدفع للؤمن له نفس مبلغ التأمين إذا بقى حيا إلى نهاية مدة العقد، في نظير أن يقوم المؤمن له بسداد القسط الوحيد أو الأقساط الدورية المستحقة عن هذا العقد إلى المؤمن.</a:t>
            </a:r>
            <a:endParaRPr b="0" lang="en-US" sz="2400" spc="-1" strike="noStrike">
              <a:solidFill>
                <a:srgbClr val="ffffff"/>
              </a:solidFill>
              <a:latin typeface="Tahoma"/>
            </a:endParaRPr>
          </a:p>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من الملاحظ أن هذا العقد يتكون من عقدين مختلفين، الأول عقد تأمين مؤقت والثاني عقد وقفية بحتة، مما يترتب عليه أن يكون القسط الخاص بعقد التأمين المختلط مساوياً لقسطي العقدين المشار إليهم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8"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عقد التأمين المختلط المضاعف: </a:t>
            </a:r>
            <a:endParaRPr b="0" lang="en-US" sz="2800" spc="-1" strike="noStrike">
              <a:solidFill>
                <a:srgbClr val="ffffff"/>
              </a:solidFill>
              <a:latin typeface="Tahoma"/>
            </a:endParaRPr>
          </a:p>
          <a:p>
            <a:pPr marL="291600" indent="-2916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ضمن للمؤمن له أن يقوم المؤمن بسداد مبلغ التأمين المحدد إلى المستفيد أو المستفيدين في حالة وفاة المؤمن على حياته خلال مدة العقد، أما إذا بقى على قيد الحياة إلى نهاية مدة العقد فإنه يتقاضى من المؤمن ضعف مبلغ التأمين، وعلى ذلك يمكن تعريف عقد التأمين المختلط المضاعف بأنه اتفاق بين المؤمن والمؤمن له يتعهد بمقتضاه الأول بأن يدفع مبلغ التأمين المذكور في العقد إلى المستفيد أو المستفيدين في حالة وفاة الثاني خلال مدة العقد، كما يتعهد بدفع مبلغ التأمين المذكور في العقد إلى المستفيدون في حالة وفاة الثاني خلال مدة العقد، كما يتعهد بدفع مبلغ التأمين المذكور إذا بقى الأول على قيد الحياة إلى نهاية العقد وذلك في نظري أن يقوم المؤمن له بسداد القسط الوحيد أو الأقساط الدورية المستحقة عن العقد إلى المؤم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5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عقد التأمين المختلط النسب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ضمن للمؤمن له أن يدفع المؤمن مبلغ التأمين المحدد في العقد إلى المستفيد أو المستفيدين في حالة وفاة المؤمن على حياته خلال مدة العقد، كما يضمن أني دفع إلى المؤمن له شخصياً مبلغ تأمين يحدد على أساس أي نسبة يتفق عليها في العقد في حالة بقاء المؤمن على حياته حياً إلى نهاية مدة العقد بذلك يظهر مثلاً عقد التأمين المختلط النصفي ومبلغ تأمين الحياة فهي نصف مبلغ تأمين الوفاة وما إلى ذلك من نسب مختلفة، وفي جميع الحالات يكون مبلغ المذكور في العقد هو عادة مبلغ تأمين الوفاة، والنسبة التي تذكر هي التي تحدد مبلغ تأمين الحيا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 </a:t>
            </a:r>
            <a:endParaRPr b="0" lang="en-US" sz="4400" spc="-1" strike="noStrike">
              <a:solidFill>
                <a:srgbClr val="ffffff"/>
              </a:solidFill>
              <a:latin typeface="Tahoma"/>
            </a:endParaRPr>
          </a:p>
        </p:txBody>
      </p:sp>
      <p:sp>
        <p:nvSpPr>
          <p:cNvPr id="252" name=""/>
          <p:cNvSpPr txBox="1"/>
          <p:nvPr/>
        </p:nvSpPr>
        <p:spPr>
          <a:xfrm>
            <a:off x="457200" y="1905120"/>
            <a:ext cx="8229600" cy="4114800"/>
          </a:xfrm>
          <a:prstGeom prst="rect">
            <a:avLst/>
          </a:prstGeom>
          <a:noFill/>
          <a:ln w="0">
            <a:noFill/>
          </a:ln>
        </p:spPr>
        <p:txBody>
          <a:bodyPr anchor="t">
            <a:normAutofit fontScale="96000"/>
          </a:bodyPr>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1</a:t>
            </a:r>
            <a:r>
              <a:rPr b="1" lang="ar-EG" sz="2800" spc="-1" strike="noStrike">
                <a:solidFill>
                  <a:srgbClr val="ffffff"/>
                </a:solidFill>
                <a:latin typeface="Tahoma"/>
              </a:rPr>
              <a:t>):</a:t>
            </a:r>
            <a:r>
              <a:rPr b="0" lang="ar-EG" sz="2800" spc="-1" strike="noStrike">
                <a:solidFill>
                  <a:srgbClr val="ffffff"/>
                </a:solidFill>
                <a:latin typeface="Tahoma"/>
              </a:rPr>
              <a:t> يقصد بالتأمينات العامة تلك التي تخرج عن نطاق تأمينات الحياة، ويترتب على ذلك أن التأمينات العامة تشمل تأمينات الممتلكات والمسئولية المترتبة عليها، وتأمينات النقل والمسئولية المترتبة عليها أيضاً، وتأمينات الحوادث الأخرى التي لا تنطوي تحت أي من القسمين المذكورين ولا قسم تأمينات الحياة.</a:t>
            </a:r>
            <a:endParaRPr b="0" lang="en-US" sz="2800" spc="-1" strike="noStrike">
              <a:solidFill>
                <a:srgbClr val="ffffff"/>
              </a:solidFill>
              <a:latin typeface="Tahoma"/>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أقسام وثائق التأمينات العامة</a:t>
            </a: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تقسيم وثائق التأمينات العامة إلى ثلاثة أقسام هي:</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4" name=""/>
          <p:cNvSpPr txBox="1"/>
          <p:nvPr/>
        </p:nvSpPr>
        <p:spPr>
          <a:xfrm>
            <a:off x="457200" y="1357200"/>
            <a:ext cx="8229600" cy="5500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وثائق تأمينات الممتلكات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قصد بها تلك التي تغطي الأخطار التي تتعرض لها ممتلكات الأشخاص وهي في وضعها ومكانها الثابتين مثل المنازل والمصانع والمتاجر، وكذلك الإناث والبضاعة والمواد الخام في إمكانها أيضاً، ومن أهم وثائق هذا القسم وثائق تأمين الحريق والتأمينات المشابه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وثائق تأمينات النقل: </a:t>
            </a:r>
            <a:endParaRPr b="0" lang="en-US" sz="2800" spc="-1" strike="noStrike">
              <a:solidFill>
                <a:srgbClr val="ffffff"/>
              </a:solidFill>
              <a:latin typeface="Tahoma"/>
            </a:endParaRPr>
          </a:p>
          <a:p>
            <a:pPr marL="294840" indent="-29484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قصد بها تلك التي تغطي الأخطار التي تتعرض لها المنقولات والشحنات أثناء نقلها من مكان لأخر سواء كانت تنقل بطريقة البر كالسيارات والسكك الحديدية أو عن طريق البحر بالبواخر أو عن طريق الجو باستخدام طائرات النقل أو طائرات الركاب العادية، وكذلك تشتمل هذه المجموعة من </a:t>
            </a:r>
            <a:r>
              <a:rPr b="0" lang="ar-EG" sz="3200" spc="-1" strike="noStrike">
                <a:solidFill>
                  <a:srgbClr val="ffffff"/>
                </a:solidFill>
                <a:latin typeface="Tahoma"/>
              </a:rPr>
              <a:t>الأخطار على الأخطار التي تتعرض لها وسيلة النقل ذاتها</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6" name=""/>
          <p:cNvSpPr txBox="1"/>
          <p:nvPr/>
        </p:nvSpPr>
        <p:spPr>
          <a:xfrm>
            <a:off x="457200" y="1599840"/>
            <a:ext cx="8229600" cy="5257800"/>
          </a:xfrm>
          <a:prstGeom prst="rect">
            <a:avLst/>
          </a:prstGeom>
          <a:noFill/>
          <a:ln w="0">
            <a:noFill/>
          </a:ln>
        </p:spPr>
        <p:txBody>
          <a:bodyPr anchor="t">
            <a:normAutofit fontScale="97000"/>
          </a:bodyPr>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وثائق تأمينات الحوادث والمسئولية المدنية تجاه الغير: </a:t>
            </a:r>
            <a:endParaRPr b="0" lang="en-US" sz="2800" spc="-1" strike="noStrike">
              <a:solidFill>
                <a:srgbClr val="ffffff"/>
              </a:solidFill>
              <a:latin typeface="Tahoma"/>
            </a:endParaRPr>
          </a:p>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المقصود بأخطار الحوادث هي جميع الأخطار التي يمكن أن تحدث ولا تقع تحت أي نوع من النوعين السابقين أو ضمن أخطار الحياة ومن أمثلتها: انفجار الغلايات، السوقة، الاختلاس، الحوادث الشخصية..إلخ.</a:t>
            </a:r>
            <a:endParaRPr b="0" lang="en-US" sz="2800" spc="-1" strike="noStrike">
              <a:solidFill>
                <a:srgbClr val="ffffff"/>
              </a:solidFill>
              <a:latin typeface="Tahoma"/>
            </a:endParaRPr>
          </a:p>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أما المقصود بأخطار المسئولية المدنية تجاه الغير كنتيجة لتسببه أو أحد تابعية أو لقصور في ممتلكاته في حدوث خسائر مالية للغير سواء في أجسامهم أو ممتلكاتهم، ومن أمثلتها المسئولية المدنية لأصحاب المهن الحرة تجاه عملائهم كالأطباء، المهندسين، المقاولين، المحاسبين.</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8" name=""/>
          <p:cNvSpPr txBox="1"/>
          <p:nvPr/>
        </p:nvSpPr>
        <p:spPr>
          <a:xfrm>
            <a:off x="457200" y="1599840"/>
            <a:ext cx="8229600" cy="590076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سمات الخاصة بالأخطار التي تتضمنها وثائق التأمينات العامة</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بالرغم من تعدد الأخطار والحوادث والخسائر التي تغطيها مجموعة وثائق التأمينات العامة بأقسامها المختلفة، إلا أنها تشترك جميعاًَ في صفات جوهرية تميزها في مجموعها عن وثائق تأمينات الحياة، وفيما يلي أهم السمات:</a:t>
            </a:r>
            <a:endParaRPr b="0" lang="en-US" sz="2800" spc="-1" strike="noStrike">
              <a:solidFill>
                <a:srgbClr val="ffffff"/>
              </a:solidFill>
              <a:latin typeface="Tahoma"/>
            </a:endParaRPr>
          </a:p>
          <a:p>
            <a:pPr lvl="1" marL="646200" indent="-2484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ذه الأخطار تتعلق بممتلكات الشخص أو مسئوليته المدنية تجاه الغير، ولكن لا تتعلق بإيراداته أو دخله التي تتأثر بحياته أو وفاته.</a:t>
            </a:r>
            <a:endParaRPr b="0" lang="en-US" sz="2800" spc="-1" strike="noStrike">
              <a:solidFill>
                <a:srgbClr val="ffffff"/>
              </a:solidFill>
              <a:latin typeface="Tahoma"/>
            </a:endParaRPr>
          </a:p>
          <a:p>
            <a:pPr lvl="1" marL="646200" indent="-2484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سم هذه الأخطار بثبات درجة خطورتها من فترة زمنية لأخرى، وبالتالي فإن احتمال تحقق الحادث يتسم بالثبات ويترتب عليه أن حجم الخسارة المتوقعة كنتيجة تحقق الحادث يكون ثابت، بعكس أخطار الحياة وبالذات خطر الوفاة الذي يتزايد من فترة زمنية لأخرى مع التقدم في العمر.</a:t>
            </a:r>
            <a:endParaRPr b="0" lang="en-US" sz="2800" spc="-1" strike="noStrike">
              <a:solidFill>
                <a:srgbClr val="ffffff"/>
              </a:solidFill>
              <a:latin typeface="Tahoma"/>
            </a:endParaRPr>
          </a:p>
          <a:p>
            <a:pPr marL="298440" indent="-2984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0" name=""/>
          <p:cNvSpPr txBox="1"/>
          <p:nvPr/>
        </p:nvSpPr>
        <p:spPr>
          <a:xfrm>
            <a:off x="457200" y="1600200"/>
            <a:ext cx="8229600" cy="4829040"/>
          </a:xfrm>
          <a:prstGeom prst="rect">
            <a:avLst/>
          </a:prstGeom>
          <a:noFill/>
          <a:ln w="0">
            <a:noFill/>
          </a:ln>
        </p:spPr>
        <p:txBody>
          <a:bodyPr anchor="t">
            <a:normAutofit fontScale="84000"/>
          </a:bodyPr>
          <a:p>
            <a:pPr lvl="1" marL="623880" indent="-23976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خسارة المالية المترتبة على تحقق الحادث الخاص بوثائق التأمينات العامة قد تكون خسارة كلية أي تؤدي إلى فناء الأصل موضوع الخطر بالكامل وقد تكون خسارة جزئية تؤدي إلى نقص في قيمة الأصل موضوع الخطر بالكامل وقد تكون خسارة جزئية تؤدي إلى نقص في قيمة الأصل موضوع الخطر، بعكس أخطار الحياة التي تكون فيها الخسارة خسارة كلية.</a:t>
            </a:r>
            <a:endParaRPr b="0" lang="en-US" sz="2800" spc="-1" strike="noStrike">
              <a:solidFill>
                <a:srgbClr val="ffffff"/>
              </a:solidFill>
              <a:latin typeface="Tahoma"/>
            </a:endParaRPr>
          </a:p>
          <a:p>
            <a:pPr lvl="1" marL="623880" indent="-23976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 السهل تحديد قيمة الأصل موضوع الخطر بدقة قبل حدوث الحادث المسبب للخسارة المالية، وكذلك من السهل تقدير قيمة هذا الأصل بعد حدوث الحادث وبالتالي يمكن تقدير قيمة الخسارة المالية الناشئة عن تحقق الخطر بدقة، بعكس أخطار الحياة التي يصعب تقدير قيمة الخسارة المالية المترتبة عنه.</a:t>
            </a:r>
            <a:endParaRPr b="0" lang="en-US" sz="2800" spc="-1" strike="noStrike">
              <a:solidFill>
                <a:srgbClr val="ffffff"/>
              </a:solidFill>
              <a:latin typeface="Tahoma"/>
            </a:endParaRPr>
          </a:p>
          <a:p>
            <a:pPr marL="288000" indent="-2880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ما الخسارة الجزئية فتنشأ في حالة إذا ما ترتب على حادث شخصي فقد الإنسان فيه أحد أطرافه أو أصيب بمرض أقعده عن عمله لفترة مؤقتة، ففي هذه الحالة تكون الخسارة جزئية، وتصادف أيضاً الخسارة الجزئية بالنسبة للأصول يمتلكها الإنسان، فقد يترتب على تحقق حادث الحريق مثلاً فقد قيمة جزء من الأصل وليس الأصل كله، فهنا تكون الخسارة جزئي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2" name=""/>
          <p:cNvSpPr txBox="1"/>
          <p:nvPr/>
        </p:nvSpPr>
        <p:spPr>
          <a:xfrm>
            <a:off x="457200" y="1599840"/>
            <a:ext cx="8229600" cy="490068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 </a:t>
            </a:r>
            <a:r>
              <a:rPr b="1" lang="ar-EG" sz="2800" spc="-1" strike="noStrike">
                <a:solidFill>
                  <a:srgbClr val="ffffff"/>
                </a:solidFill>
                <a:latin typeface="Tahoma"/>
              </a:rPr>
              <a:t>4</a:t>
            </a:r>
            <a:r>
              <a:rPr b="1" lang="ar-EG" sz="2800" spc="-1" strike="noStrike">
                <a:solidFill>
                  <a:srgbClr val="ffffff"/>
                </a:solidFill>
                <a:latin typeface="Tahoma"/>
              </a:rPr>
              <a:t>) السمات الخاصة بوثائق التأمينات العام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نعكس صفات الأخطار العامة السابقة الإشارة إليها على وثائق التأمين التي تغطي تلك الأخطار، ونذكر فيما يلي أهم السمات التي تتميز بها وثائق التأمينات العام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عظم وثائق التأمينات العامة من وثائق التعويض، وقليل منها من الوثائق المحددة القيمة، وهذا راجع إلى اختلاف قيمة الخسارة التي تنتج عن حادث متشابه من حالة لأخرى مما يترتب عليه تعوض المستأمن في حدود الخسارة التي أصابته فقط.</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بالرغم من هذا الاستثناء إلا أن جميع وثائق التأمينات العامة لا تبيح للمستأمن بأن   يتقاضى مبالغ تعويض مكررة من عدة مؤمنين على عكس الحال في وثائق تأمين الحياة.</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4"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صدر وثائق التأمينات عادة لمدة سنة ويطلق عليها الوثيقة السنوية، وقد يحدث أن تصدر وثيقة التأمينات العامة لتغطي مدة ثلاثة أو خمسة سنوات فيطلق عليها وثيقة مدة. وفي الحالة الأخيرة يدفع المستأمن قسط السنوات التالية للسنة الأولى بواقع </a:t>
            </a:r>
            <a:r>
              <a:rPr b="0" lang="ar-EG" sz="2800" spc="-1" strike="noStrike">
                <a:solidFill>
                  <a:srgbClr val="ffffff"/>
                </a:solidFill>
                <a:latin typeface="Tahoma"/>
              </a:rPr>
              <a:t>75</a:t>
            </a:r>
            <a:r>
              <a:rPr b="0" lang="ar-EG" sz="2800" spc="-1" strike="noStrike">
                <a:solidFill>
                  <a:srgbClr val="ffffff"/>
                </a:solidFill>
                <a:latin typeface="Tahoma"/>
              </a:rPr>
              <a:t>% من قسط السنة الأولى، وفي جميع الحالات لا توجد وثائق تأمينات عامة غير محددة المدة بعكس ما هو حادث فعلاً في تأمينات الحياة.</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ترتب على ثبات درجة الخطورة واحتمال حدوث الحادث وحجم الخسارة المتوقعة بالنسبة للأخطار العامة أن تكون أقساط التأمين السنوية متساوية بطبيعتها.</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6"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دفع أقساط وثائق التأمينات العامة عند التعاقد مرة واحدة بالنسبة للوثائق السنوية، وفي أول كل سنة بالنسبة لوثائق المدة، وكل قسط من الأقساط يغطي تكلفة الخطر عن سن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ذا حدث أن طلب أحد الطرفين إلغاء الوثيقة خلال سنة سريانها نتيجة وجود شرط فيها يبيح له ذلك، فإن المستأمن يطالب المؤمن يرد جزء من قسط السنة الذي دفعه له عند بدايتها ذلك لأن الضمان تم لمدة أقل من المدة المتفق عليها في الوثيقة.</a:t>
            </a:r>
            <a:endParaRPr b="0" lang="en-US" sz="2800" spc="-1" strike="noStrike">
              <a:solidFill>
                <a:srgbClr val="ffffff"/>
              </a:solidFill>
              <a:latin typeface="Tahoma"/>
            </a:endParaRPr>
          </a:p>
          <a:p>
            <a:pPr marL="301680" indent="-301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EG"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0"/>
            <a:ext cx="8229600" cy="16430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 </a:t>
            </a:r>
            <a:br>
              <a:rPr sz="4400"/>
            </a:br>
            <a:endParaRPr b="0" lang="en-US" sz="4400" spc="-1" strike="noStrike">
              <a:solidFill>
                <a:srgbClr val="ffffff"/>
              </a:solidFill>
              <a:latin typeface="Tahoma"/>
            </a:endParaRPr>
          </a:p>
        </p:txBody>
      </p:sp>
      <p:sp>
        <p:nvSpPr>
          <p:cNvPr id="268"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نتشر هيئات التأمين انتشاراً ملحوظاًَ في جميع أنحاء العالم، وبالرغم من تعدد هذه الهيئات إلا أنها جميعاً تقوم بدور هام في مجال التقدم الاقتصادي للبلد، كما أن لهذه الهيئات خصائص تميزها عن باقي الهيئات الأخرى.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همية هيئات التأمين للاقتصاد القومي:</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تجميع المدخرات الوطن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أنواعها المختلفة بتجميع أقساط التأمين من المؤمن لهم وتقديمها في هيئة قروض واستثمارات لتمويل مشروعات الخطة الاقتصادية، وكذلك تساهم هيئات التأمين بأنواعها المختلفة في تمويل الحكومات أثناء الحروب.</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0"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a:t>
            </a:r>
            <a:r>
              <a:rPr b="1" lang="ar-EG" sz="2800" spc="-1" strike="noStrike">
                <a:solidFill>
                  <a:srgbClr val="ffffff"/>
                </a:solidFill>
                <a:latin typeface="Tahoma"/>
              </a:rPr>
              <a:t> </a:t>
            </a:r>
            <a:r>
              <a:rPr b="1" lang="ar-EG" sz="2800" spc="-1" strike="noStrike">
                <a:solidFill>
                  <a:srgbClr val="ffffff"/>
                </a:solidFill>
                <a:latin typeface="Tahoma"/>
              </a:rPr>
              <a:t>2</a:t>
            </a:r>
            <a:r>
              <a:rPr b="1" lang="ar-EG" sz="2800" spc="-1" strike="noStrike">
                <a:solidFill>
                  <a:srgbClr val="ffffff"/>
                </a:solidFill>
                <a:latin typeface="Tahoma"/>
              </a:rPr>
              <a:t> ـ زيادة الكفاية الإنتاجية:</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دور هام في الحفاظ على حياة الفرد الإنتاجية وضمانها للآخرين وهذا بدوره يؤدي إلى بث الطمأنينة في نفوس أصحاب الأعمال والعاملين في كافة القطاعات الاقتصادية مما يؤدي إلى زيادة الكفاية الإنتاجية لدى رجال الأعمال والعاملين وبالتالي استقرار المشروعات حيث أن التأمين يساعد على إزالة عنصر عدم الاطمئنان من حياة المشروعات ورجال الأعمال والعاملين، ويجنبهم الخسائر الفادحة التي قد تؤدي بهذه المشروعات لولا وجود التأمين الذي يغطي بعض المخاطر الكبيرة في كافة جوانب المشروع</a:t>
            </a:r>
            <a:endParaRPr b="0" lang="en-US" sz="2800" spc="-1" strike="noStrike">
              <a:solidFill>
                <a:srgbClr val="ffffff"/>
              </a:solidFill>
              <a:latin typeface="Tahoma"/>
            </a:endParaRPr>
          </a:p>
          <a:p>
            <a:pPr marL="305280" indent="-30528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2" name=""/>
          <p:cNvSpPr txBox="1"/>
          <p:nvPr/>
        </p:nvSpPr>
        <p:spPr>
          <a:xfrm>
            <a:off x="457200" y="1599840"/>
            <a:ext cx="8229600" cy="590076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المحافظة على رؤوس الأموال:</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تعويض الخسائر التي تصيب رؤوس الأموال الممثلة في استثمارات الاقتصاد القومي مما يساعد على توفير الرخاء والرفاهية الاقتصادية لأفراد المجتمع وبالتالي خلق مجتمع مستقر متماسك.</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خلق فرص عمل:</a:t>
            </a:r>
            <a:endParaRPr b="0" lang="en-US" sz="2800" spc="-1" strike="noStrike">
              <a:solidFill>
                <a:srgbClr val="ffffff"/>
              </a:solidFill>
              <a:latin typeface="Tahoma"/>
            </a:endParaRPr>
          </a:p>
          <a:p>
            <a:pPr marL="318960" indent="-31896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مثل هيئات التأمين قطاعاً اقتصادياً هاماً يستوعب عدداً كبيراً من الأيدي العاملة مما يؤدي إلى رفع نسبة العمالة في المجتمع حيث أن حقل التأمين من الحقول الغنية التي يمكن أن تساهم مساهمة فعالة في المحافظة  على مستوى معين من العمالة ومحاربة البطالة بما يتيحه من فرص عمل لكثيرين، أيضاً النمو والتطور المستمر لهيئات التأمين نمو مماثل في قدرتها على استيعاب عدد أكبر من الأيدي العاملة</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4" name=""/>
          <p:cNvSpPr txBox="1"/>
          <p:nvPr/>
        </p:nvSpPr>
        <p:spPr>
          <a:xfrm>
            <a:off x="457200" y="1599840"/>
            <a:ext cx="8229600" cy="590076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إدارة الأخطار:</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إدارة الأخطار التي تتعرض لها وسائل الإنتاج المختلفة في المشروعات الإنتاجية، وهذا يتيح للإدارة في المشروعات الإنتاجية التفرغ لتطوير الإنتاج والارتفاع بمستوى الإنتاجية مما يساعد على تحقيق الاستقرار الكامل للمشروعات وبالتالي دفع عجلة الإنتاج وتقدمه في المجتمع ككل.</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 ـ تطور وسائل منع الحوادث:</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عمل هيئات التأمين على تطوير وسائل منع الحوادث أو تقليلها، حيث تقوم بإنفاق مبالغ طائلة على أبحاث تتعلق بدراسة أسباب الحوادث والعمل على تفاديها وإمكانية تقليل الخسائر المادية المترتبة عليها. وهذا يؤدي بدوره إلى الحد من تكرار الحوادث والخسائر التي يتعرض لها الأفراد والمشروعات وما لذلك من أثره على المجتمع وأفراده ونموه وتقدمه.</a:t>
            </a:r>
            <a:endParaRPr b="0" lang="en-US" sz="2800" spc="-1" strike="noStrike">
              <a:solidFill>
                <a:srgbClr val="ffffff"/>
              </a:solidFill>
              <a:latin typeface="Tahoma"/>
            </a:endParaRPr>
          </a:p>
          <a:p>
            <a:pPr marL="298440" indent="-2984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6"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تحسين ميزان المدف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دور كبير في تحسين ميزان المدفوعات ممثلاً ذلك فيما تحصل عليه شركات التأمين الوطنية من عملات صعبة مقابل الخدمات التأمينية التي تقدمه للأجانب وعائد استثماراتها، كذلك أدى ظهور هيئات التأمين إلى نمو التجارة الخارجية وتحسن ميزان المدف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9</a:t>
            </a:r>
            <a:r>
              <a:rPr b="1" lang="ar-EG" sz="2800" spc="-1" strike="noStrike">
                <a:solidFill>
                  <a:srgbClr val="ffffff"/>
                </a:solidFill>
                <a:latin typeface="Tahoma"/>
              </a:rPr>
              <a:t>ـ </a:t>
            </a:r>
            <a:r>
              <a:rPr b="1" lang="ar-EG" sz="2800" spc="-1" strike="noStrike">
                <a:solidFill>
                  <a:srgbClr val="ffffff"/>
                </a:solidFill>
                <a:latin typeface="Tahoma"/>
              </a:rPr>
              <a:t>2</a:t>
            </a:r>
            <a:r>
              <a:rPr b="1" lang="ar-EG" sz="2800" spc="-1" strike="noStrike">
                <a:solidFill>
                  <a:srgbClr val="ffffff"/>
                </a:solidFill>
                <a:latin typeface="Tahoma"/>
              </a:rPr>
              <a:t>) الخصائص المميزة لهيئات التأمين</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تميز هيئات التأمين بعدة خصائص نتيجة اختلاف طبيعة العمليات التأمينية نفسها عن العمليات الاقتصادية الأخرى.. وأهم هذه الخصائص ما يلي:</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8"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هيئات التأمين هيئات ذات ثقة عال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لابد من توافر الثقة في مالية هيئة التأمين، فيجب أن يكون تعاقدها موثوقاً به بدون أن يحتاج ذلك إلى ضمان أو رأي، بل يكفي كتابة العقد ودفع القسط حتى تسهل العملية التأمينية.. فالهيئات التأمينية تعتمد على رأسمالها والاحتياجات القانونية في تدعيم هذه الثقة المالية وأيضاً الإشراف الحكومي على هذه الهيئات يقوم بدور فعال في توطيد هذه الثق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0"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إنتاجية هيئات التأمين تتوقف على رأس المال المدفوع:</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ن مقدرة هيئة التأمين الإنتاجية تتوقف تماماً على رأس المال المدفوع وما في حكمه من أموال داخل الشركة (احتياجات) بينما في الشركات الصناعية يمكن زيادة المقدرة الإنتاجية بعقد القروض القصيرة والطويلة الأجل، لذلك فرض المشرع حد أدنى لرأسمال هيئة التأمين وحدد مقدرتها في تغطية الأخطار بحد أقصى يتناسب مع ما يكون لدى الشركة من رأسمال واحتياطات، حيث أن القرض لدى شركات التأمين يضمن نفسه فقط ولذلك فإن هيئات التأمين لا تصدر سندات أو تفترض قروض للعمليات التأمينية.</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07:48:34Z</dcterms:created>
  <dc:creator>zafer</dc:creator>
  <dc:description/>
  <dc:language>en-US</dc:language>
  <cp:lastModifiedBy>user</cp:lastModifiedBy>
  <dcterms:modified xsi:type="dcterms:W3CDTF">2010-11-06T11:03:20Z</dcterms:modified>
  <cp:revision>26</cp:revision>
  <dc:subject/>
  <dc:title>محاضرات في  مبادئ التأمين 101 تأم -202 مال</dc:title>
</cp:coreProperties>
</file>