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03C4-0493-449C-A840-FC2F8ED5B0E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ذ</a:t>
            </a:r>
            <a:r>
              <a:rPr b="0" lang="ar-SA" sz="1200" spc="-1" strike="noStrike">
                <a:solidFill>
                  <a:srgbClr val="000000"/>
                </a:solidFill>
                <a:latin typeface="Calibri"/>
              </a:rPr>
              <a:t>	</a:t>
            </a:r>
            <a:r>
              <a:rPr b="0" lang="ar-SA" sz="1200" spc="-1" strike="noStrike">
                <a:solidFill>
                  <a:srgbClr val="000000"/>
                </a:solidFill>
                <a:latin typeface="Calibri"/>
              </a:rPr>
              <a:t>1</a:t>
            </a:r>
            <a:r>
              <a:rPr b="0" lang="ar-SA" sz="1200" spc="-1" strike="noStrike">
                <a:solidFill>
                  <a:srgbClr val="000000"/>
                </a:solidFill>
                <a:latin typeface="Calibri"/>
              </a:rPr>
              <a:t>ذ</a:t>
            </a:r>
            <a:r>
              <a:rPr b="0" lang="ar-SA" sz="1200" spc="-1" strike="noStrike">
                <a:solidFill>
                  <a:srgbClr val="000000"/>
                </a:solidFill>
                <a:latin typeface="Calibri"/>
              </a:rPr>
              <a:t>	</a:t>
            </a:r>
            <a:endParaRPr b="0" lang="en-US" sz="1200" spc="-1" strike="noStrike">
              <a:solidFill>
                <a:srgbClr val="000000"/>
              </a:solidFill>
              <a:latin typeface="Calibri"/>
            </a:endParaRPr>
          </a:p>
        </p:txBody>
      </p:sp>
      <p:sp>
        <p:nvSpPr>
          <p:cNvPr id="5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17E2-D5A7-4666-AC46-77EE9C15E0EC}"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DEABB-2769-42F9-A67C-7BDD07475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2C11E-5C8F-4A55-A8D5-C730CB8AD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CED650-132B-4D89-A628-66BC9E9DA5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DBE550-18E8-40DF-B6AC-DF02B9957F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3698A9-457B-4139-8056-FF567E911B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EFC654-4BDB-40CD-B67B-F608D23A95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11242D-BD20-445B-A72B-84DB2B41ED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49BEE2-8D0B-4993-8E55-0EDBE64276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3E5DC5-DE5A-4242-BF0E-FC83889F75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F3D825-74B3-4B12-BE28-03BEC9EAC3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EC2C64-5655-4AB1-A0D4-3A79141E58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4B7C832-FD8C-4B67-BECF-E5AB45E866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F3B30-2434-40CF-8DE7-1D6F813CD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4E867A-1C56-48E9-9A28-D035AC2BA2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A85B3C-49BB-486D-831D-CA9015C704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248CC7-EBB2-43E3-ACB1-FF801A6C7B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0CF799-96AC-4DF3-ABFA-E54F88390B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E93094-EDDA-4813-B95F-714C4B0047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0AEDCE-D6A8-4E5F-9CF0-4EE5F1646E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489122-79AE-40F8-88C1-A476B512A0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1CAC3D-2498-4BD1-91C9-72182D8F5A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E66380-225C-4172-A6CC-DCC7BF6882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87DC53-30BB-4E3D-A9E5-42A5804ECC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DBDC5-FD4C-452A-83D4-C41FC42E9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143797C-5AD1-49E3-A903-A9317716A6C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F102C92-43B1-4F24-91DE-062722FE5CD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301A92-ACBC-476E-AEB0-158D82676A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4AFA08-4622-45F5-BEF8-D75C04CB53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BE6A37-CC08-4F06-94F7-07C3579751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FE0200-9CC4-4D6E-99B2-17A9D0734C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59C9A3-17F5-4D72-89CF-844520A95E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A754B8-ACFD-43E1-8F3D-E419E56187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3095E8-F490-4B78-B657-B7C91C007E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9394B0-18AA-4DD8-998E-34FD4C37E0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64AA0-B57F-45A1-86BD-904EE3E7E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905FBF-F728-4BD4-8633-DDA028BF5A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F1E1291-E9B0-42A4-A06F-006C35A810B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B3B02D-61F5-4498-A0E1-D54E5A71DAD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6FAB0FE-19B0-4125-ABA2-725FE45FA38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44D296-A136-43AB-BA8D-E7EBF06FD6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85CAF7-D79F-4799-8D1E-45F7162FE7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1498C5-DBB3-4E7F-A759-B2CA80D0B3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CCBDBE-C0F6-4CC3-81FE-74E56ED015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0DCA78-1383-4BD2-895D-C8EC52140C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B5DCEB-C556-4650-9A80-B6E344641A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84EB9-E0F7-4A1F-8B09-9A79207D5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FDB1CD-CF7E-4550-A179-D69E7C24D0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E9F055-9764-4CD9-BC78-DD876EB651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9E9B26-6F2B-478F-B73C-02879E539D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7602A5-5A20-48A3-9A07-A06E7A2A74F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9C2D27B-C0FC-4FFF-A749-D47846D712C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D302A-CAA3-4F1D-9FE3-793815C1B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28102-0586-4129-973B-1E7E95C0E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8B2B7-8EB5-47D7-8F62-BF259AE9E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2E42D-2FBF-4752-87B4-448C0D13E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95C00-1411-46BB-AC85-7423D3BB1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0378F-BFFA-4B06-AF2E-F2BB9DEBE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D1B73-32BA-4B02-8A70-9DFF353FB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9ED80-AC6E-4D17-AC38-C3005782C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FA5C8-8D1A-4E74-80A0-9D5D4D40D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E2E638-E9A9-4B18-A988-ECA89A0B2D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DCF91F-7E56-4777-B207-D5E8507EF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E8829F-F1FB-4FE8-AC21-AB85981B97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72AD93-A34A-4C90-AA3A-664809F4B8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27490D-B8A8-42B2-8FBC-3FBE17C50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944B97-82DF-4A74-BE0D-B4A7423A06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F78C57-CE60-4F9A-B489-670ACE15B5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95CBE-8D1A-4B26-9DB4-ED2393564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A24EA2-0A00-40B8-8EA1-AE1BD2A967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29239C-8AF0-4EEB-9869-9C7D649CCA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C0B4A5-A076-4E3A-B0CE-963D323B6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B3537-9A51-47B0-BBBF-E09D3748FF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7F9659-58B8-4E44-B93D-C17EA77F19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65BF8E-3EA9-4183-941F-5872F703F0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043A99-B32A-4C37-943D-3DB3823B4D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81B6CE-B862-44FA-AA39-E89D3F814F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4D9B0-31CE-4965-8756-8320C6629A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6B3FE2-E8C8-4AE0-AD91-C49F1CE465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C95B6-B702-440B-8BC3-E17C7C4DA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282A3-73CA-471F-A115-AD4A1DCE1E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BD2A66-3179-43B0-A0CD-43936A9312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8C23B1-6A13-4330-B447-AE3B27FDCC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DCD5A3-18DC-4BC1-9200-514F1B4581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569BFD-3E8F-43C1-B36A-3B620415E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4DD5AA-DD21-49AF-83A9-3C78385AC9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22EF93-7DFE-4359-873B-837F08DF62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5980E4-F40B-469A-915C-0EE5C037A9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A43C58-F14A-44DB-921A-E5ED62130A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2DC7D2-1ACD-4C78-A8B5-D7949B2E30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3C272-DAF5-4A96-820B-C838641F8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89363B-CE49-40C5-B5D9-E871FBEA24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D38047-3677-4F14-A363-BC48BB2AF7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A65C13-1B30-449C-B9E6-16D3D62189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28C28E-B3AE-4F4D-A6DE-3F3DC71046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7F746C-FC37-41CC-867C-86C46C75C5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9FB422-DA76-4033-BF10-10088FA6F9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E24B9D-E7A8-4F4B-B90D-BDAA79250F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7B3DFE-4385-499B-84D7-F86089C200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8BFD04-8A68-4702-8A8C-3FAD86F6C3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5FDE6E-031C-4F2A-BEAF-38221E7E93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0730D-2C2C-4D2B-AC80-BDDB6A414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49297E-F243-4C33-BB0D-9B45DC0999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54F1EB-D36D-4455-A8E9-7CD19B3E07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94D1F1-CC76-48B6-B148-C9B68BC082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B5AFA3-7FBF-4237-BE51-E0D422AC1D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219738-3B46-4D45-BA1E-1FD7F1414E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BFEEEB-5C7E-4740-94DB-652F7164DF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B5C554-40BC-4AE9-9CFD-973B7B9A0B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8BC578-2EDF-43AF-98F4-AC6CF27F3B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38D5A3-6811-4CF3-A185-DA1AF554AC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752C10-0426-4064-ADBB-3D8F4DC02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C8C60-F04D-49EB-9825-732DDFC47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B52BB7-C51A-4A98-883F-1ECC77C441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2BF586-2F0F-4FBE-BCA5-267E01F3E1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CD90B8-7E84-47C5-A83E-887B284D40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C1AA87-13D6-4FE8-90B5-6A8EF1EE91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C81EA6-A85C-4913-9E4F-96FC598D49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387FE3-AF78-4F6B-8B42-B3EF483782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AC119A-9774-4020-9FCA-284A78AB1A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7DB30D-1A61-4A11-86E4-3E30197749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E94192-E9C6-4F7F-8851-8210A26D12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4549BF-7438-4204-9A6D-28DEC43D95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5507B-3250-4293-81B2-39C39C013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CA5D89-5F57-4FF5-8509-0F0ED80F10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5740C3-DC61-4147-A4BD-8ED78F0E77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606B32-8ABB-48E3-BA89-D9261D09EC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7E5E11-D101-4CED-AA53-A467F4CB8D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8E23C9-0B60-40AA-B61C-3E63FE1690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173004-567B-4B14-9842-08A7343F38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560542-8E41-47CA-98DC-3CC173765D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938C84-F8B6-4BB0-9691-D4D57B0C78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265800-A6D4-4E87-8433-74C4D5A9D3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F69CAB-021C-4EAE-993B-6D51587BF4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CA033-69EC-4CE6-95B6-B87DC31F3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1CFAFD-AAB2-4265-B308-CE61DBB164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ABF8F6-8E71-4B2D-861B-AB22B6792C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F188A2-9290-4B0C-9208-F71C8C9A15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EBDDD8-6810-4CB1-9DBA-F4C216D54A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C38996-50E5-427E-8BAF-F881B1F8E4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18EE42-8296-455A-AED2-3F41321CDA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6A6163-C785-4CB8-BCC4-3688FF788D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E44053-EDDE-4F5E-B9AD-80B16C4E5D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40966D-2764-44FF-9F8B-E874027A9C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E3EFDE-D20E-4D04-9E2E-1B7F56713FF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FA4E-7CB2-49B2-B5A5-79ED5B1B84DA}"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5328-53DA-4251-A652-182B7038F8BB}"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E64F-8ED7-4555-B532-474C46F316C8}"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0626-E543-4F56-86BE-7ACF21E0CF4A}"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1C4E-87B6-4843-B6B9-9F3FF16B9316}"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8258-25F4-4076-9E29-E162E15D264F}"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7F1D-CCDD-4188-8F4B-AD60031C5A10}"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B81E-55E3-48D9-A7E7-696D58066B21}"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F2BC-B959-45CE-BE56-6E29B08CB448}"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D358E-EC38-4E09-98AD-2E177E655FC7}"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DDFC-CA6E-4403-A34D-90F437FAB940}"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2665-D23F-4AED-AC90-23F470EDDCC5}"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4360" y="404640"/>
            <a:ext cx="7772400" cy="1470240"/>
          </a:xfrm>
          <a:prstGeom prst="rect">
            <a:avLst/>
          </a:prstGeom>
          <a:solidFill>
            <a:srgbClr val="ffffff"/>
          </a:solidFill>
          <a:ln w="25560">
            <a:solidFill>
              <a:srgbClr val="4f81bd"/>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Arial"/>
              </a:rPr>
              <a:t>اوجست كونت</a:t>
            </a:r>
            <a:endParaRPr b="0" lang="en-US" sz="4400" spc="-1" strike="noStrike">
              <a:solidFill>
                <a:srgbClr val="000000"/>
              </a:solidFill>
              <a:latin typeface="Calibri"/>
            </a:endParaRPr>
          </a:p>
        </p:txBody>
      </p:sp>
      <p:pic>
        <p:nvPicPr>
          <p:cNvPr id="500" name="صورة 3" descr="150px-Auguste_Comte.jpg"/>
          <p:cNvPicPr/>
          <p:nvPr/>
        </p:nvPicPr>
        <p:blipFill>
          <a:blip r:embed="rId1"/>
          <a:stretch/>
        </p:blipFill>
        <p:spPr>
          <a:xfrm>
            <a:off x="2627280" y="2565360"/>
            <a:ext cx="3889440" cy="395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0"/>
            <a:ext cx="8229600" cy="1773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اولاً: الملاحظة:</a:t>
            </a:r>
            <a:br>
              <a:rPr sz="4000"/>
            </a:br>
            <a:r>
              <a:rPr b="0" lang="ar-SA" sz="4000" spc="-1" strike="noStrike">
                <a:solidFill>
                  <a:srgbClr val="ff0000"/>
                </a:solidFill>
                <a:latin typeface="Calibri"/>
              </a:rPr>
              <a:t>مميزات خصائص منهج الملاحظة عند اوجست كونت:</a:t>
            </a:r>
            <a:endParaRPr b="0" lang="en-US" sz="4000" spc="-1" strike="noStrike">
              <a:solidFill>
                <a:srgbClr val="000000"/>
              </a:solidFill>
              <a:latin typeface="Calibri"/>
            </a:endParaRPr>
          </a:p>
        </p:txBody>
      </p:sp>
      <p:sp>
        <p:nvSpPr>
          <p:cNvPr id="517" name=""/>
          <p:cNvSpPr txBox="1"/>
          <p:nvPr/>
        </p:nvSpPr>
        <p:spPr>
          <a:xfrm>
            <a:off x="457200" y="1773360"/>
            <a:ext cx="8229600" cy="453528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ملاحظة الاجتماعية هي أول قواعد المنهج الذي وضعها اوجست كونت </a:t>
            </a:r>
            <a:r>
              <a:rPr b="0" lang="ar-SA" sz="3200" spc="-1" strike="noStrike" u="sng">
                <a:solidFill>
                  <a:srgbClr val="ff0000"/>
                </a:solidFill>
                <a:uFillTx/>
                <a:latin typeface="Calibri"/>
              </a:rPr>
              <a:t>وهي ليست مقتصرة على الإدراك المباشر للظواهر أو الوصف المباشر للحوداث, ولكن هناك وسائل أخرى أخرى تساعدنا على الملاحظة الاجتماعية مثل: دراسة العادات والتقاليد والآثار ومظاهر التراث </a:t>
            </a:r>
            <a:r>
              <a:rPr b="0" lang="ar-SA" sz="3200" spc="-1" strike="noStrike">
                <a:solidFill>
                  <a:srgbClr val="000000"/>
                </a:solidFill>
                <a:latin typeface="Calibri"/>
              </a:rPr>
              <a:t>(مثل دراسة الأمثال الشعبية وعلاقتها بثقافة مجتمع ما) وتحليل ومقارنة الللغات والوقوف على الوثائق والسجلات التاريخية ودراسة التشريعات والنظم السياسية والاقتصادية .فهذه المصادر تقدم لعالم الاجتماع مادة غنية للدراسة والتحليل والحث</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907560"/>
            <a:ext cx="8229600" cy="521820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والملاحظة الاجتماعية </a:t>
            </a:r>
            <a:r>
              <a:rPr b="0" lang="ar-SA" sz="3200" spc="-1" strike="noStrike" u="sng">
                <a:solidFill>
                  <a:srgbClr val="ff0000"/>
                </a:solidFill>
                <a:uFillTx/>
                <a:latin typeface="Calibri"/>
              </a:rPr>
              <a:t>ليست سهلة الأداء والسبب في ذلك أن الظواهر الاجتماعية ظواهر عادية ومنتشرة في جو المجتمع ومتداخلة في صميم الحياة الفردية والباحث نفسه يشارك فيها </a:t>
            </a:r>
            <a:r>
              <a:rPr b="0" lang="ar-SA" sz="3200" spc="-1" strike="noStrike">
                <a:solidFill>
                  <a:srgbClr val="000000"/>
                </a:solidFill>
                <a:latin typeface="Calibri"/>
              </a:rPr>
              <a:t>... وهذه الأمور تزيدها صعوبة وتعقي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لذلك يجب ان ننظر إلى الحقائق (الظواهر) الاجتماعية على انها موضوعات منعزلة عنا خارجة عن ذواتنا ومنفصلة عن شعورنا الفردي حتى نستطيع أن نصل إلى نتائج وحقائق واقعية وصحيح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 </a:t>
            </a:r>
            <a:r>
              <a:rPr b="0" lang="ar-SA" sz="3000" spc="-1" strike="noStrike" u="sng">
                <a:solidFill>
                  <a:srgbClr val="ff0000"/>
                </a:solidFill>
                <a:uFillTx/>
                <a:latin typeface="Calibri"/>
              </a:rPr>
              <a:t>هذا المنهج قد يجعل الباحث لا تكون لديه  الفرصة لليقضة التامة والاشراف الدقيق على ما يحيط بالظاهرة بسبب أن الظواهر الاجتماعية معقدة جداً وكثيرة التغير </a:t>
            </a:r>
            <a:r>
              <a:rPr b="0" lang="ar-SA" sz="3000" spc="-1" strike="noStrike">
                <a:solidFill>
                  <a:srgbClr val="000000"/>
                </a:solidFill>
                <a:latin typeface="Calibri"/>
              </a:rPr>
              <a:t>ودائمة التفاعل.</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4</a:t>
            </a:r>
            <a:r>
              <a:rPr b="0" lang="ar-SA" sz="3000" spc="-1" strike="noStrike">
                <a:solidFill>
                  <a:srgbClr val="000000"/>
                </a:solidFill>
                <a:latin typeface="Calibri"/>
              </a:rPr>
              <a:t>- </a:t>
            </a:r>
            <a:r>
              <a:rPr b="0" lang="ar-SA" sz="3000" spc="-1" strike="noStrike" u="sng">
                <a:solidFill>
                  <a:srgbClr val="ff0000"/>
                </a:solidFill>
                <a:uFillTx/>
                <a:latin typeface="Calibri"/>
              </a:rPr>
              <a:t>عند استخدام هذا المنهج قد يخطئ الباحث في تفسير ما يلاحظه أو في إدراك ما يشاهده وقد يخطئ كذلك في الاستنتاجات التي ينتهي إليها من مشاهداته </a:t>
            </a:r>
            <a:r>
              <a:rPr b="0" lang="ar-SA" sz="3000" spc="-1" strike="noStrike">
                <a:solidFill>
                  <a:srgbClr val="000000"/>
                </a:solidFill>
                <a:latin typeface="Calibri"/>
              </a:rPr>
              <a:t>.وأيضاً الأهم من هذا قد يختلف موقف الباحثين من الشيء الملاحظ تبعاً لاختلاف عقولهم من جهة وإلى تفاوت في الخبرة من جهة أخرى.</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بناء على هذه الخصائص يرى كونت أن من الخطأ الاعتماد على منهج الملاحظة فقط واتخاذه اسلوب أساسي للكشف العلمي عن قوانين الظواهر الاجتم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ا بأس من اعتبارها عالاً مساعداً في البحث والدراس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ثانياً: التجربة:</a:t>
            </a:r>
            <a:endParaRPr b="0" lang="en-US" sz="4400" spc="-1" strike="noStrike">
              <a:solidFill>
                <a:srgbClr val="000000"/>
              </a:solidFill>
              <a:latin typeface="Calibri"/>
            </a:endParaRPr>
          </a:p>
        </p:txBody>
      </p:sp>
      <p:sp>
        <p:nvSpPr>
          <p:cNvPr id="523"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a:t>
            </a:r>
            <a:r>
              <a:rPr b="0" lang="ar-SA" sz="3000" spc="-1" strike="noStrike" u="sng">
                <a:solidFill>
                  <a:srgbClr val="ff0000"/>
                </a:solidFill>
                <a:uFillTx/>
                <a:latin typeface="Calibri"/>
              </a:rPr>
              <a:t>يقصد كونت بالتجربة (التجربة الاجتماعية) وليست التجربة العلمية التي يستخدمها المتخصصين في علوم الظواهر الطبيهية (الكيمياء والبيولوجيا).</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التجربة الاجتماعية الصحيحة في نظر كونت إنما تقوم على مقارنة ظاهرتين متشابهتين في كل شيء ومختلفين في حالة واحدة واختلافهما يرجع إلى هذه الحالة فقط.</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 وجود هذه الحالة الطبيعية إنما هو بمثابة تجربة مباشرة لاننا  نستطيع أن نستنتج بسهولة أثر هذا العامل الذي كان سببا في اختلاف الظاهرتين  ومدى تأثيره في غيرهما من الظواهر الأخرى. (عادة يستخدم هذا المنهج علم النفس في علم الاجتماع يصعب تطبيقه)</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ثالثاَ : المقارنة.</a:t>
            </a:r>
            <a:endParaRPr b="0" lang="en-US" sz="4400" spc="-1" strike="noStrike">
              <a:solidFill>
                <a:srgbClr val="000000"/>
              </a:solidFill>
              <a:latin typeface="Calibri"/>
            </a:endParaRPr>
          </a:p>
        </p:txBody>
      </p:sp>
      <p:sp>
        <p:nvSpPr>
          <p:cNvPr id="525"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صور المقارنة في علم الاجتماع :</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المقارنة الاجتماعية بالمعنى الصحيح </a:t>
            </a:r>
            <a:r>
              <a:rPr b="0" lang="ar-SA" sz="3000" spc="-1" strike="noStrike" u="sng">
                <a:solidFill>
                  <a:srgbClr val="ff0000"/>
                </a:solidFill>
                <a:uFillTx/>
                <a:latin typeface="Calibri"/>
              </a:rPr>
              <a:t>تقوم على مقارنة المجتمعات الإنسانية بعضها ببعض للوقوف على أوجه الشبه و أوجه التباين بينهما نجد </a:t>
            </a:r>
            <a:r>
              <a:rPr b="0" lang="ar-SA" sz="3000" spc="-1" strike="noStrike">
                <a:solidFill>
                  <a:srgbClr val="000000"/>
                </a:solidFill>
                <a:latin typeface="Calibri"/>
              </a:rPr>
              <a:t>مثلاً: أن ظاهرة ما تتطور تطوراً سريعاً في مجتمع بينما تتطور تطوراً بطيئاً في مجتمع آخر.</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نجد أيضاً أن طائفة معينة من النظم تنتشر في مجتمع ما بينما لا نجد مثلها  في غيرها من المجتمعات.وأيضا ربما نجد أيضاً أن ظاهرة تقوم بوظيفية اجتماعية أساسية في مجتمع بينما لا تؤدي هذه الوظيفه أو ليست بالدرجة نفسها في مجتمع آخر.</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قد </a:t>
            </a:r>
            <a:r>
              <a:rPr b="0" lang="ar-SA" sz="3200" spc="-1" strike="noStrike" u="sng">
                <a:solidFill>
                  <a:srgbClr val="ff0000"/>
                </a:solidFill>
                <a:uFillTx/>
                <a:latin typeface="Calibri"/>
              </a:rPr>
              <a:t>تتخذ المقارنة صورة أضيق من ذلك نطاقاً بمعنى أنها تتناول مقارنة الطبقات أو الهيئات في نطاق شعب أو مجتمع واحد لمعرفة حالتها الاجتماعية ومدى احتياجاتها ومدى النفقات الموجودة في المجتمع من حيث درجة الحضارة والمدنية ومستوى المعيشة ومعايير الاخلاق والأذواق العامة واختلاف اللهجات </a:t>
            </a:r>
            <a:r>
              <a:rPr b="0" lang="ar-SA" sz="3200" spc="-1" strike="noStrike">
                <a:solidFill>
                  <a:srgbClr val="000000"/>
                </a:solidFill>
                <a:latin typeface="Calibri"/>
              </a:rPr>
              <a:t>وما إلى ذلك منن الأمور التي تهم الباحث الاجتماع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468360" y="1197000"/>
            <a:ext cx="8229600" cy="4525920"/>
          </a:xfrm>
          <a:prstGeom prst="rect">
            <a:avLst/>
          </a:prstGeom>
          <a:noFill/>
          <a:ln w="0">
            <a:noFill/>
          </a:ln>
        </p:spPr>
        <p:txBody>
          <a:bodyPr anchor="t">
            <a:normAutofit fontScale="95000"/>
          </a:bodyPr>
          <a:p>
            <a:pPr marL="325800" indent="-3258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 </a:t>
            </a:r>
            <a:r>
              <a:rPr b="0" lang="ar-SA" sz="3000" spc="-1" strike="noStrike">
                <a:solidFill>
                  <a:srgbClr val="ff0000"/>
                </a:solidFill>
                <a:latin typeface="Calibri"/>
              </a:rPr>
              <a:t>الصورة الثالثة وهي أعم وأشمل من الصورتين السابقتين وهي مقارنة جميع المجتمعات الإنسانية في عصر ما بالمجتمعات الإنسانية نفسها في عصر آخر</a:t>
            </a:r>
            <a:r>
              <a:rPr b="0" lang="ar-SA" sz="3000" spc="-1" strike="noStrike">
                <a:solidFill>
                  <a:srgbClr val="000000"/>
                </a:solidFill>
                <a:latin typeface="Calibri"/>
              </a:rPr>
              <a:t>.</a:t>
            </a:r>
            <a:endParaRPr b="0" lang="en-US" sz="3000" spc="-1" strike="noStrike">
              <a:solidFill>
                <a:srgbClr val="000000"/>
              </a:solidFill>
              <a:latin typeface="Calibri"/>
            </a:endParaRPr>
          </a:p>
          <a:p>
            <a:pPr marL="325800" indent="-32580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والمقارنة هنا في هذه النقطة تفقد موضوعيتها وتصبح قائمة على فكرة فلسفية مجردة تقترب إلى حد كبير من نظريات فلسفة التاريخ </a:t>
            </a:r>
            <a:r>
              <a:rPr b="0" lang="ar-SA" sz="3000" spc="-1" strike="noStrike">
                <a:solidFill>
                  <a:srgbClr val="000000"/>
                </a:solidFill>
                <a:latin typeface="Calibri"/>
              </a:rPr>
              <a:t>. </a:t>
            </a:r>
            <a:r>
              <a:rPr b="0" lang="ar-SA" sz="3000" spc="-1" strike="noStrike">
                <a:solidFill>
                  <a:srgbClr val="953735"/>
                </a:solidFill>
                <a:latin typeface="Calibri"/>
              </a:rPr>
              <a:t>وهذا المعنى الفلسفي هو الذي استأثر بعناية (اوجست كونت) وأعتبره أساس في المنهج المقارن</a:t>
            </a:r>
            <a:r>
              <a:rPr b="0" lang="ar-SA" sz="3000" spc="-1" strike="noStrike">
                <a:solidFill>
                  <a:srgbClr val="000000"/>
                </a:solidFill>
                <a:latin typeface="Calibri"/>
              </a:rPr>
              <a:t>. ولذلك فقد هذا المنهج أهميته عند (كونت) واختلط بنظرية في (التقدم) القائمة على أساس أن الانسانية ككل وكوحدة نوعية تنتقل عبر مراحل الارتقاء التدريجي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رابعاً: المنهج التاريخي:</a:t>
            </a:r>
            <a:endParaRPr b="0" lang="en-US" sz="4400" spc="-1" strike="noStrike">
              <a:solidFill>
                <a:srgbClr val="000000"/>
              </a:solidFill>
              <a:latin typeface="Calibri"/>
            </a:endParaRPr>
          </a:p>
        </p:txBody>
      </p:sp>
      <p:sp>
        <p:nvSpPr>
          <p:cNvPr id="530"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rPr>
              <a:t>يعتبره كونت آخر حجر في بناء المنهج الوضعي ويسميه ”المنهج السامي“ ويقصد به المنهج الذي يكشف عن القوانين الأساسية التي تحكم التطور الاجتماعي للجنس البشري باعتبار أن هذا الجنس وحدة واحدة تنتقل من مرحلة إلى أخرى ارقى </a:t>
            </a:r>
            <a:r>
              <a:rPr b="0" lang="ar-SA" sz="3200" spc="-1" strike="noStrike" u="sng">
                <a:solidFill>
                  <a:srgbClr val="ff0000"/>
                </a:solidFill>
                <a:uFillTx/>
                <a:latin typeface="Calibri"/>
              </a:rPr>
              <a:t>منها.وأقام كونت منهجه التاريخي على أساس قانونه الشهير ”بقانون الأطوار الثلاثة“ وهو قانون يدعي أنه استخلصه من دراسة تاريخ الانسانية دراسة علمية تحليلية .</a:t>
            </a:r>
            <a:endParaRPr b="0" lang="en-US" sz="3200" spc="-1" strike="noStrike">
              <a:solidFill>
                <a:srgbClr val="000000"/>
              </a:solidFill>
              <a:latin typeface="Calibri"/>
            </a:endParaRPr>
          </a:p>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واقع أنه يعبر عن آراء فلسفية شخصية يؤمن بها كونت  وحده ولا يعبر عن حقائق التاريخ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457200" y="620280"/>
            <a:ext cx="8229600" cy="5505480"/>
          </a:xfrm>
          <a:prstGeom prst="rect">
            <a:avLst/>
          </a:prstGeom>
          <a:noFill/>
          <a:ln w="0">
            <a:noFill/>
          </a:ln>
        </p:spPr>
        <p:txBody>
          <a:bodyPr anchor="t">
            <a:normAutofit fontScale="86000"/>
          </a:bodyPr>
          <a:p>
            <a:pPr marL="294840" indent="-29484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فكأن كونت لم يفهم من المنهج التاريخي ذلك المعنى الذي نفهمه الأن أن هذا المنهج يتطلب أن يقف الباحث على طبيعة الظاهرة وعناصرها وتطورها واختلاف أشكالها باختلاف الشعوب وباختلاف مراحل التطور  وعلاقتها بما عداها من الظواهر الاجتماعية ومبلغ تأثرها أو تأثيرها في في طوائف الظواهر الأخرى لان هذه الخطوات ضرورية لكشف الوظيفة التي تؤديها الظاهرة والوقوف على القوانين التي تحكمها </a:t>
            </a:r>
            <a:r>
              <a:rPr b="0" lang="ar-SA" sz="3200" spc="-1" strike="noStrike">
                <a:solidFill>
                  <a:srgbClr val="000000"/>
                </a:solidFill>
                <a:latin typeface="Calibri"/>
              </a:rPr>
              <a:t>لم يفهم ”كونت ” من المنهج التاريخي هذه المعاني العلمية التي تؤدي بالباحث إلى الاغراض الوصفية والتحليلية التي يرمي إليها. ولكنه فهم منه معنى فلسفياً بعيداً عن طبائع الأمور ولا يمكن أن يؤدي به إلى كشف علمي محق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الموضوعات الرئيسية:</a:t>
            </a:r>
            <a:endParaRPr b="0" lang="en-US" sz="4400" spc="-1" strike="noStrike">
              <a:solidFill>
                <a:srgbClr val="000000"/>
              </a:solidFill>
              <a:latin typeface="Calibri"/>
            </a:endParaRPr>
          </a:p>
        </p:txBody>
      </p:sp>
      <p:sp>
        <p:nvSpPr>
          <p:cNvPr id="502" name=""/>
          <p:cNvSpPr txBox="1"/>
          <p:nvPr/>
        </p:nvSpPr>
        <p:spPr>
          <a:xfrm>
            <a:off x="457200" y="1267920"/>
            <a:ext cx="8229600" cy="50403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حيات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أعمال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ضرورة قيام علم الاجتماع.</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أسس الدراسة ومنهج البحث في هذا ال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بحوثه في الاستاتيكا الاجتم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بحوثه في الديناميكا الاجتم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8</a:t>
            </a:r>
            <a:r>
              <a:rPr b="0" lang="ar-SA" sz="3200" spc="-1" strike="noStrike">
                <a:solidFill>
                  <a:srgbClr val="000000"/>
                </a:solidFill>
                <a:latin typeface="Calibri"/>
              </a:rPr>
              <a:t>- بعض أهم الانتقادات التي وجهت ل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5</a:t>
            </a:r>
            <a:r>
              <a:rPr b="0" lang="ar-SA" sz="4400" spc="-1" strike="noStrike">
                <a:solidFill>
                  <a:srgbClr val="ff0000"/>
                </a:solidFill>
                <a:latin typeface="Calibri"/>
              </a:rPr>
              <a:t>- بحوثه في الديناميكا الاجتماعية:</a:t>
            </a:r>
            <a:endParaRPr b="0" lang="en-US" sz="4400" spc="-1" strike="noStrike">
              <a:solidFill>
                <a:srgbClr val="000000"/>
              </a:solidFill>
              <a:latin typeface="Calibri"/>
            </a:endParaRPr>
          </a:p>
        </p:txBody>
      </p:sp>
      <p:sp>
        <p:nvSpPr>
          <p:cNvPr id="533"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سم كونت موضوعات علم الاجتماع إلى مبحثين أساسيين هما الديناميك والستاتيك الاجتماعي.</a:t>
            </a:r>
            <a:endParaRPr b="0" lang="en-US" sz="3200" spc="-1" strike="noStrike">
              <a:solidFill>
                <a:srgbClr val="000000"/>
              </a:solidFill>
              <a:latin typeface="Calibri"/>
            </a:endParaRPr>
          </a:p>
          <a:p>
            <a:pPr marL="318960" indent="-3189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يقصد بموضوع الديناميكا</a:t>
            </a:r>
            <a:r>
              <a:rPr b="0" lang="ar-SA" sz="3200" spc="-1" strike="noStrike">
                <a:solidFill>
                  <a:srgbClr val="376092"/>
                </a:solidFill>
                <a:latin typeface="Calibri"/>
              </a:rPr>
              <a:t>: دراسة قوانين الحركة الاجتماعية والسير الآلي للمجتمعات الإنسانية والكشف عن مدى التقديم الذي تخطوه الإنسانية في تطورها </a:t>
            </a:r>
            <a:r>
              <a:rPr b="0" lang="ar-SA" sz="3200" spc="-1" strike="noStrike">
                <a:solidFill>
                  <a:srgbClr val="000000"/>
                </a:solidFill>
                <a:latin typeface="Calibri"/>
              </a:rPr>
              <a:t>وتدور بحوثه في الديناميكا حول نظريتين أساسيتين هما:</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قانون الأدوار الثلاثة.</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نظريته في تقدم الانسان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قانون الأطوار الثلاثة:</a:t>
            </a:r>
            <a:endParaRPr b="0" lang="en-US" sz="4400" spc="-1" strike="noStrike">
              <a:solidFill>
                <a:srgbClr val="000000"/>
              </a:solidFill>
              <a:latin typeface="Calibri"/>
            </a:endParaRPr>
          </a:p>
        </p:txBody>
      </p:sp>
      <p:sp>
        <p:nvSpPr>
          <p:cNvPr id="535"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ذكر كونت أنه أنتهي من دراسته للديناميك الاجتماعي إلى الكشف عن قانون عام سماه قانون (الحلات الثلاث) ويتلخص هذا القانون بالتالي:</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العقل الإنساني أو التفكير الإنساني قد انتقل في إدراكه لكل فرع من فروع المعرفة من(</a:t>
            </a:r>
            <a:r>
              <a:rPr b="0" lang="ar-SA" sz="3200" spc="-1" strike="noStrike">
                <a:solidFill>
                  <a:srgbClr val="000000"/>
                </a:solidFill>
                <a:latin typeface="Calibri"/>
              </a:rPr>
              <a:t>1</a:t>
            </a:r>
            <a:r>
              <a:rPr b="0" lang="ar-SA" sz="3200" spc="-1" strike="noStrike">
                <a:solidFill>
                  <a:srgbClr val="000000"/>
                </a:solidFill>
                <a:latin typeface="Calibri"/>
              </a:rPr>
              <a:t>) المرحلة (الدينية اللاهوتية ) إلى(</a:t>
            </a:r>
            <a:r>
              <a:rPr b="0" lang="ar-SA" sz="3200" spc="-1" strike="noStrike">
                <a:solidFill>
                  <a:srgbClr val="000000"/>
                </a:solidFill>
                <a:latin typeface="Calibri"/>
              </a:rPr>
              <a:t>2</a:t>
            </a:r>
            <a:r>
              <a:rPr b="0" lang="ar-SA" sz="3200" spc="-1" strike="noStrike">
                <a:solidFill>
                  <a:srgbClr val="000000"/>
                </a:solidFill>
                <a:latin typeface="Calibri"/>
              </a:rPr>
              <a:t>) المرحلة الميتافيزيقة ثم أخيراً(</a:t>
            </a:r>
            <a:r>
              <a:rPr b="0" lang="ar-SA" sz="3200" spc="-1" strike="noStrike">
                <a:solidFill>
                  <a:srgbClr val="000000"/>
                </a:solidFill>
                <a:latin typeface="Calibri"/>
              </a:rPr>
              <a:t>3</a:t>
            </a:r>
            <a:r>
              <a:rPr b="0" lang="ar-SA" sz="3200" spc="-1" strike="noStrike">
                <a:solidFill>
                  <a:srgbClr val="000000"/>
                </a:solidFill>
                <a:latin typeface="Calibri"/>
              </a:rPr>
              <a:t>) إلى المرحلة الوضعية أو العلم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1</a:t>
            </a:r>
            <a:r>
              <a:rPr b="0" lang="ar-SA" sz="3000" spc="-1" strike="noStrike" u="sng">
                <a:solidFill>
                  <a:srgbClr val="ff0000"/>
                </a:solidFill>
                <a:uFillTx/>
                <a:latin typeface="Calibri"/>
              </a:rPr>
              <a:t>- المرحلة الدينية (اللاهوتية):</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يوضح كونت خصائص هذه المرحلة </a:t>
            </a:r>
            <a:r>
              <a:rPr b="0" lang="ar-SA" sz="3000" spc="-1" strike="noStrike">
                <a:solidFill>
                  <a:srgbClr val="002060"/>
                </a:solidFill>
                <a:latin typeface="Calibri"/>
              </a:rPr>
              <a:t>بأن العقل كان يسير على أسلوب الفهم الديني وكان يفسر الظواهر(سواء طبيعية أو اجتماعية) بإرجاع السبب إلى قوى خفية لا يمكن إدراكها وهي خارجة عن الظاهرة نفسها</a:t>
            </a:r>
            <a:r>
              <a:rPr b="0" lang="ar-SA" sz="3000" spc="-1" strike="noStrike">
                <a:solidFill>
                  <a:srgbClr val="000000"/>
                </a:solidFill>
                <a:latin typeface="Calibri"/>
              </a:rPr>
              <a:t> وتتمثل هذه القوى </a:t>
            </a:r>
            <a:r>
              <a:rPr b="0" lang="ar-SA" sz="3000" spc="-1" strike="noStrike" u="sng">
                <a:solidFill>
                  <a:srgbClr val="ff0000"/>
                </a:solidFill>
                <a:uFillTx/>
                <a:latin typeface="Calibri"/>
              </a:rPr>
              <a:t>مثلاً</a:t>
            </a:r>
            <a:r>
              <a:rPr b="0" lang="ar-SA" sz="3000" spc="-1" strike="noStrike">
                <a:solidFill>
                  <a:srgbClr val="000000"/>
                </a:solidFill>
                <a:latin typeface="Calibri"/>
              </a:rPr>
              <a:t>: بالآلة والأرواح والشياطين. </a:t>
            </a:r>
            <a:r>
              <a:rPr b="0" lang="ar-SA" sz="3000" spc="-1" strike="noStrike">
                <a:solidFill>
                  <a:srgbClr val="ff0000"/>
                </a:solidFill>
                <a:latin typeface="Calibri"/>
              </a:rPr>
              <a:t>مثال: أن يتم تفسير سبب نمو النباتات إلى قدرة الله عز وجل</a:t>
            </a:r>
            <a:r>
              <a:rPr b="0" lang="ar-SA" sz="3000" spc="-1" strike="noStrike">
                <a:solidFill>
                  <a:srgbClr val="000000"/>
                </a:solidFill>
                <a:latin typeface="Calibri"/>
              </a:rPr>
              <a:t> أو</a:t>
            </a:r>
            <a:r>
              <a:rPr b="0" lang="ar-SA" sz="3000" spc="-1" strike="noStrike">
                <a:solidFill>
                  <a:srgbClr val="ff0000"/>
                </a:solidFill>
                <a:latin typeface="Calibri"/>
              </a:rPr>
              <a:t> نزول المطر </a:t>
            </a:r>
            <a:r>
              <a:rPr b="0" lang="ar-SA" sz="3000" spc="-1" strike="noStrike">
                <a:solidFill>
                  <a:srgbClr val="000000"/>
                </a:solidFill>
                <a:latin typeface="Calibri"/>
              </a:rPr>
              <a:t>بدل أن يتم تفسيرها علمياً بسبب حرارة الشمس ثم تبخر الماء وتكثفه في السماء وتكوين السحب ثم وصول الجو إلى درجة معينة من الحرارة وظروف جوية معينة تؤدي إلى تساقط المطر يكون التفسير أنه رزق يسوقه الله لأي أرض يشاء.</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457200" y="333000"/>
            <a:ext cx="8229600" cy="5792760"/>
          </a:xfrm>
          <a:prstGeom prst="rect">
            <a:avLst/>
          </a:prstGeom>
          <a:noFill/>
          <a:ln w="0">
            <a:noFill/>
          </a:ln>
        </p:spPr>
        <p:txBody>
          <a:bodyPr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2</a:t>
            </a:r>
            <a:r>
              <a:rPr b="0" lang="ar-SA" sz="3200" spc="-1" strike="noStrike">
                <a:solidFill>
                  <a:srgbClr val="ff0000"/>
                </a:solidFill>
                <a:latin typeface="Calibri"/>
              </a:rPr>
              <a:t>- المرحلة الميتافيزيقية (الفلسفية المجرد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وضح كونت خصائص هذه المرحلة </a:t>
            </a:r>
            <a:r>
              <a:rPr b="0" lang="ar-SA" sz="3200" spc="-1" strike="noStrike">
                <a:solidFill>
                  <a:srgbClr val="002060"/>
                </a:solidFill>
                <a:latin typeface="Calibri"/>
              </a:rPr>
              <a:t>بأن العقل يفسر الظواهر بنسبتها إلى معان مجردة أو قوى فلسفية لا يستطيع أثباتها .</a:t>
            </a:r>
            <a:r>
              <a:rPr b="0" lang="ar-SA" sz="3200" spc="-1" strike="noStrike">
                <a:solidFill>
                  <a:srgbClr val="000000"/>
                </a:solidFill>
                <a:latin typeface="Calibri"/>
              </a:rPr>
              <a:t> </a:t>
            </a:r>
            <a:r>
              <a:rPr b="0" lang="ar-SA" sz="3200" spc="-1" strike="noStrike" u="sng">
                <a:solidFill>
                  <a:srgbClr val="ff0000"/>
                </a:solidFill>
                <a:uFillTx/>
                <a:latin typeface="Calibri"/>
              </a:rPr>
              <a:t>مثل</a:t>
            </a:r>
            <a:r>
              <a:rPr b="0" lang="ar-SA" sz="3200" spc="-1" strike="noStrike">
                <a:solidFill>
                  <a:srgbClr val="000000"/>
                </a:solidFill>
                <a:latin typeface="Calibri"/>
              </a:rPr>
              <a:t> : أن يفسر ظاهرة النمو في النبات بنسبتها إلى قوة و أرواح النبات نفسه .</a:t>
            </a:r>
            <a:endParaRPr b="0" lang="en-US" sz="3200" spc="-1" strike="noStrike">
              <a:solidFill>
                <a:srgbClr val="000000"/>
              </a:solidFill>
              <a:latin typeface="Calibri"/>
            </a:endParaRPr>
          </a:p>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3</a:t>
            </a:r>
            <a:r>
              <a:rPr b="0" lang="ar-SA" sz="3200" spc="-1" strike="noStrike">
                <a:solidFill>
                  <a:srgbClr val="ff0000"/>
                </a:solidFill>
                <a:latin typeface="Calibri"/>
              </a:rPr>
              <a:t>- المرحلة الوضعية (العلمي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وضح كونت خصائص هذه المرحلة </a:t>
            </a:r>
            <a:r>
              <a:rPr b="0" lang="ar-SA" sz="3200" spc="-1" strike="noStrike">
                <a:solidFill>
                  <a:srgbClr val="ff0000"/>
                </a:solidFill>
                <a:latin typeface="Calibri"/>
              </a:rPr>
              <a:t>بأن العقل يذهب في تفسيره للظواهر بنسبتها إلى القوانين التي تحكمها والأسباب المباشرة التي تؤثر فيها.</a:t>
            </a:r>
            <a:r>
              <a:rPr b="0" lang="ar-SA" sz="3200" spc="-1" strike="noStrike">
                <a:solidFill>
                  <a:srgbClr val="000000"/>
                </a:solidFill>
                <a:latin typeface="Calibri"/>
              </a:rPr>
              <a:t> مثل : أن يفسر ظاهرة النمو بنسبتها إلى العوامل الطبيعية والكيميائية والقوانين المؤلفة لهذه الظاهر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6</a:t>
            </a:r>
            <a:r>
              <a:rPr b="0" lang="ar-SA" sz="4400" spc="-1" strike="noStrike">
                <a:solidFill>
                  <a:srgbClr val="ff0000"/>
                </a:solidFill>
                <a:latin typeface="Calibri"/>
              </a:rPr>
              <a:t>- بحوثه في الستاتيكا الاجتماعية:</a:t>
            </a:r>
            <a:endParaRPr b="0" lang="en-US" sz="4400" spc="-1" strike="noStrike">
              <a:solidFill>
                <a:srgbClr val="000000"/>
              </a:solidFill>
              <a:latin typeface="Calibri"/>
            </a:endParaRPr>
          </a:p>
        </p:txBody>
      </p:sp>
      <p:sp>
        <p:nvSpPr>
          <p:cNvPr id="540" name=""/>
          <p:cNvSpPr txBox="1"/>
          <p:nvPr/>
        </p:nvSpPr>
        <p:spPr>
          <a:xfrm>
            <a:off x="324000" y="1844640"/>
            <a:ext cx="8229600" cy="41767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قصد كونت بالستاتيكا الاجتماعية </a:t>
            </a:r>
            <a:r>
              <a:rPr b="0" lang="ar-SA" sz="3200" spc="-1" strike="noStrike" u="sng">
                <a:solidFill>
                  <a:srgbClr val="ff0000"/>
                </a:solidFill>
                <a:uFillTx/>
                <a:latin typeface="Calibri"/>
              </a:rPr>
              <a:t>دراسة المجتمعات الانسانية في حالة استقرارها وباعتبارها ثابتة ويدرس كذلك هذه المجتمعات في تفاصيلها وجزئياتها من حيث العناصر والنظم الاجتماعية </a:t>
            </a:r>
            <a:r>
              <a:rPr b="0" lang="ar-SA" sz="3200" spc="-1" strike="noStrike">
                <a:solidFill>
                  <a:srgbClr val="000000"/>
                </a:solidFill>
                <a:latin typeface="Calibri"/>
              </a:rPr>
              <a:t>.ويهدف من وراء هذه الدراسة الوقوف على القوانين التي تحكم تماسكها وتعمل على تضامن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468360" y="11970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ودرس كونت في المجتمع من الناحية الاستاتيكية (الثابته) التال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عناصر المجتمع (فرد, عائلة, دول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نظم المجتمع (النظام الاسري, السياسي, الاقتصادي, الدين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التي تعتبر أسس لكل مجتمع بشري يتكون في هذا العالم في أي مكان وفي أي حقبة زمني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اولاً: عناصر المجتمع من خلال دراسة كونت للستاتيكا الاجتماعية:</a:t>
            </a:r>
            <a:endParaRPr b="0" lang="en-US" sz="4000" spc="-1" strike="noStrike">
              <a:solidFill>
                <a:srgbClr val="000000"/>
              </a:solidFill>
              <a:latin typeface="Calibri"/>
            </a:endParaRPr>
          </a:p>
        </p:txBody>
      </p:sp>
      <p:sp>
        <p:nvSpPr>
          <p:cNvPr id="543" name=""/>
          <p:cNvSpPr txBox="1"/>
          <p:nvPr/>
        </p:nvSpPr>
        <p:spPr>
          <a:xfrm>
            <a:off x="457200" y="1599840"/>
            <a:ext cx="8229600" cy="4924440"/>
          </a:xfrm>
          <a:prstGeom prst="rect">
            <a:avLst/>
          </a:prstGeom>
          <a:noFill/>
          <a:ln w="0">
            <a:noFill/>
          </a:ln>
        </p:spPr>
        <p:txBody>
          <a:bodyPr anchor="t">
            <a:normAutofit fontScale="94000"/>
          </a:bodyPr>
          <a:p>
            <a:pPr marL="322200" indent="-3222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صل كونت في تحليله الستاتيكي إلى أن المجتمع يتكون من ثلاث عناصر أساسية :</a:t>
            </a:r>
            <a:endParaRPr b="0" lang="en-US" sz="2700" spc="-1" strike="noStrike">
              <a:solidFill>
                <a:srgbClr val="000000"/>
              </a:solidFill>
              <a:latin typeface="Calibri"/>
            </a:endParaRPr>
          </a:p>
          <a:p>
            <a:pPr marL="322200" indent="-3222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فرد, العائلة والدولة.</a:t>
            </a:r>
            <a:endParaRPr b="0" lang="en-US" sz="2700" spc="-1" strike="noStrike">
              <a:solidFill>
                <a:srgbClr val="000000"/>
              </a:solidFill>
              <a:latin typeface="Calibri"/>
            </a:endParaRPr>
          </a:p>
          <a:p>
            <a:pPr marL="322200" indent="-3222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1</a:t>
            </a:r>
            <a:r>
              <a:rPr b="0" lang="ar-SA" sz="2700" spc="-1" strike="noStrike">
                <a:solidFill>
                  <a:srgbClr val="000000"/>
                </a:solidFill>
                <a:latin typeface="Calibri"/>
              </a:rPr>
              <a:t>- </a:t>
            </a:r>
            <a:r>
              <a:rPr b="0" lang="ar-SA" sz="2700" spc="-1" strike="noStrike" u="sng">
                <a:solidFill>
                  <a:srgbClr val="ff0000"/>
                </a:solidFill>
                <a:uFillTx/>
                <a:latin typeface="Calibri"/>
              </a:rPr>
              <a:t>الفرد</a:t>
            </a:r>
            <a:r>
              <a:rPr b="0" lang="ar-SA" sz="2700" spc="-1" strike="noStrike">
                <a:solidFill>
                  <a:srgbClr val="000000"/>
                </a:solidFill>
                <a:latin typeface="Calibri"/>
              </a:rPr>
              <a:t>: ينظر كونت للفرد أنه لا يعتبر في ذاته عنصراً اجتماعياً فالقوة الاجتماعية مستمدة في حقيقتها من تضامن الافراد واتحادهم ومشاركتهم في العمل وتوزيع الوظائف فيما بينهم.فالقوة الفردية ليست لها أي قيمة إذا كان الفرد وحيداً أعزل من الأسباب والوسائل التي تذلل له متاعب الحياة .ولا قيمة كذلك لقوة الفرد العقلية والأخلاقية فالأولى لا تظهر إلا بمشاركة غيرها من القوى واتحادها معها والثانية في نظره وليدة الضمير الجمعي والتضامن الأخلاقي في المجتمع .وهذا التحليل يدلنا على أن الفردية الخالصة على فرض وجودها لا تمثل شيئاً من الحياة الاجتماعية التي لا تتحقق بصورة صحيحة إلا حيث يكون هناك امتزاج عقول وتفاعل واختلاف وظائف وتنوع أعمال.</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
          <p:cNvSpPr txBox="1"/>
          <p:nvPr/>
        </p:nvSpPr>
        <p:spPr>
          <a:xfrm>
            <a:off x="457200" y="1600200"/>
            <a:ext cx="8229600" cy="4525920"/>
          </a:xfrm>
          <a:prstGeom prst="rect">
            <a:avLst/>
          </a:prstGeom>
          <a:noFill/>
          <a:ln w="0">
            <a:noFill/>
          </a:ln>
        </p:spPr>
        <p:txBody>
          <a:bodyPr anchor="t">
            <a:normAutofit fontScale="87000"/>
          </a:bodyPr>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2</a:t>
            </a:r>
            <a:r>
              <a:rPr b="0" lang="ar-SA" sz="2700" spc="-1" strike="noStrike">
                <a:solidFill>
                  <a:srgbClr val="000000"/>
                </a:solidFill>
                <a:latin typeface="Calibri"/>
              </a:rPr>
              <a:t>- </a:t>
            </a:r>
            <a:r>
              <a:rPr b="0" lang="ar-SA" sz="2700" spc="-1" strike="noStrike" u="sng">
                <a:solidFill>
                  <a:srgbClr val="ff0000"/>
                </a:solidFill>
                <a:uFillTx/>
                <a:latin typeface="Calibri"/>
              </a:rPr>
              <a:t>الأسرة:</a:t>
            </a:r>
            <a:endParaRPr b="0" lang="en-US" sz="2700" spc="-1" strike="noStrike">
              <a:solidFill>
                <a:srgbClr val="000000"/>
              </a:solidFill>
              <a:latin typeface="Calibri"/>
            </a:endParaRPr>
          </a:p>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1</a:t>
            </a:r>
            <a:r>
              <a:rPr b="0" lang="ar-SA" sz="2700" spc="-1" strike="noStrike">
                <a:solidFill>
                  <a:srgbClr val="000000"/>
                </a:solidFill>
                <a:latin typeface="Calibri"/>
              </a:rPr>
              <a:t>- هي أول خلية في جسم التركيب الجمعي وهي ثمرة من ثمرات الحياة الاجتماعية.</a:t>
            </a:r>
            <a:endParaRPr b="0" lang="en-US" sz="2700" spc="-1" strike="noStrike">
              <a:solidFill>
                <a:srgbClr val="000000"/>
              </a:solidFill>
              <a:latin typeface="Calibri"/>
            </a:endParaRPr>
          </a:p>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2</a:t>
            </a:r>
            <a:r>
              <a:rPr b="0" lang="ar-SA" sz="2700" spc="-1" strike="noStrike">
                <a:solidFill>
                  <a:srgbClr val="000000"/>
                </a:solidFill>
                <a:latin typeface="Calibri"/>
              </a:rPr>
              <a:t>- </a:t>
            </a:r>
            <a:r>
              <a:rPr b="0" lang="ar-SA" sz="2700" spc="-1" strike="noStrike" u="sng">
                <a:solidFill>
                  <a:srgbClr val="ff0000"/>
                </a:solidFill>
                <a:uFillTx/>
                <a:latin typeface="Calibri"/>
              </a:rPr>
              <a:t>وقد قرر كونت مبدأ خضوع المرأة للرجل مع الاعتراف بسموها من الناحية العاطفية والوجدانية الضرورية للاستقرار في حياة الأسرة</a:t>
            </a:r>
            <a:r>
              <a:rPr b="0" lang="ar-SA" sz="2700" spc="-1" strike="noStrike">
                <a:solidFill>
                  <a:srgbClr val="000000"/>
                </a:solidFill>
                <a:latin typeface="Calibri"/>
              </a:rPr>
              <a:t>.</a:t>
            </a:r>
            <a:endParaRPr b="0" lang="en-US" sz="2700" spc="-1" strike="noStrike">
              <a:solidFill>
                <a:srgbClr val="000000"/>
              </a:solidFill>
              <a:latin typeface="Calibri"/>
            </a:endParaRPr>
          </a:p>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3</a:t>
            </a:r>
            <a:r>
              <a:rPr b="0" lang="ar-SA" sz="2700" spc="-1" strike="noStrike">
                <a:solidFill>
                  <a:srgbClr val="000000"/>
                </a:solidFill>
                <a:latin typeface="Calibri"/>
              </a:rPr>
              <a:t>- </a:t>
            </a:r>
            <a:r>
              <a:rPr b="0" lang="ar-SA" sz="2700" spc="-1" strike="noStrike">
                <a:solidFill>
                  <a:srgbClr val="632523"/>
                </a:solidFill>
                <a:latin typeface="Calibri"/>
              </a:rPr>
              <a:t>وتكلم عن الزواج واعتبره استعدادا طبيعياً عاماً وهو الأساس لكل مجتمع وكل عامل من شأنه أن يضعف من الزواج أو يقلل من أهميته بأنه بمثابة عامل هدم لنظام الأسرة الطبيعي ولنظام المجتمع.</a:t>
            </a:r>
            <a:endParaRPr b="0" lang="en-US" sz="2700" spc="-1" strike="noStrike">
              <a:solidFill>
                <a:srgbClr val="000000"/>
              </a:solidFill>
              <a:latin typeface="Calibri"/>
            </a:endParaRPr>
          </a:p>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4</a:t>
            </a:r>
            <a:r>
              <a:rPr b="0" lang="ar-SA" sz="2700" spc="-1" strike="noStrike">
                <a:solidFill>
                  <a:srgbClr val="000000"/>
                </a:solidFill>
                <a:latin typeface="Calibri"/>
              </a:rPr>
              <a:t>- للذلك </a:t>
            </a:r>
            <a:r>
              <a:rPr b="0" lang="ar-SA" sz="2700" spc="-1" strike="noStrike" u="sng">
                <a:solidFill>
                  <a:srgbClr val="ff0000"/>
                </a:solidFill>
                <a:uFillTx/>
                <a:latin typeface="Calibri"/>
              </a:rPr>
              <a:t>لا يقبل كونت فكرة  الطلاق ويعتبرها من عوامل الاخلال بنظام الحياة الأسرية </a:t>
            </a:r>
            <a:r>
              <a:rPr b="0" lang="ar-SA" sz="2700" spc="-1" strike="noStrike">
                <a:solidFill>
                  <a:srgbClr val="000000"/>
                </a:solidFill>
                <a:latin typeface="Calibri"/>
              </a:rPr>
              <a:t>بصفة خاصة وحياة المجتمع بشكل عام.</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2</a:t>
            </a:r>
            <a:r>
              <a:rPr b="0" lang="ar-SA" sz="4000" spc="-1" strike="noStrike">
                <a:solidFill>
                  <a:srgbClr val="ff0000"/>
                </a:solidFill>
                <a:latin typeface="Calibri"/>
              </a:rPr>
              <a:t>- نظم المجتمع من خلال دراسة كونت الاستاتيكا (النظام الاسري, السياسي, الاقتصادي, الديني)</a:t>
            </a:r>
            <a:endParaRPr b="0" lang="en-US" sz="40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ff0000"/>
                </a:solidFill>
                <a:uFillTx/>
                <a:latin typeface="Calibri"/>
              </a:rPr>
              <a:t>النظام الأسر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يعرف كونت الأسرة بأنها (اتحاد له طبيعة أخلاقية)لأن المبدأ الأساسي في تكوينها يرجع في نظره إلى وظيفتها (الجنسية والعاطف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من أهم وظائف الأسرة إشباع الحاجات الغريزية والعاطف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أيضا التربية الأخلاقية للأبن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ذلك يتم من خلال:</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ff0000"/>
                </a:solidFill>
                <a:uFillTx/>
                <a:latin typeface="Calibri"/>
              </a:rPr>
              <a:t>الميل والعطف المتبادل بين الزوجين من جة وبين الأبناء من جة أخرى والمشاركات الوجدانية الموجودة بين أفراد هذا المجتمع الصغير.(</a:t>
            </a:r>
            <a:r>
              <a:rPr b="0" lang="ar-SA" sz="3200" spc="-1" strike="noStrike">
                <a:solidFill>
                  <a:srgbClr val="000000"/>
                </a:solidFill>
                <a:latin typeface="Calibri"/>
              </a:rPr>
              <a:t>وظيفة إشباح الحاجات الطبيعي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u="sng">
                <a:solidFill>
                  <a:srgbClr val="ff0000"/>
                </a:solidFill>
                <a:uFillTx/>
                <a:latin typeface="Calibri"/>
              </a:rPr>
              <a:t>تربية الأطفال والنزعة الدينية التي يغرسها الأبوان في أولادهم وللحقوق والواجبات المترتبة لكل عضو في الأسرة كل هذه الأمور ترجع إلى </a:t>
            </a:r>
            <a:r>
              <a:rPr b="0" lang="ar-SA" sz="3200" spc="-1" strike="noStrike">
                <a:solidFill>
                  <a:srgbClr val="000000"/>
                </a:solidFill>
                <a:latin typeface="Calibri"/>
              </a:rPr>
              <a:t>(وظيفة الأسرة الأخلاقي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1</a:t>
            </a:r>
            <a:r>
              <a:rPr b="0" lang="ar-SA" sz="4400" spc="-1" strike="noStrike">
                <a:solidFill>
                  <a:srgbClr val="000000"/>
                </a:solidFill>
                <a:latin typeface="Calibri"/>
              </a:rPr>
              <a:t>- حياته :</a:t>
            </a:r>
            <a:endParaRPr b="0" lang="en-US" sz="4400" spc="-1" strike="noStrike">
              <a:solidFill>
                <a:srgbClr val="000000"/>
              </a:solidFill>
              <a:latin typeface="Calibri"/>
            </a:endParaRPr>
          </a:p>
        </p:txBody>
      </p:sp>
      <p:sp>
        <p:nvSpPr>
          <p:cNvPr id="504" name=""/>
          <p:cNvSpPr txBox="1"/>
          <p:nvPr/>
        </p:nvSpPr>
        <p:spPr>
          <a:xfrm>
            <a:off x="457200" y="1341000"/>
            <a:ext cx="8229600" cy="4784760"/>
          </a:xfrm>
          <a:prstGeom prst="rect">
            <a:avLst/>
          </a:prstGeom>
          <a:noFill/>
          <a:ln w="0">
            <a:noFill/>
          </a:ln>
        </p:spPr>
        <p:txBody>
          <a:bodyPr anchor="t">
            <a:normAutofit fontScale="91000"/>
          </a:bodyPr>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فيلسوف فرنسي ولد في فرنسا عام </a:t>
            </a:r>
            <a:r>
              <a:rPr b="0" lang="ar-SA" sz="3000" spc="-1" strike="noStrike">
                <a:solidFill>
                  <a:srgbClr val="000000"/>
                </a:solidFill>
                <a:latin typeface="Calibri"/>
              </a:rPr>
              <a:t>1798</a:t>
            </a:r>
            <a:r>
              <a:rPr b="0" lang="ar-SA" sz="3000" spc="-1" strike="noStrike">
                <a:solidFill>
                  <a:srgbClr val="000000"/>
                </a:solidFill>
                <a:latin typeface="Calibri"/>
              </a:rPr>
              <a:t>م وعاش حتى </a:t>
            </a:r>
            <a:r>
              <a:rPr b="0" lang="ar-SA" sz="3000" spc="-1" strike="noStrike">
                <a:solidFill>
                  <a:srgbClr val="000000"/>
                </a:solidFill>
                <a:latin typeface="Calibri"/>
              </a:rPr>
              <a:t>1857</a:t>
            </a:r>
            <a:r>
              <a:rPr b="0" lang="ar-SA" sz="3000" spc="-1" strike="noStrike">
                <a:solidFill>
                  <a:srgbClr val="000000"/>
                </a:solidFill>
                <a:latin typeface="Calibri"/>
              </a:rPr>
              <a:t>م من عائلة كاثوليكية. </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تزعم حركة عصيان قام بها الطلاب فصل بعدها من المدرسة وقد واصل دراسته إلى أن عين معيدا في كلية الهندسة.</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ثم عمل سكرتيرا للكاتب الاشتراكي سان سيمون والذي تركت أفكاره فيما يخص المنهج الوضعي وتطبيقه على دراسة الإنسان وقانون المراحل الثلاث واكتشاف القوانين الطبيعية للتقدم أثرا في فلسفة كونت لكن بسبب أفكار سيمون الاشتراكية المثالية وتأكيده على أهمية الطبقة الصناعية لم تكن مقبولة لدى كونت مما أدى إلى انتهاء العلاقة بينهما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انتقل كونت من دراسة الأسرة إلى دراسة المجتمع باعتباره </a:t>
            </a:r>
            <a:r>
              <a:rPr b="0" lang="ar-SA" sz="3200" spc="-1" strike="noStrike">
                <a:solidFill>
                  <a:srgbClr val="000000"/>
                </a:solidFill>
                <a:latin typeface="Calibri"/>
              </a:rPr>
              <a:t>(نتيجة للأسر متعددة) فهو يرى أن المجتمع وحدة حية ومركب معقد أهم خصائصة التعاون والتضامن.</a:t>
            </a:r>
            <a:endParaRPr b="0" lang="en-US" sz="3200" spc="-1" strike="noStrike">
              <a:solidFill>
                <a:srgbClr val="000000"/>
              </a:solidFill>
              <a:latin typeface="Calibri"/>
            </a:endParaRPr>
          </a:p>
          <a:p>
            <a:pPr marL="335880" indent="-3358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يرى كونت أن التضامن الاجتماعي لا يمكن أن يتحقق بصورة كاملة إلا إذا وجه المسئولين عنايتهم إلى إصلاح ثلاث نظم اجتماعية أساسية وهي</a:t>
            </a:r>
            <a:r>
              <a:rPr b="0" lang="ar-SA" sz="3200" spc="-1" strike="noStrike">
                <a:solidFill>
                  <a:srgbClr val="000000"/>
                </a:solidFill>
                <a:latin typeface="Calibri"/>
              </a:rPr>
              <a:t>: نظام التعليم ونظام الأسرة ونظام السياسة.</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لأن التعليم من شأنه أن يحارب الغرائز الفطرية ويهذب المشاعر الإنسانية ويسمو بمدركات الفرد وتصوراته وأحكامه وهذه الأمور من شأنها أن تخفف في نفوس الإفراد الغرائز الأنانية فيسهل عليهم أن يعيشوا معاً في وئام وسلام.</a:t>
            </a:r>
            <a:endParaRPr b="0" lang="en-US" sz="3000" spc="-1" strike="noStrike">
              <a:solidFill>
                <a:srgbClr val="000000"/>
              </a:solidFill>
              <a:latin typeface="Calibri"/>
            </a:endParaRPr>
          </a:p>
          <a:p>
            <a:pPr marL="294840" indent="-2948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وتقوم الأسرة بإشباع الحاجات وعملية التنشئة الاجتماعية فلها دور كبير في إصلاح المجتمع ككل من أهم ما تقوم به تقوية عاطفة حب الغير وتحويل أنانية الفرد إلى ”غيرية“</a:t>
            </a:r>
            <a:endParaRPr b="0" lang="en-US" sz="3000" spc="-1" strike="noStrike">
              <a:solidFill>
                <a:srgbClr val="000000"/>
              </a:solidFill>
              <a:latin typeface="Calibri"/>
            </a:endParaRPr>
          </a:p>
          <a:p>
            <a:pPr marL="294840" indent="-2948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أما النظام السياسي في الدولة فمن شأنه أن يقاوم ما ينشأ في جو المجتمع من تصادم بين مصالح الهيئات الاجتماعية ومن نزاع بين الطبقات حول مشاكل الانتاج وكيفية توزيعه.</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fontScale="87000"/>
          </a:bodyPr>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a:t>
            </a:r>
            <a:r>
              <a:rPr b="0" lang="ar-SA" sz="3000" spc="-1" strike="noStrike">
                <a:solidFill>
                  <a:srgbClr val="000000"/>
                </a:solidFill>
                <a:latin typeface="Calibri"/>
              </a:rPr>
              <a:t>2</a:t>
            </a:r>
            <a:r>
              <a:rPr b="0" lang="ar-SA" sz="3000" spc="-1" strike="noStrike">
                <a:solidFill>
                  <a:srgbClr val="000000"/>
                </a:solidFill>
                <a:latin typeface="Calibri"/>
              </a:rPr>
              <a:t>- </a:t>
            </a:r>
            <a:r>
              <a:rPr b="0" lang="ar-SA" sz="3000" spc="-1" strike="noStrike" u="sng">
                <a:solidFill>
                  <a:srgbClr val="ff0000"/>
                </a:solidFill>
                <a:uFillTx/>
                <a:latin typeface="Calibri"/>
              </a:rPr>
              <a:t>النظام السياسي:</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تعرض كونت في دراسته لوظائف الحكومة وحللها </a:t>
            </a:r>
            <a:r>
              <a:rPr b="0" lang="ar-SA" sz="3000" spc="-1" strike="noStrike" u="sng">
                <a:solidFill>
                  <a:srgbClr val="ff0000"/>
                </a:solidFill>
                <a:uFillTx/>
                <a:latin typeface="Calibri"/>
              </a:rPr>
              <a:t>وقرر أن هذه الوظيفة ليست سهلة الأداء مقصورة على تنظيم البوليس أو ضمان سلامة الشعب ونشر الأمن وليست كما كان يقال عنها في القرن الثامن عشر أنها شر لابد منه </a:t>
            </a:r>
            <a:r>
              <a:rPr b="0" lang="ar-SA" sz="3000" spc="-1" strike="noStrike">
                <a:solidFill>
                  <a:srgbClr val="000000"/>
                </a:solidFill>
                <a:latin typeface="Calibri"/>
              </a:rPr>
              <a:t>بل بالعكس من كل ذلك  الحكومة </a:t>
            </a:r>
            <a:r>
              <a:rPr b="0" lang="ar-SA" sz="3000" spc="-1" strike="noStrike" u="sng">
                <a:solidFill>
                  <a:srgbClr val="ff0000"/>
                </a:solidFill>
                <a:uFillTx/>
                <a:latin typeface="Calibri"/>
              </a:rPr>
              <a:t>هي أولى الوظائف الاجتماعية وأهمها وهي دليل على تقدم المجتمع وهذا التقدم مرهون بنظام هذه الهيئة ومبلغ انقياد الافراد لها ومدى سلطتها عليهم</a:t>
            </a:r>
            <a:r>
              <a:rPr b="0" lang="ar-SA" sz="3000" spc="-1" strike="noStrike">
                <a:solidFill>
                  <a:srgbClr val="000000"/>
                </a:solidFill>
                <a:latin typeface="Calibri"/>
              </a:rPr>
              <a:t>.و وظيفه الحكومة في نظره تقوم في تحقيق مبدأ التضامن في المجتمع والحرص على وحدته.</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3</a:t>
            </a:r>
            <a:r>
              <a:rPr b="0" lang="ar-SA" sz="2500" spc="-1" strike="noStrike">
                <a:solidFill>
                  <a:srgbClr val="000000"/>
                </a:solidFill>
                <a:latin typeface="Calibri"/>
              </a:rPr>
              <a:t>- </a:t>
            </a:r>
            <a:r>
              <a:rPr b="0" lang="ar-SA" sz="2500" spc="-1" strike="noStrike">
                <a:solidFill>
                  <a:srgbClr val="ff0000"/>
                </a:solidFill>
                <a:latin typeface="Calibri"/>
              </a:rPr>
              <a:t>النظام الاقتصادي:</a:t>
            </a:r>
            <a:endParaRPr b="0" lang="en-US" sz="2500" spc="-1" strike="noStrike">
              <a:solidFill>
                <a:srgbClr val="000000"/>
              </a:solidFill>
              <a:latin typeface="Calibri"/>
            </a:endParaRPr>
          </a:p>
          <a:p>
            <a:pPr marL="315360" indent="-31536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0000"/>
                </a:solidFill>
                <a:latin typeface="Calibri"/>
              </a:rPr>
              <a:t>درس كونت الناحية الاقتصادية في المجتمع</a:t>
            </a:r>
            <a:r>
              <a:rPr b="0" lang="ar-SA" sz="2500" spc="-1" strike="noStrike">
                <a:solidFill>
                  <a:srgbClr val="000000"/>
                </a:solidFill>
                <a:latin typeface="Calibri"/>
              </a:rPr>
              <a:t>.</a:t>
            </a:r>
            <a:endParaRPr b="0" lang="en-US" sz="2500" spc="-1" strike="noStrike">
              <a:solidFill>
                <a:srgbClr val="000000"/>
              </a:solidFill>
              <a:latin typeface="Calibri"/>
            </a:endParaRPr>
          </a:p>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عرض للنظريات الاقتصادية السائدة ونقدها </a:t>
            </a:r>
            <a:r>
              <a:rPr b="0" lang="ar-SA" sz="2500" spc="-1" strike="noStrike">
                <a:solidFill>
                  <a:srgbClr val="ff0000"/>
                </a:solidFill>
                <a:latin typeface="Calibri"/>
              </a:rPr>
              <a:t>جميعاً.</a:t>
            </a:r>
            <a:r>
              <a:rPr b="0" lang="ar-SA" sz="2500" spc="-1" strike="noStrike" u="sng">
                <a:solidFill>
                  <a:srgbClr val="ff0000"/>
                </a:solidFill>
                <a:uFillTx/>
                <a:latin typeface="Calibri"/>
              </a:rPr>
              <a:t>نقد آراء مدرسة الفزيوقراط</a:t>
            </a:r>
            <a:r>
              <a:rPr b="0" lang="ar-SA" sz="2500" spc="-1" strike="noStrike">
                <a:solidFill>
                  <a:srgbClr val="ff0000"/>
                </a:solidFill>
                <a:latin typeface="Calibri"/>
              </a:rPr>
              <a:t> (دعة يعمل دعة يمر) وما تذهب إليه من إشاعة الحرية الاقتصادية ونادى بضرورة التدخل من جانب الحكومة لكي تقيم توازناً معقولاً بين الأهداف الفردية وبين ما ينبغي أن تكون عليه المعاملات </a:t>
            </a:r>
            <a:r>
              <a:rPr b="0" lang="ar-SA" sz="2800" spc="-1" strike="noStrike">
                <a:solidFill>
                  <a:srgbClr val="ff0000"/>
                </a:solidFill>
                <a:latin typeface="Calibri"/>
              </a:rPr>
              <a:t>الاجتماعية</a:t>
            </a:r>
            <a:r>
              <a:rPr b="0" lang="ar-SA" sz="2800" spc="-1" strike="noStrike">
                <a:solidFill>
                  <a:srgbClr val="000000"/>
                </a:solidFill>
                <a:latin typeface="Calibri"/>
              </a:rPr>
              <a:t>.</a:t>
            </a:r>
            <a:r>
              <a:rPr b="0" lang="ar-SA" sz="2800" spc="-1" strike="noStrike" u="sng">
                <a:solidFill>
                  <a:srgbClr val="000000"/>
                </a:solidFill>
                <a:uFillTx/>
                <a:latin typeface="Calibri"/>
              </a:rPr>
              <a:t>ونقد أيضاً  الشيوعيين</a:t>
            </a:r>
            <a:r>
              <a:rPr b="0" lang="ar-SA" sz="2500" spc="-1" strike="noStrike" u="sng">
                <a:solidFill>
                  <a:srgbClr val="000000"/>
                </a:solidFill>
                <a:uFillTx/>
                <a:latin typeface="Calibri"/>
              </a:rPr>
              <a:t> </a:t>
            </a:r>
            <a:r>
              <a:rPr b="0" lang="ar-SA" sz="2500" spc="-1" strike="noStrike" u="sng">
                <a:solidFill>
                  <a:srgbClr val="ff0000"/>
                </a:solidFill>
                <a:uFillTx/>
                <a:latin typeface="Calibri"/>
              </a:rPr>
              <a:t>واعترف بأنهم وفقوا في الوصول إلى بعض الحقائق ولم يكونوا مخطئين في كل ما قالوه واتفق معهم في وجوب تدخل الحكومة في العلاقات الاقتصادية وتنظيم وسائل الإنتاج والإشراف عليه ولكنه خالفهم في دعوتهم إلى إلغاء الملكية الفردية والقضاء على جهود الأفراد الخاصة لان الملكية تعتبر ظاهرة اجتماعية والقضاء عليها يعتبر خرقاً في نظم المجتمع</a:t>
            </a:r>
            <a:r>
              <a:rPr b="0" lang="ar-SA" sz="2500" spc="-1" strike="noStrike">
                <a:solidFill>
                  <a:srgbClr val="000000"/>
                </a:solidFill>
                <a:latin typeface="Calibri"/>
              </a:rPr>
              <a:t>.هذا فضلاً عما يتضمنه الإلغاء من تضييق دائرة نشاط الفرد لدرجة تجعل منه كائناً معدوم الشخصية.</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0000"/>
                </a:solidFill>
                <a:latin typeface="Calibri"/>
              </a:rPr>
              <a:t>4</a:t>
            </a:r>
            <a:r>
              <a:rPr b="0" lang="ar-SA" sz="2500" spc="-1" strike="noStrike">
                <a:solidFill>
                  <a:srgbClr val="ff0000"/>
                </a:solidFill>
                <a:latin typeface="Calibri"/>
              </a:rPr>
              <a:t>- النظام الديني:</a:t>
            </a:r>
            <a:endParaRPr b="0" lang="en-US" sz="2500" spc="-1" strike="noStrike">
              <a:solidFill>
                <a:srgbClr val="000000"/>
              </a:solidFill>
              <a:latin typeface="Calibri"/>
            </a:endParaRPr>
          </a:p>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لم يفت كونت أن يدرس الناحية الدينية في المجتمع لأن </a:t>
            </a:r>
            <a:r>
              <a:rPr b="0" lang="ar-SA" sz="2500" spc="-1" strike="noStrike" u="sng">
                <a:solidFill>
                  <a:srgbClr val="ff0000"/>
                </a:solidFill>
                <a:uFillTx/>
                <a:latin typeface="Calibri"/>
              </a:rPr>
              <a:t>المجتمع في حاجة ماسة إلى مجموعة منظمة من العقائد يتفق عليها الأفراد جميعاً وهذا لا يأتي إلا إذا ألغينا الديانات القائمة وصهرناها في دين جديد.</a:t>
            </a:r>
            <a:endParaRPr b="0" lang="en-US" sz="2500" spc="-1" strike="noStrike">
              <a:solidFill>
                <a:srgbClr val="000000"/>
              </a:solidFill>
              <a:latin typeface="Calibri"/>
            </a:endParaRPr>
          </a:p>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هذا ما وضعه كونت وهو نظام ديني جديد هو (الدين </a:t>
            </a:r>
            <a:r>
              <a:rPr b="0" lang="ar-SA" sz="2500" spc="-1" strike="noStrike" u="sng">
                <a:solidFill>
                  <a:srgbClr val="ff0000"/>
                </a:solidFill>
                <a:uFillTx/>
                <a:latin typeface="Calibri"/>
              </a:rPr>
              <a:t>الوضعي)ويدور هذا الدين حول عبارة الإنسانية كفكرة .أي أن فكرة الإنسانية تحل في نظرة محل فكرة (الله) في الديانات الراقية المعروفة ورسم كونت لهذه الديانة طقوساً ونظماً تناسبها ودعا جميع أفراد الجنس الانساني أن يتجهوا إليها بالعبادة والتقدي</a:t>
            </a:r>
            <a:r>
              <a:rPr b="0" lang="ar-SA" sz="2500" spc="-1" strike="noStrike">
                <a:solidFill>
                  <a:srgbClr val="000000"/>
                </a:solidFill>
                <a:latin typeface="Calibri"/>
              </a:rPr>
              <a:t>س لأنها (الكائن العظيم) ونحن ”أعضاؤه“ و </a:t>
            </a:r>
            <a:r>
              <a:rPr b="0" lang="ar-SA" sz="2500" spc="-1" strike="noStrike">
                <a:solidFill>
                  <a:srgbClr val="ff0000"/>
                </a:solidFill>
                <a:latin typeface="Calibri"/>
              </a:rPr>
              <a:t>وظيفة هذه الديانة كما يراها كونت تحقيق وحدة دينية في العالم بأسره لأن جميع الأفراد سيتجهون بقلوبهم وعقولهم نحو فكرة واحدة ومركز واحد فتنتهي الشرور والآثام والمنازعات والحروب وتعيش الاجناس البشرية الثلاثة: الجنس الأيض والأسود والأصفر في عصر ديني ذهبي.</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8</a:t>
            </a:r>
            <a:r>
              <a:rPr b="0" lang="ar-SA" sz="4400" spc="-1" strike="noStrike">
                <a:solidFill>
                  <a:srgbClr val="000000"/>
                </a:solidFill>
                <a:latin typeface="Calibri"/>
              </a:rPr>
              <a:t>- أهم الانتقادات التي وجهت له:</a:t>
            </a:r>
            <a:endParaRPr b="0" lang="en-US" sz="4400" spc="-1" strike="noStrike">
              <a:solidFill>
                <a:srgbClr val="000000"/>
              </a:solidFill>
              <a:latin typeface="Calibri"/>
            </a:endParaRPr>
          </a:p>
        </p:txBody>
      </p:sp>
      <p:sp>
        <p:nvSpPr>
          <p:cNvPr id="561" name=""/>
          <p:cNvSpPr txBox="1"/>
          <p:nvPr/>
        </p:nvSpPr>
        <p:spPr>
          <a:xfrm>
            <a:off x="457200" y="1413000"/>
            <a:ext cx="8229600" cy="4713120"/>
          </a:xfrm>
          <a:prstGeom prst="rect">
            <a:avLst/>
          </a:prstGeom>
          <a:noFill/>
          <a:ln w="0">
            <a:noFill/>
          </a:ln>
        </p:spPr>
        <p:txBody>
          <a:bodyPr anchor="t">
            <a:normAutofit/>
          </a:bodyPr>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نبه كونت إلى قواعد منهجية لها قيمتها العلمية لكنه لم يلتزم بها في دراسة موضوعات العلم فانحرفت انحرافاً ظاهراً ولذلك وصل إلى قوانين فلسفية شخصية بدلاً من أن يصل إلى قوانين مستخلصة من طبائع علمية فهو قد أساء إلى منهجه لأنه أقامه على أساس صحة قانون الأدوار الثلاثة مع أن هذا القانون واضح الفساد .</a:t>
            </a:r>
            <a:endParaRPr b="0" lang="en-US" sz="3000" spc="-1" strike="noStrike">
              <a:solidFill>
                <a:srgbClr val="000000"/>
              </a:solidFill>
              <a:latin typeface="Calibri"/>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فيما يتعلق بقانون الأدوار الثلاثة نجد أن كونت درس الإنسانية بوصفها كل لا يتجزأ مع أن الشيء الملاحظ هو وجود مجتمعات جزئية مختلفة فليست هناك انسانية ولكن هناك مجتمعات انساني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ليس صحيح أن العقل الإنساني قد سلك في فهمه للظواهر الطرق الثلاث مرتبة على الصورة التي ذكرها فقد فهم الاقدمون كثيراً من الحقائق الرياضية والفلكية فهما وضعي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ا تزال بعض المجتمعات تفسر الحقائق العلمية في نظرنا تفسيراً ديني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850680"/>
          </a:xfrm>
          <a:prstGeom prst="rect">
            <a:avLst/>
          </a:prstGeom>
          <a:solidFill>
            <a:srgbClr val="ffffff"/>
          </a:solidFill>
          <a:ln w="25560">
            <a:solidFill>
              <a:srgbClr val="c0504d"/>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ea typeface="Arial"/>
              </a:rPr>
              <a:t>2</a:t>
            </a:r>
            <a:r>
              <a:rPr b="0" lang="ar-SA" sz="4400" spc="-1" strike="noStrike">
                <a:solidFill>
                  <a:srgbClr val="000000"/>
                </a:solidFill>
                <a:latin typeface="Calibri"/>
                <a:ea typeface="Arial"/>
              </a:rPr>
              <a:t>- أعماله :</a:t>
            </a:r>
            <a:endParaRPr b="0" lang="en-US" sz="4400" spc="-1" strike="noStrike">
              <a:solidFill>
                <a:srgbClr val="000000"/>
              </a:solidFill>
              <a:latin typeface="Calibri"/>
            </a:endParaRPr>
          </a:p>
        </p:txBody>
      </p:sp>
      <p:sp>
        <p:nvSpPr>
          <p:cNvPr id="506" name=""/>
          <p:cNvSpPr txBox="1"/>
          <p:nvPr/>
        </p:nvSpPr>
        <p:spPr>
          <a:xfrm>
            <a:off x="457200" y="1268280"/>
            <a:ext cx="8229600" cy="48578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شر اوجست كونت عدد من الكتب والدراسات عبر فيها عن تصوره لنهضة فرنسا وتخلصها من النظام الذي كان مسيطر في العصور الوسطى وانتقالها إلى العصور الحديثة. </a:t>
            </a:r>
            <a:r>
              <a:rPr b="0" lang="ar-SA" sz="3200" spc="-1" strike="noStrike" u="sng">
                <a:solidFill>
                  <a:srgbClr val="ff0000"/>
                </a:solidFill>
                <a:uFillTx/>
                <a:latin typeface="Calibri"/>
              </a:rPr>
              <a:t>ومن أهم أعماله ”الفلسفة الوضعية“ و“خطاب في الفلسفة الوضعية“ و“نظام السياسة الوضع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3</a:t>
            </a:r>
            <a:r>
              <a:rPr b="0" lang="ar-SA" sz="4400" spc="-1" strike="noStrike">
                <a:solidFill>
                  <a:srgbClr val="ff0000"/>
                </a:solidFill>
                <a:latin typeface="Calibri"/>
              </a:rPr>
              <a:t>- ضرورة قيام علم الاجتماع :</a:t>
            </a:r>
            <a:endParaRPr b="0" lang="en-US" sz="4400" spc="-1" strike="noStrike">
              <a:solidFill>
                <a:srgbClr val="000000"/>
              </a:solidFill>
              <a:latin typeface="Calibri"/>
            </a:endParaRPr>
          </a:p>
        </p:txBody>
      </p:sp>
      <p:sp>
        <p:nvSpPr>
          <p:cNvPr id="508" name=""/>
          <p:cNvSpPr txBox="1"/>
          <p:nvPr/>
        </p:nvSpPr>
        <p:spPr>
          <a:xfrm>
            <a:off x="457200" y="1341360"/>
            <a:ext cx="8229600" cy="4967280"/>
          </a:xfrm>
          <a:prstGeom prst="rect">
            <a:avLst/>
          </a:prstGeom>
          <a:noFill/>
          <a:ln w="0">
            <a:noFill/>
          </a:ln>
        </p:spPr>
        <p:txBody>
          <a:bodyPr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سبب الذي جعل من قيام علم الاجتماع ضرورة </a:t>
            </a:r>
            <a:r>
              <a:rPr b="0" lang="ar-SA" sz="3200" spc="-1" strike="noStrike" u="sng">
                <a:solidFill>
                  <a:srgbClr val="ff0000"/>
                </a:solidFill>
                <a:uFillTx/>
                <a:latin typeface="Calibri"/>
              </a:rPr>
              <a:t>هي رغبة أوجست كونت في إصلاح المجتمع وإنقاذه من مظاهر الفوضى المنتشرة في مختلف نواحي المجتمع الفرنسي في ذلك الوقت.</a:t>
            </a:r>
            <a:endParaRPr b="0" lang="en-US" sz="3200" spc="-1" strike="noStrike">
              <a:solidFill>
                <a:srgbClr val="000000"/>
              </a:solidFill>
              <a:latin typeface="Calibri"/>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تتلخص هذه الفوضى في: وجود أسلوبين متناقضين للتفكير وفهم الظواهر.</a:t>
            </a:r>
            <a:endParaRPr b="0" lang="en-US" sz="3200" spc="-1" strike="noStrike">
              <a:solidFill>
                <a:srgbClr val="000000"/>
              </a:solidFill>
              <a:latin typeface="Calibri"/>
            </a:endParaRPr>
          </a:p>
          <a:p>
            <a:pPr marL="298440" indent="-29844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الأولى: </a:t>
            </a:r>
            <a:r>
              <a:rPr b="0" lang="ar-SA" sz="3200" spc="-1" strike="noStrike">
                <a:solidFill>
                  <a:srgbClr val="000000"/>
                </a:solidFill>
                <a:latin typeface="Calibri"/>
              </a:rPr>
              <a:t>الأسلوب العلمي الوضعي الذي يتجه إلى الناس في عصره إذ يفكرون في الظواهر الكونية والطبيعية والبيلوجية.</a:t>
            </a:r>
            <a:endParaRPr b="0" lang="en-US" sz="3200" spc="-1" strike="noStrike">
              <a:solidFill>
                <a:srgbClr val="000000"/>
              </a:solidFill>
              <a:latin typeface="Calibri"/>
            </a:endParaRPr>
          </a:p>
          <a:p>
            <a:pPr marL="298440" indent="-29844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الثانية:</a:t>
            </a:r>
            <a:r>
              <a:rPr b="0" lang="ar-SA" sz="3200" spc="-1" strike="noStrike">
                <a:solidFill>
                  <a:srgbClr val="000000"/>
                </a:solidFill>
                <a:latin typeface="Calibri"/>
              </a:rPr>
              <a:t> التفكير الديني الميتافيزيقي الذي يتجهون إليه عند التفكير في الظواهر التي تتعلق بالإنسان والمجتمع.</a:t>
            </a:r>
            <a:endParaRPr b="0" lang="en-US" sz="3200" spc="-1" strike="noStrike">
              <a:solidFill>
                <a:srgbClr val="000000"/>
              </a:solidFill>
              <a:latin typeface="Calibri"/>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
          <p:cNvSpPr txBox="1"/>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يضع اوجست كونت ثلاث حلول من أجل حل هذا النزاع والقضاء على هذه الفوضى الفكري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ff0000"/>
                </a:solidFill>
                <a:uFillTx/>
                <a:latin typeface="Calibri"/>
              </a:rPr>
              <a:t>أن نوفق بين التفكير الوضعي والتفكير الديني الميافيزيقي </a:t>
            </a:r>
            <a:r>
              <a:rPr b="0" lang="ar-SA" sz="3200" spc="-1" strike="noStrike">
                <a:solidFill>
                  <a:srgbClr val="000000"/>
                </a:solidFill>
                <a:latin typeface="Calibri"/>
              </a:rPr>
              <a:t>بحيث يوجدان معاً بدون تناقض.</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u="sng">
                <a:solidFill>
                  <a:srgbClr val="ff0000"/>
                </a:solidFill>
                <a:uFillTx/>
                <a:latin typeface="Calibri"/>
              </a:rPr>
              <a:t>أن نجعل من المنهج الميتافيزيقي منهجاً عاملاً شاملاً تخضع له جميع العقول والعلوم ونصرف النظر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u="sng">
                <a:solidFill>
                  <a:srgbClr val="ff0000"/>
                </a:solidFill>
                <a:uFillTx/>
                <a:latin typeface="Calibri"/>
              </a:rPr>
              <a:t>أن نعمم المنهج الوضعي فنجعل منه منهجاً كلياً عاماً يشمل جميع ظواهر الكون</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457200" y="1341360"/>
            <a:ext cx="8229600" cy="5112000"/>
          </a:xfrm>
          <a:prstGeom prst="rect">
            <a:avLst/>
          </a:prstGeom>
          <a:noFill/>
          <a:ln w="0">
            <a:noFill/>
          </a:ln>
        </p:spPr>
        <p:txBody>
          <a:bodyPr anchor="t">
            <a:normAutofit fontScale="94000"/>
          </a:bodyPr>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ثم يحاول مناقشة هذه الحلول ليصل إلى تقرير حل واحد فقد</a:t>
            </a:r>
            <a:endParaRPr b="0" lang="en-US" sz="2500" spc="-1" strike="noStrike">
              <a:solidFill>
                <a:srgbClr val="000000"/>
              </a:solidFill>
              <a:latin typeface="Calibri"/>
            </a:endParaRPr>
          </a:p>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كانت مناقشته كالتالي:</a:t>
            </a:r>
            <a:endParaRPr b="0" lang="en-US" sz="2500" spc="-1" strike="noStrike">
              <a:solidFill>
                <a:srgbClr val="000000"/>
              </a:solidFill>
              <a:latin typeface="Calibri"/>
            </a:endParaRPr>
          </a:p>
          <a:p>
            <a:pPr marL="322200" indent="-32220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u="sng">
                <a:solidFill>
                  <a:srgbClr val="ff0000"/>
                </a:solidFill>
                <a:uFillTx/>
                <a:latin typeface="Calibri"/>
              </a:rPr>
              <a:t>أن الوسيلة الأولى لا يمكن تحقيقها علمياً لأن المنهجين متناقضان تمام التناقض </a:t>
            </a:r>
            <a:r>
              <a:rPr b="0" lang="ar-SA" sz="2500" spc="-1" strike="noStrike">
                <a:solidFill>
                  <a:srgbClr val="000000"/>
                </a:solidFill>
                <a:latin typeface="Calibri"/>
              </a:rPr>
              <a:t>وتقدم أحدهما يستلزم ضرورة هدم الآخر .</a:t>
            </a:r>
            <a:endParaRPr b="0" lang="en-US" sz="2500" spc="-1" strike="noStrike">
              <a:solidFill>
                <a:srgbClr val="000000"/>
              </a:solidFill>
              <a:latin typeface="Calibri"/>
            </a:endParaRPr>
          </a:p>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أما الحل الثاني: </a:t>
            </a:r>
            <a:r>
              <a:rPr b="0" lang="ar-SA" sz="2500" spc="-1" strike="noStrike">
                <a:solidFill>
                  <a:srgbClr val="ff0000"/>
                </a:solidFill>
                <a:latin typeface="Calibri"/>
              </a:rPr>
              <a:t>وهو القضاء على الطريقة الوضعية وجعل الناس يفهمون الظواهر في ضوء الطريقة الدينية والميتافيزيقية فهذا الحل يتطلب ضرورة القضاء على الحقائق الوضعية التي حصلنا عليها .</a:t>
            </a:r>
            <a:endParaRPr b="0" lang="en-US" sz="2500" spc="-1" strike="noStrike">
              <a:solidFill>
                <a:srgbClr val="000000"/>
              </a:solidFill>
              <a:latin typeface="Calibri"/>
            </a:endParaRPr>
          </a:p>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لو فرضنا أننا رجعنا بالمجتمع إلى ماكان عليه من قبل من حيث التفكير الديني الميتافيزيقي فهل نستطيع أن نحد من التفكير ونجعله يجمد على هذا الحال؟</a:t>
            </a:r>
            <a:endParaRPr b="0" lang="en-US" sz="2500" spc="-1" strike="noStrike">
              <a:solidFill>
                <a:srgbClr val="000000"/>
              </a:solidFill>
              <a:latin typeface="Calibri"/>
            </a:endParaRPr>
          </a:p>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هل نستطيع أن نتحكم في القوانين الطبيعية التي حكمت على المراحل السابقة بالفساد: فنمنعها من أن تحدث النتيجة نفسها مرة أخرى؟</a:t>
            </a:r>
            <a:endParaRPr b="0" lang="en-US" sz="2500" spc="-1" strike="noStrike">
              <a:solidFill>
                <a:srgbClr val="000000"/>
              </a:solidFill>
              <a:latin typeface="Calibri"/>
            </a:endParaRPr>
          </a:p>
          <a:p>
            <a:pPr marL="322200" indent="-32220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0000"/>
                </a:solidFill>
                <a:latin typeface="Calibri"/>
              </a:rPr>
              <a:t>فكأننا نعيد الفوضى والجدل من جديد ونهدم المجتمع من حيث نريد له الاصلاح والتقدم.</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بناء على مناقشة اوجست كنت للهذه الحلول </a:t>
            </a:r>
            <a:r>
              <a:rPr b="0" lang="ar-SA" sz="3200" spc="-1" strike="noStrike" u="sng">
                <a:solidFill>
                  <a:srgbClr val="ff0000"/>
                </a:solidFill>
                <a:uFillTx/>
                <a:latin typeface="Calibri"/>
              </a:rPr>
              <a:t>وتبين  أن الحال الأول والثاني غير صالحين فقد قرر أنه لم يبقى إلا الحل وهو أن نجعل التفكير الوضعي منهجاً كلياً عاماً ونقضي على ما بقي من مظاهر التفكير الميتافيزيق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4</a:t>
            </a:r>
            <a:r>
              <a:rPr b="0" lang="ar-SA" sz="4400" spc="-1" strike="noStrike">
                <a:solidFill>
                  <a:srgbClr val="ff0000"/>
                </a:solidFill>
                <a:latin typeface="Calibri"/>
              </a:rPr>
              <a:t>- أسس الدراسة ومنهج البحث:</a:t>
            </a:r>
            <a:endParaRPr b="0" lang="en-US" sz="4400" spc="-1" strike="noStrike">
              <a:solidFill>
                <a:srgbClr val="000000"/>
              </a:solidFill>
              <a:latin typeface="Calibri"/>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دد اوجست كونت قواعد المنهج في الدراسة لهذا العلم الحديث وهي كالتال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ملاحظ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لتجر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المنهج المقار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المنهج التاريخ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4:23:16Z</dcterms:created>
  <dc:creator>Windows User</dc:creator>
  <dc:description/>
  <dc:language>en-US</dc:language>
  <cp:lastModifiedBy>Windows User</cp:lastModifiedBy>
  <dcterms:modified xsi:type="dcterms:W3CDTF">2011-05-25T12:33:48Z</dcterms:modified>
  <cp:revision>144</cp:revision>
  <dc:subject/>
  <dc:title>اوجست كونت</dc:title>
</cp:coreProperties>
</file>