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C83-4C33-4BEC-9B97-5EAF7FA8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079-2C70-490A-A856-B95BC5B0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E1F-B5E9-4939-94B7-302E548F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CAD-262E-479B-8309-66D7BF58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31DD-D92E-4B92-8A68-7950974A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A7AA-FF16-4B14-AF6D-89D8167A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F0F8-E388-40A6-A110-1E206EB0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5C1C-2BA1-4B01-A020-06E5D056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78BE-4259-444E-84BD-608FB9C6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668E-049C-4A4B-BF10-0834CA3C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150D-9F1E-480B-A66C-B567F049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EF4-FD60-493D-8957-252CEA09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3FB2-438D-4E0D-AE44-28BA1EB3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692F-7E1A-4F77-8DA6-C9D9C0B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79E8-D27E-4DED-A0F1-CE67AF46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0BD8-CAA4-4783-B3B3-3A96FE82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3D50-44F5-41F6-8879-8C02D4A6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B8A-5039-4D34-894C-7111CCEB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66A-39D2-4F5B-B9A4-7E497099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4D1-A17E-4A28-A929-22BC98C6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B05-88EE-429D-AC39-4C189F50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B7BA-D57C-462D-A5EF-4A3BBA00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3C8-9DDD-45F7-B2EF-E8B628C4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536-CD23-4DE9-92EA-710A992E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7873-7183-4C28-B5D9-1131053DC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CDED-57DE-41CF-9045-B871B9852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ادارة محفظه القروض العقارية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الاعتبارات القانونية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بد عند تكوين محفظه القروض العقارية من الوفاء بأحكام القوانين و ألانظم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 الضوابط التي تشملها التشريعات لتكوين محفظه عقا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قصى مبلغ للقرض الواح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سعر الف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ع تكرار القرض لنفس المقت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صر القروض بالبناء و ليس بشراء المساكن القائ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سماح المحدود بالقروض الممنوحة لاغراض الصيانة و التوس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عفاء شرائح معينة من بعض الشروط العام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تنويع القروض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تنويع القروض من اساسيات تكوين محفظه القروض لأنه يقلل مجمل المخاط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يجب ان لا يستند التنويع الى مكونات مترابطة حتى يحقق هدف تقليل المخاطر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مكونات المتشابهة تزيد من احتمال المخاط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اساليب تنويع القروض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أجال القروض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عدم تركيز منح القروض خلال مده معين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قروض التي تمنح بنفس الوقت تخضع لنفس العوام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ناطق منح القرو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يجب التنويع بالمناطق حتى لا نصل الى حاله تكدس المخاطر جغرافيا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0" algn="r" rtl="1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تنويع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نوع العقارات والمقترض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ا يجب الاقراض فقط لتمويل السك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يمكن الاقراض لتمويل المجمعات السكنية و التسويقية و المحلات التجارية و العقارات الاستثمارية و الفنادق و المباني اللازمة للمصان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لتنويع بنوع العقارات يودي الى تقليل المخاط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تنويع القروض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حجم القرو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عتماد  و التركيز على القروض الكبيرة يؤدي الى زياده المخاطر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وزيع القروض الى على عدد اكبر و بإحجام معتدلة يخفض من مجمل مخلطر المحفظ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ايعني ذلك عدم اعطاء قروض كبيره ولكن المقصود هنا التوسيع الاوسع لمكونات المحفظة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سيوله القروض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سيوله في المصرف تمثل الاحتياطيات الأوليه و الثانو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سيوله و توفرها يتيح المجال امام المصرف العقاري للاستمرار في منح القروض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3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داره السيوله في المحفظه العقاريه من خل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مكن تحقيق السيولة المناسبة في محفظه القروض من خلال اعادة التوقعات حول تدفق الاموال في المصرف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مكانية اقتراض المصرف لآجال قصيره لمواجهة بعض النقص الطارئ في السيو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سيولة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اعاده خصم بعض القروض العقارية او بيعها في السوق الثانو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امكانية الاقتراض من  المصارف التجارية لمواجهة التقلبات القصيرة الاج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تصفيه جزء من محفظه الاستثمار و تحويلها الى محفظه قرو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المردود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مردود هو هدف اساسي من تكوين محفظه القروض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وجد ثلاث عوامل اساسية يجب ملاحظتها عند تحديد المردو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. مخاطر المردود للقروض الاطول اجل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رض طويل الاجل يفرض سعر فائدة ثابت لفترة زمنيه طويلة يوجد احتمال لتقلب الفائده بالسوق مما قد يؤدي الى خساره محتملة – تخفف الخساره من خلال اختيار سعر فائده مع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. كيفية انحدار منحنى العائ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. وجود حق التسديد المبكر للقروض. و يحصل ذلك عند انخفاض سعر الفائ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تكلفة القرض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غرض قياس كفاءة اداره محفظه القروض لا بد من دراسة تكلفتها و تقسم التكلفة الى ما يلي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تكاليف تموي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تكاليف ادار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ثابت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تغير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2:11:11Z</dcterms:created>
  <dc:creator>Administrator</dc:creator>
  <dc:description/>
  <dc:language>en-US</dc:language>
  <cp:lastModifiedBy>Administrator</cp:lastModifiedBy>
  <dcterms:modified xsi:type="dcterms:W3CDTF">2010-11-27T13:07:16Z</dcterms:modified>
  <cp:revision>2</cp:revision>
  <dc:subject/>
  <dc:title>ادارة محفظه القروض العقارية </dc:title>
</cp:coreProperties>
</file>