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0F1-A62B-4D17-A018-81834C004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051A-AEFE-44E4-ABF7-CF4C118F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EB0F-F2A3-45E4-AA6F-19D89522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2D39-1C04-4139-91DD-FF0794ED7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86B0-E969-496A-A748-4DF65C92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828D-7167-41A0-B1F2-6541ED1F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7531-AF64-4FA4-BC2E-A95CFC3F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3338-BBE8-4ED6-A922-B86B1A9E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CCE0-6107-458A-9947-A4A270DC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6C97-C418-408B-AAE9-8B3DBA9A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EB58-9C53-4B5C-8215-42728014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EBF-AA58-4186-A2B1-43070570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81D0E-8672-454D-B3C2-DA8BDBFC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9788-965C-4D1C-B6DA-C1957C22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492F-936C-4F6A-95E3-A713F611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F7AE-7B48-4BB7-A0A6-5130FBA5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7640-3770-40DA-923B-50ED2C42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5B5-18A4-4D59-8A16-EE00472D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3F1-1B02-4825-8AE4-DB01EA6A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38A4-F849-420B-8668-51EF9DEE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EF05-D22D-458D-B5E4-3C7D9B57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BABA-3385-448A-9295-F8997AFC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6675-23CF-4444-913C-496A5200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A115-F04B-4C75-888A-4092B128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47BE-3105-49EF-87C5-4CB72C15A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DC6A-7D66-4E11-8E8F-79318FB43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71640" y="620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ادارة محفظه القروض العقارية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الاعتبارات القانونية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لابد عند تكوين محفظه القروض العقارية من الوفاء بأحكام القوانين و ألانظ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 الضوابط التي تشملها التشريعات لتكوين محفظه عقا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اقصى مبلغ للقرض الواح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حديد سعر الفائ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منع تكرار القرض لنفس المقتر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حصر القروض بالبناء و ليس بشراء المساكن القائم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سماح المحدود بالقروض الممنوحة لاغراض الصيانة و التوسع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160" indent="-542160" algn="r" rtl="1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عفاء شرائح معينة من بعض الشروط العام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تنويع القرو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نويع القروض من اساسيات تكوين محفظه القروض لأنه يقلل مجمل المخاطر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يجب ان لا يستند التنويع الى مكونات مترابطة حتى يحقق هدف تقليل المخاطر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مكونات المتشابهة تزيد من احتمال المخاط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اساليب تنويع القرو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أجال القروض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عدم تركيز منح القروض خلال مده معين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القروض التي تمنح بنفس الوقت تخضع لنفس العوام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ناطق منح القرو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يجب التنويع بالمناطق حتى لا نصل الى حاله تكدس المخاطر جغرافيا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0560" indent="0" algn="r" rtl="1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تنويع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نوع العقارات والمقترضي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ا يجب الاقراض فقط لتمويل السكن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يمكن الاقراض لتمويل المجمعات السكنية و التسويقية و المحلات التجارية و العقارات الاستثمارية و الفنادق و المباني اللازمة للمصان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التنويع بنوع العقارات يودي الى تقليل المخاط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تنويع القرو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. حجم القرو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اعتماد  و التركيز على القروض الكبيرة يؤدي الى زياده المخاطر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وزيع القروض الى على عدد اكبر و بإحجام معتدلة يخفض من مجمل مخلطر المحفظ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ايعني ذلك عدم اعطاء قروض كبيره ولكن المقصود هنا التوسيع الاوسع لمكونات المحفظة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سيوله القرو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يوله في المصرف تمثل الاحتياطيات الأوليه و الثانو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سيوله و توفرها يتيح المجال امام المصرف العقاري للاستمرار في منح القروض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3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داره السيوله في المحفظه العقاريه من خل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مكن تحقيق السيولة المناسبة في محفظه القروض من خلال اعادة التوقعات حول تدفق الاموال في المصرف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مكانية اقتراض المصرف لآجال قصيره لمواجهة بعض النقص الطارئ في السيول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سيولة القروض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اعاده خصم بعض القروض العقارية او بيعها في السوق الثانو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امكانية الاقتراض من  المصارف التجارية لمواجهة التقلبات القصيرة الاجل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تصفيه جزء من محفظه الاستثمار و تحويلها الى محفظه قروض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المردود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مردود هو هدف اساسي من تكوين محفظه القروض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وجد ثلاث عوامل اساسية يجب ملاحظتها عند تحديد المردود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أ. مخاطر المردود للقروض الاطول اجلا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رض طويل الاجل يفرض سعر فائدة ثابت لفترة زمنيه طويلة يوجد احتمال لتقلب الفائده بالسوق مما قد يؤدي الى خساره محتملة – تخفف الخساره من خلال اختيار سعر فائده معو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ب. كيفية انحدار منحنى العائد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ج. وجود حق التسديد المبكر للقروض. و يحصل ذلك عند انخفاض سعر الفائد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b7e7ff"/>
                </a:solidFill>
                <a:latin typeface="Arial"/>
              </a:rPr>
              <a:t>تكلفة القرض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لغرض قياس كفاءة اداره محفظه القروض لا بد من دراسة تكلفتها و تقسم التكلفة الى ما يلي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كاليف تموي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تكاليف اداري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ثابت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</a:rPr>
              <a:t>متغيرة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2:11:11Z</dcterms:created>
  <dc:creator>Administrator</dc:creator>
  <dc:description/>
  <dc:language>en-US</dc:language>
  <cp:lastModifiedBy>Administrator</cp:lastModifiedBy>
  <dcterms:modified xsi:type="dcterms:W3CDTF">2010-11-27T13:07:16Z</dcterms:modified>
  <cp:revision>2</cp:revision>
  <dc:subject/>
  <dc:title>ادارة محفظه القروض العقارية </dc:title>
</cp:coreProperties>
</file>