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FC66-993E-4C74-A65F-18EB1324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B5C-2332-465F-A6B6-391DD3FC3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87A-8C2C-4180-A001-DA737C38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D78D-6CAD-4214-85A3-980A65411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5BC1-B67D-4875-AB19-9F59D942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BD65-ED9D-4EE6-88E7-38D4EF41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46B5-5D00-43A9-ACDC-90ABF064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E8E-1444-4F32-B473-FFD4454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E8A-BFF9-4120-879A-69BE6713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BE4E-96EB-4E1B-81FE-73671D03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192C-A854-4612-8C33-BE495754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9FBE-FB3D-4C5A-8F81-74009A63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DA4D8-F2EC-425C-8F54-CC85D076A7A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عدل العائد الداخلي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القانون المتبع في مدة الاسترداد  مباشرة لان التدفقات متساو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,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بحث عن هذا الرقم في جدول القيم الحالية المتساوية في صف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2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.23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فيما يلي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صافي التدفق النقدي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الاحدى المشاريع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للمشروع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توسط صافي التدفقات لأنها غير متسا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بحث عن الناتج في جدول القيم الحالية المتساوية في صف  السنة الخامس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2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.2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اكبر من المشروع الأول اذا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معدل العائد الداخل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al Rate Of Inves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عدل العائد الداخلى هو سعر الخصم الذى يجعل القيمة الحالية لتيار المنافع يساوى القيمة الحالية لتيار التكاليف . ويعرف سعر الخصم هذا بمعدل العائد الداخلى . وهو يمثل أقصى فائدة يمكن أن يدفعها المشروع ، ويحقق التعادل بين الإيرادات والتكاليف للمشرو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ا معنى المشروع يحقق معدل عائد داخلى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: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أن المشروع يستطيع استرداد رأس المال وتكاليف الإنتاج وتكاليف التشغيل التى انفقت علية بالإضافة إلى تحقيق عائد قدر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% على استخدام أموال صاحب المشروع . فإذا كان صاحب المشروع قد اقترض كل أموال المشروع بسعر فائدة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% فأنه يغطى فائدة الاقتراض ويحقق الفرق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%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ربح لصاحب المشروع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ما يلي صافي التدفق النقدي لاحدى المشاريع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 u="sng">
                <a:solidFill>
                  <a:srgbClr val="000000"/>
                </a:solidFill>
                <a:uFillTx/>
                <a:latin typeface="Arial"/>
              </a:rPr>
              <a:t>اولا نجد متوسط التدفقات النقد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تدفقات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وسط التدفقات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نيا نطبق المعادلة التالية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استثمار الاولي / متوسط التدفقات النق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لثا نبحث عن هذا الرقم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 في جدول القيمة الحالية للتدفقات المنتظمة المتساوية عند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هذا الرقم ب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ذا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(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/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)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فيما يلي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لاحدى المشاريع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وجد 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7:06:5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