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826A-1051-4FAA-9D3E-3D012C4F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6BA-1749-41E2-A77B-C976AD07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ACD-73B6-4F4D-BEAB-15A20D9E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1BD9-D8CF-48EF-8358-AD01DD0F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812-B5AF-4E41-BB53-7B0D9AE3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DDA-3147-447D-9F08-16E839E3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BFA-5719-45B1-B738-C8792A9D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556-8958-486D-B0B3-6A0E41E7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6A35-3656-482C-8824-22C46375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A787-D609-4269-995F-63299970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A95F-7F74-49C1-A190-9A2C8471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25D-74A4-47BE-8EC0-F12D6D17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C43C-3057-40C7-BB3B-E5FDE5531C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عدل العائد الداخلي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ادة الك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مشروع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نطبق القانون المتبع في مدة الاسترداد  مباشرة لان التدفقات متساو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دة الاسترداد للمشروع الاول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,333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نبحث عن هذا الرقم في جدول القيم الحالية المتساوية في صف السنة الخامس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نجد هذا الرقم محصور بي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عند معدل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) و (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52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عند معدل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عدل العائد الداخلي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52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33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)/(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52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0.24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عدل العائد الداخلي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.234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فيما يلي </a:t>
            </a: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صافي التدفق النقدي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الاحدى المشاريع </a:t>
            </a: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وجد معدل العائد الداخل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 للمشروع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د متوسط صافي التدفقات لأنها غير متساو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توسط صافي التدفق النقد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5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طبق قانون مدة الاسترد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دة الاسترداد 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1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,235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س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بحث عن الناتج في جدول القيم الحالية المتساوية في صف  السنة الخامس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جد هذا الرقم محصور بي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1272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عند معدل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%) و (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عند معدل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%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عدل العائد الداخلي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,235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/(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127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26%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عدل العائد الداخل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6.2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عدل العائد الداخلي للمشروع الثاني اكبر من المشروع الأول اذا المشروع الثاني افض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عزيزي الطال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يرجى  منك مراعاة ما يلي عند الامتحان النهائ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احضار الهوية الجامعية و بطاقة الاحوا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إحضار الحاسبة الشخصية حيث لن يسمح بإدخال التلفونات  الجوال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راجعة قاعة الامتحان قبل موعد الامتحان بنصف ساعة على الاقل لمعرفة قاعة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التقيد بتعليمات المراقب و المحافظة على ال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عدم الخروج من قاعة الامتحان قبل مضي نصف وقت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عدم التجمع بالممرات بعد الانتهاء من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ع امنياتي لكم بالنجاح و التوفي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د. محمد الموم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مد لله رب العال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عدل العائد الداخل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 Rate Of Inves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عدل العائد الداخلى هو سعر الخصم الذى يجعل القيمة الحالية لتيار المنافع يساوى القيمة الحالية لتيار التكاليف . ويعرف سعر الخصم هذا بمعدل العائد الداخلى . وهو يمثل أقصى فائدة يمكن أن يدفعها المشروع ، ويحقق التعادل بين الإيرادات والتكاليف للمشرو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ا معنى المشروع يحقق معدل عائد داخلى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ن المشروع يستطيع استرداد رأس المال وتكاليف الإنتاج وتكاليف التشغيل التى انفقت علية بالإضافة إلى تحقيق عائد قدرة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% على استخدام أموال صاحب المشروع . فإذا كان صاحب المشروع قد اقترض كل أموال المشروع بسعر فائدة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% فأنه يغطى فائدة الاقتراض ويحقق الفرق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ربح لصاحب المشرو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فيما يلي صافي التدفق النقدي لاحدى المشاريع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1600200"/>
          <a:ext cx="8381880" cy="4708440"/>
        </p:xfrm>
        <a:graphic>
          <a:graphicData uri="http://schemas.openxmlformats.org/drawingml/2006/table">
            <a:tbl>
              <a:tblPr/>
              <a:tblGrid>
                <a:gridCol w="1600200"/>
                <a:gridCol w="1218960"/>
                <a:gridCol w="1143000"/>
                <a:gridCol w="1067040"/>
                <a:gridCol w="1306440"/>
                <a:gridCol w="1022400"/>
                <a:gridCol w="102384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ن الجدول السابق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وج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عدل العائد الداخل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 u="sng">
                <a:solidFill>
                  <a:srgbClr val="000000"/>
                </a:solidFill>
                <a:uFillTx/>
                <a:latin typeface="Arial"/>
              </a:rPr>
              <a:t>اولا نجد متوسط التدفقات النقدي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جموع التدفقات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08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96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9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78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72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4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توسط التدفقات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44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888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ريال سنوي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 u="sng">
                <a:solidFill>
                  <a:srgbClr val="000000"/>
                </a:solidFill>
                <a:uFillTx/>
                <a:latin typeface="Arial"/>
              </a:rPr>
              <a:t>ثانيا نطبق المعادلة التالية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استثمار الاولي / متوسط التدفقات النقد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888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7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 u="sng">
                <a:solidFill>
                  <a:srgbClr val="000000"/>
                </a:solidFill>
                <a:uFillTx/>
                <a:latin typeface="Arial"/>
              </a:rPr>
              <a:t>ثالثا نبحث عن هذا الرقم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784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) في جدول القيمة الحالية للتدفقات المنتظمة المتساوية عند السنة الخامس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د هذا الرقم بين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ذا 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+ ( 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433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378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/ 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433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352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))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6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4.6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فيما يلي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لاحدى المشاريع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وجد معدل العائد الداخل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3-23T07:06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