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27D-39E8-499D-B0D4-E9467A97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11C-7AC4-4385-B545-DD8CEEFE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9AD-89C9-4973-8D35-BC443196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3CC-955C-4CB1-ABD3-D6E62026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7E0-2A43-4995-9329-0B43ACA9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8CD-04B8-4216-99FC-313AF5F4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EFF-590A-45A5-A4DF-79EFD1A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D77-B889-4808-8F71-3B6FA79F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E46-D02D-48E2-87F2-00730B6E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33F-93CC-4F05-9D5C-512700C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59B-138D-41F4-B22B-E14638E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624-9257-4D03-856A-4B6F74F0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14EC-0084-49E4-8EED-CCA0B56E1C6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راجعة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ساب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المراجعة الداخلية و المراجعة الخار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عني المراجعة ص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49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واع المراجعة حسب القائم بعملية المراجع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وجه الاختلاف بين المراجعة الداخلية و المراجعة الخارجية   ص 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قاط  الاختلا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كامل الوظيفي بينهم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مراجعة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هداف المراجعة التقليدية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سائل المراجعة ( اختبارات التحقق ) 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هجية تقييم الوسائل الرقابية و بالتالي المخاطر المرتبطة بالبيانات المحاسبية 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خطوات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صائص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بيئة نظم المعلومات الالكترون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حاسب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نقاط 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اليب مراجعة نظم المعلومات الالكترونية المحاسبية   ص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7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1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اسلوب الاو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راجعة حول الحاس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– ما هي و كيف تنفذ أ – ب – ج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– الاساليب : المقارنات – المجاميع الرقاب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مزايا و العيوب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اسلوب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0000"/>
                </a:solidFill>
                <a:latin typeface="Calibri"/>
              </a:rPr>
              <a:t>المراجعة من خلال الحاس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ما هي : فحص و اختبار و عملية التشغيل داخل الحاسب و المدخلات و المخرجات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مجالات الاستخدام : التحقق من اوجه التشغيل و التحقق من صحة نتائج التشغي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– اساليب التحقق 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ساليب  هي ص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25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1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الاسلوب الاول بيانات الاختبار: الالية – الهدف – المزايا – العيو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ثاني الملف الاختبار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3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ثالث التشغيل المتزا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4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رابع المحاكاة المتوازن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تشغيل تحت رقابة المراج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جدول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- الفر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فرق بين المراجعة حول الحاسب و المراجعة من خلال الحاس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ساليب المراجعة باستخدام الحاسب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المفهوم هو استخدام طرق المراجعة بمساعدة الحاس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الاساليب :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6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-3-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برامج الالية لتنفيذ اختبارات المراجعة  : استخدام البرامج العامة للمراجعة   يوجد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7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فصل اكث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-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سلوب مركز عمل المراجعة  :استخدام حاسب صغير مع البرامج المناسبة كمركز عم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سلوب المراجعة الانية الفوري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عن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حتياج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جراءات 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جراءات المراجعة للمدخل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مراجعة لعمليات التشغي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مراجعة ل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حماية للنظ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واجبات المراجع عند مراجعة معاملات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8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حليل و تصميم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8137440" cy="295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799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رسم تخطيطي 6" descr=""/>
          <p:cNvPicPr/>
          <p:nvPr/>
        </p:nvPicPr>
        <p:blipFill>
          <a:blip r:embed="rId1"/>
          <a:stretch/>
        </p:blipFill>
        <p:spPr>
          <a:xfrm>
            <a:off x="396720" y="231840"/>
            <a:ext cx="8302680" cy="126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All Users\Documents\My Pictures\Sample Pictures\Water lilies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2549520"/>
          </a:xfrm>
          <a:prstGeom prst="rect">
            <a:avLst/>
          </a:prstGeom>
          <a:ln w="0">
            <a:noFill/>
          </a:ln>
        </p:spPr>
      </p:pic>
      <p:sp>
        <p:nvSpPr>
          <p:cNvPr id="91" name="مستطيل مستدير الزوايا 4"/>
          <p:cNvSpPr/>
          <p:nvPr/>
        </p:nvSpPr>
        <p:spPr>
          <a:xfrm>
            <a:off x="2124000" y="4581360"/>
            <a:ext cx="5040360" cy="129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5"/>
          <p:cNvSpPr/>
          <p:nvPr/>
        </p:nvSpPr>
        <p:spPr>
          <a:xfrm>
            <a:off x="2843280" y="479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نياتي لكي بالتوفيق و النجا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23920" y="0"/>
            <a:ext cx="8696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5240" y="461880"/>
            <a:ext cx="41335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6003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38292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3743280" cy="20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5003640" y="4145040"/>
            <a:ext cx="3745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08000" y="1490760"/>
            <a:ext cx="4608360" cy="446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859280" y="1490760"/>
            <a:ext cx="3960720" cy="25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4"/>
          <a:stretch/>
        </p:blipFill>
        <p:spPr>
          <a:xfrm>
            <a:off x="4356000" y="4043520"/>
            <a:ext cx="3888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خاطر المراجع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351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حاضرة نظم الفصل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مراجعة نظم المعلومات المحاس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7:32:37Z</dcterms:created>
  <dc:creator>ksu</dc:creator>
  <dc:description/>
  <dc:language>en-US</dc:language>
  <cp:lastModifiedBy>user</cp:lastModifiedBy>
  <dcterms:modified xsi:type="dcterms:W3CDTF">2013-04-01T07:05:01Z</dcterms:modified>
  <cp:revision>17</cp:revision>
  <dc:subject/>
  <dc:title>محاضرة نظم الفصل 7</dc:title>
</cp:coreProperties>
</file>