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2E3-627F-4B36-8BE3-EFF94C0F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C05-8C60-43BF-ACB3-8AA89380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A02-2F4D-4D5F-BAC9-F64A3B6F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A25-25C9-4A68-AB29-4D2E573B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A84-09A1-4AC1-813A-ED97F236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807-7A2A-48A7-B193-D5EB1A10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303-B708-4996-B469-152CB93D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FBD-8F5C-4477-BD59-9F6D1F7E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52A-A7AA-494D-93BA-776B32A6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8C3-D948-4032-9455-588E5F2D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5C1-6982-424C-A0E3-12A143DC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289-10EC-404F-9E7E-7B1371F0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2DC7-C7A0-42CD-AD4B-997183F9CD4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راجعة نظم المعلومات المحاسب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لفصل الساب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- المراجعة الداخلية و المراجعة الخارج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عني المراجعة ص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49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نواع المراجعة حسب القائم بعملية المراجع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وجه الاختلاف بين المراجعة الداخلية و المراجعة الخارجية   ص 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25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قاط  الاختلا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كامل الوظيفي بينهم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- مراجعة نظم المعلومات المحاسب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هداف المراجعة التقليدية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سائل المراجعة ( اختبارات التحقق ) 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هجية تقييم الوسائل الرقابية و بالتالي المخاطر المرتبطة بالبيانات المحاسبية (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خطوات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صائص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بيئة نظم المعلومات الالكترون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حاسب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نقاط 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ساليب مراجعة نظم المعلومات الالكترونية المحاسبية   ص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الي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7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-1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الاسلوب الاو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مراجعة حول الحاس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– ما هي و كيف تنفذ أ – ب – ج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– الاساليب : المقارنات – المجاميع الرقاب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لمزايا و العيوب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-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الاسلوب الثان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0000"/>
                </a:solidFill>
                <a:latin typeface="Calibri"/>
              </a:rPr>
              <a:t>المراجعة من خلال الحاس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- ما هي : فحص و اختبار و عملية التشغيل داخل الحاسب و المدخلات و المخرجات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- مجالات الاستخدام : التحقق من اوجه التشغيل و التحقق من صحة نتائج التشغي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– اساليب التحقق 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ساليب  هي ص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25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1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الاسلوب الاول بيانات الاختبار: الالية – الهدف – المزايا – العيو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2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لاسلوب الثاني الملف الاختبار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3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لاسلوب الثالث التشغيل المتزا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4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لاسلوب الرابع المحاكاة المتوازن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5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لتشغيل تحت رقابة المراج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جدول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- الفر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فرق بين المراجعة حول الحاسب و المراجعة من خلال الحاس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-3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4400" spc="-1" strike="noStrike">
                <a:solidFill>
                  <a:srgbClr val="ff0000"/>
                </a:solidFill>
                <a:latin typeface="Calibri"/>
              </a:rPr>
              <a:t>اساليب المراجعة باستخدام الحاسب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28280"/>
            <a:ext cx="8218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المفهوم هو استخدام طرق المراجعة بمساعدة الحاس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الاساليب :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6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-3-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لبرامج الالية لتنفيذ اختبارات المراجعة  : استخدام البرامج العامة للمراجعة   يوجد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7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تفصل اكث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-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سلوب مركز عمل المراجعة  :استخدام حاسب صغير مع البرامج المناسبة كمركز عم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-5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اسلوب المراجعة الانية الفوري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عن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حتياج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جراءات المراجع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جراءات المراجعة للمدخل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جراءات المراجعة لعمليات التشغي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جراءات المراجعة لل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جراءات الحماية للنظا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واجبات المراجع عند مراجعة معاملات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8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حليل و تصميم نظم المعلومات المحاسب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8137440" cy="295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7993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رسم تخطيطي 6" descr=""/>
          <p:cNvPicPr/>
          <p:nvPr/>
        </p:nvPicPr>
        <p:blipFill>
          <a:blip r:embed="rId1"/>
          <a:stretch/>
        </p:blipFill>
        <p:spPr>
          <a:xfrm>
            <a:off x="396720" y="231840"/>
            <a:ext cx="8302680" cy="126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Documents and Settings\All Users\Documents\My Pictures\Sample Pictures\Water lilies.jpg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2549520"/>
          </a:xfrm>
          <a:prstGeom prst="rect">
            <a:avLst/>
          </a:prstGeom>
          <a:ln w="0">
            <a:noFill/>
          </a:ln>
        </p:spPr>
      </p:pic>
      <p:sp>
        <p:nvSpPr>
          <p:cNvPr id="91" name="مستطيل مستدير الزوايا 4"/>
          <p:cNvSpPr/>
          <p:nvPr/>
        </p:nvSpPr>
        <p:spPr>
          <a:xfrm>
            <a:off x="2124000" y="4581360"/>
            <a:ext cx="5040360" cy="1295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ربع نص 5"/>
          <p:cNvSpPr/>
          <p:nvPr/>
        </p:nvSpPr>
        <p:spPr>
          <a:xfrm>
            <a:off x="2843280" y="4797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منياتي لكي بالتوفيق و النجا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23920" y="0"/>
            <a:ext cx="8696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5240" y="461880"/>
            <a:ext cx="413352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راجع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60036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3382920" cy="23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684360" y="4005360"/>
            <a:ext cx="3743280" cy="202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5"/>
          <a:stretch/>
        </p:blipFill>
        <p:spPr>
          <a:xfrm>
            <a:off x="5003640" y="4145040"/>
            <a:ext cx="3745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راجع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08000" y="1490760"/>
            <a:ext cx="4608360" cy="4464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4859280" y="1490760"/>
            <a:ext cx="3960720" cy="2552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4"/>
          <a:stretch/>
        </p:blipFill>
        <p:spPr>
          <a:xfrm>
            <a:off x="4356000" y="4043520"/>
            <a:ext cx="38880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خاطر المراجع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8351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حاضرة نظم الفصل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مراجعة نظم المعلومات المحاسب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07:32:37Z</dcterms:created>
  <dc:creator>ksu</dc:creator>
  <dc:description/>
  <dc:language>en-US</dc:language>
  <cp:lastModifiedBy>user</cp:lastModifiedBy>
  <dcterms:modified xsi:type="dcterms:W3CDTF">2013-04-01T07:05:01Z</dcterms:modified>
  <cp:revision>17</cp:revision>
  <dc:subject/>
  <dc:title>محاضرة نظم الفصل 7</dc:title>
</cp:coreProperties>
</file>