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522C-3C64-4834-B45A-F18531B95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1008-349A-49A3-AE8E-C76419BE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C6B0-FB08-461C-AF7A-17320ECE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810B-2D6E-4B53-9DD4-328D6FC1B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C244-7743-4604-8DBE-D2148C9C2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5EAD-1AF8-45DD-96A4-586ADB24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0707-655D-47BB-A235-E0DC4A02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CC5F-F403-47BF-828C-F7E3250F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A4F0-0E04-4FBA-82E5-B358F541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4C9A-9508-4E0C-A685-C9A84675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B86D-886E-48D5-BE29-1C433700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CD3E-43D1-4BBF-B32E-5E3608E6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27F0-457E-4617-9C56-D06DC5FC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38E1-5F97-49BD-AEF0-FD322D33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09A3-B27E-4CF7-8C06-D919D757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B06B-6674-4913-BFCD-9447DFE49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58AC-8A48-4A7D-A2BD-28574B231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CC87-BA7B-4958-8318-D7C10FE9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358C-DF93-46CB-BEA1-131C1F3D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6A19-5C7D-4583-910C-617794E9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889A-104A-4B43-B25E-29F85EFC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7006-3892-4140-ADF6-6A1025E4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896F-7458-45FD-B5C7-2CC7A86D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A97D-BD7C-4E55-841A-0D05F324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BF93-42BE-4167-A105-CAAF9ECE54B9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9BF0-67D3-4B08-A97A-194CC8BF1606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72400" cy="136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99"/>
                </a:solidFill>
                <a:latin typeface="Arial"/>
              </a:rPr>
              <a:t>الهضم والامتصاص والتمثيل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Digestion,</a:t>
            </a:r>
            <a:r>
              <a:rPr b="0" lang="ar-SA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bsorption and Metabolism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84360" y="198900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 rtl="1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يتم هضم الغذاء في القناة الهضمية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بقاء الغذاء في الجهاز الهضمي يجعل منه من الناحية الفسيولوجية غير متاح للجس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يهضم الغذاء بعمليات ميكانيكية وكيميائية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الهضم الكيميائي ( بواسطة الإنزيمات) يؤدي إلى تغير خصائص الطعا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أماكن الهضم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 - الفم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 - المعد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 - الأمعاء الدقيق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99"/>
                </a:solidFill>
                <a:latin typeface="Arial"/>
              </a:rPr>
              <a:t>الجهاز الهضمي في الإنسان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11" descr="scan0018"/>
          <p:cNvPicPr/>
          <p:nvPr/>
        </p:nvPicPr>
        <p:blipFill>
          <a:blip r:embed="rId1"/>
          <a:stretch/>
        </p:blipFill>
        <p:spPr>
          <a:xfrm>
            <a:off x="1547640" y="1052640"/>
            <a:ext cx="5994720" cy="5805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99"/>
                </a:solidFill>
                <a:latin typeface="Arial"/>
              </a:rPr>
              <a:t>الإنزيمات والهضم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Enzymes and Digestio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الإنزيمات تقوم بتحليل الطعا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  -- الكربوهيدرات تحللها إنزيمات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mylas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  -- البروتينات   تحللها إنزيمات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teas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  -- الدهون تحللها إنزيمات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pas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الإنزيمات مواد بروتينية متخصصة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تفرز الإنزيمات في أماكن معينة في الجهاز الهضمي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البنكرياس يفرز إنزيمات قادرة على تحليل الكربوهيدرات والبروتينات واللبيدات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99"/>
                </a:solidFill>
                <a:latin typeface="Arial"/>
              </a:rPr>
              <a:t>مركبات أخرى تساعد على الهضم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ركبات لها القدرة على المساعدة في عملية الهضم وليس لها دور تحليلي مثل الإنزيما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c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العصارة الصفراوية (تفرز من الكبد ونخزن في المرارة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allbladd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. الهرمونات ( بعض من الهرمونات المساعدة في الهضم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أ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astrin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(يحث على إفراز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cl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ب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reti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(يحث على إفراز بيكربونات الصوديوم من البنكرياس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ج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olecystokinin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(يحث على إفراز العصارة الصفراوية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99"/>
                </a:solidFill>
                <a:latin typeface="Arial"/>
              </a:rPr>
              <a:t>نواتج الهضم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7240" y="2141640"/>
            <a:ext cx="79790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901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الكربوهيدرات                 سكريات أحادي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 * البروتينات                      أحماض أميني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* الدهون                 أحماض دهنية + جليسرو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Line 16"/>
          <p:cNvSpPr/>
          <p:nvPr/>
        </p:nvSpPr>
        <p:spPr>
          <a:xfrm flipH="1">
            <a:off x="4211280" y="256536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Line 17"/>
          <p:cNvSpPr/>
          <p:nvPr/>
        </p:nvSpPr>
        <p:spPr>
          <a:xfrm flipH="1" flipV="1">
            <a:off x="4427280" y="3212640"/>
            <a:ext cx="194292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Line 18"/>
          <p:cNvSpPr/>
          <p:nvPr/>
        </p:nvSpPr>
        <p:spPr>
          <a:xfrm flipH="1" flipV="1">
            <a:off x="5292720" y="3860280"/>
            <a:ext cx="172728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99"/>
                </a:solidFill>
                <a:latin typeface="Arial"/>
              </a:rPr>
              <a:t>الامتصاص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bsorption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عبور نواتج الهضم من القناة الهضمية إلى الخلايا المبطنة لها ومنها إلى الدم أو اللم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معظم الامتصاص يتم في الأثني عشر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uodenum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والجزء الأوسط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junum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من الأمعاء الدقيقة ( لماذا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- الخمائل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illi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والخمائل الدقيقة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crovilli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في الأمعا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- عوامل أخرى (الميتوكندريا والرايبوسوم في هذه الخلايا وإنزيمات تفرز من جدر الخلايا لتكملة الهضم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* يتحكم في الامتصاص الخلايا الطلائية في الخمائل الدقيق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99"/>
                </a:solidFill>
                <a:latin typeface="Arial"/>
              </a:rPr>
              <a:t>أماكن امتصاص العناصر الغذائية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Picture 4" descr="scan"/>
          <p:cNvPicPr/>
          <p:nvPr/>
        </p:nvPicPr>
        <p:blipFill>
          <a:blip r:embed="rId1"/>
          <a:stretch/>
        </p:blipFill>
        <p:spPr>
          <a:xfrm>
            <a:off x="2424240" y="1268280"/>
            <a:ext cx="4297320" cy="4592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99"/>
                </a:solidFill>
                <a:latin typeface="Arial"/>
              </a:rPr>
              <a:t>طرق الامتصا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  <a:ea typeface="Simplified Arabic"/>
              </a:rPr>
              <a:t>1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Simplified Arabic"/>
              </a:rPr>
              <a:t>. النقل غير الفعال ( غير النشط)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Simplified Arabic"/>
              </a:rPr>
              <a:t>Passive Transpor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Simplified Arabic"/>
              </a:rPr>
              <a:t>     من وسط أكثر تركيزاً إلى وسط أقل تركيزا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Simplified Arabic"/>
              </a:rPr>
              <a:t>     لا يحتاج إلى طاقة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Simplified Arabic"/>
              </a:rPr>
              <a:t>)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  <a:cs typeface="Simplified Arabic"/>
              </a:rPr>
              <a:t>أ) الانتشار خلال المسام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Simplified Arabic"/>
              </a:rPr>
              <a:t>Diffusion Through P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  <a:ea typeface="Simplified Arabic"/>
              </a:rPr>
              <a:t>     الماء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Verdana"/>
                <a:ea typeface="Simplified Arabic"/>
              </a:rPr>
              <a:t>     يحدد انتشار العنصر بالإضافة إلى خاصية الذوبان في الماء حجم الجزيء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Verdana"/>
                <a:ea typeface="Simplified Arabic"/>
              </a:rPr>
              <a:t>(ب)  الانتشار خلال أغشية الخلايا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Simplified Arabic"/>
              </a:rPr>
              <a:t>Diffusion Through Membran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Verdana"/>
                <a:ea typeface="Simplified Arabic"/>
              </a:rPr>
              <a:t>     الجلسيريدات الأحادية , الأحماض الدهنية والعناصر الأخرى الذائبة في الدهون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Verdana"/>
                <a:ea typeface="Simplified Arabic"/>
              </a:rPr>
              <a:t>(ج) الانتشار بواسطة ناقل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Verdana"/>
                <a:ea typeface="Simplified Arabic"/>
              </a:rPr>
              <a:t>     العناصر الذائبة في الماء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Simplified Arabic"/>
              </a:rPr>
              <a:t>2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Simplified Arabic"/>
              </a:rPr>
              <a:t>. النقل الفعال ( النشط)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Simplified Arabic"/>
              </a:rPr>
              <a:t>Active Transpor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Simplified Arabic"/>
              </a:rPr>
              <a:t>    - من وسط أقل تركيزاً إلى وسط أكثر تركيزا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Simplified Arabic"/>
              </a:rPr>
              <a:t>    - يحتاج إلى طاقة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Simplified Arabic"/>
              </a:rPr>
              <a:t>    - قد يحتاج إلى ناقل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Simplified Arabic"/>
              </a:rPr>
              <a:t>    - بعض الأحماض الأمينية وبعض الفيتامينات والمعادن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99"/>
                </a:solidFill>
                <a:latin typeface="Arial"/>
              </a:rPr>
              <a:t>التمثيل ( الأيض)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etabolism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التغيرات الكيموحيوية للعناصر الممتصة في خلايا الجس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. عملية البناء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abolis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عملية الهدم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tabolis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استخدام الخلايا لنواتج هضم الكربوهيدرات والبروتينات والدهو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. إنتاج الطاقة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8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8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. تصنيع مكونات أو مركبات أخرى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8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8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. تخزينها في الجسم على شكل مركبات أخرى يمكن الاستفادة منها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8T19:09:14Z</dcterms:created>
  <dc:creator>MyName</dc:creator>
  <dc:description/>
  <dc:language>en-US</dc:language>
  <cp:lastModifiedBy>hamza</cp:lastModifiedBy>
  <dcterms:modified xsi:type="dcterms:W3CDTF">2011-02-21T16:16:30Z</dcterms:modified>
  <cp:revision>53</cp:revision>
  <dc:subject/>
  <dc:title>الهضم والامتصاص والتمثيل</dc:title>
</cp:coreProperties>
</file>