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5DC-3AA2-476D-B9A8-3771672F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B03-2284-4794-AB93-7ABECFF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0DD-6BCA-471D-BEA4-CB9CA6C8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001-FC41-43E0-A97C-2329716C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F82-95F5-40A8-82AA-412F2869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4A40-111E-42B4-915C-ABDC3D49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2957-5B1E-49AA-9AC0-C60C0D58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DE0-4636-4136-BC38-FE35361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208-19A1-445C-8705-15E87F2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358-5542-470A-8E38-2812A92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A95-B726-4A2F-BB7F-36FB897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872-4B91-4C93-99FB-61C7AFED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001-7705-4CE8-8702-BC1F423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CE4B-7FCA-4E53-88DA-7DF466E3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720-625E-4DF0-9274-01628F54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E80-9485-47B6-8F5A-F0AA1958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ACB0-F37F-4014-A1E7-C1BE34F7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47D-9741-4F60-AABE-25D8B0D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52B-3A85-4EBD-B573-FBF0F619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946-61DC-4913-8283-059E605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E98-802B-447F-997C-FB24465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784-B25E-44C6-AF8F-9760DF7D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C81-2CD0-4886-9358-EF6B31D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793-5CD6-48B4-9EFB-BF54F2E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2F0-B992-4756-AA9F-19DE49E8403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1DAB-BA65-43E8-B77F-A3169C65AB6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Arial"/>
              </a:rPr>
              <a:t>الهضم والامتصاص والتمثيل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gestion,</a:t>
            </a:r>
            <a:r>
              <a:rPr b="0" lang="ar-SA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sorption and Metabolis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يتم هضم الغذاء في القناة الهضمية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بقاء الغذاء في الجهاز الهضمي يجعل منه من الناحية الفسيولوجية غير متاح للجس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يهضم الغذاء بعمليات ميكانيكية وكيميائي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الهضم الكيميائي ( بواسطة الإنزيمات) يؤدي إلى تغير خصائص الطعا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أماكن الهضم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ف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مع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- الأمعاء الدقي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99"/>
                </a:solidFill>
                <a:latin typeface="Arial"/>
              </a:rPr>
              <a:t>الجهاز الهضمي في الإنسان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11" descr="scan0018"/>
          <p:cNvPicPr/>
          <p:nvPr/>
        </p:nvPicPr>
        <p:blipFill>
          <a:blip r:embed="rId1"/>
          <a:stretch/>
        </p:blipFill>
        <p:spPr>
          <a:xfrm>
            <a:off x="1547640" y="1052640"/>
            <a:ext cx="5994720" cy="5805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99"/>
                </a:solidFill>
                <a:latin typeface="Arial"/>
              </a:rPr>
              <a:t>الإنزيمات والهضم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nzymes and Diges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إنزيمات تقوم بتحليل الطعا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كربوهيدرات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yl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بروتينات  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-- الدهون تحللها إنزيمات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pa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إنزيمات مواد بروتينية متخصص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فرز الإنزيمات في أماكن معينة في الجهاز الهضم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بنكرياس يفرز إنزيمات قادرة على تحليل الكربوهيدرات والبروتينات واللبيد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مركبات أخرى تساعد على الهض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كبات لها القدرة على المساعدة في عملية الهضم وليس لها دور تحليلي مثل الإنزيما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عصارة الصفراوية (تفرز من الكبد ونخزن في المرارة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llblad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الهرمونات ( بعض من الهرمونات المساعدة في الهضم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strin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ret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بيكربونات الصوديوم من البنكرياس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lecystokinin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(يحث على إفراز العصارة الصفراوية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نواتج الهض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7240" y="2141640"/>
            <a:ext cx="79790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كربوهيدرات                 سكريات أحاد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* البروتينات                      أحماض أمين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* الدهون                 أحماض دهنية + جليسرو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4211280" y="2565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7"/>
          <p:cNvSpPr/>
          <p:nvPr/>
        </p:nvSpPr>
        <p:spPr>
          <a:xfrm flipH="1" flipV="1">
            <a:off x="4427280" y="3212640"/>
            <a:ext cx="194292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8"/>
          <p:cNvSpPr/>
          <p:nvPr/>
        </p:nvSpPr>
        <p:spPr>
          <a:xfrm flipH="1" flipV="1">
            <a:off x="5292720" y="3860280"/>
            <a:ext cx="1727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الامتصاص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bsorpt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عبور نواتج الهضم من القناة الهضمية إلى الخلايا المبطنة لها ومنها إلى الدم أو اللم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ظم الامتصاص يتم في الأثني عشر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odenum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والجزء الأوسط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junum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 الأمعاء الدقيقة ( لماذا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- الخمائل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lli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والخمائل الدقيقة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villi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في الأمعا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- عوامل أخرى (الميتوكندريا والرايبوسوم في هذه الخلايا وإنزيمات تفرز من جدر الخلايا لتكملة الهضم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* يتحكم في الامتصاص الخلايا الطلائية في الخمائل الدقي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أماكن امتصاص العناصر الغذائية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scan"/>
          <p:cNvPicPr/>
          <p:nvPr/>
        </p:nvPicPr>
        <p:blipFill>
          <a:blip r:embed="rId1"/>
          <a:stretch/>
        </p:blipFill>
        <p:spPr>
          <a:xfrm>
            <a:off x="2424240" y="1268280"/>
            <a:ext cx="4297320" cy="459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طرق الامتصا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Simplified Arabic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. النقل غير الفعال ( غير النشط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Passive Trans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من وسط أكثر تركيزاً إلى وسط أقل تركيزا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لا يحتاج إلى طاق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) الانتشار خلال المسام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Simplified Arabic"/>
              </a:rPr>
              <a:t>Diffusion Through P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ماء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يحدد انتشار العنصر بالإضافة إلى خاصية الذوبان في الماء حجم الجزيء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(ب)  الانتشار خلال أغشية الخلايا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Diffusion Through Membra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جلسيريدات الأحادية , الأحماض الدهنية والعناصر الأخرى الذائبة في الدهون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(ج) الانتشار بواسطة ناقل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 العناصر الذائبة في الماء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. النقل الفعال ( النشط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Active Transpo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من وسط أقل تركيزاً إلى وسط أكثر تركيزا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يحتاج إلى طاق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قد يحتاج إلى ناق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  - بعض الأحماض الأمينية وبعض الفيتامينات والمعاد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99"/>
                </a:solidFill>
                <a:latin typeface="Arial"/>
              </a:rPr>
              <a:t>التمثيل ( الأيض)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abolism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تغيرات الكيموحيوية للعناصر الممتصة في خلايا الجس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. عملية البناء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bo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عملية الهدم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abo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ستخدام الخلايا لنواتج هضم الكربوهيدرات والبروتينات والدهو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إنتاج الطاق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تصنيع مكونات أو مركبات أخر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. تخزينها في الجسم على شكل مركبات أخرى يمكن الاستفادة منه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9:09:14Z</dcterms:created>
  <dc:creator>MyName</dc:creator>
  <dc:description/>
  <dc:language>en-US</dc:language>
  <cp:lastModifiedBy>hamza</cp:lastModifiedBy>
  <dcterms:modified xsi:type="dcterms:W3CDTF">2011-02-21T16:16:30Z</dcterms:modified>
  <cp:revision>53</cp:revision>
  <dc:subject/>
  <dc:title>الهضم والامتصاص والتمثيل</dc:title>
</cp:coreProperties>
</file>