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C9AF-5559-42DA-B905-14B743DB6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6C41-65D5-4FBC-BD35-34B54616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B03A-784D-43A1-8E0D-FB4B00F9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B85-13BD-41C1-A9EF-01B1E0AF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90DA-9202-4173-BAB2-9CFD896F2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9645-4CA6-43A4-BB0A-18CD2C85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BEBE-30A4-48F4-A9D0-C74075183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4192-32B9-4AFF-9B62-DD43C760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4096-EAC4-4606-9C1A-7BC85AC42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B08B-12CC-44BD-A481-D6423BAB9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CEAC-AA74-4F5A-82AB-700AEB32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C977-3071-4D4A-AE3E-226A360F8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E8F5-A356-494C-BCA7-61A18C0E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8384-7D24-41A0-B0AE-105B5F3F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959D-108A-4631-8C76-F27FE706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5B8F-E84D-44ED-AB11-BB7208BAE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6CB-FCFA-4F2D-8B37-66B422AD7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0019-3E6C-432B-9FFC-0DC6B74CD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2684-6367-404E-9F60-1A2B2E80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84B2-7909-48D2-A891-C8C73E8B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1A8-2AD9-449B-A5F2-E6E763A6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651-67D1-48FE-9022-5CB3C098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95A-6275-4A06-940B-83AABC89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F68-5E08-489C-B8E4-BF6BAFAA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34E2-D51E-4CA1-836B-F281F81D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EEA2-D070-44C7-8C72-AF51865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4E5C-5A59-45D9-AF64-CF9723E5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677F-ABFA-4E5C-830A-502229F5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6E8F-CD49-4CF6-8C22-C8185CB0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6310-93C1-44B9-A2A7-482C11FF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4B23-3CB6-42F3-966B-AD1A6CB9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775-C738-4C48-AE42-0199B6FF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C2BB-1F1D-42EC-96B4-B90B9B4C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2C6C-0C5B-4F3D-85D5-B0E7DC8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06EC-7F83-4ED3-87E2-61B303E3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0510-5D8F-477A-9178-11DDDBF9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8BEE-EED9-428D-898E-083962B7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7EAFF-8F77-4567-B7BE-4CE2A19A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6CFDC-3E15-4285-947B-AB4E744A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39590-8759-4C01-9175-18726348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31EEF-527A-477B-AC3D-50845ECD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9A784-B1E9-4B81-906B-83C75EE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917-846C-4145-90EA-BC762ACF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D78F8-7FE2-4C75-B2C0-965211C8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49282-E3C4-4406-954C-A5ACC283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FA754-0220-41AC-99E9-988AD61C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FC450-A47E-4FC8-910A-909F3187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B861E-C1AD-4B26-A018-E12C7506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E2EA2-ACEF-40F0-86DF-68CF5BAE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0B7BB-2395-4440-B908-9C1F5200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0F04-806D-4844-998F-1C5F499B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C9D8-C592-40C8-921A-4C4F7BFB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CC39D-4A5B-4178-81A7-DB8B8D09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ADD-48BB-4D09-AFE6-B0FCAA22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78C7-381D-4C45-88BC-67878645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A1665-D874-4052-AE32-D04DAC07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CD3B-CCB2-45E1-B258-8235A653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41AC-4AEC-4C28-AD94-8B663D6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10D4-95BA-4417-99FA-77F24871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9170E-97D1-4418-997F-94A8864F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E0884-7456-466A-8A22-E9274AB7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3C4F-E5A4-4112-9AD5-081D7FE3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2B2E2-ECF3-431B-AD45-4C48189B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D87-847F-4FBF-AF0C-EFFFBF1B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1EC-4C9B-476C-8372-E9AD7CFA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62F-E26E-499B-84D1-503253E1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80F-888E-4862-B8EC-938FF4C2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918-F843-497D-ACB1-35771D5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D827-483F-42E7-BA81-86EDD49205FB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21FC-BAFE-4B00-A6C2-DA5D492B734B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70C7-430D-497F-A1A7-09EED56ACCC9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DD96-D9F3-4AE5-827A-C58AD63319D8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صورة 1" descr="لللعرض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424456"/>
                </a:solidFill>
                <a:latin typeface="Arial Rounded MT Bold"/>
                <a:cs typeface="DecoType Naskh Extensions"/>
              </a:rPr>
              <a:t>بسم الله الرحمن الرحيم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رابعا: حاسة الذو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خامسا: حاسة ال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رسم تخطيطي 3" descr=""/>
          <p:cNvPicPr/>
          <p:nvPr/>
        </p:nvPicPr>
        <p:blipFill>
          <a:blip r:embed="rId1"/>
          <a:stretch/>
        </p:blipFill>
        <p:spPr>
          <a:xfrm>
            <a:off x="274680" y="1390680"/>
            <a:ext cx="8405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800280" y="857160"/>
            <a:ext cx="7843680" cy="557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عملية التوصيل العصبي : ه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>
            <a:off x="1619280" y="628560"/>
            <a:ext cx="6738840" cy="3808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نتباه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ملية توجيه وتركيز الشعور على الإحساسات الناتجة بفعل مثيرات خارجية موجودة في المجال الرئيسي الإدراكي للفرد, أو المثيرات الداخلية التي تحدث داخل الف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AutoShape 1"/>
          <p:cNvGrpSpPr/>
          <p:nvPr/>
        </p:nvGrpSpPr>
        <p:grpSpPr>
          <a:xfrm>
            <a:off x="5479920" y="835200"/>
            <a:ext cx="3090960" cy="1049040"/>
            <a:chOff x="5479920" y="835200"/>
            <a:chExt cx="3090960" cy="1049040"/>
          </a:xfrm>
        </p:grpSpPr>
        <p:pic>
          <p:nvPicPr>
            <p:cNvPr id="293" name="AutoShape 1" descr=""/>
            <p:cNvPicPr/>
            <p:nvPr/>
          </p:nvPicPr>
          <p:blipFill>
            <a:blip r:embed="rId1"/>
            <a:stretch/>
          </p:blipFill>
          <p:spPr>
            <a:xfrm>
              <a:off x="5479920" y="835200"/>
              <a:ext cx="30909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572080" y="928800"/>
              <a:ext cx="29005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4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نواع الانتبا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رسم تخطيطي 3" descr=""/>
          <p:cNvPicPr/>
          <p:nvPr/>
        </p:nvPicPr>
        <p:blipFill>
          <a:blip r:embed="rId2"/>
          <a:stretch/>
        </p:blipFill>
        <p:spPr>
          <a:xfrm>
            <a:off x="1743120" y="2127240"/>
            <a:ext cx="7119720" cy="4468680"/>
          </a:xfrm>
          <a:prstGeom prst="rect">
            <a:avLst/>
          </a:prstGeom>
          <a:ln w="0">
            <a:noFill/>
          </a:ln>
        </p:spPr>
      </p:pic>
      <p:pic>
        <p:nvPicPr>
          <p:cNvPr id="297" name="رسم تخطيطي 6" descr=""/>
          <p:cNvPicPr/>
          <p:nvPr/>
        </p:nvPicPr>
        <p:blipFill>
          <a:blip r:embed="rId3"/>
          <a:stretch/>
        </p:blipFill>
        <p:spPr>
          <a:xfrm>
            <a:off x="5278320" y="5778360"/>
            <a:ext cx="2762280" cy="414360"/>
          </a:xfrm>
          <a:prstGeom prst="rect">
            <a:avLst/>
          </a:prstGeom>
          <a:ln w="0">
            <a:noFill/>
          </a:ln>
        </p:spPr>
      </p:pic>
      <p:sp>
        <p:nvSpPr>
          <p:cNvPr id="298" name="سهم إلى اليمين 7"/>
          <p:cNvSpPr/>
          <p:nvPr/>
        </p:nvSpPr>
        <p:spPr>
          <a:xfrm rot="6451200">
            <a:off x="7660440" y="5201280"/>
            <a:ext cx="696600" cy="84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AutoShape 1"/>
          <p:cNvGrpSpPr/>
          <p:nvPr/>
        </p:nvGrpSpPr>
        <p:grpSpPr>
          <a:xfrm>
            <a:off x="3486240" y="841320"/>
            <a:ext cx="5261040" cy="890640"/>
            <a:chOff x="3486240" y="841320"/>
            <a:chExt cx="5261040" cy="890640"/>
          </a:xfrm>
        </p:grpSpPr>
        <p:pic>
          <p:nvPicPr>
            <p:cNvPr id="300" name="AutoShape 1" descr=""/>
            <p:cNvPicPr/>
            <p:nvPr/>
          </p:nvPicPr>
          <p:blipFill>
            <a:blip r:embed="rId1"/>
            <a:stretch/>
          </p:blipFill>
          <p:spPr>
            <a:xfrm>
              <a:off x="3486240" y="841320"/>
              <a:ext cx="52610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656160" y="1012680"/>
              <a:ext cx="4922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3200" spc="-1" strike="noStrike">
                  <a:solidFill>
                    <a:srgbClr val="000000"/>
                  </a:solidFill>
                  <a:latin typeface="Arial"/>
                </a:rPr>
                <a:t>نظريات الانتبا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 نظريات الانتباه أحادية القناة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توزيع المرن للانتباه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مصادر المتعددة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أولا: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موضوعية الخارجية المرتبطة ب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اللون والشكل والحجم والشدة والموقع بالنسبة للخلف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باين أو التغاير في شدة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ق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جدة والحداثة والتغير في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جم والش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ل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ثانيا: العوامل الذاتية المرتبطة بالمثير بالشخص او الف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لة الانفعالية والمزاجية التي يمر فيها 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جات والدوافع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ع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خارجية الماد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اجتماع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10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657520" y="198900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3462480" y="3429000"/>
            <a:ext cx="50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38086"/>
                </a:solidFill>
                <a:latin typeface="Georgia"/>
                <a:cs typeface="PT Bold Heading"/>
              </a:rPr>
              <a:t>تم بحمد الله وفضله،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15565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71680" y="1500120"/>
            <a:ext cx="5400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صورة 2" descr="شعار الجامعة.jpg"/>
          <p:cNvPicPr/>
          <p:nvPr/>
        </p:nvPicPr>
        <p:blipFill>
          <a:blip r:embed="rId1"/>
          <a:stretch/>
        </p:blipFill>
        <p:spPr>
          <a:xfrm>
            <a:off x="4425840" y="420840"/>
            <a:ext cx="944640" cy="938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3571920" y="1500120"/>
            <a:ext cx="2609640" cy="1285920"/>
          </a:xfrm>
          <a:prstGeom prst="rect">
            <a:avLst/>
          </a:prstGeom>
          <a:solidFill>
            <a:srgbClr val="dbdbe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مملكة العربية السعود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كلية التربية- قسم </a:t>
            </a:r>
            <a:r>
              <a:rPr b="1" lang="ar-JO" sz="1200" spc="-1" strike="noStrike">
                <a:solidFill>
                  <a:srgbClr val="000000"/>
                </a:solidFill>
                <a:latin typeface="Arial"/>
              </a:rPr>
              <a:t>علم النف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63640" y="3357720"/>
          <a:ext cx="5880240" cy="2280960"/>
        </p:xfrm>
        <a:graphic>
          <a:graphicData uri="http://schemas.openxmlformats.org/drawingml/2006/table">
            <a:tbl>
              <a:tblPr/>
              <a:tblGrid>
                <a:gridCol w="5880240"/>
              </a:tblGrid>
              <a:tr h="101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cs typeface="Times New Roman"/>
                        </a:rPr>
                        <a:t>الإحساس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ensation</a:t>
                      </a: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3"/>
          <p:cNvGrpSpPr/>
          <p:nvPr/>
        </p:nvGrpSpPr>
        <p:grpSpPr>
          <a:xfrm>
            <a:off x="-1440" y="0"/>
            <a:ext cx="1715760" cy="6832080"/>
            <a:chOff x="-1440" y="0"/>
            <a:chExt cx="1715760" cy="6832080"/>
          </a:xfrm>
        </p:grpSpPr>
        <p:grpSp>
          <p:nvGrpSpPr>
            <p:cNvPr id="228" name="Group 4"/>
            <p:cNvGrpSpPr/>
            <p:nvPr/>
          </p:nvGrpSpPr>
          <p:grpSpPr>
            <a:xfrm>
              <a:off x="-1440" y="281520"/>
              <a:ext cx="1501200" cy="3794760"/>
              <a:chOff x="-1440" y="281520"/>
              <a:chExt cx="1501200" cy="3794760"/>
            </a:xfrm>
          </p:grpSpPr>
          <p:sp>
            <p:nvSpPr>
              <p:cNvPr id="229" name="Rectangle 5"/>
              <p:cNvSpPr/>
              <p:nvPr/>
            </p:nvSpPr>
            <p:spPr>
              <a:xfrm>
                <a:off x="-1440" y="717840"/>
                <a:ext cx="1101240" cy="3358440"/>
              </a:xfrm>
              <a:prstGeom prst="rect">
                <a:avLst/>
              </a:prstGeom>
              <a:solidFill>
                <a:srgbClr val="c2a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6"/>
              <p:cNvSpPr/>
              <p:nvPr/>
            </p:nvSpPr>
            <p:spPr>
              <a:xfrm>
                <a:off x="856440" y="281520"/>
                <a:ext cx="643320" cy="34275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7"/>
            <p:cNvGrpSpPr/>
            <p:nvPr/>
          </p:nvGrpSpPr>
          <p:grpSpPr>
            <a:xfrm>
              <a:off x="500760" y="3287160"/>
              <a:ext cx="1213560" cy="3544920"/>
              <a:chOff x="500760" y="3287160"/>
              <a:chExt cx="1213560" cy="3544920"/>
            </a:xfrm>
          </p:grpSpPr>
          <p:sp>
            <p:nvSpPr>
              <p:cNvPr id="232" name="Rectangle 8"/>
              <p:cNvSpPr/>
              <p:nvPr/>
            </p:nvSpPr>
            <p:spPr>
              <a:xfrm>
                <a:off x="500760" y="3841200"/>
                <a:ext cx="1062000" cy="29908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929160" y="3287160"/>
                <a:ext cx="785160" cy="2990880"/>
              </a:xfrm>
              <a:prstGeom prst="rect">
                <a:avLst/>
              </a:prstGeom>
              <a:gradFill rotWithShape="0">
                <a:gsLst>
                  <a:gs pos="0">
                    <a:srgbClr val="43808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Rectangle 10"/>
            <p:cNvSpPr/>
            <p:nvPr/>
          </p:nvSpPr>
          <p:spPr>
            <a:xfrm>
              <a:off x="213480" y="2955600"/>
              <a:ext cx="641520" cy="266472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5000" y="0"/>
              <a:ext cx="79200" cy="664272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400" spc="-1" strike="noStrike">
                <a:solidFill>
                  <a:srgbClr val="ff0000"/>
                </a:solidFill>
                <a:latin typeface="Trebuchet MS"/>
              </a:rPr>
              <a:t>طبيعة عملية الاحساس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85600" y="1571400"/>
            <a:ext cx="598644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70c0"/>
                </a:solidFill>
                <a:latin typeface="Georgia"/>
              </a:rPr>
              <a:t>  الحواس تنقل الانطباعات الحسية المختلفة عن المثيرات البيئية إلى المناطق المختصة في الجهاز العصبي ليتم إجراء المزيد من العمليات بهدف التفسير وإعطاء المعاني واتخاذ القرار.</a:t>
            </a:r>
            <a:r>
              <a:rPr b="0" lang="ar-SA" sz="4000" spc="-1" strike="noStrike">
                <a:solidFill>
                  <a:srgbClr val="0070c0"/>
                </a:solidFill>
                <a:latin typeface="Georgi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إي انه العملية الحيوية التي يتم من خلالها استقبال المعلومات عن العالم الخارجي عبر الحواس لتمكننا من فهم المثيرات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كما انه أداة التعلم وبدونها يصبح الدماغ عديم النفع, ولن يكون هناك تفكير أو سيطرة على السلو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41280" y="963720"/>
            <a:ext cx="835812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مجموعة 99"/>
          <p:cNvGrpSpPr/>
          <p:nvPr/>
        </p:nvGrpSpPr>
        <p:grpSpPr>
          <a:xfrm>
            <a:off x="0" y="549360"/>
            <a:ext cx="9144000" cy="6152400"/>
            <a:chOff x="0" y="549360"/>
            <a:chExt cx="9144000" cy="6152400"/>
          </a:xfrm>
        </p:grpSpPr>
        <p:sp>
          <p:nvSpPr>
            <p:cNvPr id="241" name="رابط مستقيم 76"/>
            <p:cNvSpPr/>
            <p:nvPr/>
          </p:nvSpPr>
          <p:spPr>
            <a:xfrm flipH="1">
              <a:off x="4247640" y="1856520"/>
              <a:ext cx="107640" cy="4845240"/>
            </a:xfrm>
            <a:prstGeom prst="line">
              <a:avLst/>
            </a:prstGeom>
            <a:ln w="93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مجموعة 97"/>
            <p:cNvGrpSpPr/>
            <p:nvPr/>
          </p:nvGrpSpPr>
          <p:grpSpPr>
            <a:xfrm>
              <a:off x="0" y="549360"/>
              <a:ext cx="9144000" cy="6142320"/>
              <a:chOff x="0" y="549360"/>
              <a:chExt cx="9144000" cy="6142320"/>
            </a:xfrm>
          </p:grpSpPr>
          <p:sp>
            <p:nvSpPr>
              <p:cNvPr id="243" name="مخطط انسيابي: معالجة متعاقبة 8"/>
              <p:cNvSpPr/>
              <p:nvPr/>
            </p:nvSpPr>
            <p:spPr>
              <a:xfrm>
                <a:off x="3321000" y="549360"/>
                <a:ext cx="2716200" cy="785880"/>
              </a:xfrm>
              <a:prstGeom prst="flowChartAlternateProcess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400" spc="-1" strike="noStrike">
                    <a:solidFill>
                      <a:srgbClr val="ffffff"/>
                    </a:solidFill>
                    <a:latin typeface="Georgia"/>
                  </a:rPr>
                  <a:t>الإحسا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شكل بيضاوي 9"/>
              <p:cNvSpPr/>
              <p:nvPr/>
            </p:nvSpPr>
            <p:spPr>
              <a:xfrm>
                <a:off x="6659640" y="1246320"/>
                <a:ext cx="2092320" cy="660240"/>
              </a:xfrm>
              <a:prstGeom prst="ellipse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أنواع الإحساس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شكل بيضاوي 10"/>
              <p:cNvSpPr/>
              <p:nvPr/>
            </p:nvSpPr>
            <p:spPr>
              <a:xfrm>
                <a:off x="1979640" y="1628640"/>
                <a:ext cx="2232000" cy="6253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صائص العضو الحس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مخطط انسيابي: معالجة 11"/>
              <p:cNvSpPr/>
              <p:nvPr/>
            </p:nvSpPr>
            <p:spPr>
              <a:xfrm>
                <a:off x="8215560" y="2549520"/>
                <a:ext cx="92844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عام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مخطط انسيابي: معالجة 12"/>
              <p:cNvSpPr/>
              <p:nvPr/>
            </p:nvSpPr>
            <p:spPr>
              <a:xfrm>
                <a:off x="6715080" y="2549520"/>
                <a:ext cx="102528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خاص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مخطط انسيابي: معالجة 13"/>
              <p:cNvSpPr/>
              <p:nvPr/>
            </p:nvSpPr>
            <p:spPr>
              <a:xfrm>
                <a:off x="5143680" y="2621160"/>
                <a:ext cx="941400" cy="106992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خارجي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مخطط انسيابي: معالجة 14"/>
              <p:cNvSpPr/>
              <p:nvPr/>
            </p:nvSpPr>
            <p:spPr>
              <a:xfrm>
                <a:off x="307188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نتق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مخطط انسيابي: معالجة 15"/>
              <p:cNvSpPr/>
              <p:nvPr/>
            </p:nvSpPr>
            <p:spPr>
              <a:xfrm>
                <a:off x="164304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حسا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مخطط انسيابي: معالجة 16"/>
              <p:cNvSpPr/>
              <p:nvPr/>
            </p:nvSpPr>
            <p:spPr>
              <a:xfrm>
                <a:off x="35712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تدر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مخطط انسيابي: رابط 25"/>
              <p:cNvSpPr/>
              <p:nvPr/>
            </p:nvSpPr>
            <p:spPr>
              <a:xfrm rot="21448800">
                <a:off x="6228000" y="4182840"/>
                <a:ext cx="1674720" cy="133344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 بالجهاز العضلي للجسم كالحركة والتواز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مخطط انسيابي: رابط 26"/>
              <p:cNvSpPr/>
              <p:nvPr/>
            </p:nvSpPr>
            <p:spPr>
              <a:xfrm>
                <a:off x="4643280" y="3834000"/>
                <a:ext cx="1500120" cy="110628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مثيرات البيئية التي تستقبل من الحوا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مخطط انسيابي: معالجة متعاقبة 31"/>
              <p:cNvSpPr/>
              <p:nvPr/>
            </p:nvSpPr>
            <p:spPr>
              <a:xfrm>
                <a:off x="4427640" y="5013720"/>
                <a:ext cx="1143000" cy="40464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نبه او مثي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مخطط انسيابي: معالجة متعاقبة 32"/>
              <p:cNvSpPr/>
              <p:nvPr/>
            </p:nvSpPr>
            <p:spPr>
              <a:xfrm>
                <a:off x="4427640" y="5637600"/>
                <a:ext cx="135720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لخلايا المستقبلة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مخطط انسيابي: معالجة متعاقبة 33"/>
              <p:cNvSpPr/>
              <p:nvPr/>
            </p:nvSpPr>
            <p:spPr>
              <a:xfrm>
                <a:off x="4284720" y="6263280"/>
                <a:ext cx="214452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تنبيه في المراكز الحسية الدماغي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مخطط انسيابي: معالجة متعاقبة 35"/>
              <p:cNvSpPr/>
              <p:nvPr/>
            </p:nvSpPr>
            <p:spPr>
              <a:xfrm>
                <a:off x="0" y="5156640"/>
                <a:ext cx="4211640" cy="1152360"/>
              </a:xfrm>
              <a:prstGeom prst="flowChartAlternateProcess">
                <a:avLst/>
              </a:prstGeom>
              <a:solidFill>
                <a:srgbClr val="ffc00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عتبة الفارقة: تمثل الحد الأدنى والأقصى لشدة المثير الذي يمكن أن تتأثر به أعضاء الحس   المختلفة وهي في حالة الإبصار تتراوح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9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76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ملليميكرون اما في حالة السمع فالموجات التي يمكن التحكم بها تتراوخ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0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ذبذبة في الثانية</a:t>
                </a:r>
                <a:r>
                  <a:rPr b="1" lang="ar-JO" sz="1000" spc="-1" strike="noStrike">
                    <a:solidFill>
                      <a:srgbClr val="000000"/>
                    </a:solidFill>
                    <a:latin typeface="Georgia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مخطط انسيابي: معالجة 36"/>
              <p:cNvSpPr/>
              <p:nvPr/>
            </p:nvSpPr>
            <p:spPr>
              <a:xfrm>
                <a:off x="7956720" y="4293000"/>
                <a:ext cx="1187280" cy="1800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بالعمليات الداخلية إي تغير الحالة الكيميائية:كالجوع والعط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رابط كسهم مستقيم 39"/>
              <p:cNvCxnSpPr>
                <a:endCxn id="245" idx="0"/>
              </p:cNvCxnSpPr>
              <p:nvPr/>
            </p:nvCxnSpPr>
            <p:spPr>
              <a:xfrm flipH="1">
                <a:off x="3094920" y="1387800"/>
                <a:ext cx="540360" cy="24012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0" name="رابط كسهم مستقيم 41"/>
              <p:cNvCxnSpPr>
                <a:stCxn id="243" idx="3"/>
                <a:endCxn id="244" idx="0"/>
              </p:cNvCxnSpPr>
              <p:nvPr/>
            </p:nvCxnSpPr>
            <p:spPr>
              <a:xfrm>
                <a:off x="6037200" y="941400"/>
                <a:ext cx="1668960" cy="305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1" name="رابط كسهم مستقيم 43"/>
              <p:cNvCxnSpPr/>
              <p:nvPr/>
            </p:nvCxnSpPr>
            <p:spPr>
              <a:xfrm>
                <a:off x="8172720" y="1893600"/>
                <a:ext cx="721440" cy="64836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2" name="رابط كسهم مستقيم 45"/>
              <p:cNvCxnSpPr/>
              <p:nvPr/>
            </p:nvCxnSpPr>
            <p:spPr>
              <a:xfrm flipH="1">
                <a:off x="7071840" y="1893600"/>
                <a:ext cx="379800" cy="656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3" name="رابط كسهم مستقيم 47"/>
              <p:cNvCxnSpPr>
                <a:endCxn id="248" idx="0"/>
              </p:cNvCxnSpPr>
              <p:nvPr/>
            </p:nvCxnSpPr>
            <p:spPr>
              <a:xfrm flipH="1">
                <a:off x="5613120" y="1822320"/>
                <a:ext cx="1551600" cy="799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4" name="رابط كسهم مستقيم 50"/>
              <p:cNvCxnSpPr>
                <a:stCxn id="245" idx="4"/>
                <a:endCxn id="250" idx="0"/>
              </p:cNvCxnSpPr>
              <p:nvPr/>
            </p:nvCxnSpPr>
            <p:spPr>
              <a:xfrm flipH="1">
                <a:off x="2035800" y="2254320"/>
                <a:ext cx="105948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5" name="رابط كسهم مستقيم 52"/>
              <p:cNvCxnSpPr>
                <a:stCxn id="245" idx="4"/>
                <a:endCxn id="251" idx="0"/>
              </p:cNvCxnSpPr>
              <p:nvPr/>
            </p:nvCxnSpPr>
            <p:spPr>
              <a:xfrm flipH="1">
                <a:off x="750240" y="2254320"/>
                <a:ext cx="234504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6" name="رابط كسهم مستقيم 54"/>
              <p:cNvCxnSpPr>
                <a:stCxn id="245" idx="4"/>
                <a:endCxn id="249" idx="0"/>
              </p:cNvCxnSpPr>
              <p:nvPr/>
            </p:nvCxnSpPr>
            <p:spPr>
              <a:xfrm>
                <a:off x="3094560" y="2254320"/>
                <a:ext cx="36900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7" name="رابط كسهم مستقيم 58"/>
              <p:cNvCxnSpPr>
                <a:stCxn id="247" idx="2"/>
                <a:endCxn id="252" idx="0"/>
              </p:cNvCxnSpPr>
              <p:nvPr/>
            </p:nvCxnSpPr>
            <p:spPr>
              <a:xfrm flipH="1">
                <a:off x="7035120" y="3620880"/>
                <a:ext cx="192600" cy="5626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8" name="رابط كسهم مستقيم 61"/>
              <p:cNvCxnSpPr>
                <a:stCxn id="248" idx="2"/>
                <a:endCxn id="253" idx="0"/>
              </p:cNvCxnSpPr>
              <p:nvPr/>
            </p:nvCxnSpPr>
            <p:spPr>
              <a:xfrm flipH="1">
                <a:off x="5393880" y="3691080"/>
                <a:ext cx="219600" cy="143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sp>
            <p:nvSpPr>
              <p:cNvPr id="269" name="رابط مستقيم 69"/>
              <p:cNvSpPr/>
              <p:nvPr/>
            </p:nvSpPr>
            <p:spPr>
              <a:xfrm>
                <a:off x="8217000" y="3621240"/>
                <a:ext cx="26640" cy="6714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رابط مستقيم 72"/>
              <p:cNvSpPr/>
              <p:nvPr/>
            </p:nvSpPr>
            <p:spPr>
              <a:xfrm flipH="1">
                <a:off x="7956720" y="4691520"/>
                <a:ext cx="258480" cy="50148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رابط مستقيم 74"/>
              <p:cNvSpPr/>
              <p:nvPr/>
            </p:nvSpPr>
            <p:spPr>
              <a:xfrm>
                <a:off x="8215560" y="6191640"/>
                <a:ext cx="142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رابط مستقيم 78"/>
              <p:cNvSpPr/>
              <p:nvPr/>
            </p:nvSpPr>
            <p:spPr>
              <a:xfrm>
                <a:off x="4284720" y="5204160"/>
                <a:ext cx="142560" cy="108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رابط مستقيم 80"/>
              <p:cNvSpPr/>
              <p:nvPr/>
            </p:nvSpPr>
            <p:spPr>
              <a:xfrm>
                <a:off x="4284720" y="5852160"/>
                <a:ext cx="142560" cy="144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رابط مستقيم 82"/>
              <p:cNvSpPr/>
              <p:nvPr/>
            </p:nvSpPr>
            <p:spPr>
              <a:xfrm flipH="1">
                <a:off x="4284720" y="6477480"/>
                <a:ext cx="358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شكل بيضاوي 53"/>
              <p:cNvSpPr/>
              <p:nvPr/>
            </p:nvSpPr>
            <p:spPr>
              <a:xfrm>
                <a:off x="4356000" y="1604880"/>
                <a:ext cx="2232000" cy="5047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طوات الإحسا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76" name="رابط كسهم مستقيم 87"/>
          <p:cNvCxnSpPr>
            <a:stCxn id="243" idx="2"/>
            <a:endCxn id="275" idx="0"/>
          </p:cNvCxnSpPr>
          <p:nvPr/>
        </p:nvCxnSpPr>
        <p:spPr>
          <a:xfrm>
            <a:off x="4680000" y="1334880"/>
            <a:ext cx="792720" cy="270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7" name="شكل بيضاوي 116"/>
          <p:cNvSpPr/>
          <p:nvPr/>
        </p:nvSpPr>
        <p:spPr>
          <a:xfrm>
            <a:off x="0" y="1052640"/>
            <a:ext cx="2232000" cy="77760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Georgia"/>
              </a:rPr>
              <a:t>عتبة الإحس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رابط كسهم مستقيم 119"/>
          <p:cNvCxnSpPr/>
          <p:nvPr/>
        </p:nvCxnSpPr>
        <p:spPr>
          <a:xfrm flipH="1">
            <a:off x="178560" y="1701720"/>
            <a:ext cx="2520" cy="2448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9" name="مخطط انسيابي: رابط 123"/>
          <p:cNvSpPr/>
          <p:nvPr/>
        </p:nvSpPr>
        <p:spPr>
          <a:xfrm>
            <a:off x="179280" y="3716280"/>
            <a:ext cx="2160720" cy="1300320"/>
          </a:xfrm>
          <a:prstGeom prst="flowChartConnector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Georgia"/>
              </a:rPr>
              <a:t>هي الحد الأدنى من الشدة التي يمتاز بها مثير معين بحيث يمكن التأثر به من قبل عضو الح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"/>
          <p:cNvSpPr/>
          <p:nvPr/>
        </p:nvSpPr>
        <p:spPr>
          <a:xfrm>
            <a:off x="3786120" y="642960"/>
            <a:ext cx="5010120" cy="787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واس الخار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000"/>
            </a:br>
            <a:br>
              <a:rPr sz="2900"/>
            </a:br>
            <a:br>
              <a:rPr sz="2900"/>
            </a:br>
            <a:endParaRPr b="0" lang="en-US" sz="2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AutoShape 1"/>
          <p:cNvSpPr/>
          <p:nvPr/>
        </p:nvSpPr>
        <p:spPr>
          <a:xfrm>
            <a:off x="3924360" y="1844640"/>
            <a:ext cx="4968720" cy="7873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ffff00"/>
                </a:solidFill>
                <a:uFillTx/>
                <a:latin typeface="comic"/>
                <a:cs typeface="Andalus"/>
              </a:rPr>
              <a:t>اولا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Calibri"/>
                <a:ea typeface="Andalus"/>
              </a:rPr>
              <a:t>:</a:t>
            </a:r>
            <a:r>
              <a:rPr b="1" lang="ar-JO" sz="2400" spc="-1" strike="noStrike" u="sng">
                <a:solidFill>
                  <a:srgbClr val="ffff00"/>
                </a:solidFill>
                <a:uFillTx/>
                <a:latin typeface="Calibri"/>
                <a:cs typeface="Andalus"/>
              </a:rPr>
              <a:t>حاسة البصر</a:t>
            </a:r>
            <a:r>
              <a:rPr b="1" lang="ar-SA" sz="1800" spc="-1" strike="noStrike" u="sng">
                <a:solidFill>
                  <a:srgbClr val="1f497d"/>
                </a:solidFill>
                <a:uFillTx/>
                <a:latin typeface="Calibri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90760" y="1276560"/>
            <a:ext cx="7962480" cy="802800"/>
          </a:xfrm>
          <a:prstGeom prst="rect">
            <a:avLst/>
          </a:prstGeom>
          <a:solidFill>
            <a:srgbClr val="002060"/>
          </a:solidFill>
          <a:ln w="12600">
            <a:solidFill>
              <a:srgbClr val="c0504d"/>
            </a:solidFill>
            <a:round/>
          </a:ln>
          <a:effectLst>
            <a:outerShdw dist="28496" dir="3825519" blurRad="0" rotWithShape="0">
              <a:srgbClr val="622423"/>
            </a:outerShdw>
          </a:effectLst>
        </p:spPr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Arial"/>
              </a:rPr>
              <a:t>ثانيا: حاسة السمع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مربع نص 3"/>
          <p:cNvSpPr/>
          <p:nvPr/>
        </p:nvSpPr>
        <p:spPr>
          <a:xfrm>
            <a:off x="179280" y="2637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الإحساس السمعي يتوقف على خصائص الموجات الصوتية الصادرة عن الأشياء والتي تتمثل فيما يلي :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حدة أو درجة الصوت 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كثافة الصوت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إيقاع الصو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07920"/>
            <a:ext cx="8218440" cy="37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تقسم المستقبلات الحسية الموجودة في الجلد إلى:</a:t>
            </a:r>
            <a:br>
              <a:rPr sz="2800"/>
            </a:b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. 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الخلايا الحسية التي تستجيب لتغير درجة الحرارة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حسية التي تستجيب إلى مثيرات تسبب الالم والضيق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تي تستجيب للضغط والاهتزازات.</a:t>
            </a:r>
            <a:br>
              <a:rPr sz="28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ثالثا: حاسة اللمس وال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18:45Z</dcterms:created>
  <dc:creator>ACER</dc:creator>
  <dc:description/>
  <dc:language>en-US</dc:language>
  <cp:lastModifiedBy>Amer</cp:lastModifiedBy>
  <dcterms:modified xsi:type="dcterms:W3CDTF">2010-10-22T13:20:18Z</dcterms:modified>
  <cp:revision>112</cp:revision>
  <dc:subject/>
  <dc:title>الشريحة 1</dc:title>
</cp:coreProperties>
</file>