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9DAB-F643-445E-84A6-46E40EDFD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A1E8-8C50-4EE5-9C31-45C40F43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8E9B-7A0A-4380-AB94-5716EE5B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9C51-5637-46FE-9740-0578F86B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B4AE-5C27-42BD-AC75-D06FFB10D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C1E-D8E3-49FE-9A8C-29227991C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BB9-8719-4881-A62C-19E47BDE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5FB8-391C-44F1-BE93-0A54F35B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852-1483-489F-BCF2-2F18B6AC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1C73-D2AE-4825-A0AC-162E9959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ADEA-C300-4C36-B038-84E27338B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35FD-0FF9-458B-9FCD-0F41B0F50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CB1D-450E-4AD9-883C-122DACB1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E148-6F48-46BF-8BDC-0F8F63BD9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2AE7-9466-43C3-802B-C18ADFF3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2873-D646-4A06-B60C-A1F21AC56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9C57-9DB4-43DD-8BC7-EFD0CDC2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5491-A05E-4262-982C-8E125F84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DCC-60F0-4091-8D85-5926DACD2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2E3-2CB2-493F-8EB6-1DD11B0F1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FDA-9D24-4DA0-B6E9-B51DADAB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68CA-3431-4C36-9C41-8FCC064E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4041-8E66-4718-A5A8-FCA33DD0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493-3230-46D5-91FF-B6CC87D4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48F1-DB16-477C-8BF7-CCA5AF60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6FE2-F964-4800-A6DF-EE73C572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BA47-C8E4-4DDA-9F6C-CC1AFCA1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1C70-64A5-4D23-80F9-D837626D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9585-3CAE-4022-B5EC-15B770AA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6BCF-0AE6-4926-9BA4-8A964CAB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5BB8-D64C-4305-BD08-6AC0CAD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D74-9FCF-4E94-949F-D9327285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0EA2-B24C-4370-9255-1FC7AA8B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4403-12F5-4DA5-8109-D72C2676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FB8D-83CD-4645-A3F9-FAE5A2A9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6CC6-3DBE-441F-92A5-284C144EA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C071-9284-4331-BB20-C20FDF13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B0F79-1EF9-46E5-B0F9-9F473714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AC15F-3765-4FFA-83B3-3A777E47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EB5F8-9EA7-4D91-93D6-8D2835E6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77BA9E-7851-461D-9EA1-C979F89F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9B4C6-DDDA-4212-B114-0F0F74F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B99-82E8-4308-B159-213D9199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0543D-6467-4EE4-B42D-4536BE5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27318-7BA2-45E5-9956-70765DAB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896A7-7834-4116-94D1-25285B7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07A0F-E022-4307-AE0A-B9DA224A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4BDAE-35F1-4B55-B863-E4C79328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D83E3-539D-4CE3-82D1-5F888638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281622-E7DF-4C1A-BB3E-88DF59BB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3C69-DBF2-4A68-9981-3D38F937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F367-63F8-4A49-94D7-3A2864B7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F5B28-327C-4C1F-A882-94636D18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AD9-0BFA-4EB0-A020-75ADFEF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3C74-0A28-45D8-B975-730087CA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7C812-AB39-4AB5-9032-C1D109A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71557-96DF-42F3-93E5-F608C88C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F441E-1984-4691-B9D7-D7D24278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F65B-3FC9-48A7-8273-C91B4C5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31552-0F92-4C87-BB8E-2BA25E26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55954-0547-43DF-BDFA-57801800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94F69-1FA8-41BC-8C87-A82294AD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16CF-B3CA-4F09-B3DC-EC5F99CA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39A1-CEB5-4759-A5C4-FA097F79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529-9769-49ED-974F-50070127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E84-2445-4187-A804-A72AACB3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B8B-5C2F-424F-AAEE-7D281B06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F24-98DE-4886-BA86-A6312FA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21E3-3887-4766-8B62-957FFA90AFD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مستطيل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مستطيل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مستطيل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مستطيل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مستطيل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مستطيل مستدير الزوايا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مستطيل مستدير الزوايا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مستطيل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مستطيل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ستطيل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ستطيل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6E0B-F04E-4614-9C89-817B82C416B4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CB02-8A61-4A2B-89AA-27B2FC941CA4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مستطيل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ستطيل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ستطيل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مستطيل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مستطيل مستدير الزوايا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ستطيل مستدير الزوايا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مستطيل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مستطيل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مستطيل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مستطيل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مستطيل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مستطيل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r" rtl="1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 algn="r" rtl="1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 algn="r" rtl="1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 algn="r" rtl="1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FCA8-035A-4B09-9246-D854A31D7CE2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صورة 1" descr="لللعرض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424456"/>
                </a:solidFill>
                <a:latin typeface="Arial Rounded MT Bold"/>
                <a:cs typeface="DecoType Naskh Extensions"/>
              </a:rPr>
              <a:t>بسم الله الرحمن الرحيم</a:t>
            </a:r>
            <a:endParaRPr b="0" lang="en-US" sz="8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رابعا: حاسة الذو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خامسا: حاسة ال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رسم تخطيطي 3" descr=""/>
          <p:cNvPicPr/>
          <p:nvPr/>
        </p:nvPicPr>
        <p:blipFill>
          <a:blip r:embed="rId1"/>
          <a:stretch/>
        </p:blipFill>
        <p:spPr>
          <a:xfrm>
            <a:off x="274680" y="1390680"/>
            <a:ext cx="840564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1"/>
          <p:cNvSpPr/>
          <p:nvPr/>
        </p:nvSpPr>
        <p:spPr>
          <a:xfrm>
            <a:off x="800280" y="857160"/>
            <a:ext cx="7843680" cy="557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عملية التوصيل العصبي : ه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"/>
          <p:cNvSpPr/>
          <p:nvPr/>
        </p:nvSpPr>
        <p:spPr>
          <a:xfrm>
            <a:off x="1619280" y="628560"/>
            <a:ext cx="6738840" cy="3808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انتباه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هو عملية توجيه وتركيز الشعور على الإحساسات الناتجة بفعل مثيرات خارجية موجودة في المجال الرئيسي الإدراكي للفرد, أو المثيرات الداخلية التي تحدث داخل الف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AutoShape 1"/>
          <p:cNvGrpSpPr/>
          <p:nvPr/>
        </p:nvGrpSpPr>
        <p:grpSpPr>
          <a:xfrm>
            <a:off x="5479920" y="835200"/>
            <a:ext cx="3090960" cy="1049040"/>
            <a:chOff x="5479920" y="835200"/>
            <a:chExt cx="3090960" cy="1049040"/>
          </a:xfrm>
        </p:grpSpPr>
        <p:pic>
          <p:nvPicPr>
            <p:cNvPr id="293" name="AutoShape 1" descr=""/>
            <p:cNvPicPr/>
            <p:nvPr/>
          </p:nvPicPr>
          <p:blipFill>
            <a:blip r:embed="rId1"/>
            <a:stretch/>
          </p:blipFill>
          <p:spPr>
            <a:xfrm>
              <a:off x="5479920" y="835200"/>
              <a:ext cx="30909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572080" y="928800"/>
              <a:ext cx="290052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4000" spc="-1" strike="noStrike">
                  <a:solidFill>
                    <a:srgbClr val="000000"/>
                  </a:solidFill>
                  <a:latin typeface="Arial"/>
                  <a:cs typeface="Arial"/>
                </a:rPr>
                <a:t>انواع الانتبا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7120" y="214308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رسم تخطيطي 3" descr=""/>
          <p:cNvPicPr/>
          <p:nvPr/>
        </p:nvPicPr>
        <p:blipFill>
          <a:blip r:embed="rId2"/>
          <a:stretch/>
        </p:blipFill>
        <p:spPr>
          <a:xfrm>
            <a:off x="1743120" y="2127240"/>
            <a:ext cx="7119720" cy="4468680"/>
          </a:xfrm>
          <a:prstGeom prst="rect">
            <a:avLst/>
          </a:prstGeom>
          <a:ln w="0">
            <a:noFill/>
          </a:ln>
        </p:spPr>
      </p:pic>
      <p:pic>
        <p:nvPicPr>
          <p:cNvPr id="297" name="رسم تخطيطي 6" descr=""/>
          <p:cNvPicPr/>
          <p:nvPr/>
        </p:nvPicPr>
        <p:blipFill>
          <a:blip r:embed="rId3"/>
          <a:stretch/>
        </p:blipFill>
        <p:spPr>
          <a:xfrm>
            <a:off x="5278320" y="5778360"/>
            <a:ext cx="2762280" cy="414360"/>
          </a:xfrm>
          <a:prstGeom prst="rect">
            <a:avLst/>
          </a:prstGeom>
          <a:ln w="0">
            <a:noFill/>
          </a:ln>
        </p:spPr>
      </p:pic>
      <p:sp>
        <p:nvSpPr>
          <p:cNvPr id="298" name="سهم إلى اليمين 7"/>
          <p:cNvSpPr/>
          <p:nvPr/>
        </p:nvSpPr>
        <p:spPr>
          <a:xfrm rot="6451200">
            <a:off x="7660440" y="5201280"/>
            <a:ext cx="696600" cy="84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AutoShape 1"/>
          <p:cNvGrpSpPr/>
          <p:nvPr/>
        </p:nvGrpSpPr>
        <p:grpSpPr>
          <a:xfrm>
            <a:off x="3486240" y="841320"/>
            <a:ext cx="5261040" cy="890640"/>
            <a:chOff x="3486240" y="841320"/>
            <a:chExt cx="5261040" cy="890640"/>
          </a:xfrm>
        </p:grpSpPr>
        <p:pic>
          <p:nvPicPr>
            <p:cNvPr id="300" name="AutoShape 1" descr=""/>
            <p:cNvPicPr/>
            <p:nvPr/>
          </p:nvPicPr>
          <p:blipFill>
            <a:blip r:embed="rId1"/>
            <a:stretch/>
          </p:blipFill>
          <p:spPr>
            <a:xfrm>
              <a:off x="3486240" y="841320"/>
              <a:ext cx="526104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656160" y="1012680"/>
              <a:ext cx="4922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JO" sz="3200" spc="-1" strike="noStrike">
                  <a:solidFill>
                    <a:srgbClr val="000000"/>
                  </a:solidFill>
                  <a:latin typeface="Arial"/>
                </a:rPr>
                <a:t>نظريات الانتبا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92852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 نظريات الانتباه أحادية القناة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توزيع المرن للانتباه.</a:t>
            </a:r>
            <a:br>
              <a:rPr sz="3200"/>
            </a:b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3200" spc="-1" strike="noStrike">
                <a:solidFill>
                  <a:srgbClr val="424456"/>
                </a:solidFill>
                <a:latin typeface="Trebuchet MS"/>
              </a:rPr>
              <a:t>.نظريات المصادر المتعدد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أولا: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موضوعية الخارجية المرتبطة ب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كاللون والشكل والحجم والشدة والموقع بالنسبة للخلف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باين أو التغاير في شدة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وق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جدة والحداثة والتغير في المثي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جم والشد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ل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1"/>
          <p:cNvSpPr/>
          <p:nvPr/>
        </p:nvSpPr>
        <p:spPr>
          <a:xfrm>
            <a:off x="1000080" y="1143000"/>
            <a:ext cx="7286760" cy="492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عوامل الانتباه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ثانيا: العوامل الذاتية المرتبطة بالمثير بالشخص او الف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لة الانفعالية والمزاجية التي يمر فيها 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حاجات والدوافع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تع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خارجية الماد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عوامل الاجتماعية المحيطة بالف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6" descr="10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657520" y="1989000"/>
            <a:ext cx="3714840" cy="34290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3462480" y="3429000"/>
            <a:ext cx="505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438086"/>
                </a:solidFill>
                <a:latin typeface="Georgia"/>
                <a:cs typeface="PT Bold Heading"/>
              </a:rPr>
              <a:t>تم بحمد الله وفضله،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5565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571680" y="1500120"/>
            <a:ext cx="540036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صورة 2" descr="شعار الجامعة.jpg"/>
          <p:cNvPicPr/>
          <p:nvPr/>
        </p:nvPicPr>
        <p:blipFill>
          <a:blip r:embed="rId1"/>
          <a:stretch/>
        </p:blipFill>
        <p:spPr>
          <a:xfrm>
            <a:off x="4425840" y="420840"/>
            <a:ext cx="944640" cy="9381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3571920" y="1500120"/>
            <a:ext cx="2609640" cy="1285920"/>
          </a:xfrm>
          <a:prstGeom prst="rect">
            <a:avLst/>
          </a:prstGeom>
          <a:solidFill>
            <a:srgbClr val="dbdbe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المملكة العربية السعود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Arial"/>
              </a:rPr>
              <a:t>كلية التربية- قسم </a:t>
            </a:r>
            <a:r>
              <a:rPr b="1" lang="ar-JO" sz="1200" spc="-1" strike="noStrike">
                <a:solidFill>
                  <a:srgbClr val="000000"/>
                </a:solidFill>
                <a:latin typeface="Arial"/>
              </a:rPr>
              <a:t>علم النف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763640" y="3357720"/>
          <a:ext cx="5880240" cy="2280960"/>
        </p:xfrm>
        <a:graphic>
          <a:graphicData uri="http://schemas.openxmlformats.org/drawingml/2006/table">
            <a:tbl>
              <a:tblPr/>
              <a:tblGrid>
                <a:gridCol w="5880240"/>
              </a:tblGrid>
              <a:tr h="101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cs typeface="Times New Roman"/>
                        </a:rPr>
                        <a:t>الإحساس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Sensation</a:t>
                      </a:r>
                      <a:r>
                        <a:rPr b="0" lang="ar-JO" sz="4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3"/>
          <p:cNvGrpSpPr/>
          <p:nvPr/>
        </p:nvGrpSpPr>
        <p:grpSpPr>
          <a:xfrm>
            <a:off x="-1440" y="0"/>
            <a:ext cx="1715760" cy="6832080"/>
            <a:chOff x="-1440" y="0"/>
            <a:chExt cx="1715760" cy="6832080"/>
          </a:xfrm>
        </p:grpSpPr>
        <p:grpSp>
          <p:nvGrpSpPr>
            <p:cNvPr id="228" name="Group 4"/>
            <p:cNvGrpSpPr/>
            <p:nvPr/>
          </p:nvGrpSpPr>
          <p:grpSpPr>
            <a:xfrm>
              <a:off x="-1440" y="281520"/>
              <a:ext cx="1501200" cy="3794760"/>
              <a:chOff x="-1440" y="281520"/>
              <a:chExt cx="1501200" cy="3794760"/>
            </a:xfrm>
          </p:grpSpPr>
          <p:sp>
            <p:nvSpPr>
              <p:cNvPr id="229" name="Rectangle 5"/>
              <p:cNvSpPr/>
              <p:nvPr/>
            </p:nvSpPr>
            <p:spPr>
              <a:xfrm>
                <a:off x="-1440" y="717840"/>
                <a:ext cx="1101240" cy="3358440"/>
              </a:xfrm>
              <a:prstGeom prst="rect">
                <a:avLst/>
              </a:prstGeom>
              <a:solidFill>
                <a:srgbClr val="c2a8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6"/>
              <p:cNvSpPr/>
              <p:nvPr/>
            </p:nvSpPr>
            <p:spPr>
              <a:xfrm>
                <a:off x="856440" y="281520"/>
                <a:ext cx="643320" cy="34275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7"/>
            <p:cNvGrpSpPr/>
            <p:nvPr/>
          </p:nvGrpSpPr>
          <p:grpSpPr>
            <a:xfrm>
              <a:off x="500760" y="3287160"/>
              <a:ext cx="1213560" cy="3544920"/>
              <a:chOff x="500760" y="3287160"/>
              <a:chExt cx="1213560" cy="3544920"/>
            </a:xfrm>
          </p:grpSpPr>
          <p:sp>
            <p:nvSpPr>
              <p:cNvPr id="232" name="Rectangle 8"/>
              <p:cNvSpPr/>
              <p:nvPr/>
            </p:nvSpPr>
            <p:spPr>
              <a:xfrm>
                <a:off x="500760" y="3841200"/>
                <a:ext cx="1062000" cy="29908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9"/>
              <p:cNvSpPr/>
              <p:nvPr/>
            </p:nvSpPr>
            <p:spPr>
              <a:xfrm>
                <a:off x="929160" y="3287160"/>
                <a:ext cx="785160" cy="2990880"/>
              </a:xfrm>
              <a:prstGeom prst="rect">
                <a:avLst/>
              </a:prstGeom>
              <a:gradFill rotWithShape="0">
                <a:gsLst>
                  <a:gs pos="0">
                    <a:srgbClr val="43808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Rectangle 10"/>
            <p:cNvSpPr/>
            <p:nvPr/>
          </p:nvSpPr>
          <p:spPr>
            <a:xfrm>
              <a:off x="213480" y="2955600"/>
              <a:ext cx="641520" cy="266472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5000" y="0"/>
              <a:ext cx="79200" cy="66427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00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400" spc="-1" strike="noStrike">
                <a:solidFill>
                  <a:srgbClr val="ff0000"/>
                </a:solidFill>
                <a:latin typeface="Trebuchet MS"/>
              </a:rPr>
              <a:t>طبيعة عملية الاحساس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785600" y="1571400"/>
            <a:ext cx="598644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just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70c0"/>
                </a:solidFill>
                <a:latin typeface="Georgia"/>
              </a:rPr>
              <a:t>  الحواس تنقل الانطباعات الحسية المختلفة عن المثيرات البيئية إلى المناطق المختصة في الجهاز العصبي ليتم إجراء المزيد من العمليات بهدف التفسير وإعطاء المعاني واتخاذ القرار.</a:t>
            </a:r>
            <a:r>
              <a:rPr b="0" lang="ar-SA" sz="4000" spc="-1" strike="noStrike">
                <a:solidFill>
                  <a:srgbClr val="0070c0"/>
                </a:solidFill>
                <a:latin typeface="Georgia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إي انه العملية الحيوية التي يتم من خلالها استقبال المعلومات عن العالم الخارجي عبر الحواس لتمكننا من فهم المثيرات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 rtl="1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Georgia"/>
              </a:rPr>
              <a:t>كما انه أداة التعلم وبدونها يصبح الدماغ عديم النفع, ولن يكون هناك تفكير أو سيطرة على السلو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341280" y="963720"/>
            <a:ext cx="83581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مجموعة 99"/>
          <p:cNvGrpSpPr/>
          <p:nvPr/>
        </p:nvGrpSpPr>
        <p:grpSpPr>
          <a:xfrm>
            <a:off x="0" y="549360"/>
            <a:ext cx="9144000" cy="6152400"/>
            <a:chOff x="0" y="549360"/>
            <a:chExt cx="9144000" cy="6152400"/>
          </a:xfrm>
        </p:grpSpPr>
        <p:sp>
          <p:nvSpPr>
            <p:cNvPr id="241" name="رابط مستقيم 76"/>
            <p:cNvSpPr/>
            <p:nvPr/>
          </p:nvSpPr>
          <p:spPr>
            <a:xfrm flipH="1">
              <a:off x="4247640" y="1856520"/>
              <a:ext cx="107640" cy="4845240"/>
            </a:xfrm>
            <a:prstGeom prst="line">
              <a:avLst/>
            </a:prstGeom>
            <a:ln w="9360">
              <a:solidFill>
                <a:srgbClr val="5354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مجموعة 97"/>
            <p:cNvGrpSpPr/>
            <p:nvPr/>
          </p:nvGrpSpPr>
          <p:grpSpPr>
            <a:xfrm>
              <a:off x="0" y="549360"/>
              <a:ext cx="9144000" cy="6142320"/>
              <a:chOff x="0" y="549360"/>
              <a:chExt cx="9144000" cy="6142320"/>
            </a:xfrm>
          </p:grpSpPr>
          <p:sp>
            <p:nvSpPr>
              <p:cNvPr id="243" name="مخطط انسيابي: معالجة متعاقبة 8"/>
              <p:cNvSpPr/>
              <p:nvPr/>
            </p:nvSpPr>
            <p:spPr>
              <a:xfrm>
                <a:off x="3321000" y="549360"/>
                <a:ext cx="2716200" cy="785880"/>
              </a:xfrm>
              <a:prstGeom prst="flowChartAlternateProcess">
                <a:avLst/>
              </a:prstGeom>
              <a:solidFill>
                <a:srgbClr val="53548a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2400" spc="-1" strike="noStrike">
                    <a:solidFill>
                      <a:srgbClr val="ffffff"/>
                    </a:solidFill>
                    <a:latin typeface="Georgia"/>
                  </a:rPr>
                  <a:t>الإحسا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شكل بيضاوي 9"/>
              <p:cNvSpPr/>
              <p:nvPr/>
            </p:nvSpPr>
            <p:spPr>
              <a:xfrm>
                <a:off x="6659640" y="1246320"/>
                <a:ext cx="2092320" cy="660240"/>
              </a:xfrm>
              <a:prstGeom prst="ellipse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أنواع الإحساس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شكل بيضاوي 10"/>
              <p:cNvSpPr/>
              <p:nvPr/>
            </p:nvSpPr>
            <p:spPr>
              <a:xfrm>
                <a:off x="1979640" y="1628640"/>
                <a:ext cx="2232000" cy="625320"/>
              </a:xfrm>
              <a:prstGeom prst="ellipse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صائص العضو الحس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خطط انسيابي: معالجة 11"/>
              <p:cNvSpPr/>
              <p:nvPr/>
            </p:nvSpPr>
            <p:spPr>
              <a:xfrm>
                <a:off x="8215560" y="2549520"/>
                <a:ext cx="92844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عام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خطط انسيابي: معالجة 12"/>
              <p:cNvSpPr/>
              <p:nvPr/>
            </p:nvSpPr>
            <p:spPr>
              <a:xfrm>
                <a:off x="6715080" y="2549520"/>
                <a:ext cx="1025280" cy="1071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داخلية خاص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خطط انسيابي: معالجة 13"/>
              <p:cNvSpPr/>
              <p:nvPr/>
            </p:nvSpPr>
            <p:spPr>
              <a:xfrm>
                <a:off x="5143680" y="2621160"/>
                <a:ext cx="941400" cy="106992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إحساسات خارجي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خطط انسيابي: معالجة 14"/>
              <p:cNvSpPr/>
              <p:nvPr/>
            </p:nvSpPr>
            <p:spPr>
              <a:xfrm>
                <a:off x="307188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نتقائي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خطط انسيابي: معالجة 15"/>
              <p:cNvSpPr/>
              <p:nvPr/>
            </p:nvSpPr>
            <p:spPr>
              <a:xfrm>
                <a:off x="164304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600" spc="-1" strike="noStrike">
                    <a:solidFill>
                      <a:srgbClr val="000000"/>
                    </a:solidFill>
                    <a:latin typeface="Georgia"/>
                  </a:rPr>
                  <a:t>حسا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خطط انسيابي: معالجة 16"/>
              <p:cNvSpPr/>
              <p:nvPr/>
            </p:nvSpPr>
            <p:spPr>
              <a:xfrm>
                <a:off x="357120" y="2621160"/>
                <a:ext cx="785520" cy="1069920"/>
              </a:xfrm>
              <a:prstGeom prst="flowChartProcess">
                <a:avLst/>
              </a:prstGeom>
              <a:solidFill>
                <a:srgbClr val="92d05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تدر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مخطط انسيابي: رابط 25"/>
              <p:cNvSpPr/>
              <p:nvPr/>
            </p:nvSpPr>
            <p:spPr>
              <a:xfrm rot="21448800">
                <a:off x="6228000" y="4182840"/>
                <a:ext cx="1674720" cy="133344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 بالجهاز العضلي للجسم كالحركة والتواز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مخطط انسيابي: رابط 26"/>
              <p:cNvSpPr/>
              <p:nvPr/>
            </p:nvSpPr>
            <p:spPr>
              <a:xfrm>
                <a:off x="4643280" y="3834000"/>
                <a:ext cx="1500120" cy="1106280"/>
              </a:xfrm>
              <a:prstGeom prst="flowChartConnector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مثيرات البيئية التي تستقبل من الحوا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مخطط انسيابي: معالجة متعاقبة 31"/>
              <p:cNvSpPr/>
              <p:nvPr/>
            </p:nvSpPr>
            <p:spPr>
              <a:xfrm>
                <a:off x="4427640" y="5013720"/>
                <a:ext cx="1143000" cy="40464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منبه او مثي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مخطط انسيابي: معالجة متعاقبة 32"/>
              <p:cNvSpPr/>
              <p:nvPr/>
            </p:nvSpPr>
            <p:spPr>
              <a:xfrm>
                <a:off x="4427640" y="5637600"/>
                <a:ext cx="135720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الخلايا المستقبلة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مخطط انسيابي: معالجة متعاقبة 33"/>
              <p:cNvSpPr/>
              <p:nvPr/>
            </p:nvSpPr>
            <p:spPr>
              <a:xfrm>
                <a:off x="4284720" y="6263280"/>
                <a:ext cx="2144520" cy="428400"/>
              </a:xfrm>
              <a:prstGeom prst="flowChartAlternateProcess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تنبيه في المراكز الحسية الدماغ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مخطط انسيابي: معالجة متعاقبة 35"/>
              <p:cNvSpPr/>
              <p:nvPr/>
            </p:nvSpPr>
            <p:spPr>
              <a:xfrm>
                <a:off x="0" y="5156640"/>
                <a:ext cx="4211640" cy="1152360"/>
              </a:xfrm>
              <a:prstGeom prst="flowChartAlternateProcess">
                <a:avLst/>
              </a:prstGeom>
              <a:solidFill>
                <a:srgbClr val="ffc00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العتبة الفارقة: تمثل الحد الأدنى والأقصى لشدة المثير الذي يمكن أن تتأثر به أعضاء الحس   المختلفة وهي في حالة الإبصار تتراوح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9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76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ملليميكرون اما في حالة السمع فالموجات التي يمكن التحكم بها تتراوخ بين (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-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2000</a:t>
                </a: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) ذبذبة في الثانية</a:t>
                </a:r>
                <a:r>
                  <a:rPr b="1" lang="ar-JO" sz="1000" spc="-1" strike="noStrike">
                    <a:solidFill>
                      <a:srgbClr val="000000"/>
                    </a:solidFill>
                    <a:latin typeface="Georgia"/>
                  </a:rPr>
                  <a:t>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مخطط انسيابي: معالجة 36"/>
              <p:cNvSpPr/>
              <p:nvPr/>
            </p:nvSpPr>
            <p:spPr>
              <a:xfrm>
                <a:off x="7956720" y="4293000"/>
                <a:ext cx="1187280" cy="1800360"/>
              </a:xfrm>
              <a:prstGeom prst="flowChartProcess">
                <a:avLst/>
              </a:prstGeom>
              <a:solidFill>
                <a:srgbClr val="7030a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400" spc="-1" strike="noStrike">
                    <a:solidFill>
                      <a:srgbClr val="000000"/>
                    </a:solidFill>
                    <a:latin typeface="Georgia"/>
                  </a:rPr>
                  <a:t>مرتبطة بالعمليات الداخلية إي تغير الحالة الكيميائية:كالجوع والعط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9" name="رابط كسهم مستقيم 39"/>
              <p:cNvCxnSpPr>
                <a:endCxn id="245" idx="0"/>
              </p:cNvCxnSpPr>
              <p:nvPr/>
            </p:nvCxnSpPr>
            <p:spPr>
              <a:xfrm flipH="1">
                <a:off x="3094920" y="1387800"/>
                <a:ext cx="540360" cy="24012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0" name="رابط كسهم مستقيم 41"/>
              <p:cNvCxnSpPr>
                <a:stCxn id="243" idx="3"/>
                <a:endCxn id="244" idx="0"/>
              </p:cNvCxnSpPr>
              <p:nvPr/>
            </p:nvCxnSpPr>
            <p:spPr>
              <a:xfrm>
                <a:off x="6037200" y="941400"/>
                <a:ext cx="1668960" cy="305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1" name="رابط كسهم مستقيم 43"/>
              <p:cNvCxnSpPr/>
              <p:nvPr/>
            </p:nvCxnSpPr>
            <p:spPr>
              <a:xfrm>
                <a:off x="8172720" y="1893600"/>
                <a:ext cx="721440" cy="64836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2" name="رابط كسهم مستقيم 45"/>
              <p:cNvCxnSpPr/>
              <p:nvPr/>
            </p:nvCxnSpPr>
            <p:spPr>
              <a:xfrm flipH="1">
                <a:off x="7071840" y="1893600"/>
                <a:ext cx="379800" cy="656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3" name="رابط كسهم مستقيم 47"/>
              <p:cNvCxnSpPr>
                <a:endCxn id="248" idx="0"/>
              </p:cNvCxnSpPr>
              <p:nvPr/>
            </p:nvCxnSpPr>
            <p:spPr>
              <a:xfrm flipH="1">
                <a:off x="5613120" y="1822320"/>
                <a:ext cx="1551600" cy="799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4" name="رابط كسهم مستقيم 50"/>
              <p:cNvCxnSpPr>
                <a:stCxn id="245" idx="4"/>
                <a:endCxn id="250" idx="0"/>
              </p:cNvCxnSpPr>
              <p:nvPr/>
            </p:nvCxnSpPr>
            <p:spPr>
              <a:xfrm flipH="1">
                <a:off x="2035800" y="2254320"/>
                <a:ext cx="105948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5" name="رابط كسهم مستقيم 52"/>
              <p:cNvCxnSpPr>
                <a:stCxn id="245" idx="4"/>
                <a:endCxn id="251" idx="0"/>
              </p:cNvCxnSpPr>
              <p:nvPr/>
            </p:nvCxnSpPr>
            <p:spPr>
              <a:xfrm flipH="1">
                <a:off x="750240" y="2254320"/>
                <a:ext cx="234504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6" name="رابط كسهم مستقيم 54"/>
              <p:cNvCxnSpPr>
                <a:stCxn id="245" idx="4"/>
                <a:endCxn id="249" idx="0"/>
              </p:cNvCxnSpPr>
              <p:nvPr/>
            </p:nvCxnSpPr>
            <p:spPr>
              <a:xfrm>
                <a:off x="3094560" y="2254320"/>
                <a:ext cx="369000" cy="36720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7" name="رابط كسهم مستقيم 58"/>
              <p:cNvCxnSpPr>
                <a:stCxn id="247" idx="2"/>
                <a:endCxn id="252" idx="0"/>
              </p:cNvCxnSpPr>
              <p:nvPr/>
            </p:nvCxnSpPr>
            <p:spPr>
              <a:xfrm flipH="1">
                <a:off x="7035120" y="3620880"/>
                <a:ext cx="192600" cy="5626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cxnSp>
            <p:nvCxnSpPr>
              <p:cNvPr id="268" name="رابط كسهم مستقيم 61"/>
              <p:cNvCxnSpPr>
                <a:stCxn id="248" idx="2"/>
                <a:endCxn id="253" idx="0"/>
              </p:cNvCxnSpPr>
              <p:nvPr/>
            </p:nvCxnSpPr>
            <p:spPr>
              <a:xfrm flipH="1">
                <a:off x="5393880" y="3691080"/>
                <a:ext cx="219600" cy="143280"/>
              </a:xfrm>
              <a:prstGeom prst="straightConnector1">
                <a:avLst/>
              </a:prstGeom>
              <a:ln w="9360">
                <a:solidFill>
                  <a:srgbClr val="53548a"/>
                </a:solidFill>
                <a:miter/>
                <a:tailEnd len="med" type="arrow" w="med"/>
              </a:ln>
            </p:spPr>
          </p:cxnSp>
          <p:sp>
            <p:nvSpPr>
              <p:cNvPr id="269" name="رابط مستقيم 69"/>
              <p:cNvSpPr/>
              <p:nvPr/>
            </p:nvSpPr>
            <p:spPr>
              <a:xfrm>
                <a:off x="8217000" y="3621240"/>
                <a:ext cx="26640" cy="6714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رابط مستقيم 72"/>
              <p:cNvSpPr/>
              <p:nvPr/>
            </p:nvSpPr>
            <p:spPr>
              <a:xfrm flipH="1">
                <a:off x="7956720" y="4691520"/>
                <a:ext cx="258480" cy="50148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رابط مستقيم 74"/>
              <p:cNvSpPr/>
              <p:nvPr/>
            </p:nvSpPr>
            <p:spPr>
              <a:xfrm>
                <a:off x="8215560" y="6191640"/>
                <a:ext cx="142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رابط مستقيم 78"/>
              <p:cNvSpPr/>
              <p:nvPr/>
            </p:nvSpPr>
            <p:spPr>
              <a:xfrm>
                <a:off x="4284720" y="5204160"/>
                <a:ext cx="142560" cy="1080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رابط مستقيم 80"/>
              <p:cNvSpPr/>
              <p:nvPr/>
            </p:nvSpPr>
            <p:spPr>
              <a:xfrm>
                <a:off x="4284720" y="5852160"/>
                <a:ext cx="142560" cy="144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رابط مستقيم 82"/>
              <p:cNvSpPr/>
              <p:nvPr/>
            </p:nvSpPr>
            <p:spPr>
              <a:xfrm flipH="1">
                <a:off x="4284720" y="6477480"/>
                <a:ext cx="358560" cy="0"/>
              </a:xfrm>
              <a:prstGeom prst="line">
                <a:avLst/>
              </a:prstGeom>
              <a:ln w="9360">
                <a:solidFill>
                  <a:srgbClr val="5354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شكل بيضاوي 53"/>
              <p:cNvSpPr/>
              <p:nvPr/>
            </p:nvSpPr>
            <p:spPr>
              <a:xfrm>
                <a:off x="4356000" y="1604880"/>
                <a:ext cx="2232000" cy="504720"/>
              </a:xfrm>
              <a:prstGeom prst="ellipse">
                <a:avLst/>
              </a:prstGeom>
              <a:solidFill>
                <a:srgbClr val="00b0f0"/>
              </a:solidFill>
              <a:ln w="19080">
                <a:solidFill>
                  <a:srgbClr val="3b3b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JO" sz="1800" spc="-1" strike="noStrike">
                    <a:solidFill>
                      <a:srgbClr val="000000"/>
                    </a:solidFill>
                    <a:latin typeface="Georgia"/>
                  </a:rPr>
                  <a:t>خطوات الإحساس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76" name="رابط كسهم مستقيم 87"/>
          <p:cNvCxnSpPr>
            <a:stCxn id="243" idx="2"/>
            <a:endCxn id="275" idx="0"/>
          </p:cNvCxnSpPr>
          <p:nvPr/>
        </p:nvCxnSpPr>
        <p:spPr>
          <a:xfrm>
            <a:off x="4680000" y="1334880"/>
            <a:ext cx="792720" cy="27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7" name="شكل بيضاوي 116"/>
          <p:cNvSpPr/>
          <p:nvPr/>
        </p:nvSpPr>
        <p:spPr>
          <a:xfrm>
            <a:off x="0" y="1052640"/>
            <a:ext cx="2232000" cy="777600"/>
          </a:xfrm>
          <a:prstGeom prst="ellipse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Georgia"/>
              </a:rPr>
              <a:t>عتبة الإحسا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رابط كسهم مستقيم 119"/>
          <p:cNvCxnSpPr/>
          <p:nvPr/>
        </p:nvCxnSpPr>
        <p:spPr>
          <a:xfrm flipH="1">
            <a:off x="178560" y="1701720"/>
            <a:ext cx="2520" cy="2448720"/>
          </a:xfrm>
          <a:prstGeom prst="straightConnector1">
            <a:avLst/>
          </a:prstGeom>
          <a:ln w="9360">
            <a:solidFill>
              <a:srgbClr val="53548a"/>
            </a:solidFill>
            <a:miter/>
            <a:headEnd len="med" type="arrow" w="med"/>
            <a:tailEnd len="med" type="arrow" w="med"/>
          </a:ln>
        </p:spPr>
      </p:cxnSp>
      <p:sp>
        <p:nvSpPr>
          <p:cNvPr id="279" name="مخطط انسيابي: رابط 123"/>
          <p:cNvSpPr/>
          <p:nvPr/>
        </p:nvSpPr>
        <p:spPr>
          <a:xfrm>
            <a:off x="179280" y="3716280"/>
            <a:ext cx="2160720" cy="1300320"/>
          </a:xfrm>
          <a:prstGeom prst="flowChartConnector">
            <a:avLst/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400" spc="-1" strike="noStrike">
                <a:solidFill>
                  <a:srgbClr val="000000"/>
                </a:solidFill>
                <a:latin typeface="Georgia"/>
              </a:rPr>
              <a:t>هي الحد الأدنى من الشدة التي يمتاز بها مثير معين بحيث يمكن التأثر به من قبل عضو الح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1"/>
          <p:cNvSpPr/>
          <p:nvPr/>
        </p:nvSpPr>
        <p:spPr>
          <a:xfrm>
            <a:off x="3786120" y="642960"/>
            <a:ext cx="5010120" cy="787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واس الخارج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300"/>
            </a:br>
            <a:br>
              <a:rPr sz="2000"/>
            </a:br>
            <a:br>
              <a:rPr sz="2900"/>
            </a:br>
            <a:br>
              <a:rPr sz="2900"/>
            </a:br>
            <a:endParaRPr b="0" lang="en-US" sz="23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AutoShape 1"/>
          <p:cNvSpPr/>
          <p:nvPr/>
        </p:nvSpPr>
        <p:spPr>
          <a:xfrm>
            <a:off x="3924360" y="1844640"/>
            <a:ext cx="4968720" cy="7873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ffff00"/>
                </a:solidFill>
                <a:uFillTx/>
                <a:latin typeface="comic"/>
                <a:cs typeface="Andalus"/>
              </a:rPr>
              <a:t>اولا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Calibri"/>
                <a:ea typeface="Andalus"/>
              </a:rPr>
              <a:t>:</a:t>
            </a:r>
            <a:r>
              <a:rPr b="1" lang="ar-JO" sz="2400" spc="-1" strike="noStrike" u="sng">
                <a:solidFill>
                  <a:srgbClr val="ffff00"/>
                </a:solidFill>
                <a:uFillTx/>
                <a:latin typeface="Calibri"/>
                <a:cs typeface="Andalus"/>
              </a:rPr>
              <a:t>حاسة البصر</a:t>
            </a:r>
            <a:r>
              <a:rPr b="1" lang="ar-SA" sz="1800" spc="-1" strike="noStrike" u="sng">
                <a:solidFill>
                  <a:srgbClr val="1f497d"/>
                </a:solidFill>
                <a:uFillTx/>
                <a:latin typeface="Calibri"/>
                <a:ea typeface="Andalu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90760" y="1276560"/>
            <a:ext cx="7962480" cy="802800"/>
          </a:xfrm>
          <a:prstGeom prst="rect">
            <a:avLst/>
          </a:prstGeom>
          <a:solidFill>
            <a:srgbClr val="002060"/>
          </a:solidFill>
          <a:ln w="12600">
            <a:solidFill>
              <a:srgbClr val="c0504d"/>
            </a:solidFill>
            <a:round/>
          </a:ln>
          <a:effectLst>
            <a:outerShdw dist="28496" dir="3825519" blurRad="0" rotWithShape="0">
              <a:srgbClr val="622423"/>
            </a:outerShdw>
          </a:effectLst>
        </p:spPr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Arial"/>
              </a:rPr>
              <a:t>ثانيا: حاسة السمع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مربع نص 3"/>
          <p:cNvSpPr/>
          <p:nvPr/>
        </p:nvSpPr>
        <p:spPr>
          <a:xfrm>
            <a:off x="179280" y="2637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الإحساس السمعي يتوقف على خصائص الموجات الصوتية الصادرة عن الأشياء والتي تتمثل فيما يلي :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حدة أو درجة الصوت 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كثافة الصوت</a:t>
            </a:r>
            <a:br>
              <a:rPr sz="1800"/>
            </a:b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ar-JO" sz="1800" spc="-1" strike="noStrike">
                <a:solidFill>
                  <a:srgbClr val="000000"/>
                </a:solidFill>
                <a:latin typeface="Calibri"/>
              </a:rPr>
              <a:t>. إيقاع الصو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07920"/>
            <a:ext cx="8218440" cy="379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تقسم المستقبلات الحسية الموجودة في الجلد إلى:</a:t>
            </a:r>
            <a:br>
              <a:rPr sz="2800"/>
            </a:b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ar-JO" sz="28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الخلايا الحسية التي تستجيب لتغير درجة الحرارة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حسية التي تستجيب إلى مثيرات تسبب الالم والضيق.</a:t>
            </a:r>
            <a:br>
              <a:rPr sz="2000"/>
            </a:b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ar-JO" sz="2000" spc="-1" strike="noStrike">
                <a:solidFill>
                  <a:srgbClr val="424456"/>
                </a:solidFill>
                <a:latin typeface="Trebuchet MS"/>
              </a:rPr>
              <a:t>. الخلايا التي تستجيب للضغط والاهتزازات.</a:t>
            </a:r>
            <a:br>
              <a:rPr sz="2800"/>
            </a:b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457200" y="1143000"/>
            <a:ext cx="8229600" cy="1069920"/>
          </a:xfrm>
          <a:prstGeom prst="horizontalScroll">
            <a:avLst>
              <a:gd name="adj" fmla="val 12500"/>
            </a:avLst>
          </a:prstGeom>
          <a:solidFill>
            <a:srgbClr val="002060"/>
          </a:soli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 u="sng">
                <a:solidFill>
                  <a:srgbClr val="ffff00"/>
                </a:solidFill>
                <a:uFillTx/>
                <a:latin typeface="Calibri"/>
                <a:cs typeface="Calibri"/>
              </a:rPr>
              <a:t>ثالثا: حاسة اللمس وال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3:18:45Z</dcterms:created>
  <dc:creator>ACER</dc:creator>
  <dc:description/>
  <dc:language>en-US</dc:language>
  <cp:lastModifiedBy>Amer</cp:lastModifiedBy>
  <dcterms:modified xsi:type="dcterms:W3CDTF">2010-10-22T13:20:18Z</dcterms:modified>
  <cp:revision>112</cp:revision>
  <dc:subject/>
  <dc:title>الشريحة 1</dc:title>
</cp:coreProperties>
</file>