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C626-B30A-4AD5-B763-E47C92B67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5A9F-B2BC-4566-BFF7-3113E3FB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9479-8020-43A3-B8FA-39C77F700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DDA5-4FF7-4684-B288-44341B478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71CC-40F9-45B4-BF05-D471A7B02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D44C-D403-463F-90A3-9D4E81996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C4A8-D796-479C-A8B5-2FC130630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4152-8857-4A43-B39C-36679EC4D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7EC9-076A-40CA-AF99-0891CD7B1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E13B-C124-4F37-BD29-5CB90600A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39CE-6C48-45E9-9961-8D19FC56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CB94-661E-49F9-88A4-D4C4530A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29DE-52DB-45D7-AB52-F4D423A6B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991E-691F-4A0A-9397-88EFC4A6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7E57-CDF9-429B-8228-C78E2F53C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D384-EB7D-427E-9F3D-9520FE88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5B10-F93F-4262-A889-8BF9D0CB1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8F76-2A1D-442F-BE1F-6EDE08212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6D19-EE92-4CD0-8855-05A6B0348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25C6-B1D1-4271-A5FB-75E6F688D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B0E-0A4B-43AD-B99C-D06754B4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7A1-1E8B-4E1E-AA8B-0FFA578B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44E-C21C-40A2-8DC9-8C68EAA4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88E-C156-4EC4-A33A-9837CEEB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1558-97C3-48AA-ADCF-64789251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976F-2AEA-43DE-A580-A37CD95C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E932-844B-4159-97B1-C59000A3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A77A-5FE7-4DD6-85E2-9221D886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13DA-15CA-4EF7-8359-542E655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56A3-022B-4891-86A6-267BEEA7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BE0C-71F0-469C-8269-348C004F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599C-4E5D-4D97-BD2A-D5F19E69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893C-34F1-4D81-8126-7644CF7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60E5-80EE-415A-8B1F-F79694B2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650C-E1FE-420D-911C-32FB48EE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E112-0F53-47BA-B33D-144F1E5B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2C3A-A1F7-4216-B74A-5F8E1C7C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81F7C-A214-4838-A305-1EB5A480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6FB5C-6531-4921-B171-1C54B33D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B3A1A-6AA7-4FC6-9409-C750B115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EC563-1B5E-4A53-91D1-506B5EEC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02E95-364A-4565-B54E-3F84245F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DAF3-FCCE-4AF7-975B-358D709D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3B042-0659-44E3-A442-4540766C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B7A54-600B-421B-AFC4-4F36840A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12C9A2-D4EC-4C04-A50C-5E83D65A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0A823-4F96-491E-A8AD-53C272FE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3739D-2299-4C38-A3D0-072708212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652AD-8606-472C-978D-2514C491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869F9-1D4B-46D1-830C-3A163A80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5BB4-6639-43FF-AFCA-5FA42954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EFAF-EDBF-40A2-B669-82AE64FF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F157A-235C-41A7-859F-2AF86C2B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FC2-BE65-4BC1-8509-2745861D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2879C-8F67-4055-8136-A12D4941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7C287-E6F1-4E15-B6D9-3E9E8552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D4A8-6E1B-4A98-B407-853ABEDA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0015D-56AB-4D1B-8834-5C1E416B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8022-6051-44DC-9FA0-4A6E764A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8D5FD-2D60-4FC1-9244-BB3CD4CE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B393B-36A8-4A13-AC38-C152E56F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2665D-A87F-4CCA-84A2-CDAD362E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2839D-6B72-436B-9B7E-FC8F009F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916-5120-4FEE-8D3F-D9338379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225C-9162-44E5-9185-DAE51CEA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9BE-2568-413B-B04B-91FDB256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180-DA9D-4B3B-8B4C-2FA8B952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422-F8FE-44AB-9FBF-F20CCD8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B830-DB67-455E-9C72-60D9C579BC11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21A5-37CB-4430-A84A-D466EA281883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44C-9A2E-45CC-B176-78EAF94FF760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83FE-2CA0-45C3-97FD-323C14B60E56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صورة 1" descr="لللعرض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424456"/>
                </a:solidFill>
                <a:latin typeface="Arial Rounded MT Bold"/>
                <a:cs typeface="DecoType Naskh Extensions"/>
              </a:rPr>
              <a:t>بسم الله الرحمن الرحيم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رابعا: حاسة الذو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خامسا: حاسة ال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رسم تخطيطي 3" descr=""/>
          <p:cNvPicPr/>
          <p:nvPr/>
        </p:nvPicPr>
        <p:blipFill>
          <a:blip r:embed="rId1"/>
          <a:stretch/>
        </p:blipFill>
        <p:spPr>
          <a:xfrm>
            <a:off x="274680" y="1390680"/>
            <a:ext cx="8405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800280" y="857160"/>
            <a:ext cx="7843680" cy="557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عملية التوصيل العصبي : ه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>
            <a:off x="1619280" y="628560"/>
            <a:ext cx="6738840" cy="3808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نتباه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ملية توجيه وتركيز الشعور على الإحساسات الناتجة بفعل مثيرات خارجية موجودة في المجال الرئيسي الإدراكي للفرد, أو المثيرات الداخلية التي تحدث داخل الف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AutoShape 1"/>
          <p:cNvGrpSpPr/>
          <p:nvPr/>
        </p:nvGrpSpPr>
        <p:grpSpPr>
          <a:xfrm>
            <a:off x="5479920" y="835200"/>
            <a:ext cx="3090960" cy="1049040"/>
            <a:chOff x="5479920" y="835200"/>
            <a:chExt cx="3090960" cy="1049040"/>
          </a:xfrm>
        </p:grpSpPr>
        <p:pic>
          <p:nvPicPr>
            <p:cNvPr id="293" name="AutoShape 1" descr=""/>
            <p:cNvPicPr/>
            <p:nvPr/>
          </p:nvPicPr>
          <p:blipFill>
            <a:blip r:embed="rId1"/>
            <a:stretch/>
          </p:blipFill>
          <p:spPr>
            <a:xfrm>
              <a:off x="5479920" y="835200"/>
              <a:ext cx="30909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572080" y="928800"/>
              <a:ext cx="29005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4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نواع الانتبا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رسم تخطيطي 3" descr=""/>
          <p:cNvPicPr/>
          <p:nvPr/>
        </p:nvPicPr>
        <p:blipFill>
          <a:blip r:embed="rId2"/>
          <a:stretch/>
        </p:blipFill>
        <p:spPr>
          <a:xfrm>
            <a:off x="1743120" y="2127240"/>
            <a:ext cx="7119720" cy="4468680"/>
          </a:xfrm>
          <a:prstGeom prst="rect">
            <a:avLst/>
          </a:prstGeom>
          <a:ln w="0">
            <a:noFill/>
          </a:ln>
        </p:spPr>
      </p:pic>
      <p:pic>
        <p:nvPicPr>
          <p:cNvPr id="297" name="رسم تخطيطي 6" descr=""/>
          <p:cNvPicPr/>
          <p:nvPr/>
        </p:nvPicPr>
        <p:blipFill>
          <a:blip r:embed="rId3"/>
          <a:stretch/>
        </p:blipFill>
        <p:spPr>
          <a:xfrm>
            <a:off x="5278320" y="5778360"/>
            <a:ext cx="2762280" cy="414360"/>
          </a:xfrm>
          <a:prstGeom prst="rect">
            <a:avLst/>
          </a:prstGeom>
          <a:ln w="0">
            <a:noFill/>
          </a:ln>
        </p:spPr>
      </p:pic>
      <p:sp>
        <p:nvSpPr>
          <p:cNvPr id="298" name="سهم إلى اليمين 7"/>
          <p:cNvSpPr/>
          <p:nvPr/>
        </p:nvSpPr>
        <p:spPr>
          <a:xfrm rot="6451200">
            <a:off x="7660440" y="5201280"/>
            <a:ext cx="696600" cy="84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AutoShape 1"/>
          <p:cNvGrpSpPr/>
          <p:nvPr/>
        </p:nvGrpSpPr>
        <p:grpSpPr>
          <a:xfrm>
            <a:off x="3486240" y="841320"/>
            <a:ext cx="5261040" cy="890640"/>
            <a:chOff x="3486240" y="841320"/>
            <a:chExt cx="5261040" cy="890640"/>
          </a:xfrm>
        </p:grpSpPr>
        <p:pic>
          <p:nvPicPr>
            <p:cNvPr id="300" name="AutoShape 1" descr=""/>
            <p:cNvPicPr/>
            <p:nvPr/>
          </p:nvPicPr>
          <p:blipFill>
            <a:blip r:embed="rId1"/>
            <a:stretch/>
          </p:blipFill>
          <p:spPr>
            <a:xfrm>
              <a:off x="3486240" y="841320"/>
              <a:ext cx="52610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656160" y="1012680"/>
              <a:ext cx="4922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3200" spc="-1" strike="noStrike">
                  <a:solidFill>
                    <a:srgbClr val="000000"/>
                  </a:solidFill>
                  <a:latin typeface="Arial"/>
                </a:rPr>
                <a:t>نظريات الانتبا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 نظريات الانتباه أحادية القناة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توزيع المرن للانتباه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مصادر المتعددة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أولا: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موضوعية الخارجية المرتبطة ب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اللون والشكل والحجم والشدة والموقع بالنسبة للخلف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باين أو التغاير في شدة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ق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جدة والحداثة والتغير في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جم والش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ل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ثانيا: العوامل الذاتية المرتبطة بالمثير بالشخص او الف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لة الانفعالية والمزاجية التي يمر فيها 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جات والدوافع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ع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خارجية الماد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اجتماع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10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657520" y="198900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3462480" y="3429000"/>
            <a:ext cx="50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38086"/>
                </a:solidFill>
                <a:latin typeface="Georgia"/>
                <a:cs typeface="PT Bold Heading"/>
              </a:rPr>
              <a:t>تم بحمد الله وفضله،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15565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71680" y="1500120"/>
            <a:ext cx="5400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صورة 2" descr="شعار الجامعة.jpg"/>
          <p:cNvPicPr/>
          <p:nvPr/>
        </p:nvPicPr>
        <p:blipFill>
          <a:blip r:embed="rId1"/>
          <a:stretch/>
        </p:blipFill>
        <p:spPr>
          <a:xfrm>
            <a:off x="4425840" y="420840"/>
            <a:ext cx="944640" cy="938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3571920" y="1500120"/>
            <a:ext cx="2609640" cy="1285920"/>
          </a:xfrm>
          <a:prstGeom prst="rect">
            <a:avLst/>
          </a:prstGeom>
          <a:solidFill>
            <a:srgbClr val="dbdbe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مملكة العربية السعود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كلية التربية- قسم </a:t>
            </a:r>
            <a:r>
              <a:rPr b="1" lang="ar-JO" sz="1200" spc="-1" strike="noStrike">
                <a:solidFill>
                  <a:srgbClr val="000000"/>
                </a:solidFill>
                <a:latin typeface="Arial"/>
              </a:rPr>
              <a:t>علم النف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63640" y="3357720"/>
          <a:ext cx="5880240" cy="2280960"/>
        </p:xfrm>
        <a:graphic>
          <a:graphicData uri="http://schemas.openxmlformats.org/drawingml/2006/table">
            <a:tbl>
              <a:tblPr/>
              <a:tblGrid>
                <a:gridCol w="5880240"/>
              </a:tblGrid>
              <a:tr h="101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cs typeface="Times New Roman"/>
                        </a:rPr>
                        <a:t>الإحساس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ensation</a:t>
                      </a: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3"/>
          <p:cNvGrpSpPr/>
          <p:nvPr/>
        </p:nvGrpSpPr>
        <p:grpSpPr>
          <a:xfrm>
            <a:off x="-1440" y="0"/>
            <a:ext cx="1715760" cy="6832080"/>
            <a:chOff x="-1440" y="0"/>
            <a:chExt cx="1715760" cy="6832080"/>
          </a:xfrm>
        </p:grpSpPr>
        <p:grpSp>
          <p:nvGrpSpPr>
            <p:cNvPr id="228" name="Group 4"/>
            <p:cNvGrpSpPr/>
            <p:nvPr/>
          </p:nvGrpSpPr>
          <p:grpSpPr>
            <a:xfrm>
              <a:off x="-1440" y="281520"/>
              <a:ext cx="1501200" cy="3794760"/>
              <a:chOff x="-1440" y="281520"/>
              <a:chExt cx="1501200" cy="3794760"/>
            </a:xfrm>
          </p:grpSpPr>
          <p:sp>
            <p:nvSpPr>
              <p:cNvPr id="229" name="Rectangle 5"/>
              <p:cNvSpPr/>
              <p:nvPr/>
            </p:nvSpPr>
            <p:spPr>
              <a:xfrm>
                <a:off x="-1440" y="717840"/>
                <a:ext cx="1101240" cy="3358440"/>
              </a:xfrm>
              <a:prstGeom prst="rect">
                <a:avLst/>
              </a:prstGeom>
              <a:solidFill>
                <a:srgbClr val="c2a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6"/>
              <p:cNvSpPr/>
              <p:nvPr/>
            </p:nvSpPr>
            <p:spPr>
              <a:xfrm>
                <a:off x="856440" y="281520"/>
                <a:ext cx="643320" cy="34275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7"/>
            <p:cNvGrpSpPr/>
            <p:nvPr/>
          </p:nvGrpSpPr>
          <p:grpSpPr>
            <a:xfrm>
              <a:off x="500760" y="3287160"/>
              <a:ext cx="1213560" cy="3544920"/>
              <a:chOff x="500760" y="3287160"/>
              <a:chExt cx="1213560" cy="3544920"/>
            </a:xfrm>
          </p:grpSpPr>
          <p:sp>
            <p:nvSpPr>
              <p:cNvPr id="232" name="Rectangle 8"/>
              <p:cNvSpPr/>
              <p:nvPr/>
            </p:nvSpPr>
            <p:spPr>
              <a:xfrm>
                <a:off x="500760" y="3841200"/>
                <a:ext cx="1062000" cy="29908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929160" y="3287160"/>
                <a:ext cx="785160" cy="2990880"/>
              </a:xfrm>
              <a:prstGeom prst="rect">
                <a:avLst/>
              </a:prstGeom>
              <a:gradFill rotWithShape="0">
                <a:gsLst>
                  <a:gs pos="0">
                    <a:srgbClr val="43808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Rectangle 10"/>
            <p:cNvSpPr/>
            <p:nvPr/>
          </p:nvSpPr>
          <p:spPr>
            <a:xfrm>
              <a:off x="213480" y="2955600"/>
              <a:ext cx="641520" cy="266472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5000" y="0"/>
              <a:ext cx="79200" cy="664272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400" spc="-1" strike="noStrike">
                <a:solidFill>
                  <a:srgbClr val="ff0000"/>
                </a:solidFill>
                <a:latin typeface="Trebuchet MS"/>
              </a:rPr>
              <a:t>طبيعة عملية الاحساس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85600" y="1571400"/>
            <a:ext cx="598644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70c0"/>
                </a:solidFill>
                <a:latin typeface="Georgia"/>
              </a:rPr>
              <a:t>  الحواس تنقل الانطباعات الحسية المختلفة عن المثيرات البيئية إلى المناطق المختصة في الجهاز العصبي ليتم إجراء المزيد من العمليات بهدف التفسير وإعطاء المعاني واتخاذ القرار.</a:t>
            </a:r>
            <a:r>
              <a:rPr b="0" lang="ar-SA" sz="4000" spc="-1" strike="noStrike">
                <a:solidFill>
                  <a:srgbClr val="0070c0"/>
                </a:solidFill>
                <a:latin typeface="Georgi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إي انه العملية الحيوية التي يتم من خلالها استقبال المعلومات عن العالم الخارجي عبر الحواس لتمكننا من فهم المثيرات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كما انه أداة التعلم وبدونها يصبح الدماغ عديم النفع, ولن يكون هناك تفكير أو سيطرة على السلو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41280" y="963720"/>
            <a:ext cx="835812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مجموعة 99"/>
          <p:cNvGrpSpPr/>
          <p:nvPr/>
        </p:nvGrpSpPr>
        <p:grpSpPr>
          <a:xfrm>
            <a:off x="0" y="549360"/>
            <a:ext cx="9144000" cy="6152400"/>
            <a:chOff x="0" y="549360"/>
            <a:chExt cx="9144000" cy="6152400"/>
          </a:xfrm>
        </p:grpSpPr>
        <p:sp>
          <p:nvSpPr>
            <p:cNvPr id="241" name="رابط مستقيم 76"/>
            <p:cNvSpPr/>
            <p:nvPr/>
          </p:nvSpPr>
          <p:spPr>
            <a:xfrm flipH="1">
              <a:off x="4247640" y="1856520"/>
              <a:ext cx="107640" cy="4845240"/>
            </a:xfrm>
            <a:prstGeom prst="line">
              <a:avLst/>
            </a:prstGeom>
            <a:ln w="93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مجموعة 97"/>
            <p:cNvGrpSpPr/>
            <p:nvPr/>
          </p:nvGrpSpPr>
          <p:grpSpPr>
            <a:xfrm>
              <a:off x="0" y="549360"/>
              <a:ext cx="9144000" cy="6142320"/>
              <a:chOff x="0" y="549360"/>
              <a:chExt cx="9144000" cy="6142320"/>
            </a:xfrm>
          </p:grpSpPr>
          <p:sp>
            <p:nvSpPr>
              <p:cNvPr id="243" name="مخطط انسيابي: معالجة متعاقبة 8"/>
              <p:cNvSpPr/>
              <p:nvPr/>
            </p:nvSpPr>
            <p:spPr>
              <a:xfrm>
                <a:off x="3321000" y="549360"/>
                <a:ext cx="2716200" cy="785880"/>
              </a:xfrm>
              <a:prstGeom prst="flowChartAlternateProcess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400" spc="-1" strike="noStrike">
                    <a:solidFill>
                      <a:srgbClr val="ffffff"/>
                    </a:solidFill>
                    <a:latin typeface="Georgia"/>
                  </a:rPr>
                  <a:t>الإحسا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شكل بيضاوي 9"/>
              <p:cNvSpPr/>
              <p:nvPr/>
            </p:nvSpPr>
            <p:spPr>
              <a:xfrm>
                <a:off x="6659640" y="1246320"/>
                <a:ext cx="2092320" cy="660240"/>
              </a:xfrm>
              <a:prstGeom prst="ellipse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أنواع الإحساس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شكل بيضاوي 10"/>
              <p:cNvSpPr/>
              <p:nvPr/>
            </p:nvSpPr>
            <p:spPr>
              <a:xfrm>
                <a:off x="1979640" y="1628640"/>
                <a:ext cx="2232000" cy="6253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صائص العضو الحس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مخطط انسيابي: معالجة 11"/>
              <p:cNvSpPr/>
              <p:nvPr/>
            </p:nvSpPr>
            <p:spPr>
              <a:xfrm>
                <a:off x="8215560" y="2549520"/>
                <a:ext cx="92844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عام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مخطط انسيابي: معالجة 12"/>
              <p:cNvSpPr/>
              <p:nvPr/>
            </p:nvSpPr>
            <p:spPr>
              <a:xfrm>
                <a:off x="6715080" y="2549520"/>
                <a:ext cx="102528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خاص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مخطط انسيابي: معالجة 13"/>
              <p:cNvSpPr/>
              <p:nvPr/>
            </p:nvSpPr>
            <p:spPr>
              <a:xfrm>
                <a:off x="5143680" y="2621160"/>
                <a:ext cx="941400" cy="106992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خارجي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مخطط انسيابي: معالجة 14"/>
              <p:cNvSpPr/>
              <p:nvPr/>
            </p:nvSpPr>
            <p:spPr>
              <a:xfrm>
                <a:off x="307188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نتق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مخطط انسيابي: معالجة 15"/>
              <p:cNvSpPr/>
              <p:nvPr/>
            </p:nvSpPr>
            <p:spPr>
              <a:xfrm>
                <a:off x="164304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حسا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مخطط انسيابي: معالجة 16"/>
              <p:cNvSpPr/>
              <p:nvPr/>
            </p:nvSpPr>
            <p:spPr>
              <a:xfrm>
                <a:off x="35712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تدر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مخطط انسيابي: رابط 25"/>
              <p:cNvSpPr/>
              <p:nvPr/>
            </p:nvSpPr>
            <p:spPr>
              <a:xfrm rot="21448800">
                <a:off x="6228000" y="4182840"/>
                <a:ext cx="1674720" cy="133344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 بالجهاز العضلي للجسم كالحركة والتواز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مخطط انسيابي: رابط 26"/>
              <p:cNvSpPr/>
              <p:nvPr/>
            </p:nvSpPr>
            <p:spPr>
              <a:xfrm>
                <a:off x="4643280" y="3834000"/>
                <a:ext cx="1500120" cy="110628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مثيرات البيئية التي تستقبل من الحوا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مخطط انسيابي: معالجة متعاقبة 31"/>
              <p:cNvSpPr/>
              <p:nvPr/>
            </p:nvSpPr>
            <p:spPr>
              <a:xfrm>
                <a:off x="4427640" y="5013720"/>
                <a:ext cx="1143000" cy="40464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نبه او مثي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مخطط انسيابي: معالجة متعاقبة 32"/>
              <p:cNvSpPr/>
              <p:nvPr/>
            </p:nvSpPr>
            <p:spPr>
              <a:xfrm>
                <a:off x="4427640" y="5637600"/>
                <a:ext cx="135720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لخلايا المستقبلة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مخطط انسيابي: معالجة متعاقبة 33"/>
              <p:cNvSpPr/>
              <p:nvPr/>
            </p:nvSpPr>
            <p:spPr>
              <a:xfrm>
                <a:off x="4284720" y="6263280"/>
                <a:ext cx="214452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تنبيه في المراكز الحسية الدماغي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مخطط انسيابي: معالجة متعاقبة 35"/>
              <p:cNvSpPr/>
              <p:nvPr/>
            </p:nvSpPr>
            <p:spPr>
              <a:xfrm>
                <a:off x="0" y="5156640"/>
                <a:ext cx="4211640" cy="1152360"/>
              </a:xfrm>
              <a:prstGeom prst="flowChartAlternateProcess">
                <a:avLst/>
              </a:prstGeom>
              <a:solidFill>
                <a:srgbClr val="ffc00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عتبة الفارقة: تمثل الحد الأدنى والأقصى لشدة المثير الذي يمكن أن تتأثر به أعضاء الحس   المختلفة وهي في حالة الإبصار تتراوح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9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76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ملليميكرون اما في حالة السمع فالموجات التي يمكن التحكم بها تتراوخ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0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ذبذبة في الثانية</a:t>
                </a:r>
                <a:r>
                  <a:rPr b="1" lang="ar-JO" sz="1000" spc="-1" strike="noStrike">
                    <a:solidFill>
                      <a:srgbClr val="000000"/>
                    </a:solidFill>
                    <a:latin typeface="Georgia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مخطط انسيابي: معالجة 36"/>
              <p:cNvSpPr/>
              <p:nvPr/>
            </p:nvSpPr>
            <p:spPr>
              <a:xfrm>
                <a:off x="7956720" y="4293000"/>
                <a:ext cx="1187280" cy="1800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بالعمليات الداخلية إي تغير الحالة الكيميائية:كالجوع والعط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رابط كسهم مستقيم 39"/>
              <p:cNvCxnSpPr>
                <a:endCxn id="245" idx="0"/>
              </p:cNvCxnSpPr>
              <p:nvPr/>
            </p:nvCxnSpPr>
            <p:spPr>
              <a:xfrm flipH="1">
                <a:off x="3094920" y="1387800"/>
                <a:ext cx="540360" cy="24012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0" name="رابط كسهم مستقيم 41"/>
              <p:cNvCxnSpPr>
                <a:stCxn id="243" idx="3"/>
                <a:endCxn id="244" idx="0"/>
              </p:cNvCxnSpPr>
              <p:nvPr/>
            </p:nvCxnSpPr>
            <p:spPr>
              <a:xfrm>
                <a:off x="6037200" y="941400"/>
                <a:ext cx="1668960" cy="305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1" name="رابط كسهم مستقيم 43"/>
              <p:cNvCxnSpPr/>
              <p:nvPr/>
            </p:nvCxnSpPr>
            <p:spPr>
              <a:xfrm>
                <a:off x="8172720" y="1893600"/>
                <a:ext cx="721440" cy="64836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2" name="رابط كسهم مستقيم 45"/>
              <p:cNvCxnSpPr/>
              <p:nvPr/>
            </p:nvCxnSpPr>
            <p:spPr>
              <a:xfrm flipH="1">
                <a:off x="7071840" y="1893600"/>
                <a:ext cx="379800" cy="656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3" name="رابط كسهم مستقيم 47"/>
              <p:cNvCxnSpPr>
                <a:endCxn id="248" idx="0"/>
              </p:cNvCxnSpPr>
              <p:nvPr/>
            </p:nvCxnSpPr>
            <p:spPr>
              <a:xfrm flipH="1">
                <a:off x="5613120" y="1822320"/>
                <a:ext cx="1551600" cy="799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4" name="رابط كسهم مستقيم 50"/>
              <p:cNvCxnSpPr>
                <a:stCxn id="245" idx="4"/>
                <a:endCxn id="250" idx="0"/>
              </p:cNvCxnSpPr>
              <p:nvPr/>
            </p:nvCxnSpPr>
            <p:spPr>
              <a:xfrm flipH="1">
                <a:off x="2035800" y="2254320"/>
                <a:ext cx="105948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5" name="رابط كسهم مستقيم 52"/>
              <p:cNvCxnSpPr>
                <a:stCxn id="245" idx="4"/>
                <a:endCxn id="251" idx="0"/>
              </p:cNvCxnSpPr>
              <p:nvPr/>
            </p:nvCxnSpPr>
            <p:spPr>
              <a:xfrm flipH="1">
                <a:off x="750240" y="2254320"/>
                <a:ext cx="234504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6" name="رابط كسهم مستقيم 54"/>
              <p:cNvCxnSpPr>
                <a:stCxn id="245" idx="4"/>
                <a:endCxn id="249" idx="0"/>
              </p:cNvCxnSpPr>
              <p:nvPr/>
            </p:nvCxnSpPr>
            <p:spPr>
              <a:xfrm>
                <a:off x="3094560" y="2254320"/>
                <a:ext cx="36900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7" name="رابط كسهم مستقيم 58"/>
              <p:cNvCxnSpPr>
                <a:stCxn id="247" idx="2"/>
                <a:endCxn id="252" idx="0"/>
              </p:cNvCxnSpPr>
              <p:nvPr/>
            </p:nvCxnSpPr>
            <p:spPr>
              <a:xfrm flipH="1">
                <a:off x="7035120" y="3620880"/>
                <a:ext cx="192600" cy="5626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8" name="رابط كسهم مستقيم 61"/>
              <p:cNvCxnSpPr>
                <a:stCxn id="248" idx="2"/>
                <a:endCxn id="253" idx="0"/>
              </p:cNvCxnSpPr>
              <p:nvPr/>
            </p:nvCxnSpPr>
            <p:spPr>
              <a:xfrm flipH="1">
                <a:off x="5393880" y="3691080"/>
                <a:ext cx="219600" cy="143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sp>
            <p:nvSpPr>
              <p:cNvPr id="269" name="رابط مستقيم 69"/>
              <p:cNvSpPr/>
              <p:nvPr/>
            </p:nvSpPr>
            <p:spPr>
              <a:xfrm>
                <a:off x="8217000" y="3621240"/>
                <a:ext cx="26640" cy="6714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رابط مستقيم 72"/>
              <p:cNvSpPr/>
              <p:nvPr/>
            </p:nvSpPr>
            <p:spPr>
              <a:xfrm flipH="1">
                <a:off x="7956720" y="4691520"/>
                <a:ext cx="258480" cy="50148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رابط مستقيم 74"/>
              <p:cNvSpPr/>
              <p:nvPr/>
            </p:nvSpPr>
            <p:spPr>
              <a:xfrm>
                <a:off x="8215560" y="6191640"/>
                <a:ext cx="142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رابط مستقيم 78"/>
              <p:cNvSpPr/>
              <p:nvPr/>
            </p:nvSpPr>
            <p:spPr>
              <a:xfrm>
                <a:off x="4284720" y="5204160"/>
                <a:ext cx="142560" cy="108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رابط مستقيم 80"/>
              <p:cNvSpPr/>
              <p:nvPr/>
            </p:nvSpPr>
            <p:spPr>
              <a:xfrm>
                <a:off x="4284720" y="5852160"/>
                <a:ext cx="142560" cy="144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رابط مستقيم 82"/>
              <p:cNvSpPr/>
              <p:nvPr/>
            </p:nvSpPr>
            <p:spPr>
              <a:xfrm flipH="1">
                <a:off x="4284720" y="6477480"/>
                <a:ext cx="358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شكل بيضاوي 53"/>
              <p:cNvSpPr/>
              <p:nvPr/>
            </p:nvSpPr>
            <p:spPr>
              <a:xfrm>
                <a:off x="4356000" y="1604880"/>
                <a:ext cx="2232000" cy="5047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طوات الإحسا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76" name="رابط كسهم مستقيم 87"/>
          <p:cNvCxnSpPr>
            <a:stCxn id="243" idx="2"/>
            <a:endCxn id="275" idx="0"/>
          </p:cNvCxnSpPr>
          <p:nvPr/>
        </p:nvCxnSpPr>
        <p:spPr>
          <a:xfrm>
            <a:off x="4680000" y="1334880"/>
            <a:ext cx="792720" cy="270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7" name="شكل بيضاوي 116"/>
          <p:cNvSpPr/>
          <p:nvPr/>
        </p:nvSpPr>
        <p:spPr>
          <a:xfrm>
            <a:off x="0" y="1052640"/>
            <a:ext cx="2232000" cy="77760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Georgia"/>
              </a:rPr>
              <a:t>عتبة الإحس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رابط كسهم مستقيم 119"/>
          <p:cNvCxnSpPr/>
          <p:nvPr/>
        </p:nvCxnSpPr>
        <p:spPr>
          <a:xfrm flipH="1">
            <a:off x="178560" y="1701720"/>
            <a:ext cx="2520" cy="2448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9" name="مخطط انسيابي: رابط 123"/>
          <p:cNvSpPr/>
          <p:nvPr/>
        </p:nvSpPr>
        <p:spPr>
          <a:xfrm>
            <a:off x="179280" y="3716280"/>
            <a:ext cx="2160720" cy="1300320"/>
          </a:xfrm>
          <a:prstGeom prst="flowChartConnector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Georgia"/>
              </a:rPr>
              <a:t>هي الحد الأدنى من الشدة التي يمتاز بها مثير معين بحيث يمكن التأثر به من قبل عضو الح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"/>
          <p:cNvSpPr/>
          <p:nvPr/>
        </p:nvSpPr>
        <p:spPr>
          <a:xfrm>
            <a:off x="3786120" y="642960"/>
            <a:ext cx="5010120" cy="787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واس الخار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000"/>
            </a:br>
            <a:br>
              <a:rPr sz="2900"/>
            </a:br>
            <a:br>
              <a:rPr sz="2900"/>
            </a:br>
            <a:endParaRPr b="0" lang="en-US" sz="2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AutoShape 1"/>
          <p:cNvSpPr/>
          <p:nvPr/>
        </p:nvSpPr>
        <p:spPr>
          <a:xfrm>
            <a:off x="3924360" y="1844640"/>
            <a:ext cx="4968720" cy="7873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ffff00"/>
                </a:solidFill>
                <a:uFillTx/>
                <a:latin typeface="comic"/>
                <a:cs typeface="Andalus"/>
              </a:rPr>
              <a:t>اولا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Calibri"/>
                <a:ea typeface="Andalus"/>
              </a:rPr>
              <a:t>:</a:t>
            </a:r>
            <a:r>
              <a:rPr b="1" lang="ar-JO" sz="2400" spc="-1" strike="noStrike" u="sng">
                <a:solidFill>
                  <a:srgbClr val="ffff00"/>
                </a:solidFill>
                <a:uFillTx/>
                <a:latin typeface="Calibri"/>
                <a:cs typeface="Andalus"/>
              </a:rPr>
              <a:t>حاسة البصر</a:t>
            </a:r>
            <a:r>
              <a:rPr b="1" lang="ar-SA" sz="1800" spc="-1" strike="noStrike" u="sng">
                <a:solidFill>
                  <a:srgbClr val="1f497d"/>
                </a:solidFill>
                <a:uFillTx/>
                <a:latin typeface="Calibri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90760" y="1276560"/>
            <a:ext cx="7962480" cy="802800"/>
          </a:xfrm>
          <a:prstGeom prst="rect">
            <a:avLst/>
          </a:prstGeom>
          <a:solidFill>
            <a:srgbClr val="002060"/>
          </a:solidFill>
          <a:ln w="12600">
            <a:solidFill>
              <a:srgbClr val="c0504d"/>
            </a:solidFill>
            <a:round/>
          </a:ln>
          <a:effectLst>
            <a:outerShdw dist="28496" dir="3825519" blurRad="0" rotWithShape="0">
              <a:srgbClr val="622423"/>
            </a:outerShdw>
          </a:effectLst>
        </p:spPr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Arial"/>
              </a:rPr>
              <a:t>ثانيا: حاسة السمع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مربع نص 3"/>
          <p:cNvSpPr/>
          <p:nvPr/>
        </p:nvSpPr>
        <p:spPr>
          <a:xfrm>
            <a:off x="179280" y="2637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الإحساس السمعي يتوقف على خصائص الموجات الصوتية الصادرة عن الأشياء والتي تتمثل فيما يلي :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حدة أو درجة الصوت 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كثافة الصوت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إيقاع الصو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07920"/>
            <a:ext cx="8218440" cy="37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تقسم المستقبلات الحسية الموجودة في الجلد إلى:</a:t>
            </a:r>
            <a:br>
              <a:rPr sz="2800"/>
            </a:b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. 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الخلايا الحسية التي تستجيب لتغير درجة الحرارة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حسية التي تستجيب إلى مثيرات تسبب الالم والضيق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تي تستجيب للضغط والاهتزازات.</a:t>
            </a:r>
            <a:br>
              <a:rPr sz="28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ثالثا: حاسة اللمس وال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18:45Z</dcterms:created>
  <dc:creator>ACER</dc:creator>
  <dc:description/>
  <dc:language>en-US</dc:language>
  <cp:lastModifiedBy>Amer</cp:lastModifiedBy>
  <dcterms:modified xsi:type="dcterms:W3CDTF">2010-10-22T13:20:18Z</dcterms:modified>
  <cp:revision>112</cp:revision>
  <dc:subject/>
  <dc:title>الشريحة 1</dc:title>
</cp:coreProperties>
</file>