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841F-90B4-431C-938E-1598D6B13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2284-9C89-4617-B830-F76D3D8BB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D042-3FC7-4157-91D1-59BD1FBE0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95AB-46D6-4C20-A01E-A329D4BBF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385F-5FC4-4620-9D48-ADA65877E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15F0-D090-48D3-96D9-395FB077D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27B2-29FD-4F28-A809-34DDFE5AF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394E-9AF0-4400-8071-6523F9C93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CD16-1F30-4E05-B5B4-DA84B42F2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E39D-9887-40FB-95D7-CBD4385C1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59FF-9058-468F-8468-A5ACF377D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FD1D-A5B7-4FB9-9DA5-B9DDC80C7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CEE7-223A-4FD0-B8F2-C1789C094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BE78-5F72-499A-9492-22870F059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7CEA-BEC7-4334-8964-C2C71848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C5F3-5D8D-456F-9687-8DF72E97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633B-79C9-447D-8DAD-88AF3DEEC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F6BD-B71B-4F5B-9CD7-444177D24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94AA-EAC7-40BD-A492-04943121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C4FC-A2FB-49D8-BB79-8B4DDE05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C79-7281-44D7-AE48-36A8EB33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5C9-BD75-4B8A-AF2D-CA008110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FFD-0CF2-49E4-9691-9B38FAA6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67F-446B-4218-8BD6-B494768B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ABC0-5F0D-4FE7-8739-259FA4B3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F510-D5A5-4385-8E63-29BC32EC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5F0F-1B97-4E02-AE33-7F00CBC1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4335-B45A-41AC-AC8C-E37246F3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EDFF-274F-4B3D-B480-36749E9D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71BF-7CC6-4E35-905E-9933EF4D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0A25-FB85-4E38-B026-444544BF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24A-97AA-44F6-9191-FC670DED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D828-3766-44AD-87BD-F3BAD72D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4B7F-56BA-4C76-ADFC-24B614C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676F-4422-40E9-9DAC-246DAEB0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D32B-4919-4C0B-94C4-4B547F4D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BC94-C2EA-4793-ADCE-E3FA7304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66A7E-344C-4125-9B57-DE6F9252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3DD0E-D6FA-4FE2-B412-9EA1F457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BE408-7AFA-4E6B-9AA5-F7BA910D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243F8-9C0E-4BFE-9839-A14C6AEA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8091F-A101-41AE-AD91-F99316F6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D5D-BF21-4A80-ADAA-286F9F76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0632E-3034-454F-8166-5B9EC849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26525-1E9F-4E4C-8277-27DF5AB7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FE17A-057E-4EE3-93C5-F2F73AD5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F853F-345E-43A2-AB11-BC3F565E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E59D4-839C-40B8-B174-07C3BC4C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A1BE5-FBE4-4BC4-BB1A-1B57F022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987E9-85F9-44C0-A00D-ACBC77BD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3507E-4515-44C8-9726-7597D521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9288-4724-4064-8F20-145CBE25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133D-3B5A-47F3-AFD9-DC886408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45E-D6BC-4D89-AFFF-C90DE6A9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6142-AFBD-4869-9213-2A1470B2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A4A6-63FB-48EF-9E78-94B95A38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35881-FD7A-4C90-BEBC-D0314EC2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28417-7ADF-4A39-9684-309DAC69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9351-2478-4914-9DDA-57381692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1675-2CA6-41F6-B8C2-832B337A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AAA2-48EC-459A-A32B-93897885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75A8B-DC8D-49FF-8641-397E0217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68CAC-0E2A-465A-96BF-783D3AE8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61D-55BB-4D9F-A116-9BFCEC7E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47D-E688-41FF-BB32-5702F419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B4D-45D7-443B-A3E5-01C154E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CC1-1723-40D9-AD70-6DA3722D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BA6-3633-4402-A129-2D96B074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DDE0-7B5F-43B7-B958-A04CD65506A6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F628-625A-4A36-8A8D-72C57129B84C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670B-05C3-4BA0-B350-71806159E5E5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49D9-40EB-4D73-881E-454B80DC8676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صورة 1" descr="لللعرض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424456"/>
                </a:solidFill>
                <a:latin typeface="Arial Rounded MT Bold"/>
                <a:cs typeface="DecoType Naskh Extensions"/>
              </a:rPr>
              <a:t>بسم الله الرحمن الرحيم</a:t>
            </a:r>
            <a:endParaRPr b="0" lang="en-US" sz="8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رابعا: حاسة الذو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خامسا: حاسة ال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رسم تخطيطي 3" descr=""/>
          <p:cNvPicPr/>
          <p:nvPr/>
        </p:nvPicPr>
        <p:blipFill>
          <a:blip r:embed="rId1"/>
          <a:stretch/>
        </p:blipFill>
        <p:spPr>
          <a:xfrm>
            <a:off x="274680" y="1390680"/>
            <a:ext cx="84056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"/>
          <p:cNvSpPr/>
          <p:nvPr/>
        </p:nvSpPr>
        <p:spPr>
          <a:xfrm>
            <a:off x="800280" y="857160"/>
            <a:ext cx="7843680" cy="557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عملية التوصيل العصبي : ه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>
            <a:off x="1619280" y="628560"/>
            <a:ext cx="6738840" cy="3808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نتباه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هو عملية توجيه وتركيز الشعور على الإحساسات الناتجة بفعل مثيرات خارجية موجودة في المجال الرئيسي الإدراكي للفرد, أو المثيرات الداخلية التي تحدث داخل الف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AutoShape 1"/>
          <p:cNvGrpSpPr/>
          <p:nvPr/>
        </p:nvGrpSpPr>
        <p:grpSpPr>
          <a:xfrm>
            <a:off x="5479920" y="835200"/>
            <a:ext cx="3090960" cy="1049040"/>
            <a:chOff x="5479920" y="835200"/>
            <a:chExt cx="3090960" cy="1049040"/>
          </a:xfrm>
        </p:grpSpPr>
        <p:pic>
          <p:nvPicPr>
            <p:cNvPr id="293" name="AutoShape 1" descr=""/>
            <p:cNvPicPr/>
            <p:nvPr/>
          </p:nvPicPr>
          <p:blipFill>
            <a:blip r:embed="rId1"/>
            <a:stretch/>
          </p:blipFill>
          <p:spPr>
            <a:xfrm>
              <a:off x="5479920" y="835200"/>
              <a:ext cx="30909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572080" y="928800"/>
              <a:ext cx="29005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40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نواع الانتبا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رسم تخطيطي 3" descr=""/>
          <p:cNvPicPr/>
          <p:nvPr/>
        </p:nvPicPr>
        <p:blipFill>
          <a:blip r:embed="rId2"/>
          <a:stretch/>
        </p:blipFill>
        <p:spPr>
          <a:xfrm>
            <a:off x="1743120" y="2127240"/>
            <a:ext cx="7119720" cy="4468680"/>
          </a:xfrm>
          <a:prstGeom prst="rect">
            <a:avLst/>
          </a:prstGeom>
          <a:ln w="0">
            <a:noFill/>
          </a:ln>
        </p:spPr>
      </p:pic>
      <p:pic>
        <p:nvPicPr>
          <p:cNvPr id="297" name="رسم تخطيطي 6" descr=""/>
          <p:cNvPicPr/>
          <p:nvPr/>
        </p:nvPicPr>
        <p:blipFill>
          <a:blip r:embed="rId3"/>
          <a:stretch/>
        </p:blipFill>
        <p:spPr>
          <a:xfrm>
            <a:off x="5278320" y="5778360"/>
            <a:ext cx="2762280" cy="414360"/>
          </a:xfrm>
          <a:prstGeom prst="rect">
            <a:avLst/>
          </a:prstGeom>
          <a:ln w="0">
            <a:noFill/>
          </a:ln>
        </p:spPr>
      </p:pic>
      <p:sp>
        <p:nvSpPr>
          <p:cNvPr id="298" name="سهم إلى اليمين 7"/>
          <p:cNvSpPr/>
          <p:nvPr/>
        </p:nvSpPr>
        <p:spPr>
          <a:xfrm rot="6451200">
            <a:off x="7660440" y="5201280"/>
            <a:ext cx="696600" cy="84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AutoShape 1"/>
          <p:cNvGrpSpPr/>
          <p:nvPr/>
        </p:nvGrpSpPr>
        <p:grpSpPr>
          <a:xfrm>
            <a:off x="3486240" y="841320"/>
            <a:ext cx="5261040" cy="890640"/>
            <a:chOff x="3486240" y="841320"/>
            <a:chExt cx="5261040" cy="890640"/>
          </a:xfrm>
        </p:grpSpPr>
        <p:pic>
          <p:nvPicPr>
            <p:cNvPr id="300" name="AutoShape 1" descr=""/>
            <p:cNvPicPr/>
            <p:nvPr/>
          </p:nvPicPr>
          <p:blipFill>
            <a:blip r:embed="rId1"/>
            <a:stretch/>
          </p:blipFill>
          <p:spPr>
            <a:xfrm>
              <a:off x="3486240" y="841320"/>
              <a:ext cx="52610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656160" y="1012680"/>
              <a:ext cx="4922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3200" spc="-1" strike="noStrike">
                  <a:solidFill>
                    <a:srgbClr val="000000"/>
                  </a:solidFill>
                  <a:latin typeface="Arial"/>
                </a:rPr>
                <a:t>نظريات الانتبا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 نظريات الانتباه أحادية القناة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توزيع المرن للانتباه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مصادر المتعددة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أولا: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موضوعية الخارجية المرتبطة ب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كاللون والشكل والحجم والشدة والموقع بالنسبة للخلف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باين أو التغاير في شدة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ق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جدة والحداثة والتغير في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جم والش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لو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ثانيا: العوامل الذاتية المرتبطة بالمثير بالشخص او الف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لة الانفعالية والمزاجية التي يمر فيها 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جات والدوافع الشخص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ع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خارجية الماد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اجتماع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10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657520" y="1989000"/>
            <a:ext cx="371484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3462480" y="3429000"/>
            <a:ext cx="50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38086"/>
                </a:solidFill>
                <a:latin typeface="Georgia"/>
                <a:cs typeface="PT Bold Heading"/>
              </a:rPr>
              <a:t>تم بحمد الله وفضله،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15565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571680" y="1500120"/>
            <a:ext cx="5400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صورة 2" descr="شعار الجامعة.jpg"/>
          <p:cNvPicPr/>
          <p:nvPr/>
        </p:nvPicPr>
        <p:blipFill>
          <a:blip r:embed="rId1"/>
          <a:stretch/>
        </p:blipFill>
        <p:spPr>
          <a:xfrm>
            <a:off x="4425840" y="420840"/>
            <a:ext cx="944640" cy="9381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3571920" y="1500120"/>
            <a:ext cx="2609640" cy="1285920"/>
          </a:xfrm>
          <a:prstGeom prst="rect">
            <a:avLst/>
          </a:prstGeom>
          <a:solidFill>
            <a:srgbClr val="dbdbe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مملكة العربية السعود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كلية التربية- قسم </a:t>
            </a:r>
            <a:r>
              <a:rPr b="1" lang="ar-JO" sz="1200" spc="-1" strike="noStrike">
                <a:solidFill>
                  <a:srgbClr val="000000"/>
                </a:solidFill>
                <a:latin typeface="Arial"/>
              </a:rPr>
              <a:t>علم النف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63640" y="3357720"/>
          <a:ext cx="5880240" cy="2280960"/>
        </p:xfrm>
        <a:graphic>
          <a:graphicData uri="http://schemas.openxmlformats.org/drawingml/2006/table">
            <a:tbl>
              <a:tblPr/>
              <a:tblGrid>
                <a:gridCol w="5880240"/>
              </a:tblGrid>
              <a:tr h="101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cs typeface="Times New Roman"/>
                        </a:rPr>
                        <a:t>الإحساس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ensation</a:t>
                      </a: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3"/>
          <p:cNvGrpSpPr/>
          <p:nvPr/>
        </p:nvGrpSpPr>
        <p:grpSpPr>
          <a:xfrm>
            <a:off x="-1440" y="0"/>
            <a:ext cx="1715760" cy="6832080"/>
            <a:chOff x="-1440" y="0"/>
            <a:chExt cx="1715760" cy="6832080"/>
          </a:xfrm>
        </p:grpSpPr>
        <p:grpSp>
          <p:nvGrpSpPr>
            <p:cNvPr id="228" name="Group 4"/>
            <p:cNvGrpSpPr/>
            <p:nvPr/>
          </p:nvGrpSpPr>
          <p:grpSpPr>
            <a:xfrm>
              <a:off x="-1440" y="281520"/>
              <a:ext cx="1501200" cy="3794760"/>
              <a:chOff x="-1440" y="281520"/>
              <a:chExt cx="1501200" cy="3794760"/>
            </a:xfrm>
          </p:grpSpPr>
          <p:sp>
            <p:nvSpPr>
              <p:cNvPr id="229" name="Rectangle 5"/>
              <p:cNvSpPr/>
              <p:nvPr/>
            </p:nvSpPr>
            <p:spPr>
              <a:xfrm>
                <a:off x="-1440" y="717840"/>
                <a:ext cx="1101240" cy="3358440"/>
              </a:xfrm>
              <a:prstGeom prst="rect">
                <a:avLst/>
              </a:prstGeom>
              <a:solidFill>
                <a:srgbClr val="c2a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6"/>
              <p:cNvSpPr/>
              <p:nvPr/>
            </p:nvSpPr>
            <p:spPr>
              <a:xfrm>
                <a:off x="856440" y="281520"/>
                <a:ext cx="643320" cy="34275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7"/>
            <p:cNvGrpSpPr/>
            <p:nvPr/>
          </p:nvGrpSpPr>
          <p:grpSpPr>
            <a:xfrm>
              <a:off x="500760" y="3287160"/>
              <a:ext cx="1213560" cy="3544920"/>
              <a:chOff x="500760" y="3287160"/>
              <a:chExt cx="1213560" cy="3544920"/>
            </a:xfrm>
          </p:grpSpPr>
          <p:sp>
            <p:nvSpPr>
              <p:cNvPr id="232" name="Rectangle 8"/>
              <p:cNvSpPr/>
              <p:nvPr/>
            </p:nvSpPr>
            <p:spPr>
              <a:xfrm>
                <a:off x="500760" y="3841200"/>
                <a:ext cx="1062000" cy="29908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929160" y="3287160"/>
                <a:ext cx="785160" cy="2990880"/>
              </a:xfrm>
              <a:prstGeom prst="rect">
                <a:avLst/>
              </a:prstGeom>
              <a:gradFill rotWithShape="0">
                <a:gsLst>
                  <a:gs pos="0">
                    <a:srgbClr val="43808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Rectangle 10"/>
            <p:cNvSpPr/>
            <p:nvPr/>
          </p:nvSpPr>
          <p:spPr>
            <a:xfrm>
              <a:off x="213480" y="2955600"/>
              <a:ext cx="641520" cy="266472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855000" y="0"/>
              <a:ext cx="79200" cy="664272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400" spc="-1" strike="noStrike">
                <a:solidFill>
                  <a:srgbClr val="ff0000"/>
                </a:solidFill>
                <a:latin typeface="Trebuchet MS"/>
              </a:rPr>
              <a:t>طبيعة عملية الاحساس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785600" y="1571400"/>
            <a:ext cx="598644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70c0"/>
                </a:solidFill>
                <a:latin typeface="Georgia"/>
              </a:rPr>
              <a:t>  الحواس تنقل الانطباعات الحسية المختلفة عن المثيرات البيئية إلى المناطق المختصة في الجهاز العصبي ليتم إجراء المزيد من العمليات بهدف التفسير وإعطاء المعاني واتخاذ القرار.</a:t>
            </a:r>
            <a:r>
              <a:rPr b="0" lang="ar-SA" sz="4000" spc="-1" strike="noStrike">
                <a:solidFill>
                  <a:srgbClr val="0070c0"/>
                </a:solidFill>
                <a:latin typeface="Georgia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إي انه العملية الحيوية التي يتم من خلالها استقبال المعلومات عن العالم الخارجي عبر الحواس لتمكننا من فهم المثيرات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كما انه أداة التعلم وبدونها يصبح الدماغ عديم النفع, ولن يكون هناك تفكير أو سيطرة على السلو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41280" y="963720"/>
            <a:ext cx="835812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مجموعة 99"/>
          <p:cNvGrpSpPr/>
          <p:nvPr/>
        </p:nvGrpSpPr>
        <p:grpSpPr>
          <a:xfrm>
            <a:off x="0" y="549360"/>
            <a:ext cx="9144000" cy="6152400"/>
            <a:chOff x="0" y="549360"/>
            <a:chExt cx="9144000" cy="6152400"/>
          </a:xfrm>
        </p:grpSpPr>
        <p:sp>
          <p:nvSpPr>
            <p:cNvPr id="241" name="رابط مستقيم 76"/>
            <p:cNvSpPr/>
            <p:nvPr/>
          </p:nvSpPr>
          <p:spPr>
            <a:xfrm flipH="1">
              <a:off x="4247640" y="1856520"/>
              <a:ext cx="107640" cy="4845240"/>
            </a:xfrm>
            <a:prstGeom prst="line">
              <a:avLst/>
            </a:prstGeom>
            <a:ln w="936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مجموعة 97"/>
            <p:cNvGrpSpPr/>
            <p:nvPr/>
          </p:nvGrpSpPr>
          <p:grpSpPr>
            <a:xfrm>
              <a:off x="0" y="549360"/>
              <a:ext cx="9144000" cy="6142320"/>
              <a:chOff x="0" y="549360"/>
              <a:chExt cx="9144000" cy="6142320"/>
            </a:xfrm>
          </p:grpSpPr>
          <p:sp>
            <p:nvSpPr>
              <p:cNvPr id="243" name="مخطط انسيابي: معالجة متعاقبة 8"/>
              <p:cNvSpPr/>
              <p:nvPr/>
            </p:nvSpPr>
            <p:spPr>
              <a:xfrm>
                <a:off x="3321000" y="549360"/>
                <a:ext cx="2716200" cy="785880"/>
              </a:xfrm>
              <a:prstGeom prst="flowChartAlternateProcess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400" spc="-1" strike="noStrike">
                    <a:solidFill>
                      <a:srgbClr val="ffffff"/>
                    </a:solidFill>
                    <a:latin typeface="Georgia"/>
                  </a:rPr>
                  <a:t>الإحسا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شكل بيضاوي 9"/>
              <p:cNvSpPr/>
              <p:nvPr/>
            </p:nvSpPr>
            <p:spPr>
              <a:xfrm>
                <a:off x="6659640" y="1246320"/>
                <a:ext cx="2092320" cy="660240"/>
              </a:xfrm>
              <a:prstGeom prst="ellipse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أنواع الإحساس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شكل بيضاوي 10"/>
              <p:cNvSpPr/>
              <p:nvPr/>
            </p:nvSpPr>
            <p:spPr>
              <a:xfrm>
                <a:off x="1979640" y="1628640"/>
                <a:ext cx="2232000" cy="62532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صائص العضو الحس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مخطط انسيابي: معالجة 11"/>
              <p:cNvSpPr/>
              <p:nvPr/>
            </p:nvSpPr>
            <p:spPr>
              <a:xfrm>
                <a:off x="8215560" y="2549520"/>
                <a:ext cx="92844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عام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مخطط انسيابي: معالجة 12"/>
              <p:cNvSpPr/>
              <p:nvPr/>
            </p:nvSpPr>
            <p:spPr>
              <a:xfrm>
                <a:off x="6715080" y="2549520"/>
                <a:ext cx="102528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خاص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مخطط انسيابي: معالجة 13"/>
              <p:cNvSpPr/>
              <p:nvPr/>
            </p:nvSpPr>
            <p:spPr>
              <a:xfrm>
                <a:off x="5143680" y="2621160"/>
                <a:ext cx="941400" cy="106992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خارجي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مخطط انسيابي: معالجة 14"/>
              <p:cNvSpPr/>
              <p:nvPr/>
            </p:nvSpPr>
            <p:spPr>
              <a:xfrm>
                <a:off x="307188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نتق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مخطط انسيابي: معالجة 15"/>
              <p:cNvSpPr/>
              <p:nvPr/>
            </p:nvSpPr>
            <p:spPr>
              <a:xfrm>
                <a:off x="164304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حسا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مخطط انسيابي: معالجة 16"/>
              <p:cNvSpPr/>
              <p:nvPr/>
            </p:nvSpPr>
            <p:spPr>
              <a:xfrm>
                <a:off x="35712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تدر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مخطط انسيابي: رابط 25"/>
              <p:cNvSpPr/>
              <p:nvPr/>
            </p:nvSpPr>
            <p:spPr>
              <a:xfrm rot="21448800">
                <a:off x="6228000" y="4182840"/>
                <a:ext cx="1674720" cy="133344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 بالجهاز العضلي للجسم كالحركة والتواز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مخطط انسيابي: رابط 26"/>
              <p:cNvSpPr/>
              <p:nvPr/>
            </p:nvSpPr>
            <p:spPr>
              <a:xfrm>
                <a:off x="4643280" y="3834000"/>
                <a:ext cx="1500120" cy="110628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مثيرات البيئية التي تستقبل من الحوا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مخطط انسيابي: معالجة متعاقبة 31"/>
              <p:cNvSpPr/>
              <p:nvPr/>
            </p:nvSpPr>
            <p:spPr>
              <a:xfrm>
                <a:off x="4427640" y="5013720"/>
                <a:ext cx="1143000" cy="40464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نبه او مثي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مخطط انسيابي: معالجة متعاقبة 32"/>
              <p:cNvSpPr/>
              <p:nvPr/>
            </p:nvSpPr>
            <p:spPr>
              <a:xfrm>
                <a:off x="4427640" y="5637600"/>
                <a:ext cx="135720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لخلايا المستقبلة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مخطط انسيابي: معالجة متعاقبة 33"/>
              <p:cNvSpPr/>
              <p:nvPr/>
            </p:nvSpPr>
            <p:spPr>
              <a:xfrm>
                <a:off x="4284720" y="6263280"/>
                <a:ext cx="214452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تنبيه في المراكز الحسية الدماغي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مخطط انسيابي: معالجة متعاقبة 35"/>
              <p:cNvSpPr/>
              <p:nvPr/>
            </p:nvSpPr>
            <p:spPr>
              <a:xfrm>
                <a:off x="0" y="5156640"/>
                <a:ext cx="4211640" cy="1152360"/>
              </a:xfrm>
              <a:prstGeom prst="flowChartAlternateProcess">
                <a:avLst/>
              </a:prstGeom>
              <a:solidFill>
                <a:srgbClr val="ffc00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عتبة الفارقة: تمثل الحد الأدنى والأقصى لشدة المثير الذي يمكن أن تتأثر به أعضاء الحس   المختلفة وهي في حالة الإبصار تتراوح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9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76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ملليميكرون اما في حالة السمع فالموجات التي يمكن التحكم بها تتراوخ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0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ذبذبة في الثانية</a:t>
                </a:r>
                <a:r>
                  <a:rPr b="1" lang="ar-JO" sz="1000" spc="-1" strike="noStrike">
                    <a:solidFill>
                      <a:srgbClr val="000000"/>
                    </a:solidFill>
                    <a:latin typeface="Georgia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مخطط انسيابي: معالجة 36"/>
              <p:cNvSpPr/>
              <p:nvPr/>
            </p:nvSpPr>
            <p:spPr>
              <a:xfrm>
                <a:off x="7956720" y="4293000"/>
                <a:ext cx="1187280" cy="1800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بالعمليات الداخلية إي تغير الحالة الكيميائية:كالجوع والعط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رابط كسهم مستقيم 39"/>
              <p:cNvCxnSpPr>
                <a:endCxn id="245" idx="0"/>
              </p:cNvCxnSpPr>
              <p:nvPr/>
            </p:nvCxnSpPr>
            <p:spPr>
              <a:xfrm flipH="1">
                <a:off x="3094920" y="1387800"/>
                <a:ext cx="540360" cy="24012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0" name="رابط كسهم مستقيم 41"/>
              <p:cNvCxnSpPr>
                <a:stCxn id="243" idx="3"/>
                <a:endCxn id="244" idx="0"/>
              </p:cNvCxnSpPr>
              <p:nvPr/>
            </p:nvCxnSpPr>
            <p:spPr>
              <a:xfrm>
                <a:off x="6037200" y="941400"/>
                <a:ext cx="1668960" cy="305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1" name="رابط كسهم مستقيم 43"/>
              <p:cNvCxnSpPr/>
              <p:nvPr/>
            </p:nvCxnSpPr>
            <p:spPr>
              <a:xfrm>
                <a:off x="8172720" y="1893600"/>
                <a:ext cx="721440" cy="64836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2" name="رابط كسهم مستقيم 45"/>
              <p:cNvCxnSpPr/>
              <p:nvPr/>
            </p:nvCxnSpPr>
            <p:spPr>
              <a:xfrm flipH="1">
                <a:off x="7071840" y="1893600"/>
                <a:ext cx="379800" cy="656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3" name="رابط كسهم مستقيم 47"/>
              <p:cNvCxnSpPr>
                <a:endCxn id="248" idx="0"/>
              </p:cNvCxnSpPr>
              <p:nvPr/>
            </p:nvCxnSpPr>
            <p:spPr>
              <a:xfrm flipH="1">
                <a:off x="5613120" y="1822320"/>
                <a:ext cx="1551600" cy="799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4" name="رابط كسهم مستقيم 50"/>
              <p:cNvCxnSpPr>
                <a:stCxn id="245" idx="4"/>
                <a:endCxn id="250" idx="0"/>
              </p:cNvCxnSpPr>
              <p:nvPr/>
            </p:nvCxnSpPr>
            <p:spPr>
              <a:xfrm flipH="1">
                <a:off x="2035800" y="2254320"/>
                <a:ext cx="105948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5" name="رابط كسهم مستقيم 52"/>
              <p:cNvCxnSpPr>
                <a:stCxn id="245" idx="4"/>
                <a:endCxn id="251" idx="0"/>
              </p:cNvCxnSpPr>
              <p:nvPr/>
            </p:nvCxnSpPr>
            <p:spPr>
              <a:xfrm flipH="1">
                <a:off x="750240" y="2254320"/>
                <a:ext cx="234504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6" name="رابط كسهم مستقيم 54"/>
              <p:cNvCxnSpPr>
                <a:stCxn id="245" idx="4"/>
                <a:endCxn id="249" idx="0"/>
              </p:cNvCxnSpPr>
              <p:nvPr/>
            </p:nvCxnSpPr>
            <p:spPr>
              <a:xfrm>
                <a:off x="3094560" y="2254320"/>
                <a:ext cx="36900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7" name="رابط كسهم مستقيم 58"/>
              <p:cNvCxnSpPr>
                <a:stCxn id="247" idx="2"/>
                <a:endCxn id="252" idx="0"/>
              </p:cNvCxnSpPr>
              <p:nvPr/>
            </p:nvCxnSpPr>
            <p:spPr>
              <a:xfrm flipH="1">
                <a:off x="7035120" y="3620880"/>
                <a:ext cx="192600" cy="5626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8" name="رابط كسهم مستقيم 61"/>
              <p:cNvCxnSpPr>
                <a:stCxn id="248" idx="2"/>
                <a:endCxn id="253" idx="0"/>
              </p:cNvCxnSpPr>
              <p:nvPr/>
            </p:nvCxnSpPr>
            <p:spPr>
              <a:xfrm flipH="1">
                <a:off x="5393880" y="3691080"/>
                <a:ext cx="219600" cy="143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sp>
            <p:nvSpPr>
              <p:cNvPr id="269" name="رابط مستقيم 69"/>
              <p:cNvSpPr/>
              <p:nvPr/>
            </p:nvSpPr>
            <p:spPr>
              <a:xfrm>
                <a:off x="8217000" y="3621240"/>
                <a:ext cx="26640" cy="6714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رابط مستقيم 72"/>
              <p:cNvSpPr/>
              <p:nvPr/>
            </p:nvSpPr>
            <p:spPr>
              <a:xfrm flipH="1">
                <a:off x="7956720" y="4691520"/>
                <a:ext cx="258480" cy="50148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رابط مستقيم 74"/>
              <p:cNvSpPr/>
              <p:nvPr/>
            </p:nvSpPr>
            <p:spPr>
              <a:xfrm>
                <a:off x="8215560" y="6191640"/>
                <a:ext cx="142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رابط مستقيم 78"/>
              <p:cNvSpPr/>
              <p:nvPr/>
            </p:nvSpPr>
            <p:spPr>
              <a:xfrm>
                <a:off x="4284720" y="5204160"/>
                <a:ext cx="142560" cy="108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رابط مستقيم 80"/>
              <p:cNvSpPr/>
              <p:nvPr/>
            </p:nvSpPr>
            <p:spPr>
              <a:xfrm>
                <a:off x="4284720" y="5852160"/>
                <a:ext cx="142560" cy="144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رابط مستقيم 82"/>
              <p:cNvSpPr/>
              <p:nvPr/>
            </p:nvSpPr>
            <p:spPr>
              <a:xfrm flipH="1">
                <a:off x="4284720" y="6477480"/>
                <a:ext cx="358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شكل بيضاوي 53"/>
              <p:cNvSpPr/>
              <p:nvPr/>
            </p:nvSpPr>
            <p:spPr>
              <a:xfrm>
                <a:off x="4356000" y="1604880"/>
                <a:ext cx="2232000" cy="50472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طوات الإحسا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76" name="رابط كسهم مستقيم 87"/>
          <p:cNvCxnSpPr>
            <a:stCxn id="243" idx="2"/>
            <a:endCxn id="275" idx="0"/>
          </p:cNvCxnSpPr>
          <p:nvPr/>
        </p:nvCxnSpPr>
        <p:spPr>
          <a:xfrm>
            <a:off x="4680000" y="1334880"/>
            <a:ext cx="792720" cy="27036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7" name="شكل بيضاوي 116"/>
          <p:cNvSpPr/>
          <p:nvPr/>
        </p:nvSpPr>
        <p:spPr>
          <a:xfrm>
            <a:off x="0" y="1052640"/>
            <a:ext cx="2232000" cy="77760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Georgia"/>
              </a:rPr>
              <a:t>عتبة الإحسا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رابط كسهم مستقيم 119"/>
          <p:cNvCxnSpPr/>
          <p:nvPr/>
        </p:nvCxnSpPr>
        <p:spPr>
          <a:xfrm flipH="1">
            <a:off x="178560" y="1701720"/>
            <a:ext cx="2520" cy="244872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9" name="مخطط انسيابي: رابط 123"/>
          <p:cNvSpPr/>
          <p:nvPr/>
        </p:nvSpPr>
        <p:spPr>
          <a:xfrm>
            <a:off x="179280" y="3716280"/>
            <a:ext cx="2160720" cy="1300320"/>
          </a:xfrm>
          <a:prstGeom prst="flowChartConnector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Georgia"/>
              </a:rPr>
              <a:t>هي الحد الأدنى من الشدة التي يمتاز بها مثير معين بحيث يمكن التأثر به من قبل عضو الح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1"/>
          <p:cNvSpPr/>
          <p:nvPr/>
        </p:nvSpPr>
        <p:spPr>
          <a:xfrm>
            <a:off x="3786120" y="642960"/>
            <a:ext cx="5010120" cy="787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واس الخار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000"/>
            </a:br>
            <a:br>
              <a:rPr sz="2900"/>
            </a:br>
            <a:br>
              <a:rPr sz="2900"/>
            </a:br>
            <a:endParaRPr b="0" lang="en-US" sz="2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AutoShape 1"/>
          <p:cNvSpPr/>
          <p:nvPr/>
        </p:nvSpPr>
        <p:spPr>
          <a:xfrm>
            <a:off x="3924360" y="1844640"/>
            <a:ext cx="4968720" cy="7873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 u="sng">
                <a:solidFill>
                  <a:srgbClr val="ffff00"/>
                </a:solidFill>
                <a:uFillTx/>
                <a:latin typeface="comic"/>
                <a:cs typeface="Andalus"/>
              </a:rPr>
              <a:t>اولا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Calibri"/>
                <a:ea typeface="Andalus"/>
              </a:rPr>
              <a:t>:</a:t>
            </a:r>
            <a:r>
              <a:rPr b="1" lang="ar-JO" sz="2400" spc="-1" strike="noStrike" u="sng">
                <a:solidFill>
                  <a:srgbClr val="ffff00"/>
                </a:solidFill>
                <a:uFillTx/>
                <a:latin typeface="Calibri"/>
                <a:cs typeface="Andalus"/>
              </a:rPr>
              <a:t>حاسة البصر</a:t>
            </a:r>
            <a:r>
              <a:rPr b="1" lang="ar-SA" sz="1800" spc="-1" strike="noStrike" u="sng">
                <a:solidFill>
                  <a:srgbClr val="1f497d"/>
                </a:solidFill>
                <a:uFillTx/>
                <a:latin typeface="Calibri"/>
                <a:ea typeface="Andalu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90760" y="1276560"/>
            <a:ext cx="7962480" cy="802800"/>
          </a:xfrm>
          <a:prstGeom prst="rect">
            <a:avLst/>
          </a:prstGeom>
          <a:solidFill>
            <a:srgbClr val="002060"/>
          </a:solidFill>
          <a:ln w="12600">
            <a:solidFill>
              <a:srgbClr val="c0504d"/>
            </a:solidFill>
            <a:round/>
          </a:ln>
          <a:effectLst>
            <a:outerShdw dist="28496" dir="3825519" blurRad="0" rotWithShape="0">
              <a:srgbClr val="622423"/>
            </a:outerShdw>
          </a:effectLst>
        </p:spPr>
        <p:txBody>
          <a:bodyPr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Arial"/>
              </a:rPr>
              <a:t>ثانيا: حاسة السمع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مربع نص 3"/>
          <p:cNvSpPr/>
          <p:nvPr/>
        </p:nvSpPr>
        <p:spPr>
          <a:xfrm>
            <a:off x="179280" y="263700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الإحساس السمعي يتوقف على خصائص الموجات الصوتية الصادرة عن الأشياء والتي تتمثل فيما يلي :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حدة أو درجة الصوت 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كثافة الصوت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إيقاع الصو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07920"/>
            <a:ext cx="8218440" cy="37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تقسم المستقبلات الحسية الموجودة في الجلد إلى:</a:t>
            </a:r>
            <a:br>
              <a:rPr sz="2800"/>
            </a:b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. 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الخلايا الحسية التي تستجيب لتغير درجة الحرارة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حسية التي تستجيب إلى مثيرات تسبب الالم والضيق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تي تستجيب للضغط والاهتزازات.</a:t>
            </a:r>
            <a:br>
              <a:rPr sz="28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ثالثا: حاسة اللمس والال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3:18:45Z</dcterms:created>
  <dc:creator>ACER</dc:creator>
  <dc:description/>
  <dc:language>en-US</dc:language>
  <cp:lastModifiedBy>Amer</cp:lastModifiedBy>
  <dcterms:modified xsi:type="dcterms:W3CDTF">2010-10-22T13:20:18Z</dcterms:modified>
  <cp:revision>112</cp:revision>
  <dc:subject/>
  <dc:title>الشريحة 1</dc:title>
</cp:coreProperties>
</file>