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331F5-31F8-4249-85B9-88B9CF6A8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9A575-B5CC-4F44-BCB9-1DC78E999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EED7F-8384-498F-8FA7-7ADFEA10C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EEBA9-28EA-4325-A8E8-C19B254D0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48254-D569-4062-B44C-66E336945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CE123-06FB-43E6-A508-F561288C2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720F3-02B6-493E-ACB0-43A39EC2A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1ABD2-25E8-4E4E-AD0C-21860BF90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96C11-BBA9-481E-A33F-FB4EC38FF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88E45-3845-478D-A16F-D5D5CB9A6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ECB99-32EE-4A22-8B5C-41C1C49EC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1F884-4C05-4EC9-BB6D-24EFD1BB9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69C45-9405-4B8C-B1AA-677A22957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1B2B1-C712-4408-BACC-5EB6F21B4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BCA12-36D8-439E-8E72-C220BE59B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2ED2F-57A9-41A1-B348-680D6CEB6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F2AF0-A3E4-499C-BA5C-E19EF6C12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6B595-561E-4564-B402-1485A1672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54F7F-1DBB-4B5B-B96D-01D702633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8441F-633F-4B98-A58F-49DF1B611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AEA70-F598-4C32-B962-B66CD61A5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7A964-CB60-4492-90AF-813B2E9C7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DBADE-95E2-4803-AF97-7B9959E24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44023-A9DD-433B-8640-CB842C324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7965-46A0-4BC3-87C0-A7D06216A92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242A-0467-4A66-8E81-B3585864D4F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260280"/>
            <a:ext cx="7772400" cy="1224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Verdana"/>
              </a:rPr>
              <a:t>مهارة التصنيف</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03280" y="2684520"/>
            <a:ext cx="6400800" cy="3673440"/>
          </a:xfrm>
          <a:prstGeom prst="rect">
            <a:avLst/>
          </a:prstGeom>
          <a:noFill/>
          <a:ln w="0">
            <a:noFill/>
          </a:ln>
        </p:spPr>
        <p:txBody>
          <a:bodyPr anchor="t">
            <a:noAutofit/>
          </a:bodyPr>
          <a:p>
            <a:pPr lvl="1" marL="457200" indent="0" algn="ct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cs typeface="Arial"/>
              </a:rPr>
              <a:t>تعريف التصنيف (هو القدرة على تجميع الاشياء التي لها نفس الخصائص في مجموعة واحدة ).</a:t>
            </a:r>
            <a:endParaRPr b="0" lang="en-US" sz="2200" spc="-1" strike="noStrike">
              <a:solidFill>
                <a:srgbClr val="000000"/>
              </a:solidFill>
              <a:latin typeface="Verdana"/>
            </a:endParaRPr>
          </a:p>
          <a:p>
            <a:pPr lvl="1" marL="4572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ea typeface="Arial"/>
              </a:rPr>
              <a:t>- مهارة التصنيف تعتبر من أول المهارات التي يكتسبها العقل البشري.</a:t>
            </a:r>
            <a:endParaRPr b="0" lang="en-US" sz="2200" spc="-1" strike="noStrike">
              <a:solidFill>
                <a:srgbClr val="000000"/>
              </a:solidFill>
              <a:latin typeface="Verdana"/>
            </a:endParaRPr>
          </a:p>
          <a:p>
            <a:pPr lvl="1" marL="457200" indent="14400" algn="r" rtl="1">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cs typeface="Arial"/>
              </a:rPr>
              <a:t>تعد مهارة التصنيف الاساس الذي يبنى عليه  تعلم المفاهيم الرياضية اللاحقة .</a:t>
            </a:r>
            <a:endParaRPr b="0" lang="en-US" sz="2200" spc="-1" strike="noStrike">
              <a:solidFill>
                <a:srgbClr val="000000"/>
              </a:solidFill>
              <a:latin typeface="Verdana"/>
            </a:endParaRPr>
          </a:p>
          <a:p>
            <a:pPr lvl="1" marL="457200" indent="14400" algn="r" rtl="1">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cs typeface="Arial"/>
              </a:rPr>
              <a:t>تعد هذه المهارة احدى المكونات الاساسية للتفكير المنطقي </a:t>
            </a:r>
            <a:endParaRPr b="0" lang="en-US" sz="2200" spc="-1" strike="noStrike">
              <a:solidFill>
                <a:srgbClr val="000000"/>
              </a:solidFill>
              <a:latin typeface="Verdana"/>
            </a:endParaRPr>
          </a:p>
          <a:p>
            <a:pPr lvl="1" marL="45720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ea typeface="Arial"/>
              </a:rPr>
              <a:t>- يتضمن التصنيف القدرة على التمييز البصري، فالطفل بحاجة الى ان يميز بصرياً  الأشكال والأحجام والألوان حتى يتمكن من تصنيفها.</a:t>
            </a:r>
            <a:endParaRPr b="0" lang="en-US" sz="2200" spc="-1" strike="noStrike">
              <a:solidFill>
                <a:srgbClr val="000000"/>
              </a:solidFill>
              <a:latin typeface="Verdana"/>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يتضمن التصنيف القدرة على المقارنة بين الأشياء</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rPr>
              <a:t>التصنيف</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fontScale="90000"/>
          </a:bodyPr>
          <a:p>
            <a:pPr marL="422640" indent="-42264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البدء بالتصنيف بناء على خاصية واحدة مثل التعرف على الأشكال فقط بأنواعها وتصنيفاتها ثم الانتقال الى الألوان ثم الى الأحجام .</a:t>
            </a:r>
            <a:endParaRPr b="0" lang="en-US" sz="3000" spc="-1" strike="noStrike">
              <a:solidFill>
                <a:srgbClr val="000000"/>
              </a:solidFill>
              <a:latin typeface="Verdana"/>
            </a:endParaRPr>
          </a:p>
          <a:p>
            <a:pPr marL="422640" indent="-42264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بعد إتقان السابق نستطيع ان ننتقل الى التصنيف بناء على الاشتراك في خاصيتين  في آن واحد، مثل أخراج كل الدوائر الحمراء .</a:t>
            </a:r>
            <a:endParaRPr b="0" lang="en-US" sz="3000" spc="-1" strike="noStrike">
              <a:solidFill>
                <a:srgbClr val="000000"/>
              </a:solidFill>
              <a:latin typeface="Verdana"/>
            </a:endParaRPr>
          </a:p>
          <a:p>
            <a:pPr marL="422640" indent="-42264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يصل الطفل للمفاهيم الخاصة بالتصنيف كل حسب سرعته الخاصة في النمو.</a:t>
            </a:r>
            <a:endParaRPr b="0" lang="en-US" sz="3000" spc="-1" strike="noStrike">
              <a:solidFill>
                <a:srgbClr val="000000"/>
              </a:solidFill>
              <a:latin typeface="Verdana"/>
            </a:endParaRPr>
          </a:p>
        </p:txBody>
      </p:sp>
      <p:sp>
        <p:nvSpPr>
          <p:cNvPr id="89" name="Rectangle 5"/>
          <p:cNvSpPr/>
          <p:nvPr/>
        </p:nvSpPr>
        <p:spPr>
          <a:xfrm>
            <a:off x="684360" y="4436280"/>
            <a:ext cx="8064360" cy="368280"/>
          </a:xfrm>
          <a:prstGeom prst="rect">
            <a:avLst/>
          </a:prstGeom>
          <a:noFill/>
          <a:ln w="0">
            <a:noFill/>
          </a:ln>
        </p:spPr>
        <p:style>
          <a:lnRef idx="0"/>
          <a:fillRef idx="0"/>
          <a:effectRef idx="0"/>
          <a:fontRef idx="minor"/>
        </p:style>
        <p:txBody>
          <a:bodyPr lIns="90000" rIns="90000" tIns="46800" bIns="46800" anchor="ctr">
            <a:spAutoFit/>
          </a:bodyPr>
          <a:p>
            <a:pPr lvl="1" marL="457200" algn="r" rtl="1">
              <a:lnSpc>
                <a:spcPct val="100000"/>
              </a:lnSpc>
              <a:tabLst>
                <a:tab algn="l" pos="0"/>
                <a:tab algn="l" pos="35892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1" name="" descr=""/>
          <p:cNvPicPr/>
          <p:nvPr/>
        </p:nvPicPr>
        <p:blipFill>
          <a:blip r:embed="rId1"/>
          <a:stretch/>
        </p:blipFill>
        <p:spPr>
          <a:xfrm>
            <a:off x="566280" y="1752480"/>
            <a:ext cx="8001000" cy="4267440"/>
          </a:xfrm>
          <a:prstGeom prst="rect">
            <a:avLst/>
          </a:prstGeom>
          <a:ln w="0">
            <a:noFill/>
          </a:ln>
        </p:spPr>
      </p:pic>
      <p:pic>
        <p:nvPicPr>
          <p:cNvPr id="92" name="Picture 2" descr=""/>
          <p:cNvPicPr/>
          <p:nvPr/>
        </p:nvPicPr>
        <p:blipFill>
          <a:blip r:embed="rId2"/>
          <a:stretch/>
        </p:blipFill>
        <p:spPr>
          <a:xfrm>
            <a:off x="179280" y="0"/>
            <a:ext cx="8785440" cy="666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rPr>
              <a:t>الفرق بين التصنيف والتطابق </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التطابق ليس كالتصنيف فالتصنيف والتجميع يقوم بها الطفل باستخدام أشياء عديدة يجمعها بناء على الاشتراك في خاصية مثل اللون أو الشكل او الحجم، اما في التطابق يقوم الطفل باستخدام صورة وصورة أخرى طبق الأصل او أداة وأداة اخرى طبق الأصل او يوصل شكلين متطابقين.</a:t>
            </a:r>
            <a:endParaRPr b="0" lang="en-US" sz="3000" spc="-1" strike="noStrike">
              <a:solidFill>
                <a:srgbClr val="000000"/>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8" name="Picture 2" descr=""/>
          <p:cNvPicPr/>
          <p:nvPr/>
        </p:nvPicPr>
        <p:blipFill>
          <a:blip r:embed="rId1"/>
          <a:stretch/>
        </p:blipFill>
        <p:spPr>
          <a:xfrm>
            <a:off x="250920" y="-27000"/>
            <a:ext cx="8785080" cy="668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00" name="Picture 2" descr=""/>
          <p:cNvPicPr/>
          <p:nvPr/>
        </p:nvPicPr>
        <p:blipFill>
          <a:blip r:embed="rId1"/>
          <a:stretch/>
        </p:blipFill>
        <p:spPr>
          <a:xfrm>
            <a:off x="250920" y="0"/>
            <a:ext cx="86421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02" name="Picture 2" descr=""/>
          <p:cNvPicPr/>
          <p:nvPr/>
        </p:nvPicPr>
        <p:blipFill>
          <a:blip r:embed="rId1"/>
          <a:stretch/>
        </p:blipFill>
        <p:spPr>
          <a:xfrm>
            <a:off x="395280" y="333360"/>
            <a:ext cx="8497800" cy="626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04" name="Picture 2" descr=""/>
          <p:cNvPicPr/>
          <p:nvPr/>
        </p:nvPicPr>
        <p:blipFill>
          <a:blip r:embed="rId1"/>
          <a:stretch/>
        </p:blipFill>
        <p:spPr>
          <a:xfrm>
            <a:off x="179280" y="260280"/>
            <a:ext cx="8964720" cy="659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6:19:23Z</dcterms:created>
  <dc:creator>Hala</dc:creator>
  <dc:description/>
  <dc:language>en-US</dc:language>
  <cp:lastModifiedBy>areej</cp:lastModifiedBy>
  <dcterms:modified xsi:type="dcterms:W3CDTF">2013-12-14T17:11:24Z</dcterms:modified>
  <cp:revision>15</cp:revision>
  <dc:subject/>
  <dc:title>التصنيف</dc:title>
</cp:coreProperties>
</file>