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57D2-B689-4CD9-92A0-772134E2ECC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EF69-5A18-40DD-BB4F-1AACCA018EC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616-A2AC-40B0-AF1C-2E737640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040-B762-4223-9982-574AAA87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4C3-9EC7-4B1B-A6CF-8F556901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FF6-5EC3-42D6-8EE2-5FA5F3EC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467-24CA-4C2F-AD67-FA492D5C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2E2-0E53-49F0-8661-A0464746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6CB-F355-4DCF-BE71-28805F92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84E-90A4-44A0-94C1-72DAA3EF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8FA-83D2-40ED-8793-DFBFF015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5F1-3E62-4814-B7E6-E6A4031C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452-3F26-4970-B2BA-C7B464AA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518-C864-4F80-9D86-1A62AD2B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6F94-C591-4BDF-982F-1253DDE6C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17375e"/>
                </a:solidFill>
                <a:uFillTx/>
                <a:latin typeface="Calibri"/>
                <a:cs typeface="Times New Roman"/>
              </a:rPr>
              <a:t>الجلسة الحادية عش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b0f0"/>
                </a:solidFill>
                <a:latin typeface="Calibri"/>
                <a:cs typeface="Arial"/>
              </a:rPr>
              <a:t>مهارات العمل التطوعي</a:t>
            </a:r>
            <a:r>
              <a:rPr b="0" lang="ar-SA" sz="6000" spc="-1" strike="noStrike">
                <a:solidFill>
                  <a:srgbClr val="00b0f0"/>
                </a:solidFill>
                <a:latin typeface="Calibri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17375e"/>
                </a:solidFill>
                <a:uFillTx/>
                <a:latin typeface="Calibri"/>
                <a:cs typeface="Times New Roman"/>
              </a:rPr>
              <a:t>الجلسة الثانية عش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b0f0"/>
                </a:solidFill>
                <a:latin typeface="Calibri"/>
                <a:cs typeface="Arial"/>
              </a:rPr>
              <a:t>مهارات الاتصال الالكترون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ـ وظائف الإنترنت : ـ 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تحدثنا عن استخدامات شبكة الإنترنت في الوقت الحاضر ، فلن نستطيع حصرها ، فهي كثيرة ، ومتشعبة للغاية ، ولكننا نستطيع ذكر بعض الأستخدامات الشائعة لتلك الشبكة وهي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0880" y="969840"/>
          <a:ext cx="8229600" cy="512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ــ إجراء الأتصالات الهاتفية الدولية بالأصدقاء والأقارب حول العالم ، من خلال شبكة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تصالا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أشتراك في القوائم البريد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ling li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إرسال واستقبال البريد الإلكتروني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nic Mail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إرفاق الوثائق والملفات المختلفة به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بريد الإلكتروني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حث عن فرصة عمل من خلال المواقع المختصة بذلك والتي تقوم بدور الوسيط بين أصحاب الشركات ، والمؤسسات وراغبي العم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ستعراض مواقع الوي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الإطلاع على أحدث الأخبار المحلية والعالمي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حث عن المعلومات والأبحاث والوثائق .. إلخ ، داخل محتوى الشبكة العنكبوتية العالم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ld Wide Web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وذلك من خلال محركات البحث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rch Engin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منتشرة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معرفة فروق التوقيت بين الدول والمدن المختلفة عبر العال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بحث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تستخدم شبكة الإنترنت لنشر المجلات والكتب ، إضافة إلى عرض الصحف ؛ ونظراً لأن المعلومات على شبكة الإنترنت في شكل إلكتروني ، فإن ذلك سيوفر كلفة الورق والطباعة والتوزيع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نشر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شراء والتسوق الإلكتروني عبر الإنترنت م خلال المواقع المتخصصة في ذلك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يعات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دعاية الإلكترونية لمنتجك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إعلانات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سديد الأشتراكات والرسوم الحكومية من خلال خدمات التسديد الإلكتروني ــ عبر الإنترنت ــ المتوفرة بالمواقع الحكومية بالعديد من الدول حول العال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تعرف على أسعار الأسهم العالمية للشركات وأخبار البورص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تعرف على سعر شراء وبيع العملات العالمية من خلال المواقع الأقتصادية والإخبارية المتخصص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ملات المالية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الإنترنت : 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969840"/>
          <a:ext cx="8229600" cy="4938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ــ إجراء الحوار الحي المباشر أو ما يعرف بالدردشة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tting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، بين شخصين أو أكثر عبر الإنترنت ، بصرف النظر عن تباعد المسافة بينه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خاط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حم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load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برامج والألعاب ومقاطع الصوتيات والمرئيات والوثائق وكافة الملفات الأخرى ... إلخ ، من مواقع الإنترنت وحفظها على جهاز الكمبيوتر الخاص بالمستخد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رف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برامج والألعاب ومقاطع الصوتيات والمرئيات والوثائق ، وكفاة الملفات الأخرى ... إلخ ، من جهاز الكمبيوتر الخاص بالمستخدم إلى مواقع الويب ، ليتمكن الآخرون من تحميلها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حمي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loa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صور والألعاب وكافة البرامج الخاصة بهاتفك المحمو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phone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وذلك من خلال المواقع والمنتديات المختصة بذلك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لعا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أنضمام إلى برامج التعليم الإلكتروني ، أو ما يعرف بالتعليم عن بعد ، وذلك من خلال مؤسسات وجامعات تعمل من خلال شبكة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لم عن بع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نقل الملفات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e Transfer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بين جهازي كمبيوتر متصلين بشبكة الإنترنت بصرف النظر عن بعد المسافة بين الجهازين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بادل المعلومات والتقارير والوثائق بين المؤسسات والشركات ، بشكل سري وخاص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أشتراك في النقاش حول موضوع أو قضية معينة مع عدة أشخاص حول العالم وذلك من خلال المجموعات الإخبار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sgroups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مشارك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ملفات والبرامج بين المستخدمين عبر الإنترنت من خلال برامج مشاركة الملفات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r to P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أو برامج بروتوكول الـ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rent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قل وتبادل ومشاركة الآراء والمعلومات والملفات والبرامج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إرسال رسائ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لأي هاتف محمو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phon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حول العالم ، من خلال برامج ومواقع توفر تلك الخدمة لمستخدمي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سائل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مشاهدة أي رقعة بالعالم من خلال الأقمار الصناعية عبر الإنترنت ، وذلك بواسطة برامج ومواقع مختصة بذلك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المواقع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ثناياً : البريد الإلكتروني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خدامات البريد الإلكترون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371600"/>
          <a:ext cx="8229600" cy="4389480"/>
        </p:xfrm>
        <a:graphic>
          <a:graphicData uri="http://schemas.openxmlformats.org/drawingml/2006/table">
            <a:tbl>
              <a:tblPr/>
              <a:tblGrid>
                <a:gridCol w="7264440"/>
                <a:gridCol w="965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عد البريد الإلكتروني مزدوج الأتجاه ، إذ يمكنك تلقي رسائل من أي شخص يعرف عنوان البريد الإلكتروني الخاص بك ، ثم قراءة تلك الرسائل والرد علي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الملفات وتلقيها ، بالإضافة إلى النص ، يمكنك تقريباً إرسال أي نوع من أنواع الملفات مرفق برسالة بريد إلكتروني ، ويشمل ذلك المستندات ، والصور ، ومقاطع الفيديو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رسائل إلى مجموعات من الناس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إعادة توجيه الرسائل عند تلقي رسالة بريد إلكتروني ، يمكنك إعادة توجيهها إلى الآخرين بدون إعادة كتابت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الرسائل في أي وقت من النهار أو باللي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وفير بيئة مجانية ، على خلاف إرسال الخطابات العاد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ستطيع المستفيد أن يحصل على الرسالة في الوقت الذي يناسب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ستطيع المستفيد إرسال عدة رسائل إلى جهات مختلفة في الوقت نفس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ـ أهم تطبيقات البريد الإلكتروني في العملية التعليمية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طبيقات البريد الإلكتروني في العملية التعليم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838080"/>
          <a:ext cx="8229600" cy="5857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شعار الخا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وص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سم الموق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عتبر من أشهر المواقع الأجتماعي على الإنترنت ، أسسه طالبه في جامعة هارفرد عام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0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والآن تخطى عدد مستخدميه الــ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ستخدم ، تقدر قيمته بــ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ار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و من أوسائل الشبكات الأجتماعي وأكبرها ، يعد ثاني أكثر الشبكات الأجتماعية شهرة بعد الفيس بوك ، يعمل على تقديم خدمات كثيرة للمستخدم مثل مشاركة الصورة والملفات ، يقع مقر الشركة في كاليفورنيا بالولايات المتحدة الأمريكية ، لدى ماي سبيس الآن أكثر من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ستخدم في جميع أنحاء العالم 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ي شبكة اجتماعية مختصة بالعمل والتجارة ، تضم حوالي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حترف ومحترفة في العديد من المجالات ، يتشاركون في مجموعة اهتماما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edl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و موقع شبكات اجتماعية يقدم خدمات تدوين مصغر والتي تسمح لمستخدميه بإرسال تحديثات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eets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عن حالتهم بحد أقصى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0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حرف للرسالة الواحدة ، وذلك مباشرة عن طريق إرسال رسالة نصية قصيرة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أو برامج المحادثة الفورية ، أو التطبيقات التي يقدمها المطورون مثل : الفيس  بو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 fox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rl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 terrific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d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4" name="صورة 7" descr="facebook-logo-0309-lg-59377844[1].jpg"/>
          <p:cNvPicPr/>
          <p:nvPr/>
        </p:nvPicPr>
        <p:blipFill>
          <a:blip r:embed="rId1"/>
          <a:stretch/>
        </p:blipFill>
        <p:spPr>
          <a:xfrm>
            <a:off x="1143000" y="1219320"/>
            <a:ext cx="1193760" cy="895320"/>
          </a:xfrm>
          <a:prstGeom prst="rect">
            <a:avLst/>
          </a:prstGeom>
          <a:ln w="0">
            <a:noFill/>
          </a:ln>
        </p:spPr>
      </p:pic>
      <p:pic>
        <p:nvPicPr>
          <p:cNvPr id="75" name="صورة 8" descr="myspace-logo[1].png"/>
          <p:cNvPicPr/>
          <p:nvPr/>
        </p:nvPicPr>
        <p:blipFill>
          <a:blip r:embed="rId2"/>
          <a:stretch/>
        </p:blipFill>
        <p:spPr>
          <a:xfrm>
            <a:off x="990720" y="22096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صورة 9" descr="LinkedIn-Logo[1].png"/>
          <p:cNvPicPr/>
          <p:nvPr/>
        </p:nvPicPr>
        <p:blipFill>
          <a:blip r:embed="rId3"/>
          <a:stretch/>
        </p:blipFill>
        <p:spPr>
          <a:xfrm>
            <a:off x="762120" y="3886200"/>
            <a:ext cx="215712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صورة 10" descr="twitter-logo1[1].png"/>
          <p:cNvPicPr/>
          <p:nvPr/>
        </p:nvPicPr>
        <p:blipFill>
          <a:blip r:embed="rId4"/>
          <a:stretch/>
        </p:blipFill>
        <p:spPr>
          <a:xfrm>
            <a:off x="83808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دمات التي تقدمها مواقع التواصل الاجتماعي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شترك أغلب الشبكات الأجتماعية فيما بينها بالعديد من الخدمات ، التي تقدمها للمستخدمين ، ولكنها تختلف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بعض المميزات التي يختص بها كل موقع عن الآخر ومن أبرز هذه الخدمات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خدمات الشبكات الأجتماع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1676520"/>
          <a:ext cx="8229600" cy="393228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هي صفحة خاصة بكل مشترك تحتوي على معلومات أساسية عنه ، مثل : ( العمر ، ومكان الميلاد ، وأبرز الهوايات ) ، من خلال زيارة هذه الصفحة يمكن مشاهدة نشاطات الشخص ، وأيضاً التعرف على قائمة أصدقائ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لفات الشخ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م الأشخاص الذين يقوم المستخدم بالتعرف عليهم وإضافتهم لقائمته ؛ لغرض معين . وتختلف تسمية الأصدقاء من موقع لآخر ، فهنك بعض المواقع تطلق على الصديق </a:t>
                      </a:r>
                      <a:br>
                        <a:rPr sz="2000"/>
                      </a:b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 اتصال : علاقة )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صدقا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ي عبارة عن مجموعة بمسمى محدد تنشأ لغرض معين يكون لأعضائها نفس الأهتمامات ، توفر هذه المجموعات منتدى لحوار مصغر بين أعضاء هذه المجموعة ، ويستطيع منظموها تنسيق اجتماعات عن طريق الأحداث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كما أنهم يستطيعون دعوة أعضاء آخرين للأنضمام لمجموعتهم ، ويوجد العديد من الخدمات الأخرى ، مثل : ـ ألبومات الصور ، والرسائل الفورية التي تكتب على جدار الأعضاء ، والصفحات الإعلانية التي تستخدم تجارياً لعرض المنتجات والفعاليات 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جمو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 نتواصل بإيجابية عبر مواقع التواصل الأجتماعي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تصال الإيجابي في الشبكات الأجتماع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1676520"/>
          <a:ext cx="8229600" cy="399240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أكتب ما يسرك أن تراه في صحيفة أعمالك يوم القيامة فالكلمة مسؤول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واصل فقط مع من تثق بدينه وفكره وأخلاق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حافظ على خصوصية معلوماتك ، فلا تنشر غلا ما يعكس الصورة الإيجابية عنك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ختر الوقت المناسب لتواصلك مع الآخرين ، والدخول والخروج على الشبكة العنكوتية، حتى لا تقع ضحية الإدمان للإنترنت فيعيك عن تطوير قدراتك وإنجاز مهامك الأكثر أهمية وتحقيق طموحاتك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حرص على التحلي بآداب الحديث والتواصل الفاعل الإيجابي مع الآخر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حذر الإتصال بالعناوين الغريبة ، فقد تقودك إلى موضوعات أو أفكار أو اتجاهات سلب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خدم التقنية في كل ما يساهم في تطوير قدراتك وتنمية مواهبك وتحقيق التواصل البنّاء مع الآخر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حور الثالث : مخاطر الإنترنت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سلبيات الإنترنت : ـ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1362240"/>
          <a:ext cx="8229600" cy="458136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مواقع اللا أخلاقية ، التي تكثر وتتكاثر في الإنترنت ، والتي يتم نشرها بأساليب عديدة في محاولة لأجتذاب الأطفال ، والمراهقين إلى سلوكيات منحرفة ، ومنافية للأخلاق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رف لعمليات أحتيال ، ونصب ، وتهديد ، وابتزاز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عوة لأفكار غريبة مناقضة لديننا ولقيمنا ومفاهيمنا ، والتي تعرض بأساليب تبهر المراهقين مثل : عبادة الشيطان والعلاقات الغريبة الشاذ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عوة للأنتحار والتشجيع له من خلال بعض المواقع وغرف الدردش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نغماس في استخدام برامج الأختراق الهاكرز ، والتسلل لإزعاج الآخرين وإرسال الفيروسات التخريبية والمزعج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شكلة إدمان الإنترنت ، والأمراض النفسية التي تنجم عن سوء استخدام الإنترنت مثل : الأكتئاب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حياة في الخيال وقصص الحب الوهمية والصداقة الخيالية مع شخصيات مجهولة وهمية ، أغلبها تتخفى بأقنعة وأسماء مستعارة ، وما يترتب على مثل هذه القصص من عواقب خطير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خدام الأسماء المستعارة ، وتقمص شخصيات غير شخصياتهم في غرف الدردشة ، وما يتبعه ذلك من أعتياد ارتكاب الأخطاء والحماقات ، واستخدام الألفاظ النابي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ابع : سلبيات الإنترنت : ـ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880" y="1274760"/>
          <a:ext cx="8229600" cy="521172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مارسة الشراء الإلكتروني دون رقابة ، من خلال استخدام البطاقات الأئتمانية الخاصة بأحد الوالد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ارسة القمار والتي تنتشر مواقعها ويتم الترويج لها بكل الوسائل عبر الإنترن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شهير بالأفراد والشركات ونشر الإشاعات المغرضة عبر نشرها بالمواقع ، أو من خلال غرف الدردشة أو البريد الإلكتروني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ارسة انتهاك حقوق الملكية ، بوضع نسخ للكتب والأبحاث على سبيل المثال في مواقعهم ، أو تداولها فيما بينهم م خلال أجهزتهم مباشر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عرض أجهزة الكمبيوتر للتلف والخبرات بتأثير الفيروسات التي تصل عبر الإيميل والمواقع وملفات التحمي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عرض خصوصية المعلومات التي في الأجهزة للأختراق من قبل المخترقين المحترفين وهواة الأختراق وبرامج التجسس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ب الجسدي والإرهاق والأضرار الصحية ، والتي يسببها الأستخدام الطويل للكمبيوتر والإنترنت ، مثل : ضرر العيون ، والعمود الفقري ، والمفاصل ، والأعصاب ، وزيادة الوزن ، أو نقصان الوزن ، وغيرها من المخاطر </a:t>
                      </a:r>
                      <a:br>
                        <a:rPr sz="2000"/>
                      </a:b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صحية الجسد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خصائص مدمني الإنترنت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صفات الأفراد مدمني الإنترن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274760"/>
          <a:ext cx="8229600" cy="416556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فضلون العزل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زيادة عدد الساعات أمام الإنترنت بشكل مطرد تتجاوز الفرات التي حددها الفرد لنفس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همال الواجبات الأجتماعية ، والأسرية ، والوظيفية بسبب استعمال الشبك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مرار استعمال الشبكة ( الإنترنت ) مع وجود بعض المشكلات مثل : فقدان العلاقات الاجتماعية ، والتأخر في العم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شوقون لجلسة إنترن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وتر والقلق الشديدين في حالة وجود أي عائق للأتصال بالشبكة ( الإنترنت ) قد تصل إلى حد الأكتئاب إذا ما طالت فترة الأبتعاد عن الدخول ، والإحساس بسعادة بالغة وراحة نفسية حين يرجع إلى إستخدام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ذبون حول المواقع التي يستخدمون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فقدون الشعور بالوق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وقع من الطالب في نهاية الجلسة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إيجابية ، والعمل التطو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سمات السلوك الايجاب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3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طبيق سمات الشخصيى الايجابية في مواقف حياتية يوم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4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ظيف أساليب السلوك الايجابي في خدمة المجتمع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5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مثل مهارات الاتصال المختلفة عند قيامه بالعمل التطو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اج إدمان الإنترن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1249200"/>
          <a:ext cx="8229600" cy="4754880"/>
        </p:xfrm>
        <a:graphic>
          <a:graphicData uri="http://schemas.openxmlformats.org/drawingml/2006/table">
            <a:tbl>
              <a:tblPr/>
              <a:tblGrid>
                <a:gridCol w="6453360"/>
                <a:gridCol w="1377720"/>
                <a:gridCol w="398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فإذا اعتماد المريض استخدام الإنترنت طيلة أيام الأسبوع ، نطلب منه الأنتظار حتى يستخدمه في يوم الإجازة الأسبوعية ، وإذا كان يفتح البريد الإلكتروني أول شيء حين يستيقظ من النوم ، نطلب منه أن ينتظر حتى يفطر ، ويشاهد أخبار الصباح ، وإذا كان المريض يستخدم الكمبيوتر في حجرة النوم نطلب منه أن يضعه في حجرة المعيشة .. وهكذا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عمل العك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ضبط منبه قبل بداية دخوله الإنترنت بحيث ينوي الدخول على الإنترنت ساعة واحدة قبل نزوله للعمل مثلاً ؛ حتى لا يندمج في الإنترنت بحيث يتناسى موعد نزوله للعمل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يجاد موانع خارج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طلب من المريض تقليل وتنظيم ساعات استخدامه ، بحيث إذا كان مثلاً يدخل على الإنترنت لمدة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اعة أسبوعياً ، نطلب منه التقليل إلى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اعة أسبوعياً ، وتنظيم تذلك الساعات بتوزيعها على أيام الأسبوع في ساعات محددة في اليوم ، بحيث لا يتعدى الجدول المحدد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وقت الأستخدا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كما ذكرنا فإن إدمان بعض المرضى يتعلق بمجال محدد من مجالات استخدام الإنترنت ، فإذا كان المريض مدمناً لحجرات الحوارات الحية ، نطلب منه الأمتناع عن تلك الوسيلة امتناعاً تاماً ، في حين نترك له حرية استخدام الوسائل الأخرى الموجودة على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متناع الت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إعداد بطاقات يكتب عليها خمساً من أهم المشاكل الناجمة عن إسرافه في استخدام الإنترنت ، كإهماله لأسرته ، وتقصيره في أداء عمله مثلاً ، ويكتب عليها أيضاً خمساً من الفوائد التي ستنتج عن إقلاعه عن إدمانه ، مثل إصلاحه لمشاكله الأسرية ، وزيادة اهتمامه بعمله ، ويضع المريض تلك البطاقات في جيبه أو حقيبته حيثما يذهب ، بحيث إذا وجد نفسه مندمجاً في استخدام الإنترنت ، يخرج البطاقات ليذكر نفسه بالمشاكل الناجمة عن ذلك الإندماج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عداد بطاقات من أجل التذكي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أن يفكر في الأنشطة التي كان يقوم بها قبل إدمانه للإنترنت : ليعرف ماذا خسر بإدمانه مثل : قراءة القرآن ، والرياضة ، وقضاء الوقت بالنادي مع الأسرة ، والقيام بزيارات اجتماعية وهكذا .. نطلب من المريض أن يعاود ممارسة تلك الأنشطة لعله يتذكر طعم الحياة الحقيقية وحلاوتها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عادة توزيع الوق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زيادة رقعة حياته الأجتماعية الحقيقية بالأنضمام إلى فريق الكرة بالنادي مثلاً ، أو إلى درس لتعليم الخياطة ، أو الذهاب إلى دروس المسجد ؛ ليكوّن حوله مجموعة من الأصدقاء الحقيقيين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نضمام إلى مجموعات التأي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في بعض الأحيان تحتاج الأسرة بأكملها إلى تلقي علاج أسري بسبب المشاكل الأسرية التي يحدثها إدمان الإنترنت ، بحيث يساعد الطبيب الأسرة على استعادة النقاش والحوار فيما بينها ولتقتنع الأسرة بمدى أهميتها في إعانة المريض ؛ ليقلع عن إدمانه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عالجة الأسر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: التعرف على السلوك الايجابي ضمن أنواع السلو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47920" y="1697040"/>
          <a:ext cx="7238880" cy="749772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تطبيق حيات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صف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نوع السلو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بشير طالب مجتهد ويسعى للتفوق ، ودائما يحدث زملاءه بذلك ويشجعهم على المذاكرة وبذل الجهد لتحقيق النجاح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قدرة الشخص على التعبير عن حاجته، وافكاره ، ومشاعره بأمانه ، وبشكل مباشر، ودون انتهاك لحقوق الاخرين مع إعطائهم نفس الحقوق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يكون المبداء ( أكسب وأساعد الاخرين على الكسب ). وذلك إنطلاقا من القاعدة أن الانسان حر ما لم يضر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ايجاب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فؤاد طالب مشاغب داخل القاعة الدراسية ، فهو لا يريد الاستماع لشرحالمدرب بحجة أنه يعرف هذا الكلام ولا يريد لزملاءه الاستفادة ، ويخاطب المدرب والزملاء باسلوب غير لائق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الفرد بوضع حاجاته وحقوقه فوق تلك الخاصة بالاخرين . ومن ثم فهو يتهك حقوق الاخرون حيث يتعامل بمداء ( أنا أكسب ويجب أن يخسر الاخرين )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ذلك من مبداء إلحاق الاذى بالاخرين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عدوان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قام سالم بانجاز الجزء النظري في مشروع مقرر مهارات الاتصال بمفرده وذلك نيابه عن زملائه الذين لم يريدوا مشاركته في العمل ، وعندما سال المدرب عمن انجز العمل اخبره سالم بان الكل ساهم فيه وأنه جهد جماعي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فيه الفرد بجعل رغبات وافكار الاخرين أكثر اهمية من حاجاته الخاصة بمبداء ( اخسر ودع الاخرين يكسبون ) . لان في نهاية المطاف يشعر هذا الفرد بانه ضحية للاخرين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خانع ( المساير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نيا : سمات السلوك الإيجاب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398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تفائ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اثق في نفس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ف بأن لديه ثقة عالية جدأً في مواجهة مشاكل الحياة ومنفتح تماماً على الآخرين ولديه اتجاه إيجابي نحو الحيا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يس لديه مشكلة في تأكيد ذاته ، والثقة بنفسه ، وليس قلقاً عما لدى الآخرين من انطباعات عنه ، وليس له مشاعر بالدون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ستق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حري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وفقاً لرغباته ولا يهتم بما يتوقعه الآخرون منه ، كما أنه لا يسايرهم ولا يعتمد عليهم في أي تصرف من تصرفات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يس على استعداد للقيام بمغامرات من أية نوع ، وينشد دائماً الأمان وخاصة في التعامل مع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حكم اجتماع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يثار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لديه قدرة إصدار الأحكام على الآخرين من خلال استخلاص طبيعة المظهر الخارجي للفرد ، وتعبيرات الوجه ، والصو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جعل مصالحه الشخصية آخر شيء يفكر فيه أو يعمل له ، بل لديه شعور بالمسؤولية ، والواجب ، والتعاطف ، والأستعداد للتضحية ، ونجدة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طمو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حم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زداد إحساسه بقيمته من خلال إنجازاته ويميل إلى كسب الأعتراف به وأحترام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ديه قدرة كبيرة على التحمل وعدم الأنزعاج ، ولديه قدرة على تحمل آراء الآخرين وتقبلها بعقلية منفتحة ، لذا فهو يتحكم في انفعالاته ويصعب إحراج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حور الثاني : العمل التطوع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533520" y="2971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ـ مفهوم العمل التطوعي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 العمل التطوعي ظاهرة اجتماعية تحقق الترابط ، والتآلف ، والتآخي بين أفراد المجتمع ، حتى نكون كما وصفنا الرسول صلى الله عليه وسلم ( كالجسد الواحد ) ، ما من مجتمع إلا وفيه المحتاج ، والجاهل ، والمريض والمعاق ، ومن يحتاج إلى المال ، أو المسكن أو الملبس ، أو الزواج ، وغيره فعمل الخير باب واسع بشرط أن يكون العمل خالص لوجه الله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على ذلك يمكن تعريف العمل التطوعي بأنه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قوم به الفرد طوعاً من ذات نفسه ، ولا يحتاج لأنه يلزمه أحد أو يشوبه تربُح مادي أو اجتماعي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نياً : العمل التطوعي من منظور إسلامي : ـ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حث الدين الإسلامي الحنيف على التطوع ، وجعله واجباً دينياً ، كما ورد في القرآن الكريم كثيراً من الآيات ، التي تحت على التطوع في فعل الخير ، وتؤكد على ضرورة التعاون ، والتكافل والتآلف بين الناس وتقررها ومن هذه الآيات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 { فمن تطوع خيراً فهو خيرٌ له ، وأن تصوموا خيرٌ لكم إن كنتم تعلمو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84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 البقرة )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قوله : { وجعلنهم أئمة يهدون بأمرنا وأوحينا إليهم فعل الخيرت وإقام الصلوة وإيتاء الزكوة وكانوا لنا عبدي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3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الأنبياء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قوله عز وجل : { يأيها الذين ءامنوا اركعوا واسجدوا واعبدوا ربكم وافعلوا الخير لعلكم تفلحو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7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 الحج )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53352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كما ذكرت السنة النبوية المطهرة أحاديث كثيرة أيضاً تدعونا إلى فعل الخير ، والسعي في قضاء حوائج الناس ، ونفعهم حتى ننال الأجر العظيم من الله عز وجل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عبد الله ابن عمر ــ رضي الله عنهما ــ قال : قال رسول الله صلى الله عليه وسلم : (( أحب الناس إلى الله أنفعهم ، وأحب الأعمال إلى الله ــ عز وجل ــ سرور تدخله على مسلم ، أو تكشف عنه كربة ، أو تقضي عنه ديناً ، أو تطرد عنه جوعاً ، ولأن أمشي مع أخي المسلم في حاجة أحب إليّ من أن أعتكف في المسجد شهراً ، ومن كف غضبه ستر الله عورته ، ومن كظم غيظاً ولو شاء أن يمضيه أمضاه ، ملأ الله قلبه رضاً يوم القيامة ، ومن مشى مع أخيه المسلم فيحاجته حتى يثبتها له أثبت ــ الله تعالى ــ قدمه يوم تزل الأقدام ، وإن سوء الخلق ، ليفسد العملكما يفسد الخل العسل )) . ( صحيح الجامع : رقم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7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وهكذا كانت الأنشطة التطوعية منبثقة من تعاليم الإسلام ، ومواكبة الإتجاه العالمي المشجع على التطوع في الخدمات الإنسان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53352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آثار التطوع : 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كسب الأجر والثواب في الدنيا والآخرة لتحقيق التآلف والتحاب بين الناس ومعالجة النظرة العدائ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 التشاؤمية تجاه الآخرين والحيا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تكافل والتعاون بين أفراد المجتم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زيادة من قدرة الإنسان على التفاعل ، والتواصل مع الآخرين ، والحد من النزوع إلى الفردية ، وتنمية الحس الأجتماع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تهذيب الشخصية ، ورفع عقلية الشح ، وتحويلها إلى عقلية الوفرة والكسب الأعظم ، الذي هو الأجر عند الله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عمل التطوعي يتيح للإنسان تعلم مهارات جديدة ، أو تحسين مهارات يمتلكه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زيادة وتحقيق الشعور بالرضا عن الذات ، والتخلص من الأكتئاب ، وتهذيب النفس ، والإحساس بتأدية دور إيجابي في المجتم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7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شغل وقت الفراغ بما يعود بالفائدة والمنفعة على الفرد ، والآخر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8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مساعدة الآخر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يز المتطوع الجاد بعدة مهارات ، هي :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رابعاً : مهارات المتطوع الجاد : ـ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كون لديه المهارات القيادة اللازمة لتوجيه الآخرين نحو العمل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قياد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توفر لديه مهارات التعامل مع الآخرين ، مثل الإلقاء ، والحوار والإقناع ، والتفاوض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مل مع الآخر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متعاوناً ولديه الرغبة في مشاركة الآخرين في العمل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ون والمشارك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لديه القدرة على تنظيم الوقت ، وإدارته ، واستثماره فيما يفيد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دارة الوق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ديه القدرة للعمل كجزء من فريق ، بحيث يكون له دور محدد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عمل ضمن فري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درة على تحديد الأهداف والأولويات والأعتماد عليه في القيام بذلك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الأهدا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خامساً : ـ معوقات العمل التطوع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685800"/>
          <a:ext cx="8229600" cy="5578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ضعف الدافعية نحو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خوف بعض المتطوعين من الألتزام ، وتحمل المسؤول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ضعف التأهيل المهني للمتطوع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عدم توفر الوقت الكافي لممارسة العمل التطوعي، أو تعارضه مع العمل أو الدراس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المشكلات الصح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ولاً : ـ المعوقات الشخ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ندرة البرامج التي ترسخ ثقافة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فاعل وسائل الإعلام مع البرامج التطوع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رسي ثقافة العمل التطوعي من خلال الدرام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ثانياً : المعوقات الإعلامية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افر الدخل المادي بصورة عام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فر البيئة المجهزة لممارسة العمل التطوعي باحترافي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ثالثاً : المعوقات الأقتصاد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يروقراطية والمركزية التي تقف صخرة منيعة أمام تنفيذ بعض البرامج التطوعية ، أو تأخيره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جود الإدارات الواعية برسالتها ، وأهدافه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كفاية المشرفين على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افر التشريعات القانونية التي تنظم العمل التطوعي ، أو عجزها عن مواكبة التطور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ابعاً : ـ المعوقات الإدارية والقانون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قلة الوعي بأهمية العمل التطوعي ، ودوره في رقي المجتمعا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قلة مصادر المعلومات عن البرامج التطوع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غرس ثقافة العمل التطوعي في نفوس الناشئ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جود القدوات والنماذج الرشيدة التي تؤسس للعمل التطوعي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ضع مناهج دراسية متخصصة ب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معتقدات السلبية ، كالأعتقاد بأنه لا يقوم بالعمل التطوعي إلا كبار السن ، أو المتفرغين ، أو المؤسسات ، أو أنه مضيعة للوق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خامساً : ـ المعوقات الثقاف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NNY</dc:creator>
  <dc:description/>
  <dc:language>en-US</dc:language>
  <cp:lastModifiedBy>admin</cp:lastModifiedBy>
  <dcterms:modified xsi:type="dcterms:W3CDTF">2011-10-02T10:57:12Z</dcterms:modified>
  <cp:revision>29</cp:revision>
  <dc:subject/>
  <dc:title>الجلسة الحادية عشرة</dc:title>
</cp:coreProperties>
</file>