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93F8-9798-48EC-BEB7-AA35537A86D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010A-F8E9-4F63-96A1-3BB707F1FB7C}"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8E77-AE00-4404-B758-A7B458A2840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A57D-7C31-443F-AAFE-089FE196546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31FE-697C-4174-869B-3B80B82F4AC8}"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950B-245D-46A9-A8E1-1969343914A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657E-0934-4414-8DED-7D59F15DB56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D1D9-B7BB-4612-A7CA-3226B3C9D72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F5CD-7996-40AA-B51F-59C41060E7C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C237-0E44-4630-933A-681F1DAF232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DC1B-AD73-423A-85FE-C0EDAA517A7B}"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EB8C-3DAA-4F78-93F7-F9C41BF8A7D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F021-2C6D-4564-A914-3199E554FDA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FA8A-1EB4-429E-B8A4-45701CC8CA2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48AD-6AEA-4D74-9A1B-5963B4F7118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F840-40AB-4489-B4ED-F4C4AEA379B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F949-E62B-41A1-825F-A3F30818B77A}"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043E-904D-441F-8F3B-3F1FD005449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D04F-3120-45B6-9D56-3F78004A839A}"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24F3-5464-4457-B398-C3C0A1D329A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9C4B-F40D-430D-B02F-75A0C595670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E9E7-1924-4E94-BDC7-70BF543E0F1D}"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F451-83B7-4F7D-BB82-C7BE693101E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FD35-8F7F-4FE1-BDA2-03943F19E24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D872-512A-4292-8386-97FE717FD15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9BA6-85B2-4E9D-B6F8-C9B4508587A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4986-127B-421B-AF8C-FA99219C61F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73CA-BA3F-4D90-AA37-462B640E7CAD}"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5C0C-8312-4917-A0AA-7500A2F3EAF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F85B-C2E0-46DA-9020-4727C0156DA8}"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4394-FB79-4E8D-B2A4-A209DA218EA3}"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B0B9-3A15-48F4-B390-1371B38323C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B5E9-62C4-4C9A-8076-08F290A5EA9A}"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A2B9-FD37-4A7A-B1F1-51F72C4E1BE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23E4-1278-43A3-8AB9-43C79735358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6D36-2874-415A-B854-754CB272F5B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5E15-E6FD-429C-A469-B2E1C110A95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33F9-77AF-4D0E-966B-E85EA681460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8544-FCB3-465F-99B5-0BFE8589AF9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AB52-EF89-4E3F-81A7-09E62570014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8708-BB1D-4DA1-A3AE-ACD044EEBC8C}"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3823-33F4-437E-B069-ED6665B830E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4882-55B4-494D-B18E-A8FB094366E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F58A-4BD5-4A66-8A72-E0397B5BE1EB}"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6A73-E4B5-47D0-970A-8D0924BF964D}"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7E83D-72B5-46D2-9F09-AEB4A4D9861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E9FA-9525-4792-8818-35986AAF2F8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973F-16D6-4873-A03D-75121DE99D6B}"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5DEC-549D-46B5-A221-E20668F1CC9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0A079-E2F2-48B9-99DD-7914F8A0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0076D-9F54-4071-8D2F-C942019AA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89DE7-7D0E-4BE0-8AB1-E5F05AC6A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67AB4-EFE8-45DB-AE2E-7064B52B3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E68B0-4715-41D7-886C-C97CA2A37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33C33-F1C0-4631-A20E-71F75D1FC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682AB-CD29-44FA-818B-82687DFD7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2A600-AF64-4C4D-B47D-371C134E7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2D008-8828-4656-9864-3B0C86E7F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9022A-2570-46AC-AE69-82ACA0AB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6D8DD-BDF9-4DD6-814D-45886DB87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6DD5-E054-4EEF-A47E-EBA7963E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DEAF3-488B-4FEB-9A71-E88E11967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C8FC-206C-48D5-A569-74DBCEBC2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644C4-8F5A-46D6-89F6-2C4B494B7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5A2C2-7FC9-45AB-A35B-707128B65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07788-81EA-4340-88C1-133D313E4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44C5-A267-4101-899F-577E3912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7374-0C1A-462C-A6B4-440722A2D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EFA1-C7A2-4848-8E51-F32EF6E0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174C4-706B-4EA8-9548-786D4A00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1750-BA67-443B-BB3E-91D886B7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4D5E0-0DA6-4F2D-8206-BE07D29F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801D2-934F-4D82-981B-7B1001EAF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23EC-A816-4D7F-B0F2-3ADF2862AD1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EBBF-0032-47F7-A36A-D436D9F1872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04280"/>
            <a:ext cx="7772400" cy="4310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00"/>
                </a:solidFill>
                <a:latin typeface="Garamond"/>
              </a:rPr>
              <a:t>101</a:t>
            </a:r>
            <a:r>
              <a:rPr b="1" lang="ar-SA" sz="3600" spc="-1" strike="noStrike">
                <a:solidFill>
                  <a:srgbClr val="999900"/>
                </a:solidFill>
                <a:latin typeface="Garamond"/>
              </a:rPr>
              <a:t> نفس: المدخل إلى علم النفس لغير المختصين</a:t>
            </a:r>
            <a:br>
              <a:rPr sz="5800"/>
            </a:br>
            <a:r>
              <a:rPr b="0" lang="ar-SA" sz="3600" spc="-1" strike="noStrike">
                <a:solidFill>
                  <a:srgbClr val="999900"/>
                </a:solidFill>
                <a:latin typeface="Garamond"/>
              </a:rPr>
              <a:t>-  الذكاء البشري -</a:t>
            </a:r>
            <a:endParaRPr b="0" lang="en-US" sz="36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06520" indent="-506520" algn="r" rtl="1">
              <a:spcBef>
                <a:spcPts val="700"/>
              </a:spcBef>
              <a:buClr>
                <a:srgbClr val="6666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ar-SA" sz="2800" spc="-1" strike="noStrike">
                <a:solidFill>
                  <a:srgbClr val="000000"/>
                </a:solidFill>
                <a:latin typeface="Verdana"/>
              </a:rPr>
              <a:t>ثانياً: بعد المحتوى</a:t>
            </a:r>
            <a:endParaRPr b="0" lang="en-US" sz="2800" spc="-1" strike="noStrike">
              <a:solidFill>
                <a:srgbClr val="000000"/>
              </a:solidFill>
              <a:latin typeface="Verdana"/>
            </a:endParaRPr>
          </a:p>
          <a:p>
            <a:pPr lvl="1" marL="868680" indent="-434160" algn="r" rtl="1">
              <a:spcBef>
                <a:spcPts val="601"/>
              </a:spcBef>
              <a:buClr>
                <a:srgbClr val="9999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0" lang="ar-SA" sz="2400" spc="-1" strike="noStrike">
                <a:solidFill>
                  <a:srgbClr val="000000"/>
                </a:solidFill>
                <a:latin typeface="Verdana"/>
              </a:rPr>
              <a:t>محتوى العمليات العقلية أو ما نحن بصدد التفكير فيه</a:t>
            </a:r>
            <a:endParaRPr b="0" lang="en-US" sz="2400" spc="-1" strike="noStrike">
              <a:solidFill>
                <a:srgbClr val="000000"/>
              </a:solidFill>
              <a:latin typeface="Verdana"/>
            </a:endParaRPr>
          </a:p>
          <a:p>
            <a:pPr lvl="1" marL="868680" indent="-434160" algn="r" rtl="1">
              <a:spcBef>
                <a:spcPts val="601"/>
              </a:spcBef>
              <a:buClr>
                <a:srgbClr val="9999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0" lang="ar-SA" sz="2400" spc="-1" strike="noStrike">
                <a:solidFill>
                  <a:srgbClr val="000000"/>
                </a:solidFill>
                <a:latin typeface="Verdana"/>
              </a:rPr>
              <a:t>يشمل خمسة أصناف:</a:t>
            </a:r>
            <a:endParaRPr b="0" lang="en-US" sz="24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بصري: ألوان ، أشكال ، مواقع ، صور ، رسوم</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سمعي: الخبرات الصوتية كالأصوات المختلفة</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رمزي: ما يرمز إلى أشياء مجردة كالحروف والأرقام والأشكال</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لغوي: الخبرات اللغوية والكلامية المتعلقة بمعاني المفردات والمفاهيم والأفكار</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سلوكي: المضمون الاجتماعي للسلوك والذي يأخذ شكل القدرة على فهم أفكار ومشاعر وسلوكيات الآخرين والقدرة على التفاعل الاجتماعي</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7" name="PlaceHolder 2"/>
          <p:cNvSpPr>
            <a:spLocks noGrp="1"/>
          </p:cNvSpPr>
          <p:nvPr>
            <p:ph/>
          </p:nvPr>
        </p:nvSpPr>
        <p:spPr>
          <a:xfrm>
            <a:off x="179280" y="1599840"/>
            <a:ext cx="8507520" cy="4530600"/>
          </a:xfrm>
          <a:prstGeom prst="rect">
            <a:avLst/>
          </a:prstGeom>
          <a:noFill/>
          <a:ln w="0">
            <a:noFill/>
          </a:ln>
        </p:spPr>
        <p:txBody>
          <a:bodyPr anchor="t">
            <a:normAutofit fontScale="83000"/>
          </a:bodyPr>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لثاً: بعد النواتج</a:t>
            </a:r>
            <a:endParaRPr b="0" lang="en-US" sz="28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نواتج المترتبة من تطبيق العمليات العقلية على المحتويات المختلفة</a:t>
            </a:r>
            <a:endParaRPr b="0" lang="en-US" sz="24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مل ستة نواتج:</a:t>
            </a:r>
            <a:endParaRPr b="0" lang="en-US" sz="24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وحدات: أجزاء منفصلة من المعرفة مثل كلمة أو فكرة معين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فئات: تصنيف وحدات المعرفة إلى مجموعات طبقاً للخصائص المشترك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لاقات: تحديد العلاقات بين الوحدات المعرفية، مثل ”أقوى من“ و ”يؤدي إلى“</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أنظمة: بناء أنظمة معرفية من المعلومات والمعارف</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حويلات: التغيرات والتحويلات على المعلومات والمعارف القائم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طبيقات: التضمينات والتطبيقات للمعلومات أو المعرفة</a:t>
            </a:r>
            <a:endParaRPr b="0" lang="en-US" sz="22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ي مهمة معرفية تتضمن تنفيذ عملية عقلية على محتوى لتحقيق نتيجة</a:t>
            </a:r>
            <a:endParaRPr b="0" lang="en-US" sz="28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a:t>
            </a:r>
            <a:r>
              <a:rPr b="0" lang="ar-SA" sz="2800" spc="-1" strike="noStrike">
                <a:solidFill>
                  <a:srgbClr val="000000"/>
                </a:solidFill>
                <a:latin typeface="Verdana"/>
              </a:rPr>
              <a:t>180</a:t>
            </a:r>
            <a:r>
              <a:rPr b="0" lang="ar-SA" sz="2800" spc="-1" strike="noStrike">
                <a:solidFill>
                  <a:srgbClr val="000000"/>
                </a:solidFill>
                <a:latin typeface="Verdana"/>
              </a:rPr>
              <a:t> قدرة عقلية (</a:t>
            </a:r>
            <a:r>
              <a:rPr b="0" lang="ar-SA" sz="2800" spc="-1" strike="noStrike">
                <a:solidFill>
                  <a:srgbClr val="000000"/>
                </a:solidFill>
                <a:latin typeface="Verdana"/>
              </a:rPr>
              <a:t>6</a:t>
            </a:r>
            <a:r>
              <a:rPr b="0" lang="ar-SA" sz="2800" spc="-1" strike="noStrike">
                <a:solidFill>
                  <a:srgbClr val="000000"/>
                </a:solidFill>
                <a:latin typeface="Verdana"/>
              </a:rPr>
              <a:t> عمليات </a:t>
            </a:r>
            <a:r>
              <a:rPr b="0" lang="en-US" sz="2800" spc="-1" strike="noStrike">
                <a:solidFill>
                  <a:srgbClr val="000000"/>
                </a:solidFill>
                <a:latin typeface="Verdana"/>
              </a:rPr>
              <a:t>x</a:t>
            </a:r>
            <a:r>
              <a:rPr b="0" lang="ar-SA" sz="2800" spc="-1" strike="noStrike">
                <a:solidFill>
                  <a:srgbClr val="000000"/>
                </a:solidFill>
                <a:latin typeface="Verdana"/>
              </a:rPr>
              <a:t> 5</a:t>
            </a:r>
            <a:r>
              <a:rPr b="0" lang="ar-SA" sz="2800" spc="-1" strike="noStrike">
                <a:solidFill>
                  <a:srgbClr val="000000"/>
                </a:solidFill>
                <a:latin typeface="Verdana"/>
              </a:rPr>
              <a:t> محتويات </a:t>
            </a:r>
            <a:r>
              <a:rPr b="0" lang="en-US" sz="2800" spc="-1" strike="noStrike">
                <a:solidFill>
                  <a:srgbClr val="000000"/>
                </a:solidFill>
                <a:latin typeface="Verdana"/>
              </a:rPr>
              <a:t>x</a:t>
            </a:r>
            <a:r>
              <a:rPr b="0" lang="ar-SA" sz="2800" spc="-1" strike="noStrike">
                <a:solidFill>
                  <a:srgbClr val="000000"/>
                </a:solidFill>
                <a:latin typeface="Verdana"/>
              </a:rPr>
              <a:t> 6</a:t>
            </a:r>
            <a:r>
              <a:rPr b="0" lang="ar-SA" sz="2800" spc="-1" strike="noStrike">
                <a:solidFill>
                  <a:srgbClr val="000000"/>
                </a:solidFill>
                <a:latin typeface="Verdana"/>
              </a:rPr>
              <a:t> نواتج)</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سيال والذكاء المتبلور</a:t>
            </a:r>
            <a:endParaRPr b="0" lang="en-US" sz="4400" spc="-1" strike="noStrike">
              <a:solidFill>
                <a:srgbClr val="999900"/>
              </a:solidFill>
              <a:latin typeface="Garamond"/>
            </a:endParaRPr>
          </a:p>
        </p:txBody>
      </p:sp>
      <p:sp>
        <p:nvSpPr>
          <p:cNvPr id="119" name="PlaceHolder 2"/>
          <p:cNvSpPr>
            <a:spLocks noGrp="1"/>
          </p:cNvSpPr>
          <p:nvPr>
            <p:ph/>
          </p:nvPr>
        </p:nvSpPr>
        <p:spPr>
          <a:xfrm>
            <a:off x="457200" y="1600200"/>
            <a:ext cx="8229600" cy="468648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تقد كاتل بوجود نمطين من الذكاء</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المرن (السيال): يتمثل في الكفاءات والقدرات العقلية غير اللفظية وقدرات الاستدلال اللغوية العدد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المحدد(المتبلور): يتمثل في القدرات التي تتأثر بالعوامل الثقافية وعملية التعليم الرسمي والمهارات اللفظية والعددي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فيرنون في الذكاء</a:t>
            </a:r>
            <a:endParaRPr b="0" lang="en-US" sz="4400" spc="-1" strike="noStrike">
              <a:solidFill>
                <a:srgbClr val="999900"/>
              </a:solidFill>
              <a:latin typeface="Garamond"/>
            </a:endParaRPr>
          </a:p>
        </p:txBody>
      </p:sp>
      <p:sp>
        <p:nvSpPr>
          <p:cNvPr id="121" name="PlaceHolder 2"/>
          <p:cNvSpPr>
            <a:spLocks noGrp="1"/>
          </p:cNvSpPr>
          <p:nvPr>
            <p:ph/>
          </p:nvPr>
        </p:nvSpPr>
        <p:spPr>
          <a:xfrm>
            <a:off x="457200" y="1600200"/>
            <a:ext cx="8229600" cy="468648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قترح فيرنون تنظيماً هرمياً لبنية الذكاء تتألف من عدة مستويات </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ام : يرتبط بكافة القدرات العقلية الأخرى.</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لفظية : يتعلق بالطلاقة اللغوية والقدرات اللفظ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ثانوية : تتعلق بقدرات التفكير الابتكاري وحل المشكلات.</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مكانية والميكانيكية : تتعلق بقدرات إدراك المكان والموقع والحج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ارنر)</a:t>
            </a:r>
            <a:endParaRPr b="0" lang="en-US" sz="4400" spc="-1" strike="noStrike">
              <a:solidFill>
                <a:srgbClr val="999900"/>
              </a:solidFill>
              <a:latin typeface="Garamond"/>
            </a:endParaRPr>
          </a:p>
        </p:txBody>
      </p:sp>
      <p:sp>
        <p:nvSpPr>
          <p:cNvPr id="123" name="PlaceHolder 2"/>
          <p:cNvSpPr>
            <a:spLocks noGrp="1"/>
          </p:cNvSpPr>
          <p:nvPr>
            <p:ph/>
          </p:nvPr>
        </p:nvSpPr>
        <p:spPr>
          <a:xfrm>
            <a:off x="457200" y="1643040"/>
            <a:ext cx="8229600" cy="4829040"/>
          </a:xfrm>
          <a:prstGeom prst="rect">
            <a:avLst/>
          </a:prstGeom>
          <a:noFill/>
          <a:ln w="0">
            <a:noFill/>
          </a:ln>
        </p:spPr>
        <p:txBody>
          <a:bodyPr anchor="t">
            <a:normAutofit fontScale="91000"/>
          </a:bodyPr>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رى جارنر أن بنية الذكاء معقدة تتألف من عدد كبير من القدرات المنفصلة والمستقلة نسبياً عن بعضها البعض.</a:t>
            </a:r>
            <a:endParaRPr b="0" lang="en-US" sz="2400" spc="-1" strike="noStrike">
              <a:solidFill>
                <a:srgbClr val="000000"/>
              </a:solidFill>
              <a:latin typeface="Verdana"/>
            </a:endParaRPr>
          </a:p>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صنف سبعة أنواع من الذكاء:</a:t>
            </a:r>
            <a:endParaRPr b="0" lang="en-US" sz="24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لغوي: يتمثل في الحساسية للأصوات والمقاطع والمفردات والمعاني اللغوي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نطق الرياضي : يتمثل في القدرة على الإستدلال الرياضي وإتقان المهمات الرياضية العددي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وسيقي: يتمثل في القدرة على إنتاج وابتكار الإيقاعات.</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كاني: يتمثل في القدرة على إدراك المكان والموقع والشكل والفراغ.</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حركي: يتمثل في القدرة على السيطرة على الحركات الجسمية المختلف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اجتماعي: يتمثل في القدرة على فهم الآخرين والاستجابة بشكل لائق ولبق.</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شخصي: يتمثل في القدرة على التعرف على المشاعر الذاتي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ستيرنبرغ في الذكاء</a:t>
            </a:r>
            <a:endParaRPr b="0" lang="en-US" sz="4400" spc="-1" strike="noStrike">
              <a:solidFill>
                <a:srgbClr val="999900"/>
              </a:solidFill>
              <a:latin typeface="Garamond"/>
            </a:endParaRPr>
          </a:p>
        </p:txBody>
      </p:sp>
      <p:sp>
        <p:nvSpPr>
          <p:cNvPr id="125" name="PlaceHolder 2"/>
          <p:cNvSpPr>
            <a:spLocks noGrp="1"/>
          </p:cNvSpPr>
          <p:nvPr>
            <p:ph/>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وصل ستيرنبرغ</a:t>
            </a:r>
            <a:r>
              <a:rPr b="1" lang="ar-SA" sz="2400" spc="-1" strike="noStrike">
                <a:solidFill>
                  <a:srgbClr val="000000"/>
                </a:solidFill>
                <a:latin typeface="Verdana"/>
              </a:rPr>
              <a:t> </a:t>
            </a:r>
            <a:r>
              <a:rPr b="0" lang="ar-SA" sz="2400" spc="-1" strike="noStrike">
                <a:solidFill>
                  <a:srgbClr val="000000"/>
                </a:solidFill>
                <a:latin typeface="Verdana"/>
              </a:rPr>
              <a:t>إلى النظرية الثلاثية للذكاء , حيث تتألف بنية الذكاء من ثلاثة أبعاد</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بعد المكونات: يشير إلى العمليات المعرفية وتتألف من ثلاث عمليات رئيسية</a:t>
            </a:r>
            <a:endParaRPr b="0" lang="en-US" sz="24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مليات الماورائية: تتمثل في عمليات التنفيذ المعرفية المتقدمة المستخدمة للتخطيط.</a:t>
            </a:r>
            <a:endParaRPr b="0" lang="en-US" sz="20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مليات الأدائية: تتمثل في العمليات المعرفية الحقيقة المستخدمة للتنفيذ.</a:t>
            </a:r>
            <a:endParaRPr b="0" lang="en-US" sz="20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مليات اكتساب المهارة: تتمثل في العمليات العرفية التي تتيح استرجاع الخبرات السابقة.</a:t>
            </a:r>
            <a:endParaRPr b="0" lang="en-US" sz="20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بعد السياقي: يشير إلى السياق البيئي الفيزيقي الذي يحدث فيه السلوك الذكي ويتضمن: الذكاء الأكاديمي, والذكاء العملي , والذكاء الابتكاري.</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بعد الخبرات: يتمثل في القدرة على الربط بين خبرات الفرد الخاصة والسلوك الذك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قياس الذكاء</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برز شاركوت وجانيت أهمية الفروق الفرد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صمم سيجان لوحة الأشكال التي تدخل ضمن كثير من الاختبارات الأدائ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مل بينيه على تصميم التجارب التي تقيس الذكاء عن طريق العمليات الحساب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ضع فونت أول معمل تجريبي في علم النفس ودارت فيه البحوث حول قياس الإحساسات.</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خرج أورهن عدة إختبارات في الإدراك.</a:t>
            </a:r>
            <a:endParaRPr b="0" lang="en-US" sz="2800" spc="-1" strike="noStrike">
              <a:solidFill>
                <a:srgbClr val="000000"/>
              </a:solidFill>
              <a:latin typeface="Verdan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وزيع درجات الذكاء</a:t>
            </a: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إذا طبق اختبار ستاندفورد - بينيه على مجتمع ما فإنه يتوقع أن يقع ذكاء </a:t>
            </a:r>
            <a:r>
              <a:rPr b="0" lang="ar-SA" sz="2800" spc="-1" strike="noStrike">
                <a:solidFill>
                  <a:srgbClr val="000000"/>
                </a:solidFill>
                <a:latin typeface="Verdana"/>
              </a:rPr>
              <a:t>50</a:t>
            </a:r>
            <a:r>
              <a:rPr b="0" lang="ar-SA" sz="2800" spc="-1" strike="noStrike">
                <a:solidFill>
                  <a:srgbClr val="000000"/>
                </a:solidFill>
                <a:latin typeface="Verdana"/>
              </a:rPr>
              <a:t>% فوق المتوسط.</a:t>
            </a:r>
            <a:endParaRPr b="0" lang="en-US" sz="2800" spc="-1" strike="noStrike">
              <a:solidFill>
                <a:srgbClr val="000000"/>
              </a:solidFill>
              <a:latin typeface="Verdana"/>
            </a:endParaRPr>
          </a:p>
          <a:p>
            <a:pPr marL="339480" indent="-33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مكن توزيع الأفراد إلى فئات حسب درجات ذكائهم كما يلي:</a:t>
            </a:r>
            <a:endParaRPr b="0" lang="en-US" sz="28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موهوبين عقليا: من </a:t>
            </a:r>
            <a:r>
              <a:rPr b="0" lang="ar-SA" sz="2400" spc="-1" strike="noStrike">
                <a:solidFill>
                  <a:srgbClr val="000000"/>
                </a:solidFill>
                <a:latin typeface="Verdana"/>
              </a:rPr>
              <a:t>131</a:t>
            </a:r>
            <a:r>
              <a:rPr b="0" lang="ar-SA" sz="2400" spc="-1" strike="noStrike">
                <a:solidFill>
                  <a:srgbClr val="000000"/>
                </a:solidFill>
                <a:latin typeface="Verdana"/>
              </a:rPr>
              <a:t> درجة فأكثر.</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أذكياء: من </a:t>
            </a:r>
            <a:r>
              <a:rPr b="0" lang="ar-SA" sz="2400" spc="-1" strike="noStrike">
                <a:solidFill>
                  <a:srgbClr val="000000"/>
                </a:solidFill>
                <a:latin typeface="Verdana"/>
              </a:rPr>
              <a:t>121</a:t>
            </a:r>
            <a:r>
              <a:rPr b="0" lang="ar-SA" sz="2400" spc="-1" strike="noStrike">
                <a:solidFill>
                  <a:srgbClr val="000000"/>
                </a:solidFill>
                <a:latin typeface="Verdana"/>
              </a:rPr>
              <a:t> إلى </a:t>
            </a:r>
            <a:r>
              <a:rPr b="0" lang="ar-SA" sz="2400" spc="-1" strike="noStrike">
                <a:solidFill>
                  <a:srgbClr val="000000"/>
                </a:solidFill>
                <a:latin typeface="Verdana"/>
              </a:rPr>
              <a:t>131</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ما فوق المتوسط: من </a:t>
            </a:r>
            <a:r>
              <a:rPr b="0" lang="ar-SA" sz="2400" spc="-1" strike="noStrike">
                <a:solidFill>
                  <a:srgbClr val="000000"/>
                </a:solidFill>
                <a:latin typeface="Verdana"/>
              </a:rPr>
              <a:t>115</a:t>
            </a:r>
            <a:r>
              <a:rPr b="0" lang="ar-SA" sz="2400" spc="-1" strike="noStrike">
                <a:solidFill>
                  <a:srgbClr val="000000"/>
                </a:solidFill>
                <a:latin typeface="Verdana"/>
              </a:rPr>
              <a:t> إلى </a:t>
            </a:r>
            <a:r>
              <a:rPr b="0" lang="ar-SA" sz="2400" spc="-1" strike="noStrike">
                <a:solidFill>
                  <a:srgbClr val="000000"/>
                </a:solidFill>
                <a:latin typeface="Verdana"/>
              </a:rPr>
              <a:t>120</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متوسط: من </a:t>
            </a:r>
            <a:r>
              <a:rPr b="0" lang="ar-SA" sz="2400" spc="-1" strike="noStrike">
                <a:solidFill>
                  <a:srgbClr val="000000"/>
                </a:solidFill>
                <a:latin typeface="Verdana"/>
              </a:rPr>
              <a:t>90</a:t>
            </a:r>
            <a:r>
              <a:rPr b="0" lang="ar-SA" sz="2400" spc="-1" strike="noStrike">
                <a:solidFill>
                  <a:srgbClr val="000000"/>
                </a:solidFill>
                <a:latin typeface="Verdana"/>
              </a:rPr>
              <a:t> إلى </a:t>
            </a:r>
            <a:r>
              <a:rPr b="0" lang="ar-SA" sz="2400" spc="-1" strike="noStrike">
                <a:solidFill>
                  <a:srgbClr val="000000"/>
                </a:solidFill>
                <a:latin typeface="Verdana"/>
              </a:rPr>
              <a:t>109</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ضعف العقلي: من </a:t>
            </a:r>
            <a:r>
              <a:rPr b="0" lang="ar-SA" sz="2400" spc="-1" strike="noStrike">
                <a:solidFill>
                  <a:srgbClr val="000000"/>
                </a:solidFill>
                <a:latin typeface="Verdana"/>
              </a:rPr>
              <a:t>70</a:t>
            </a:r>
            <a:r>
              <a:rPr b="0" lang="ar-SA" sz="2400" spc="-1" strike="noStrike">
                <a:solidFill>
                  <a:srgbClr val="000000"/>
                </a:solidFill>
                <a:latin typeface="Verdana"/>
              </a:rPr>
              <a:t> إلى </a:t>
            </a:r>
            <a:r>
              <a:rPr b="0" lang="ar-SA" sz="2400" spc="-1" strike="noStrike">
                <a:solidFill>
                  <a:srgbClr val="000000"/>
                </a:solidFill>
                <a:latin typeface="Verdana"/>
              </a:rPr>
              <a:t>79</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تخلف العقلي: من </a:t>
            </a:r>
            <a:r>
              <a:rPr b="0" lang="ar-SA" sz="2400" spc="-1" strike="noStrike">
                <a:solidFill>
                  <a:srgbClr val="000000"/>
                </a:solidFill>
                <a:latin typeface="Verdana"/>
              </a:rPr>
              <a:t>69</a:t>
            </a:r>
            <a:r>
              <a:rPr b="0" lang="ar-SA" sz="2400" spc="-1" strike="noStrike">
                <a:solidFill>
                  <a:srgbClr val="000000"/>
                </a:solidFill>
                <a:latin typeface="Verdana"/>
              </a:rPr>
              <a:t> درجة وما دون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صنيف اختبارات الذكاء</a:t>
            </a:r>
            <a:endParaRPr b="0" lang="en-US" sz="4400" spc="-1" strike="noStrike">
              <a:solidFill>
                <a:srgbClr val="999900"/>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ختلف الاختبارات فيما بينها في بعض الاعتبارات (كالاعمار الزمنية للفئة وطريقة تقديم وإدارة الاختبار) ويمكن تصنيف الاختبارات على النحو التالي</a:t>
            </a:r>
            <a:endParaRPr b="0" lang="en-US" sz="2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فردية مقابل الاختبارات الجماعية :</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اختبارات الفردية هي التي تعطى لمفحوص واحد في نفس الوقت. والاختبارات الجماعية هي التي تعطى لعدد من المفحوصين في الوقت نفسه.</a:t>
            </a:r>
            <a:endParaRPr b="0" lang="en-US" sz="1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لفظية مقابل الأدائية:</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تطلب الاختبارات اللفظية الاستجابة إلى أسئلتها لغوياً. والاختبارات الأدائية تتطلب من المفحوصين القيام بعض الأداءات الحركية.</a:t>
            </a:r>
            <a:endParaRPr b="0" lang="en-US" sz="1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متحررة ثقافياً مقابل تلك التي تلتزم بثقافة معينة :</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تأثر الإجابة ببعض اختبارات الذكاء بالمحتوى الثقافي السائد أو بثقافة معينة.</a:t>
            </a:r>
            <a:endParaRPr b="0" lang="en-US" sz="1800" spc="-1" strike="noStrike">
              <a:solidFill>
                <a:srgbClr val="000000"/>
              </a:solidFill>
              <a:latin typeface="Verdana"/>
            </a:endParaRPr>
          </a:p>
          <a:p>
            <a:pPr lvl="1" marL="72072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بين الوراثة والبيئ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469440" indent="-469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العديد من علماء النفس يعتبرون الذكاء قدرة كامنة ذات أصل تكوني تتكون في ضوء المورثات الجينية واستند هؤلاء على براهين نذكر منها:</a:t>
            </a:r>
            <a:endParaRPr b="0" lang="en-US" sz="28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ثبت جالتون (</a:t>
            </a:r>
            <a:r>
              <a:rPr b="0" lang="ar-SA" sz="2400" spc="-1" strike="noStrike">
                <a:solidFill>
                  <a:srgbClr val="000000"/>
                </a:solidFill>
                <a:latin typeface="Verdana"/>
              </a:rPr>
              <a:t>1812</a:t>
            </a:r>
            <a:r>
              <a:rPr b="0" lang="ar-SA" sz="2400" spc="-1" strike="noStrike">
                <a:solidFill>
                  <a:srgbClr val="000000"/>
                </a:solidFill>
                <a:latin typeface="Verdana"/>
              </a:rPr>
              <a:t>-</a:t>
            </a:r>
            <a:r>
              <a:rPr b="0" lang="ar-SA" sz="2400" spc="-1" strike="noStrike">
                <a:solidFill>
                  <a:srgbClr val="000000"/>
                </a:solidFill>
                <a:latin typeface="Verdana"/>
              </a:rPr>
              <a:t>1911</a:t>
            </a:r>
            <a:r>
              <a:rPr b="0" lang="ar-SA" sz="2400" spc="-1" strike="noStrike">
                <a:solidFill>
                  <a:srgbClr val="000000"/>
                </a:solidFill>
                <a:latin typeface="Verdana"/>
              </a:rPr>
              <a:t>) أن أبناء الأذكياء يكونون أذكياء مثلهم عندما درس القضاة ورجال السياسة والوزارات والمشهورين.</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قام تيرمان بدراسة على أكثر من طفل موهوب ومثلهم غير موهوب ووصل إلى نتائج حيث أن الموهوبين انحدروا من أباء موهوبين.</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صل ارتباط الذكاء بين التوائم </a:t>
            </a:r>
            <a:r>
              <a:rPr b="0" lang="ar-SA" sz="2400" spc="-1" strike="noStrike">
                <a:solidFill>
                  <a:srgbClr val="000000"/>
                </a:solidFill>
                <a:latin typeface="Verdana"/>
              </a:rPr>
              <a:t>0.9</a:t>
            </a:r>
            <a:r>
              <a:rPr b="0" lang="ar-SA" sz="2400" spc="-1" strike="noStrike">
                <a:solidFill>
                  <a:srgbClr val="000000"/>
                </a:solidFill>
                <a:latin typeface="Verdana"/>
              </a:rPr>
              <a:t> والأخوة </a:t>
            </a:r>
            <a:r>
              <a:rPr b="0" lang="ar-SA" sz="2400" spc="-1" strike="noStrike">
                <a:solidFill>
                  <a:srgbClr val="000000"/>
                </a:solidFill>
                <a:latin typeface="Verdana"/>
              </a:rPr>
              <a:t>0.6</a:t>
            </a:r>
            <a:r>
              <a:rPr b="0" lang="ar-SA" sz="2400" spc="-1" strike="noStrike">
                <a:solidFill>
                  <a:srgbClr val="000000"/>
                </a:solidFill>
                <a:latin typeface="Verdana"/>
              </a:rPr>
              <a:t> وأبناء العم </a:t>
            </a:r>
            <a:r>
              <a:rPr b="0" lang="ar-SA" sz="2400" spc="-1" strike="noStrike">
                <a:solidFill>
                  <a:srgbClr val="000000"/>
                </a:solidFill>
                <a:latin typeface="Verdana"/>
              </a:rPr>
              <a:t>0.35</a:t>
            </a:r>
            <a:r>
              <a:rPr b="0" lang="ar-SA" sz="2400" spc="-1" strike="noStrike">
                <a:solidFill>
                  <a:srgbClr val="000000"/>
                </a:solidFill>
                <a:latin typeface="Verdana"/>
              </a:rPr>
              <a:t> ومن لا تربطهم صلة صفرا.</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أطفال اللقطة الذين يتربون في بيئة واحدة لا يتشابهون في قدرات الذكاء.</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دلت الدراسات على عدم القدرة على رفع معدل الذكاء لمن هم غير أذكيا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عريف الذكاء وطبيعته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لم يتفق علماء النفس على تعريف واحد للذكاء ، واختلفوا حوله:</a:t>
            </a:r>
            <a:endParaRPr b="0" lang="en-US" sz="28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ل الذكاء قدرة فطرية موروثة أم مكتسب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ل الذكاء قدرة واحدة عامة أم مجموعة قدرات منفصل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ذا كان الذكاء مجموعة من القدرات المنفصلة، فما هي قدرات الذكاء؟</a:t>
            </a:r>
            <a:endParaRPr b="0" lang="en-US" sz="2400" spc="-1" strike="noStrike">
              <a:solidFill>
                <a:srgbClr val="000000"/>
              </a:solidFill>
              <a:latin typeface="Verdana"/>
            </a:endParaRPr>
          </a:p>
          <a:p>
            <a:pPr marL="291600" indent="-2916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هناك ثلاثة اتجاهات لتعريف الذكاء:</a:t>
            </a:r>
            <a:endParaRPr b="0" lang="en-US" sz="28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قدرة عضوية لها أساس في التكوين الجسمي وتتأثر بالعوامل الوراثي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ناتج عن التفاعل الاجتماعي ، ويتأثر إيجابيا بالثقافة المتمدنة بصرف النظر عن الاستعدادات الوراثي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مرتبط بتقويم السلوك الذي تظهره الاختبارات ، فيحكم على الذكاء من مظاهر السلوك والتي تشمل الجانبين الوراثي والبيئ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بين الوراثة والبيئ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قد قام جنسن وغيره باعتبار أن </a:t>
            </a:r>
            <a:r>
              <a:rPr b="0" lang="ar-SA" sz="2800" spc="-1" strike="noStrike">
                <a:solidFill>
                  <a:srgbClr val="000000"/>
                </a:solidFill>
                <a:latin typeface="Verdana"/>
              </a:rPr>
              <a:t>80</a:t>
            </a:r>
            <a:r>
              <a:rPr b="0" lang="ar-SA" sz="2800" spc="-1" strike="noStrike">
                <a:solidFill>
                  <a:srgbClr val="000000"/>
                </a:solidFill>
                <a:latin typeface="Verdana"/>
              </a:rPr>
              <a:t>% من الذكاء يعود إلى عوامل وراثية و </a:t>
            </a:r>
            <a:r>
              <a:rPr b="0" lang="ar-SA" sz="2800" spc="-1" strike="noStrike">
                <a:solidFill>
                  <a:srgbClr val="000000"/>
                </a:solidFill>
                <a:latin typeface="Verdana"/>
              </a:rPr>
              <a:t>20</a:t>
            </a:r>
            <a:r>
              <a:rPr b="0" lang="ar-SA" sz="2800" spc="-1" strike="noStrike">
                <a:solidFill>
                  <a:srgbClr val="000000"/>
                </a:solidFill>
                <a:latin typeface="Verdana"/>
              </a:rPr>
              <a:t>% من الذكاء إلى عوامل بيئية ، وينظر هؤلاء إلى الذكاء على أنه سمة شخصية تختلف باختلاف العرق والجنس بصرف النظر عن عوامل البيئة والثقافة والاقتصاد ، وأن البرامج التعليمية تسهم فقط في زيادة قدرات الذكاء لدى الأفراد ضمن السقف الذي تحدده الإمكانات الوراثية لديهم.</a:t>
            </a:r>
            <a:endParaRPr b="0" lang="en-US" sz="2800" spc="-1" strike="noStrike">
              <a:solidFill>
                <a:srgbClr val="000000"/>
              </a:solidFill>
              <a:latin typeface="Verdana"/>
            </a:endParaRPr>
          </a:p>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ما أصحاب الإتجاه البيئي فيرون أن للعوامل البيئية دوراً كبيراً في تحديد قدرات الذكاء لدى الأفراد ، وكما أشارت الدراسات على أن ذكاء الفرد يتأثر بنسبة كبيرة بتربية الأسرة وأن الإخوة الأكبر سناً هم أكثر ذكاءً من إخوتهم الأقل عمر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علاقة الذكاء بالتحصيل الدراسي</a:t>
            </a:r>
            <a:endParaRPr b="0" lang="en-US" sz="4400" spc="-1" strike="noStrike">
              <a:solidFill>
                <a:srgbClr val="999900"/>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شير الدراسات إلى ارتباط الذكاء بعدد من الخصائص الشخصية كالدافعية ومستوى الطموح والابتكار والتحصيل الدراسي وغيره. ولوحظ أن دافعية الأفراد ذوي الذكاء نحو الإنجاز والتحصيل تكون أعلى منها عند الأفراد ذوي الذكاء المنخفض حيث وجد أن معامل  الإرتباط بين الذكاء والتحصيل يساوي </a:t>
            </a:r>
            <a:r>
              <a:rPr b="0" lang="ar-SA" sz="2800" spc="-1" strike="noStrike">
                <a:solidFill>
                  <a:srgbClr val="000000"/>
                </a:solidFill>
                <a:latin typeface="Verdana"/>
              </a:rPr>
              <a:t>0.65</a:t>
            </a:r>
            <a:r>
              <a:rPr b="0" lang="ar-SA" sz="2800" spc="-1" strike="noStrike">
                <a:solidFill>
                  <a:srgbClr val="000000"/>
                </a:solidFill>
                <a:latin typeface="Verdana"/>
              </a:rPr>
              <a:t> ووجدت دراسة أخرى أن المعامل موجب مقداره </a:t>
            </a:r>
            <a:r>
              <a:rPr b="0" lang="ar-SA" sz="2800" spc="-1" strike="noStrike">
                <a:solidFill>
                  <a:srgbClr val="000000"/>
                </a:solidFill>
                <a:latin typeface="Verdana"/>
              </a:rPr>
              <a:t>0.5</a:t>
            </a:r>
            <a:r>
              <a:rPr b="0" lang="ar-SA" sz="2800" spc="-1" strike="noStrike">
                <a:solidFill>
                  <a:srgbClr val="000000"/>
                </a:solidFill>
                <a:latin typeface="Verdana"/>
              </a:rPr>
              <a:t> .</a:t>
            </a:r>
            <a:endParaRPr b="0" lang="en-US" sz="2800" spc="-1" strike="noStrike">
              <a:solidFill>
                <a:srgbClr val="000000"/>
              </a:solidFill>
              <a:latin typeface="Verdana"/>
            </a:endParaRPr>
          </a:p>
          <a:p>
            <a:pPr marL="298440" indent="-298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حتاج كل مرحلة تعليمية إلى ما يناسبها من الذكاء فالدراسة الجامعية تحتاج إلى مستوى ذكاء يتراوح في المدى المتوسط إلى </a:t>
            </a:r>
            <a:r>
              <a:rPr b="0" lang="ar-SA" sz="2800" spc="-1" strike="noStrike">
                <a:solidFill>
                  <a:srgbClr val="000000"/>
                </a:solidFill>
                <a:latin typeface="Verdana"/>
              </a:rPr>
              <a:t>130</a:t>
            </a:r>
            <a:r>
              <a:rPr b="0" lang="ar-SA" sz="2800" spc="-1" strike="noStrike">
                <a:solidFill>
                  <a:srgbClr val="000000"/>
                </a:solidFill>
                <a:latin typeface="Verdana"/>
              </a:rPr>
              <a:t>-</a:t>
            </a:r>
            <a:r>
              <a:rPr b="0" lang="ar-SA" sz="2800" spc="-1" strike="noStrike">
                <a:solidFill>
                  <a:srgbClr val="000000"/>
                </a:solidFill>
                <a:latin typeface="Verdana"/>
              </a:rPr>
              <a:t>160</a:t>
            </a:r>
            <a:r>
              <a:rPr b="0" lang="ar-SA" sz="2800" spc="-1" strike="noStrike">
                <a:solidFill>
                  <a:srgbClr val="000000"/>
                </a:solidFill>
                <a:latin typeface="Verdana"/>
              </a:rPr>
              <a:t> درجة والثانوي </a:t>
            </a:r>
            <a:r>
              <a:rPr b="0" lang="ar-SA" sz="2800" spc="-1" strike="noStrike">
                <a:solidFill>
                  <a:srgbClr val="000000"/>
                </a:solidFill>
                <a:latin typeface="Verdana"/>
              </a:rPr>
              <a:t>110</a:t>
            </a:r>
            <a:r>
              <a:rPr b="0" lang="ar-SA" sz="2800" spc="-1" strike="noStrike">
                <a:solidFill>
                  <a:srgbClr val="000000"/>
                </a:solidFill>
                <a:latin typeface="Verdana"/>
              </a:rPr>
              <a:t>-</a:t>
            </a:r>
            <a:r>
              <a:rPr b="0" lang="ar-SA" sz="2800" spc="-1" strike="noStrike">
                <a:solidFill>
                  <a:srgbClr val="000000"/>
                </a:solidFill>
                <a:latin typeface="Verdana"/>
              </a:rPr>
              <a:t>145</a:t>
            </a:r>
            <a:r>
              <a:rPr b="0" lang="ar-SA" sz="2800" spc="-1" strike="noStrike">
                <a:solidFill>
                  <a:srgbClr val="000000"/>
                </a:solidFill>
                <a:latin typeface="Verdana"/>
              </a:rPr>
              <a:t> درجة والإعدادي إلى </a:t>
            </a:r>
            <a:r>
              <a:rPr b="0" lang="ar-SA" sz="2800" spc="-1" strike="noStrike">
                <a:solidFill>
                  <a:srgbClr val="000000"/>
                </a:solidFill>
                <a:latin typeface="Verdana"/>
              </a:rPr>
              <a:t>105</a:t>
            </a:r>
            <a:r>
              <a:rPr b="0" lang="ar-SA" sz="2800" spc="-1" strike="noStrike">
                <a:solidFill>
                  <a:srgbClr val="000000"/>
                </a:solidFill>
                <a:latin typeface="Verdana"/>
              </a:rPr>
              <a:t>-</a:t>
            </a:r>
            <a:r>
              <a:rPr b="0" lang="ar-SA" sz="2800" spc="-1" strike="noStrike">
                <a:solidFill>
                  <a:srgbClr val="000000"/>
                </a:solidFill>
                <a:latin typeface="Verdana"/>
              </a:rPr>
              <a:t>140</a:t>
            </a:r>
            <a:r>
              <a:rPr b="0" lang="ar-SA" sz="2800" spc="-1" strike="noStrike">
                <a:solidFill>
                  <a:srgbClr val="000000"/>
                </a:solidFill>
                <a:latin typeface="Verdana"/>
              </a:rPr>
              <a:t> درجة والمتوسط إلى </a:t>
            </a:r>
            <a:r>
              <a:rPr b="0" lang="ar-SA" sz="2800" spc="-1" strike="noStrike">
                <a:solidFill>
                  <a:srgbClr val="000000"/>
                </a:solidFill>
                <a:latin typeface="Verdana"/>
              </a:rPr>
              <a:t>100115</a:t>
            </a:r>
            <a:r>
              <a:rPr b="0" lang="ar-SA" sz="2800" spc="-1" strike="noStrike">
                <a:solidFill>
                  <a:srgbClr val="000000"/>
                </a:solidFill>
                <a:latin typeface="Verdana"/>
              </a:rPr>
              <a:t>. وترجع حالات الفشل الدراسي إلى قصور الذكاء وعدم تناسبه مع المرحلة الدراسية التي يمر بها التلمي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01480" indent="-501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تعريف الطبي للإعاقة العقلية:</a:t>
            </a:r>
            <a:r>
              <a:rPr b="0" lang="ar-SA" sz="2800" spc="-1" strike="noStrike">
                <a:solidFill>
                  <a:srgbClr val="000000"/>
                </a:solidFill>
                <a:latin typeface="Verdana"/>
              </a:rPr>
              <a:t> تلف أو عدم اكتمال نمو خلايا المخ الذي يحدث قبل أو بعد الولادة أو أثنائها مما يسبب عدم قدرة الفرد على القيام بالأعمال العقلية الاعتيادية.</a:t>
            </a:r>
            <a:endParaRPr b="0" lang="en-US" sz="2800" spc="-1" strike="noStrike">
              <a:solidFill>
                <a:srgbClr val="000000"/>
              </a:solidFill>
              <a:latin typeface="Verdana"/>
            </a:endParaRPr>
          </a:p>
          <a:p>
            <a:pPr marL="501480" indent="-501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سباب الإعاقة العقلية:</a:t>
            </a:r>
            <a:endParaRPr b="0" lang="en-US" sz="2800" spc="-1" strike="noStrike">
              <a:solidFill>
                <a:srgbClr val="000000"/>
              </a:solidFill>
              <a:latin typeface="Verdana"/>
            </a:endParaRPr>
          </a:p>
          <a:p>
            <a:pPr lvl="1" marL="859320" indent="-42948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ولاً: أسباب ما قبل الولادة: </a:t>
            </a:r>
            <a:r>
              <a:rPr b="0" lang="ar-SA" sz="2400" spc="-1" strike="noStrike">
                <a:solidFill>
                  <a:srgbClr val="000000"/>
                </a:solidFill>
                <a:latin typeface="Verdana"/>
              </a:rPr>
              <a:t>تضم هذه الأسباب مجموعتين:</a:t>
            </a:r>
            <a:endParaRPr b="0" lang="en-US" sz="2400" spc="-1" strike="noStrike">
              <a:solidFill>
                <a:srgbClr val="000000"/>
              </a:solidFill>
              <a:latin typeface="Verdana"/>
            </a:endParaRPr>
          </a:p>
          <a:p>
            <a:pPr lvl="2" marL="1217520" indent="-35784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وامل الجينية: انتقال الجينات المتنحية والتي تحمل صفات غير نقية من الأباء إلى الأبناء أو  بسبب خلل تركيب الجينات وانقسامها.</a:t>
            </a:r>
            <a:endParaRPr b="0" lang="en-US" sz="2000" spc="-1" strike="noStrike">
              <a:solidFill>
                <a:srgbClr val="000000"/>
              </a:solidFill>
              <a:latin typeface="Verdana"/>
            </a:endParaRPr>
          </a:p>
          <a:p>
            <a:pPr lvl="2" marL="1217520" indent="-35784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وامل غير الجينية: وتتمثل في العوامل البيئية التي تؤثر على الجنين في البيئة الرحمية مثل: الأمراض التي تصيب الأم الحامل ، سوء التغذية ، التعرض للأشعة الصينية ،تعاطي العقاقير والأدوي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lvl="1" marL="914400" indent="-45720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نياً: الأسباب التي تحدث أثناء الولادة:</a:t>
            </a:r>
            <a:endParaRPr b="0" lang="en-US" sz="2400" spc="-1" strike="noStrike">
              <a:solidFill>
                <a:srgbClr val="000000"/>
              </a:solidFill>
              <a:latin typeface="Verdana"/>
            </a:endParaRPr>
          </a:p>
          <a:p>
            <a:pPr lvl="1" marL="9144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نقص الأكسجين الوارد للجنين بسبب الولادة العسرة , أو زيادة نسبة الهرمون الذي ينشط عملية الولادة , أو الصدمات والكدمات  التي يتعرض لها الجنين والتي من شأنها أن تؤدي إلى تلف في خلايا الدماغ لديه وبالتالي الإصابة بالتخلف العقلي.</a:t>
            </a:r>
            <a:endParaRPr b="0" lang="en-US" sz="2400" spc="-1" strike="noStrike">
              <a:solidFill>
                <a:srgbClr val="000000"/>
              </a:solidFill>
              <a:latin typeface="Verdana"/>
            </a:endParaRPr>
          </a:p>
          <a:p>
            <a:pPr lvl="1" marL="914400" indent="-45720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لثاً: أسباب ما بعدد الولادة:</a:t>
            </a:r>
            <a:br>
              <a:rPr sz="2400"/>
            </a:br>
            <a:r>
              <a:rPr b="0" lang="ar-SA" sz="2400" spc="-1" strike="noStrike">
                <a:solidFill>
                  <a:srgbClr val="000000"/>
                </a:solidFill>
                <a:latin typeface="Verdana"/>
              </a:rPr>
              <a:t>وتتمثل في جملة من العوامل التي تؤثر على الجنين بعد الولادة منها سوء التغذية, التعرض إلى الحوادث والصدمات والإصابة بالأمراض مثل السحايا والحصب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برامج تدريس المعوقين:</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من المعروف أن المعوقين عقلياً يختلفون عن الأفراد العاديين اجتماعياً وعقلياً وحركياً , الأمر الذي يجعل من البرامج والمناهج المعدة للعاديين غير مناسبة لهؤلاء المعوقي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صعوبات التعلم</a:t>
            </a:r>
            <a:endParaRPr b="0" lang="en-US" sz="4400" spc="-1" strike="noStrike">
              <a:solidFill>
                <a:srgbClr val="999900"/>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ير مفهوم صعوبات التعلم إلى تلك الفئة من الأفراد الذين يظهرون اضطرابات أو مشكلات في واحدة أو أكثر من العمليات والوظائف النفسية التي تتضمن فهم اللغة المكتوبة واستخدامها أو اللغة المنطوقة. وقد ترجع مثل هذه الصعوبات إلى عوامل تتعلق بخلل وظيفي بالدماغ أو بعدم نمو الوظائف الدماغية. ومثل هذه الفئة تحتاج إلى برامج تعليمية خاصة تعتمد أساليب المناهج الفردية حيث أنها تختلف باختلاف نوع الصعوبة التي يعاني منها الفرد.</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ير مفهوم الأنماط المعرفية إلى الفروق الفردية بين الأفراد في إدراك المعلومات ومعالجتها وتنظيمها وتذكرها.</a:t>
            </a:r>
            <a:endParaRPr b="0" lang="en-US" sz="2800" spc="-1" strike="noStrike">
              <a:solidFill>
                <a:srgbClr val="000000"/>
              </a:solidFill>
              <a:latin typeface="Verdana"/>
            </a:endParaRPr>
          </a:p>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لأنماط المعرفية مسميات أخرى مثل أساليب التحكم المعرفية أو الأبنية المعرفية أو الاستراتيجيات المعرفية.</a:t>
            </a:r>
            <a:endParaRPr b="0" lang="en-US" sz="2800" spc="-1" strike="noStrike">
              <a:solidFill>
                <a:srgbClr val="000000"/>
              </a:solidFill>
              <a:latin typeface="Verdana"/>
            </a:endParaRPr>
          </a:p>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تصنف الأنماط المعرفية إلى:</a:t>
            </a:r>
            <a:endParaRPr b="0" lang="en-US" sz="28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ولاً: النمط المعتمد على المجال المقابل:</a:t>
            </a:r>
            <a:endParaRPr b="0" lang="en-US" sz="2400" spc="-1" strike="noStrike">
              <a:solidFill>
                <a:srgbClr val="000000"/>
              </a:solidFill>
              <a:latin typeface="Verdana"/>
            </a:endParaRPr>
          </a:p>
          <a:p>
            <a:pPr lvl="1" marL="698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بمدى إلتزام الفرد بالسياق الذي يحدث فيه المثير أو عدم التزامه به. فهو يشير إلى الفروق الفردية في إدراك الموقف ككل بكافة تفاصيله أو إدراك جزء من ذلك الموقف. فالأفراد الذين يعتمدون على المجال يدركون الموقف ككل ولا يستطيعون التركيز عليه كأجزاء منفصل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نياً: نمط التركيز مقابل التفحص:</a:t>
            </a:r>
            <a:endParaRPr b="0" lang="en-US" sz="2400" spc="-1" strike="noStrike">
              <a:solidFill>
                <a:srgbClr val="000000"/>
              </a:solidFill>
              <a:latin typeface="Verdana"/>
            </a:endParaRPr>
          </a:p>
          <a:p>
            <a:pPr lvl="1" marL="6984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a:t>
            </a:r>
            <a:r>
              <a:rPr b="0" lang="ar-SA" sz="2200" spc="-1" strike="noStrike">
                <a:solidFill>
                  <a:srgbClr val="000000"/>
                </a:solidFill>
                <a:latin typeface="Verdana"/>
              </a:rPr>
              <a:t>يتمثل في قدرة الأفراد على الانتباه والتركيز على الخبرات والمثيرات التي يواجهونها ، حيث هناك فرود فردية بين الأفراد من حيث سعة الانتباه التي يولونها للمثيرات والمواقف المتعددة ، فهناك فئة المتفحصين الذين يركزون انتباههم على الموقف ولا يتعجلون في وضع الفرضيات واتخاذ القرارات , في حين أن البعض الآخر يتصفون بعدم تركيز الانتباه والسرعة في تكوين الفرضيات.</a:t>
            </a:r>
            <a:endParaRPr b="0" lang="en-US" sz="2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لثاً: نمط التعقيد مقابل التبسيط: </a:t>
            </a:r>
            <a:endParaRPr b="0" lang="en-US" sz="2400" spc="-1" strike="noStrike">
              <a:solidFill>
                <a:srgbClr val="000000"/>
              </a:solidFill>
              <a:latin typeface="Verdana"/>
            </a:endParaRPr>
          </a:p>
          <a:p>
            <a:pPr lvl="1" marL="6984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a:t>
            </a:r>
            <a:r>
              <a:rPr b="0" lang="ar-SA" sz="2200" spc="-1" strike="noStrike">
                <a:solidFill>
                  <a:srgbClr val="000000"/>
                </a:solidFill>
                <a:latin typeface="Verdana"/>
              </a:rPr>
              <a:t>يشير إلى الفروق الفردية بين الأفراد في معالجة المواقف ولا سيما الاجتماعية منها. فالأفراد الذين يمتازون بالنمط التقليدي هم أكثر قدرة على تحليل المواقف والتعامل مع جميع أبعادها , في حين أن الأفراد الذين يمتازون بالنمط التبسيطي هم أكثر سطحية وأقل قدرة على إدراك أبعاد المواقف.</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رابعاً: نمط تحمل الغموض مقابل هدم تحمل الغموض:</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بقدرة الأفراد على تحمل أو عدم تحمل المواقف الغامضة ، فالبعض يظهر عدم الرضا والارتياح عند مواجهة المواقف المعقدة أو الغامضة ويتوجهون إلى مصادر أخرى , في حين أن هناك من يستطيع تحمل المواقف الغامضة ويعملون جاهدين على إدراكها وتفسيرها.</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خامساً: النمط الشمولي مقابل القصور:</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إلى الفروق الفردية بين الأفراد في إدراك الموقف بصورة شاملة متكاملة لا تقبل الجدل أو التناقض مقابل القصور في إدراك الموقف وتقبل التناقضات.</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4</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سادساً: نمط المخاطرة مقابل الحذر:</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هذا النمط إلى الفروق بين الأفراد في تقبل المخاطرة مقابل الحذر في اتخاذ القرارات وقبول المواقف غير التقليدية ، فالأفراد الذين يمتازون بالمخاطرة لديهم ميل إلى مواجهة المواقف الجديدة واتخاذ القرارات حيالها بعكس الأشخاص الحذرون.</a:t>
            </a:r>
            <a:endParaRPr b="0" lang="en-US" sz="2400" spc="-1" strike="noStrike">
              <a:solidFill>
                <a:srgbClr val="000000"/>
              </a:solidFill>
              <a:latin typeface="Verdana"/>
            </a:endParaRPr>
          </a:p>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سابعاً: نمط الضبط المتصلب مقابل المرن:</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إلى مدى تأثر الأفراد في مشتتات الانتباه والتناقضات المعرفية المرتبطة بالمواقف.</a:t>
            </a:r>
            <a:endParaRPr b="0" lang="en-US" sz="2400" spc="-1" strike="noStrike">
              <a:solidFill>
                <a:srgbClr val="000000"/>
              </a:solidFill>
              <a:latin typeface="Verdana"/>
            </a:endParaRPr>
          </a:p>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مناً: نمط التسوية مقابل الإبراز:</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في قدرة الذاكرة على استيعاب المعلومات والاستفادة من الخبرات السابق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عريف الذكاء وطبيعته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853160"/>
          </a:xfrm>
          <a:prstGeom prst="rect">
            <a:avLst/>
          </a:prstGeom>
          <a:noFill/>
          <a:ln w="0">
            <a:noFill/>
          </a:ln>
        </p:spPr>
        <p:txBody>
          <a:bodyPr anchor="t">
            <a:normAutofit fontScale="83000"/>
          </a:bodyPr>
          <a:p>
            <a:pPr marL="284400" indent="-284400" algn="r" rtl="1">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ن تعاريف الذكاء:</a:t>
            </a:r>
            <a:endParaRPr b="0" lang="en-US" sz="24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على اتخاذ اتجاه محدد والاستمرار فيه، والقدرة على الملائمة والنقد الذاتي [بينيه]</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نشاط فعال يعمل على التكامل وفهم العناصر المختلفة في شكل موحد له معنى [ابنجهاوس]</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العامة للفرد على ملائمة تفكيره وشعوره بالمواقف الجديدة وظروف الحياة [شترن]</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ما تقيسه اختبارات الذكاء [بورنج]</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على القيام بأوجه من النشاط تتميز بالصعوبة والتعقد والتحرر والاقتصاد والاندفاع والقسمة الاجتماعية وظهور الابتكارات والاحتفاظ بهذه الجوانب تحت ظروف تتطلب تركيز الجهد ومقاومة العوامل الانتقالية [ستودارد]</a:t>
            </a:r>
            <a:endParaRPr b="0" lang="en-US" sz="2000" spc="-1" strike="noStrike">
              <a:solidFill>
                <a:srgbClr val="000000"/>
              </a:solidFill>
              <a:latin typeface="Verdana"/>
            </a:endParaRPr>
          </a:p>
          <a:p>
            <a:pPr marL="284400" indent="-284400" algn="r" rtl="1">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عظم تعاريف الذكاء تجمع على وجود هذه القدرات في الذكاء:</a:t>
            </a:r>
            <a:endParaRPr b="0" lang="en-US" sz="24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علم واكتساب المعارف الحسية والمجردة ، والاستفادة من التعلم السابق في التعلم اللاحق</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حل المشكلات المألوفة وغير المألوفة من خلال توظيف المعارف والخبرات لمعالجة الموقف</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كيف مع الأوضاع والمواقف المادية والاجتماعية من خلال الاستجابة الفعالة ، وتشكيل العلاقات الاجتماعية المستمرة</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فكير المجرد باستخدام الرموز والمفاهيم المجردة التي ليس لها تمثيل مادي محسوس</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5</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اسعاً: النمط الاندفاعي مقابل التأمل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في وجود الفروق بين الأفراد في السرعة والدقة والتروي أثناء معالجتهم لموقف معي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الانفعالي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رف وكسلر الذكاء بأنه : قدرة الفرد الكلية على السلوك على نحو هادف والتفكير العقلاني والتعامل على نحو فعال مع البيئة.</a:t>
            </a:r>
            <a:endParaRPr b="0" lang="en-US" sz="2400" spc="-1" strike="noStrike">
              <a:solidFill>
                <a:srgbClr val="000000"/>
              </a:solidFill>
              <a:latin typeface="Verdana"/>
            </a:endParaRPr>
          </a:p>
          <a:p>
            <a:pPr marL="31212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12120" indent="-3121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هكذا بقي موضوع الذكاء الانفعالي طي الكتمان حتى صاغ سالفوي و ماير هذا المصطلح واعتبراه على أنه أحد أشكال الذكاء الاجتماعي والذي يتضمن قدرة الفرد على مراقبة مشاعره وانفعالاته وتلك الخاصة بالآخرين أثناء تفاعله معهم.</a:t>
            </a:r>
            <a:endParaRPr b="0" lang="en-US" sz="2800" spc="-1" strike="noStrike">
              <a:solidFill>
                <a:srgbClr val="000000"/>
              </a:solidFill>
              <a:latin typeface="Verdana"/>
            </a:endParaRPr>
          </a:p>
          <a:p>
            <a:pPr marL="31212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12120" indent="-3121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هكذا نجد أن الذكاء الانفعالي هو بمثابة القدرة على مراقبة المشاعر الذاتية ومشاعر الآخرين أثناء عملية التفاعل الاجتماعي مما يسهم في ضبط عملية التفكير وتوجيه السلوك على نحو سلي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الانفعالي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يتضح من الدراسات السابقة أن التفوق الأكاديمي يرتبط بصفات من أهمها الثبات الانفعالي والقدرة على إنشاء العلاقات الاجتماعية السليمة والاعتماد على النفس والمثابرة والاكتفاء الذاتي.</a:t>
            </a:r>
            <a:endParaRPr b="0" lang="en-US" sz="2400" spc="-1" strike="noStrike">
              <a:solidFill>
                <a:srgbClr val="000000"/>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هذا يدلل على أن السمات الانفعالية والاجتماعية تشكل مفصلاً هاماً في العمليات المعرفية كالإدراك والتفكير وفي السلوك السو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تفكير الابتكاري</a:t>
            </a:r>
            <a:endParaRPr b="0" lang="en-US" sz="4400" spc="-1" strike="noStrike">
              <a:solidFill>
                <a:srgbClr val="999900"/>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تعاريف الابتكار</a:t>
            </a:r>
            <a:endParaRPr b="0" lang="en-US" sz="28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و المبادرة التي يبديها الفرد في قدرته على  التخلص من السياق العادي للتفكير واتباع نمط جديد فيه.</a:t>
            </a:r>
            <a:endParaRPr b="0" lang="en-US" sz="2400" spc="-1" strike="noStrike">
              <a:solidFill>
                <a:srgbClr val="000000"/>
              </a:solidFill>
              <a:latin typeface="Verdana"/>
            </a:endParaRPr>
          </a:p>
          <a:p>
            <a:pPr lvl="1" marL="69840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ملية سكب عدة عناصر متداعية في قالب جديد يحقق احتياجات معينة أو فائدة ما ، بحيث تعد هذه العملية ابتكارية بقدر جدة أو أصالة العناصر التي تشملها.</a:t>
            </a:r>
            <a:endParaRPr b="0" lang="en-US" sz="2400" spc="-1" strike="noStrike">
              <a:solidFill>
                <a:srgbClr val="000000"/>
              </a:solidFill>
              <a:latin typeface="Verdana"/>
            </a:endParaRPr>
          </a:p>
          <a:p>
            <a:pPr lvl="1" marL="69840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ملية عقلية ذات مراحل تبدأ بالإحساس بالمشكلة وتنتهي بالوصول إلى حل.</a:t>
            </a:r>
            <a:endParaRPr b="0" lang="en-US" sz="2400" spc="-1" strike="noStrike">
              <a:solidFill>
                <a:srgbClr val="000000"/>
              </a:solidFill>
              <a:latin typeface="Verdana"/>
            </a:endParaRPr>
          </a:p>
          <a:p>
            <a:pPr lvl="1" marL="69840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نتاج جديد مقبول ونافع يحقق رضا مجموعة كبيرة من الأفراد وفي فترة زمنية معين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خصائص التفكير الابتكاري</a:t>
            </a: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متاز التفكير الابتكاري بالأصالة والمرونة والطلاقة والتحرر.</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عكس الابتكار ظاهرة متعددة الوجوه، حيث ينظر إليه على أنه قدرة أو عملية أو إنتاج.</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عبر التفكير الابتكاري عن نفسه في صورة إنتاج جديد يمتاز بالتنويع والقابلية للتحقق وبالفائدة والقبول الاجتماع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مؤثرة في التفكير الابتكاري</a:t>
            </a:r>
            <a:endParaRPr b="0" lang="en-US" sz="4400" spc="-1" strike="noStrike">
              <a:solidFill>
                <a:srgbClr val="999900"/>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496080" indent="-496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شارت النتائج إلى وجود عدة عوامل وصفات تؤثر سلباً أو إيجاباً في التفكير الابتكاري وتتمثل في الآتي:</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صفات الشخصية:</a:t>
            </a:r>
            <a:br>
              <a:rPr sz="2400"/>
            </a:br>
            <a:r>
              <a:rPr b="0" lang="ar-SA" sz="2400" spc="-1" strike="noStrike">
                <a:solidFill>
                  <a:srgbClr val="000000"/>
                </a:solidFill>
                <a:latin typeface="Verdana"/>
              </a:rPr>
              <a:t>مثل المرونة والمبادرة والحساسية للمثيرات والجلد والدافعية والاستقلالية والمزاجية وتأكيد الذات والفكاهة والسيطرة ، فالأفراد الذين يمتازون بمثل هذه الخصائص هم أكثر قدرة على الإبداع والابتكار.</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رقابة:</a:t>
            </a:r>
            <a:br>
              <a:rPr sz="2400"/>
            </a:br>
            <a:r>
              <a:rPr b="0" lang="ar-SA" sz="2400" spc="-1" strike="noStrike">
                <a:solidFill>
                  <a:srgbClr val="000000"/>
                </a:solidFill>
                <a:latin typeface="Verdana"/>
              </a:rPr>
              <a:t>تؤثر طبيعة البيئة التي ينشأ فيها الأفراد على تطور قدرات التفكير الابتكاري لديهم.</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محاكاة</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ساليب التربية والتعلي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كونات التفكير الابتكاري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طلاقة الفكرية:</a:t>
            </a:r>
            <a:br>
              <a:rPr sz="2400"/>
            </a:br>
            <a:r>
              <a:rPr b="0" lang="ar-SA" sz="2400" spc="-1" strike="noStrike">
                <a:solidFill>
                  <a:srgbClr val="000000"/>
                </a:solidFill>
                <a:latin typeface="Verdana"/>
              </a:rPr>
              <a:t>وتتمثل في قدرة الفرد على استدعاء أكبر عدد ممكن من الأفكار المناسبة في فترة زمنية معينة لمشكلة ما.</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طلاقة اللفظية:</a:t>
            </a:r>
            <a:br>
              <a:rPr sz="2400"/>
            </a:br>
            <a:r>
              <a:rPr b="0" lang="ar-SA" sz="2400" spc="-1" strike="noStrike">
                <a:solidFill>
                  <a:srgbClr val="000000"/>
                </a:solidFill>
                <a:latin typeface="Verdana"/>
              </a:rPr>
              <a:t>وتشير إلى قدرة الفرد على إنتاج أكبر عدد ممكن من المفردات ضمن مواصفات معينة في فترة زمنية معينة.</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مرونة التلقائية:</a:t>
            </a:r>
            <a:br>
              <a:rPr sz="2400"/>
            </a:br>
            <a:r>
              <a:rPr b="0" lang="ar-SA" sz="2400" spc="-1" strike="noStrike">
                <a:solidFill>
                  <a:srgbClr val="000000"/>
                </a:solidFill>
                <a:latin typeface="Verdana"/>
              </a:rPr>
              <a:t>وتتمثل في قدرة الفرد على الابتعاد عن التقليد وإنتاج أفكار مناسبة لموقف ما بحيث تتسم بالتنوعية واللانمطية.</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أصالة:</a:t>
            </a:r>
            <a:br>
              <a:rPr sz="2400"/>
            </a:br>
            <a:r>
              <a:rPr b="0" lang="ar-SA" sz="2400" spc="-1" strike="noStrike">
                <a:solidFill>
                  <a:srgbClr val="000000"/>
                </a:solidFill>
                <a:latin typeface="Verdana"/>
              </a:rPr>
              <a:t>وتشير إلى قدرة الفرد على إنتاج أفكار أصيلة ونادرة.</a:t>
            </a:r>
            <a:endParaRPr b="0" lang="en-US" sz="2400" spc="-1" strike="noStrike">
              <a:solidFill>
                <a:srgbClr val="000000"/>
              </a:solidFill>
              <a:latin typeface="Verdana"/>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كونات التفكير الابتكاري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601"/>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تفاصيل:</a:t>
            </a:r>
            <a:br>
              <a:rPr sz="2400"/>
            </a:br>
            <a:r>
              <a:rPr b="0" lang="ar-SA" sz="2400" spc="-1" strike="noStrike">
                <a:solidFill>
                  <a:srgbClr val="000000"/>
                </a:solidFill>
                <a:latin typeface="Verdana"/>
              </a:rPr>
              <a:t>وتشير إلى قدرة الفرد على تقديم إضافات وتفاصيل جديدة لفكرة معينة أو موقف ما.</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حساسية للمشكلات:</a:t>
            </a:r>
            <a:endParaRPr b="0" lang="en-US" sz="2400" spc="-1" strike="noStrike">
              <a:solidFill>
                <a:srgbClr val="000000"/>
              </a:solidFill>
              <a:latin typeface="Verdana"/>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القدرة على تحديد نقاط الضعف أو القوة في المواقف والقدرة على فتح آفاق جديدة تتعلق بذلك الموق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والتفكير الابتكاري</a:t>
            </a:r>
            <a:endParaRPr b="0" lang="en-US" sz="4400" spc="-1" strike="noStrike">
              <a:solidFill>
                <a:srgbClr val="999900"/>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ناك من يقول بأن الابتكار له علاقة بالذكاء</a:t>
            </a: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هناك من يقول بالعكس</a:t>
            </a:r>
            <a:endParaRPr b="0" lang="en-US" sz="2400" spc="-1" strike="noStrike">
              <a:solidFill>
                <a:srgbClr val="000000"/>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أثبتت الدراسات الحديثة أنه قد يوجد علاقة بين الذكاء والابتكار.</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ودورها في الابتكار</a:t>
            </a:r>
            <a:endParaRPr b="0" lang="en-US" sz="4400" spc="-1" strike="noStrike">
              <a:solidFill>
                <a:srgbClr val="999900"/>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نغطي هنا</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نفس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راحل العملية الابتكار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فكير الابتكاري الجماعي</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ساليب تنمية التفكير الابتكار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ات الذكاء – نظرية العاملـَين</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رانسيس جالتون هو أول من حاول دراسة الذكاء وقياسه علمياً</a:t>
            </a:r>
            <a:endParaRPr b="0" lang="en-US" sz="28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ان الأفراد والأسر تختلف في القدرات العقلية ، وأن هذا الاختلاف ينتقل عبر الأجيال من خلال الجينات الوراثية</a:t>
            </a:r>
            <a:endParaRPr b="0" lang="en-US" sz="2800" spc="-1" strike="noStrike">
              <a:solidFill>
                <a:srgbClr val="000000"/>
              </a:solidFill>
              <a:latin typeface="Verdana"/>
            </a:endParaRPr>
          </a:p>
          <a:p>
            <a:pPr marL="3290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نظرية العاملـَين</a:t>
            </a:r>
            <a:endParaRPr b="0" lang="en-US" sz="32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سبيرمان أن للذكاء عاملين اثنين:</a:t>
            </a:r>
            <a:endParaRPr b="0" lang="en-US" sz="2800" spc="-1" strike="noStrike">
              <a:solidFill>
                <a:srgbClr val="000000"/>
              </a:solidFill>
              <a:latin typeface="Verdana"/>
            </a:endParaRPr>
          </a:p>
          <a:p>
            <a:pPr lvl="1" marL="713160" indent="-2743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ام: تشترك فيه جميع الأنشطة العقلية</a:t>
            </a:r>
            <a:endParaRPr b="0" lang="en-US" sz="2400" spc="-1" strike="noStrike">
              <a:solidFill>
                <a:srgbClr val="000000"/>
              </a:solidFill>
              <a:latin typeface="Verdana"/>
            </a:endParaRPr>
          </a:p>
          <a:p>
            <a:pPr lvl="1" marL="713160" indent="-2743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خاص: يرتبط بنشاط عقلي من طبيعة معينة</a:t>
            </a:r>
            <a:endParaRPr b="0" lang="en-US" sz="24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ختلف ذكاء الأفراد بناء على اختلاف العامل العام ، لأنه العامل الأساسي في تحديد القدرة الذكائية للأفراد</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ذكاء:</a:t>
            </a:r>
            <a:endParaRPr b="0" lang="en-US" sz="28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ضاربت آراء العلماء حول العلاقة بين الذكاء والقدرة على الابتكار العلمي.</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احظ بعض العلماء الارتباط بين الذكاء وأداء التلميذ في الامتحان.</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في بحث أجري ، تبين أن المدرسين يجدون متعة في التدريس لذوي الذكاء المرتفع أكثر مما يجدونه عندما يدرسون متوسطي الذكاء من التلاميذ.</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نفى تيرمان الصورة السائدة في الأذهان بأن الشذوذ والمرض والانحلال الخلقي سمات رئيسية للعباقرة في طفولتهم وكهولتهم.</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تبين في أبحاث أن معضم الأعمال الابتكارية لابد فيها من توافر حد أدنى من الذكاء العام (وهو يتراوح بين </a:t>
            </a:r>
            <a:r>
              <a:rPr b="0" lang="ar-SA" sz="2400" spc="-1" strike="noStrike">
                <a:solidFill>
                  <a:srgbClr val="000000"/>
                </a:solidFill>
                <a:latin typeface="Verdana"/>
              </a:rPr>
              <a:t>115</a:t>
            </a:r>
            <a:r>
              <a:rPr b="0" lang="ar-SA" sz="2400" spc="-1" strike="noStrike">
                <a:solidFill>
                  <a:srgbClr val="000000"/>
                </a:solidFill>
                <a:latin typeface="Verdana"/>
              </a:rPr>
              <a:t>-</a:t>
            </a:r>
            <a:r>
              <a:rPr b="0" lang="ar-SA" sz="2400" spc="-1" strike="noStrike">
                <a:solidFill>
                  <a:srgbClr val="000000"/>
                </a:solidFill>
                <a:latin typeface="Verdana"/>
              </a:rPr>
              <a:t>120</a:t>
            </a:r>
            <a:r>
              <a:rPr b="0" lang="ar-SA" sz="2400" spc="-1" strike="noStrike">
                <a:solidFill>
                  <a:srgbClr val="000000"/>
                </a:solidFill>
                <a:latin typeface="Verdana"/>
              </a:rPr>
              <a:t>) ودونه هذا المستوى لا يوجد الابتكار.</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ذكاء والإبداع عمليتان مختلفتان:</a:t>
            </a:r>
            <a:endParaRPr b="0" lang="en-US" sz="28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ن العلماء من يرى أن الذكاء والإبداع عمليتان مختلفتان من أنواع النشاط العقلي وأن الذكاء لا يمثل إلا جزءاً من النشاط العقلي.</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قد تجد شخصاً متكراً لكنه لا يتميز بالذكاء والعكس.</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ن العلماء من يرى أن اختبارات الذكاءلا تقيس إلا قدراً من القدرات العقلية.</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ظهرت دراسات جيلفورد مدى تعقيد العمليات العقلية ، ويندر أن تقيس تلك الاختبارات شيئاً عن التفكير المتشعب.</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تحديد العوامل والظروف التي تنمي الذكاء ليست بالأمر الهين فهذه الظروف قد تتوفر مع وجود الفقر وقد لا تتوفر مع توفير التعليم المدرسي.</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لقد أجمعت تجارب على أن للبيئة آثار واضحة على نسبة الذكاء ، فقد أجريت تجارب على التوائم المتطابقة بوضع كل منهم في بيئة ونتج مستوى ذكاء مختل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خصال المزاجية للشخصية الإبداعية:</a:t>
            </a:r>
            <a:br>
              <a:rPr sz="2800"/>
            </a:br>
            <a:r>
              <a:rPr b="0" lang="ar-SA" sz="2800" spc="-1" strike="noStrike">
                <a:solidFill>
                  <a:srgbClr val="000000"/>
                </a:solidFill>
                <a:latin typeface="Verdana"/>
              </a:rPr>
              <a:t>بعض الدلائل تشير إلى إمكان وجود أنواع من العلقات بينها وبين القدرت على الأبداع ، وتصنف هذه الصفات إلى نوعين متقابلين:</a:t>
            </a:r>
            <a:endParaRPr b="0" lang="en-US" sz="2800" spc="-1" strike="noStrike">
              <a:solidFill>
                <a:srgbClr val="000000"/>
              </a:solidFill>
              <a:latin typeface="Verdana"/>
            </a:endParaRPr>
          </a:p>
          <a:p>
            <a:pPr lvl="2" marL="1143000" indent="-228600" algn="r" rtl="1">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نوع إيجابي:</a:t>
            </a:r>
            <a:br>
              <a:rPr sz="2400"/>
            </a:br>
            <a:r>
              <a:rPr b="0" lang="ar-SA" sz="2400" spc="-1" strike="noStrike">
                <a:solidFill>
                  <a:srgbClr val="000000"/>
                </a:solidFill>
                <a:latin typeface="Verdana"/>
              </a:rPr>
              <a:t>في اتجاه الصحة النفسية ( مثل: الثقة بالنفس ، الاستقلال بالرأي ، الشجاعة ، عدم التأثر بالآراء ، قوة الإرادة).</a:t>
            </a:r>
            <a:endParaRPr b="0" lang="en-US" sz="2400" spc="-1" strike="noStrike">
              <a:solidFill>
                <a:srgbClr val="000000"/>
              </a:solidFill>
              <a:latin typeface="Verdana"/>
            </a:endParaRPr>
          </a:p>
          <a:p>
            <a:pPr lvl="2" marL="1143000" indent="-228600" algn="r" rtl="1">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نوع سلبي:</a:t>
            </a:r>
            <a:br>
              <a:rPr sz="2400"/>
            </a:br>
            <a:r>
              <a:rPr b="0" lang="ar-SA" sz="2400" spc="-1" strike="noStrike">
                <a:solidFill>
                  <a:srgbClr val="000000"/>
                </a:solidFill>
                <a:latin typeface="Verdana"/>
              </a:rPr>
              <a:t>في اتجاه الإضطراب النفس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4</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1" marL="720720" indent="-27720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ة على النوع الإيجابي:</a:t>
            </a:r>
            <a:endParaRPr b="0" lang="en-US" sz="20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عاناه أينشتاين في بداية توصله لنظرية النسبية من الاستقبال الساخر من زملائه العلماء المرتابين.</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ما عاناه كوبرنيك من اضطهاد رجال السلطة والكنيسة وانتهاء أمره إلى الحرق لمجر إثباته رياضياً لحركة الأرض حول نفسها وحول الشمس.</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ما عاناه جاليليو لإخراجه نظرية كوبرنيك من حيز الرياضيات إلى حيز الوجود الطبيعي.</a:t>
            </a:r>
            <a:endParaRPr b="0" lang="en-US" sz="1800" spc="-1" strike="noStrike">
              <a:solidFill>
                <a:srgbClr val="000000"/>
              </a:solidFill>
              <a:latin typeface="Verdana"/>
            </a:endParaRPr>
          </a:p>
          <a:p>
            <a:pPr lvl="1" marL="720720" indent="-27720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ة على النوع السلبي:</a:t>
            </a:r>
            <a:endParaRPr b="0" lang="en-US" sz="20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سقراط كان يعاني من أعراض المرض العقلي وكانت تنتابه نوبات من الغيبوبة والهلوسة.</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تألم الجسمي والمعنوي الذي عاناه هين لإجراء التجاربه على نفسه.</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باسكال كان يعاني من كثير من أعراض الجنون ولا سيما الهلوسة</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تأقلم القليل لدى الشاعر الفرنسي بودلير</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إجرام الذي ظهر على الشاعر الفرنسي ريمبورد</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ان الشاعر أحمد شوقي في حالة شرود دائم يفيق فجأة يتكلم كلمتين ويعود إلى شروده مرة أخرى ، يمشي من غير سبب ويتوقف من غير سبب.</a:t>
            </a:r>
            <a:endParaRPr b="0" lang="en-US" sz="1800" spc="-1" strike="noStrike">
              <a:solidFill>
                <a:srgbClr val="000000"/>
              </a:solidFill>
              <a:latin typeface="Verdana"/>
            </a:endParaRPr>
          </a:p>
          <a:p>
            <a:pPr lvl="2" marL="1108440" indent="0" algn="r" rtl="1">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راحل العملية الابتكار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قد حدد جراهام ولاس أربعة مراحل تمر فيها العملية الابتكاريه وهي:</a:t>
            </a:r>
            <a:endParaRPr b="0" lang="en-US" sz="2800" spc="-1" strike="noStrike">
              <a:solidFill>
                <a:srgbClr val="000000"/>
              </a:solidFill>
              <a:latin typeface="Verdana"/>
            </a:endParaRPr>
          </a:p>
          <a:p>
            <a:pPr marL="30852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إعداد</a:t>
            </a:r>
            <a:endParaRPr b="0" lang="en-US" sz="2800" spc="-1" strike="noStrike">
              <a:solidFill>
                <a:srgbClr val="000000"/>
              </a:solidFill>
              <a:latin typeface="Verdana"/>
            </a:endParaRPr>
          </a:p>
          <a:p>
            <a:pPr lvl="1" marL="66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 في هذه المرحلة تحديد المشكلة ومعرفة جميع الجوانب المرتبطة بها ومقارنتها مع المشاكل لمشابة بها ، والتعرف على طرائق حلولها السابقة للستفادة منها في ابتكار الحلول للمشكلة الراهنة.</a:t>
            </a:r>
            <a:endParaRPr b="0" lang="en-US" sz="2400" spc="-1" strike="noStrike">
              <a:solidFill>
                <a:srgbClr val="000000"/>
              </a:solidFill>
              <a:latin typeface="Verdana"/>
            </a:endParaRPr>
          </a:p>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احتضان</a:t>
            </a:r>
            <a:endParaRPr b="0" lang="en-US" sz="2800" spc="-1" strike="noStrike">
              <a:solidFill>
                <a:srgbClr val="000000"/>
              </a:solidFill>
              <a:latin typeface="Verdana"/>
            </a:endParaRPr>
          </a:p>
          <a:p>
            <a:pPr lvl="1" marL="66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في هذه المرحلة يترك الفرد المشكلة أو الموقف وينصرف عنه إلى موقف أو نشاط آخر. فعلى سبيل المثال قد يقوم الفرد بممارسة لعبة ما حتى يتيح للعقل أن يعمل بصورة لا شعورية على هذه المشكلة ، مما يتيح الوصول إلى الفكرة أو الح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راحل العملية الابتكار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إشراق</a:t>
            </a:r>
            <a:endParaRPr b="0" lang="en-US" sz="28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تمثل مرحلة هبوط الفكرة إلى الذهن على نحو مفاجئ ، وهنا يأتي الحل كاللمعة البراقة بحيث تتطلب من الفرد الإمساك بها والاستفادة منها وإلافإنها لن تعود مرة أخرى إليه.</a:t>
            </a:r>
            <a:endParaRPr b="0" lang="en-US" sz="24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تحقق والتحقيق</a:t>
            </a:r>
            <a:endParaRPr b="0" lang="en-US" sz="28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التأكد من صحة ودقة الحل أو الإنتاج الذي تم التوصل إليه في ضوء الحقائق المعروفة أو المبادئ المنطقية أو في ضوء نتائج التجار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تفكير الابتكاري الجماعي</a:t>
            </a:r>
            <a:endParaRPr b="0" lang="en-US" sz="4400" spc="-1" strike="noStrike">
              <a:solidFill>
                <a:srgbClr val="9999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د التفكير الابتكاري الجماعي أحد الأساليب التي تلجأ إليها المؤسسات لإيجاد الحلول المناسبة لبعض المشكلات أو أنتاج أفكار جديدة تسهم في رفع الكفائة.</a:t>
            </a:r>
            <a:endParaRPr b="0" lang="en-US" sz="2800" spc="-1" strike="noStrike">
              <a:solidFill>
                <a:srgbClr val="000000"/>
              </a:solidFill>
              <a:latin typeface="Verdana"/>
            </a:endParaRPr>
          </a:p>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تمثل في عرض مشكلة أمام مجموعة من الأفراد ثم يتاح للأفراد التفكير بصوت عالي دون أي نقد ، ثم يتم مناقشة جميع الأفكار ، لذلك تسمى عملية العصف الذهني.</a:t>
            </a:r>
            <a:endParaRPr b="0" lang="en-US" sz="2800" spc="-1" strike="noStrike">
              <a:solidFill>
                <a:srgbClr val="000000"/>
              </a:solidFill>
              <a:latin typeface="Verdana"/>
            </a:endParaRPr>
          </a:p>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ستند هذا الأسلوب على الأسس التالية:</a:t>
            </a:r>
            <a:endParaRPr b="0" lang="en-US" sz="28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جع الانسياب الحر للأفكار ويسهم في إنتاج عدد كبير من الأفكار.</a:t>
            </a:r>
            <a:endParaRPr b="0" lang="en-US" sz="24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جع على المناقشة والحوار الموضوعي.</a:t>
            </a:r>
            <a:endParaRPr b="0" lang="en-US" sz="24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حسن أسلوب العصف الذهني من نوعية الأفكار وجودتها لدى الأفرا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أساليب تنمية التفكير الابتكاري</a:t>
            </a:r>
            <a:endParaRPr b="0" lang="en-US" sz="4400" spc="-1" strike="noStrike">
              <a:solidFill>
                <a:srgbClr val="999900"/>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تقبل الأنشطة والأفكار التي تبدو غير مألوفة وتعزيزها.</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وفير جو يمتاز بالأمن والهدوء والمرح والفكاه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تاحة الفرصة للحوار والنقاش وإبداء الآراء وتشجيع الأفراد على التفكير بصوت عالي مع تجنب النقد أو التجريح ومناقتشها بموضوع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إثراء البيئة بالخبرات المتنوعة كاللغوية والثقافية والاجتماعية والعمل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شجيع الأسئلة المنطلقة لدى الأفراد وتنمية ظاهرة حب الاستطلاع.</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راعاة الفروق الفردية والعمل على تنويع المهارات وإشباع الدواف لديهم.</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قديم النصائح الإرشادات للأفراد وتزويدهم بمصادر تعلم إضاف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تفريد التعلم إن أمكن.</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ستخدام البرامج التعليمية باستخدام الحاسب التي تتطلب التفاعل المباشر.</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شجيع فرص المنافسة بين الأفراد وتنمية روح التعاون والعمل الجماعي لديه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قدرات العقلية الأول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ارض ثيرستون مبدأ العامل العام في نظرية سبيرمان</a:t>
            </a:r>
            <a:endParaRPr b="0" lang="en-US" sz="2800" spc="-1" strike="noStrike">
              <a:solidFill>
                <a:srgbClr val="000000"/>
              </a:solidFill>
              <a:latin typeface="Verdana"/>
            </a:endParaRPr>
          </a:p>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عدة قدرات أساسية في الذكاء ، وهي متميزة عن بعضها ولكنها ليست مستقلة تماماً، وهذه القدرات هي:</a:t>
            </a:r>
            <a:endParaRPr b="0" lang="en-US" sz="28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عددية</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القدرة المكانية</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طلاقة اللفظية</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سرعة الإدراك</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لتذكر</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قدرة الاستدلال</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لفظية</a:t>
            </a:r>
            <a:endParaRPr b="0" lang="en-US" sz="2400" spc="-1" strike="noStrike">
              <a:solidFill>
                <a:srgbClr val="000000"/>
              </a:solidFill>
              <a:latin typeface="Verdana"/>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ثيرستون أن تفوق الفرد في أحد القدرات لا يعني بالضرورة تفوقه في القدرات الأخر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قدرات العقلية الأول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ختبارات ثيرستون لقياس عوامل الذكاء:</a:t>
            </a:r>
            <a:endParaRPr b="0" lang="en-US" sz="28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ددي: أداء العمليات الحسابية بسرعة وبدق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لغوي: اختبارات تتضمن فهم اللغ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مكاني: حل مشاكل تتطلب تصور وإدراك الحيز والفراغ والمكان</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طلاقة اللفظية: التفكير في كلمات منفصلة بسرع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قلي: اكتشاف قاعدة تجمع بين مجموعة من الحروف أو الكلمات</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ذكر: القدرة على الحفظ والاستدعاء السريع</a:t>
            </a:r>
            <a:endParaRPr b="0" lang="en-US" sz="2400" spc="-1" strike="noStrike">
              <a:solidFill>
                <a:srgbClr val="000000"/>
              </a:solidFill>
              <a:latin typeface="Verdana"/>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8000" indent="-28800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دلت التجارب على وجود بعض الارتباطات بين عوامل الذكاء</a:t>
            </a:r>
            <a:endParaRPr b="0" lang="en-US" sz="28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ضاف أتباع ثيرستون عاملاً عاماً ، إلا أنهم لا يعطونه أهمية مثل سبيرما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عوامل المتعدد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يرى ثورنديك أن:</a:t>
            </a:r>
            <a:endParaRPr b="0" lang="en-US" sz="28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محصلة تفاعل عدد من القدرات العقلية المتداخلة والمترابطة</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طبيعة هذه القدرات ونوعيتها يعتمدان على عدد ونوعية الوصلات العصبية القائمة بين المثيرات والاستجابات</a:t>
            </a:r>
            <a:endParaRPr b="0" lang="en-US" sz="2400" spc="-1" strike="noStrike">
              <a:solidFill>
                <a:srgbClr val="000000"/>
              </a:solidFill>
              <a:latin typeface="Verdana"/>
            </a:endParaRPr>
          </a:p>
          <a:p>
            <a:pPr marL="3052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طور اختبار </a:t>
            </a:r>
            <a:r>
              <a:rPr b="1" lang="en-US" sz="2800" spc="-1" strike="noStrike">
                <a:solidFill>
                  <a:srgbClr val="000000"/>
                </a:solidFill>
                <a:latin typeface="Verdana"/>
              </a:rPr>
              <a:t>CAVD</a:t>
            </a:r>
            <a:r>
              <a:rPr b="1" lang="ar-SA" sz="2800" spc="-1" strike="noStrike">
                <a:solidFill>
                  <a:srgbClr val="000000"/>
                </a:solidFill>
                <a:latin typeface="Verdana"/>
              </a:rPr>
              <a:t> لقياس ذكاء الأفراد، والذي يشمل:</a:t>
            </a:r>
            <a:endParaRPr b="0" lang="en-US" sz="28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لتعامل مع المجردات (</a:t>
            </a:r>
            <a:r>
              <a:rPr b="0" lang="en-US" sz="2400" spc="-1" strike="noStrike">
                <a:solidFill>
                  <a:srgbClr val="000000"/>
                </a:solidFill>
                <a:latin typeface="Verdana"/>
              </a:rPr>
              <a:t>C</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حسابية (</a:t>
            </a:r>
            <a:r>
              <a:rPr b="0" lang="en-US" sz="2400" spc="-1" strike="noStrike">
                <a:solidFill>
                  <a:srgbClr val="000000"/>
                </a:solidFill>
                <a:latin typeface="Verdana"/>
              </a:rPr>
              <a:t>A</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كتساب واستعادة المفردات (</a:t>
            </a:r>
            <a:r>
              <a:rPr b="0" lang="en-US" sz="2400" spc="-1" strike="noStrike">
                <a:solidFill>
                  <a:srgbClr val="000000"/>
                </a:solidFill>
                <a:latin typeface="Verdana"/>
              </a:rPr>
              <a:t>V</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تباع التعليمات (</a:t>
            </a:r>
            <a:r>
              <a:rPr b="0" lang="en-US" sz="2400" spc="-1" strike="noStrike">
                <a:solidFill>
                  <a:srgbClr val="000000"/>
                </a:solidFill>
                <a:latin typeface="Verdana"/>
              </a:rPr>
              <a:t>D</a:t>
            </a:r>
            <a:r>
              <a:rPr b="0" lang="ar-SA"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عوامل المتعدد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وصل إلى وجود ثلاثة أنواع للذكاء:</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مجرد: التعامل مع الأشياء المجردة كالرموز والأفكار والعلاقات الرياضي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ميكانيكي: التعامل مع الأشياء المادية وأداء المهارات الحركي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اجتماعي: التواصل مع الآخرين وتشكيل العلاقات الاجتماعية</a:t>
            </a:r>
            <a:endParaRPr b="0" lang="en-US" sz="22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فيما بعد ، أصبح يعرِّف الذكاء عن طريق العمليات التي يؤديها الفرد</a:t>
            </a:r>
            <a:endParaRPr b="0" lang="en-US" sz="24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ضع اختبار للذكاء يتكون من أربعة أجزاء:</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إكمال الجمل ، العمليات الحسابية ، اختبار الكلمات ، اختبار اتباع التعليمات</a:t>
            </a:r>
            <a:endParaRPr b="0" lang="en-US" sz="22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بتحليله لهذه الأجزاء ، وصف ثورنديك الذكاء عن طريق ثلاثة أبعاد:</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مدى: متوسط ما يؤديه الفرد في عمر عقلي وزمني معين</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مساحة: مجموع العمليات التي يؤديها الفرد في درجة صعوبة معين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ارتفاع: مدى صعوبة العمليات التي يتمكن الفرد من أدائه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ذكاء عند جيلفورد تكوين معقد يتألف من ثلاثة أبعاد (أوجه الذكاء)</a:t>
            </a:r>
            <a:endParaRPr b="0" lang="en-US" sz="28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بعد العمليات</a:t>
            </a:r>
            <a:endParaRPr b="0" lang="en-US" sz="28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نوعية العمليات العقلية التي يجريها الأفراد على المحتويات أو المعلومات</a:t>
            </a:r>
            <a:endParaRPr b="0" lang="en-US" sz="24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مل ست قدرات رئيسية:</a:t>
            </a:r>
            <a:endParaRPr b="0" lang="en-US" sz="24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إدراك أو المعرفة: اكتساب وتعلم الخبرات والمعارف</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ذكر: تخزين واستدعاء المعلومات</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فكير المتقارب: التوصل إلى إجابة لمسألة معينة من خلال معلومات سابق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فكير المتشعب: المرونة الفكرية والقدرة على ابتكار حلول جديد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قويم: إصدار الأحكام حول الخبرات والمعارف واتخاذ القرارات المناسب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سجيل الذاكري المؤقت: تسجيل المعلومات والاستدعاء المباشر له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4:46:00Z</dcterms:created>
  <dc:creator>Windows XP</dc:creator>
  <dc:description/>
  <dc:language>en-US</dc:language>
  <cp:lastModifiedBy>Administratr</cp:lastModifiedBy>
  <dcterms:modified xsi:type="dcterms:W3CDTF">2009-04-16T16:17:09Z</dcterms:modified>
  <cp:revision>19</cp:revision>
  <dc:subject/>
  <dc:title>العنوان هنا</dc:title>
</cp:coreProperties>
</file>