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32.wmf" ContentType="image/x-wmf"/>
  <Override PartName="/ppt/media/image20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1.wmf" ContentType="image/x-wmf"/>
  <Override PartName="/ppt/media/image19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27.jpeg" ContentType="image/jpeg"/>
  <Override PartName="/ppt/media/image35.jpeg" ContentType="image/jpeg"/>
  <Override PartName="/ppt/media/image10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36.wmf" ContentType="image/x-wmf"/>
  <Override PartName="/ppt/media/image16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29.wmf" ContentType="image/x-wmf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F0FC-6E13-4885-A75C-65B09C578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eatures same as in Chlorophyt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reen alga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imilar photosynthetic storage product: star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robic photosynthesis more efficient than anaero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10.3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196-C6EE-4606-85E5-7F80DDD6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1968-66C8-43EA-98B1-0FEE4797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BF52-3E59-4F6A-8F32-313BCE69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39A-B9E4-4B0F-B477-068ADAC8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BFF-8D06-43FC-BC8B-27068032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F9C-904B-42FA-A199-2C09EF3F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15A-DC74-4A45-A683-0223B477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89CF-FAA1-426A-B9DF-8F369E89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6EE-ABEA-4052-9383-668877AE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31A-3F08-40A8-8D44-0EAF022D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7CCE-3E6D-4683-B751-04BD8418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6BFE-50CF-4B32-8625-137429C0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A64A-8504-4E8B-A906-71EF0DEAB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t Physiology 2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-72360" y="-50760"/>
            <a:ext cx="846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624120" cy="6248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9880" y="2286000"/>
            <a:ext cx="5100840" cy="3325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91120" y="22860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hy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bs red &amp; blue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s green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72360" y="-60480"/>
            <a:ext cx="846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72360" y="-50760"/>
            <a:ext cx="846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22360" y="165240"/>
            <a:ext cx="629460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920" y="596880"/>
            <a:ext cx="85312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749160"/>
            <a:ext cx="853128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-71280" y="-50760"/>
            <a:ext cx="93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71280" y="-50760"/>
            <a:ext cx="93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bis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bulose bisphosphate carboxylase oxyge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ixes CO2 &amp; O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zyme in Calvin Cycle (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e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abundant protein on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. 25% total leaf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48320" y="2608200"/>
            <a:ext cx="380988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 means ‘light’ and synthesis means ‘to make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in which plants convert carbon dioxide and water into sugars using solar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in chlorop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rubisco “fixes” O2, not CO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e 1/2 C as CO2; costs 2.5 extra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up O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ccurs in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1 out of 4 reactions under today’s atmospheric [CO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 increases with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571680"/>
            <a:ext cx="853128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254160"/>
            <a:ext cx="853128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jority of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mporarily stored as 4-C organic acids resulting in more more efficient C exchan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 in high light, high temperature, low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grasses and crops (e.g., corn, sorghum, millet, sugar ca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ta open during n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 in arid cl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ucculents (e.g., cacti, euphorbs, bromeliades, agav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71280" y="-60480"/>
            <a:ext cx="93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2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53128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-71280" y="-50760"/>
            <a:ext cx="93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2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Environmental Change &amp; Photosynthesi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3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C4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C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CO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chronic and acute temper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N (vs. decreasing C:N from increasing CO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i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0762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0759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68160" y="1050840"/>
            <a:ext cx="2219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tosyn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98360" y="1744560"/>
            <a:ext cx="7483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6 CO</a:t>
            </a:r>
            <a:r>
              <a:rPr b="0" lang="en-US" sz="3000" spc="-1" strike="noStrike" baseline="-25000">
                <a:solidFill>
                  <a:srgbClr val="003366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 +  6 H</a:t>
            </a:r>
            <a:r>
              <a:rPr b="0" lang="en-US" sz="30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O                      C</a:t>
            </a:r>
            <a:r>
              <a:rPr b="0" lang="en-US" sz="3000" spc="-1" strike="noStrike" baseline="-25000">
                <a:solidFill>
                  <a:srgbClr val="003366"/>
                </a:solidFill>
                <a:latin typeface="Times New Roman"/>
              </a:rPr>
              <a:t>6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 H</a:t>
            </a:r>
            <a:r>
              <a:rPr b="0" lang="en-US" sz="3000" spc="-1" strike="noStrike" baseline="-25000">
                <a:solidFill>
                  <a:srgbClr val="003366"/>
                </a:solidFill>
                <a:latin typeface="Times New Roman"/>
              </a:rPr>
              <a:t>12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 O</a:t>
            </a:r>
            <a:r>
              <a:rPr b="0" lang="en-US" sz="3000" spc="-1" strike="noStrike" baseline="-25000">
                <a:solidFill>
                  <a:srgbClr val="003366"/>
                </a:solidFill>
                <a:latin typeface="Times New Roman"/>
              </a:rPr>
              <a:t>6 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  + 6 O</a:t>
            </a:r>
            <a:r>
              <a:rPr b="0" lang="en-US" sz="30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8000" y="2498760"/>
            <a:ext cx="605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dioxide   +   water  =    sugar  +  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94120" y="2000160"/>
            <a:ext cx="151452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5862600" cy="3095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6324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ing at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5410080"/>
            <a:ext cx="1600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6172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3657600"/>
            <a:ext cx="2514600" cy="229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hotosynthetic products often stored as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t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h = glucose poly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330120"/>
            <a:ext cx="853128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2 effects on 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4 &gt; C3 at low CO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, C3 &gt; C4 at high CO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162000"/>
            <a:ext cx="8915400" cy="4714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0800" y="5527800"/>
            <a:ext cx="718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At high CO2, C3 more efficient than C4 at all tem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hotosynthesis only, not other proce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synthetic N-use 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4 plants need (have) less leaf N than C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ynthesis higher per unit N in C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s are increasing global N, which benefits C3 more than C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CO2 decreases leaf N content, more in C3 than C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synthetic water-use 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4 plants use less water than C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ause stomates open l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 availability may increase or decrease in the fu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ng the future for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ill increases in CO2, N, and chronic and acute heat stress affect photosynthe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will win or lose?  C3?  C4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ill pollution (eg, ozone) inter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research in my lab an exa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156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6858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ed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NA01441_" descr=""/>
          <p:cNvPicPr/>
          <p:nvPr/>
        </p:nvPicPr>
        <p:blipFill>
          <a:blip r:embed="rId1"/>
          <a:stretch/>
        </p:blipFill>
        <p:spPr>
          <a:xfrm>
            <a:off x="846000" y="182880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47920" y="114300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2438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reased leaf C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1y6z_400x400" descr=""/>
          <p:cNvPicPr/>
          <p:nvPr/>
        </p:nvPicPr>
        <p:blipFill>
          <a:blip r:embed="rId2"/>
          <a:stretch/>
        </p:blipFill>
        <p:spPr>
          <a:xfrm>
            <a:off x="714240" y="4191120"/>
            <a:ext cx="1809720" cy="1809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63760" y="35812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97528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creased Heat-shock proteins (Hs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5638680"/>
            <a:ext cx="1904760" cy="304920"/>
          </a:xfrm>
          <a:prstGeom prst="rightArrow">
            <a:avLst>
              <a:gd name="adj1" fmla="val 50000"/>
              <a:gd name="adj2" fmla="val 1561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5181480"/>
            <a:ext cx="2133360" cy="13716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crea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rmo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6094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1371600"/>
            <a:ext cx="3657600" cy="40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ffects greater i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tha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CAM spe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ffects greater on induced than basal thermotoler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22860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Hypo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324480" y="5335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457200"/>
          <a:ext cx="7238880" cy="758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7238880" cy="75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715000" y="1066680"/>
            <a:ext cx="2819520" cy="160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Heat stress decreased P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  <a:ea typeface="宋体"/>
              </a:rPr>
              <a:t>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 in all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(not the result of stomatal closu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23623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13280" y="2735280"/>
            <a:ext cx="23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2959200"/>
            <a:ext cx="2819520" cy="207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Elevated CO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 had negative effects on P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  <a:ea typeface="宋体"/>
              </a:rPr>
              <a:t>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 of C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  <a:ea typeface="宋体"/>
              </a:rPr>
              <a:t>4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 species, and positive effects on C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 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4572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5270400"/>
            <a:ext cx="2819520" cy="79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Pre-heat shock has a positive effect on P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  <a:ea typeface="宋体"/>
              </a:rPr>
              <a:t>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-152280"/>
          <a:ext cx="7129440" cy="78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7129440" cy="78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5638680" y="685800"/>
            <a:ext cx="3200400" cy="499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宋体"/>
              </a:rPr>
              <a:t>Heat shock decreased </a:t>
            </a:r>
            <a:r>
              <a:rPr b="0" lang="en-US" sz="2800" spc="-1" strike="noStrike">
                <a:solidFill>
                  <a:srgbClr val="808080"/>
                </a:solidFill>
                <a:latin typeface="宋体"/>
                <a:ea typeface="宋体"/>
              </a:rPr>
              <a:t>Ф</a:t>
            </a:r>
            <a:r>
              <a:rPr b="0" lang="en-US" sz="2800" spc="-1" strike="noStrike" baseline="-30000">
                <a:solidFill>
                  <a:srgbClr val="808080"/>
                </a:solidFill>
                <a:latin typeface="Times New Roman"/>
                <a:ea typeface="宋体"/>
              </a:rPr>
              <a:t>et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宋体"/>
              </a:rPr>
              <a:t> of all C</a:t>
            </a:r>
            <a:r>
              <a:rPr b="0" lang="en-US" sz="2800" spc="-1" strike="noStrike" baseline="-25000">
                <a:solidFill>
                  <a:srgbClr val="808080"/>
                </a:solidFill>
                <a:latin typeface="Times New Roman"/>
                <a:ea typeface="宋体"/>
              </a:rPr>
              <a:t>3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宋体"/>
              </a:rPr>
              <a:t> and C</a:t>
            </a:r>
            <a:r>
              <a:rPr b="0" lang="en-US" sz="2800" spc="-1" strike="noStrike" baseline="-25000">
                <a:solidFill>
                  <a:srgbClr val="808080"/>
                </a:solidFill>
                <a:latin typeface="Times New Roman"/>
                <a:ea typeface="宋体"/>
              </a:rPr>
              <a:t>4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宋体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宋体"/>
              </a:rPr>
              <a:t>There was negative CO</a:t>
            </a:r>
            <a:r>
              <a:rPr b="0" lang="en-US" sz="2800" spc="-1" strike="noStrike" baseline="-25000">
                <a:solidFill>
                  <a:srgbClr val="808080"/>
                </a:solidFill>
                <a:latin typeface="Times New Roman"/>
                <a:ea typeface="宋体"/>
              </a:rPr>
              <a:t>2 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宋体"/>
              </a:rPr>
              <a:t>effects on all species, except for w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宋体"/>
              </a:rPr>
              <a:t>There was positive Pre-HS effects on all spe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5040" y="571680"/>
            <a:ext cx="7333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yFACE: CO2 &amp; oz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Ring3a-10012001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6105600" cy="4567320"/>
          </a:xfrm>
          <a:prstGeom prst="rect">
            <a:avLst/>
          </a:prstGeom>
          <a:ln w="0">
            <a:noFill/>
          </a:ln>
        </p:spPr>
      </p:pic>
      <p:pic>
        <p:nvPicPr>
          <p:cNvPr id="143" name="t3hy-1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1974960" cy="2508480"/>
          </a:xfrm>
          <a:prstGeom prst="rect">
            <a:avLst/>
          </a:prstGeom>
          <a:ln w="0">
            <a:noFill/>
          </a:ln>
        </p:spPr>
      </p:pic>
      <p:pic>
        <p:nvPicPr>
          <p:cNvPr id="144" name="robert1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150804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143000" y="685800"/>
          <a:ext cx="6791400" cy="55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6791400" cy="55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72360" y="-50760"/>
            <a:ext cx="846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71280" y="-50760"/>
            <a:ext cx="93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2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71280" y="-50760"/>
            <a:ext cx="93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2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0" y="15840"/>
            <a:ext cx="9134640" cy="6824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71280" y="-50760"/>
            <a:ext cx="928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. 10.2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85312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23:27:57Z</dcterms:created>
  <dc:creator>Thomas Weicht</dc:creator>
  <dc:description/>
  <dc:language>en-US</dc:language>
  <cp:lastModifiedBy>sheckat</cp:lastModifiedBy>
  <dcterms:modified xsi:type="dcterms:W3CDTF">2005-09-29T14:05:16Z</dcterms:modified>
  <cp:revision>59</cp:revision>
  <dc:subject/>
  <dc:title>Ch. 4 Plant Physiology</dc:title>
</cp:coreProperties>
</file>