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36.wmf" ContentType="image/x-wmf"/>
  <Override PartName="/ppt/media/image1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29.wmf" ContentType="image/x-wmf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26B-54DD-4405-B946-E58446182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eatures same as in Chlorophy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reen alga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imilar photosynthetic storage product: star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obic photosynthesis more efficient than anaero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10.3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31F-3F7A-4588-9399-249685FF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A81-B679-4A3F-822C-0C2C7B42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EBD-AA63-47EE-AEEE-8CFA3CBE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D73-ECED-4842-BD52-ED507B05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248-45E2-4BDE-B5EC-22B11215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34C-8A7D-4098-A131-4DE09BDB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B73-50D3-4CF4-BD54-1EF211C2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457-FDDE-4F82-8B7D-EE2FFE6F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02F-E572-4F18-AFB2-54C9AD3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88C-25E7-4C41-8A1A-10215F5C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6A9-C8D2-4B9C-9F78-F0A0307A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D23-19CD-4E07-9FBD-212EE1C1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D788-00AD-4C1B-8569-A3FAD93EA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Physiology 2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72360" y="-5076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624120" cy="6248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100840" cy="3325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91120" y="2286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s red &amp; blu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green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72360" y="-6048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72360" y="-5076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2360" y="165240"/>
            <a:ext cx="629460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596880"/>
            <a:ext cx="8531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749160"/>
            <a:ext cx="85312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i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bulose bisphosphate carboxylase oxyge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ixes CO2 &amp; O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zyme in Calvin Cycle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e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bundant protein on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. 25% total leaf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8320" y="260820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 means ‘light’ and synthesis means ‘to mak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 which plants convert carbon dioxide and water into sugars using solar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ubisco “fixes” O2, not 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e 1/2 C as CO2; costs 2.5 extra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up 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ccurs in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1 out of 4 reactions under today’s atmospheric [CO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increases with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571680"/>
            <a:ext cx="853128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254160"/>
            <a:ext cx="85312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of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mporarily stored as 4-C organic acids resulting in more more efficient C 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 in high light, high temperature, low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grasses and crops (e.g., corn, sorghum, millet, sugar c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ta open during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 in arid cl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cculents (e.g., cacti, euphorbs, bromeliades, aga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71280" y="-6048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128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Environmental Change &amp; Photosynthesi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3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C4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C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hronic and acute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N (vs. decreasing C:N from increasing 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762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0759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68160" y="1050840"/>
            <a:ext cx="221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syn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8360" y="1744560"/>
            <a:ext cx="7483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6 CO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+  6 H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O                      C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H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12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O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6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 + 6 O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8000" y="2498760"/>
            <a:ext cx="605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dioxide   +   water  =    sugar  +  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94120" y="2000160"/>
            <a:ext cx="15145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5862600" cy="309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ing a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5410080"/>
            <a:ext cx="1600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172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3657600"/>
            <a:ext cx="2514600" cy="229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hotosynthetic products often stored as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h = glucose poly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330120"/>
            <a:ext cx="85312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2 effects on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4 &gt; C3 at low CO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C3 &gt; C4 at high 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62000"/>
            <a:ext cx="8915400" cy="4714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0800" y="5527800"/>
            <a:ext cx="71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At high CO2, C3 more efficient than C4 at all te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hotosynthesis only, not other proce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tic N-use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4 plants need (have) less leaf N than C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ynthesis higher per unit N in C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are increasing global N, which benefits C3 more than C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2 decreases leaf N content, more in C3 than C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tic water-use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4 plants use less water than C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use stomates open l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availability may increase or decrease in 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ng the future for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increases in CO2, N, and chronic and acute heat stress affect photosyn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ill win or lose?  C3?  C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pollution (eg, ozone) inter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search in my lab an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6858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e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NA01441_" descr=""/>
          <p:cNvPicPr/>
          <p:nvPr/>
        </p:nvPicPr>
        <p:blipFill>
          <a:blip r:embed="rId1"/>
          <a:stretch/>
        </p:blipFill>
        <p:spPr>
          <a:xfrm>
            <a:off x="846000" y="182880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7920" y="11430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438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reased leaf C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y6z_400x400" descr=""/>
          <p:cNvPicPr/>
          <p:nvPr/>
        </p:nvPicPr>
        <p:blipFill>
          <a:blip r:embed="rId2"/>
          <a:stretch/>
        </p:blipFill>
        <p:spPr>
          <a:xfrm>
            <a:off x="714240" y="41911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63760" y="35812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975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creased Heat-shock proteins (H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638680"/>
            <a:ext cx="1904760" cy="304920"/>
          </a:xfrm>
          <a:prstGeom prst="rightArrow">
            <a:avLst>
              <a:gd name="adj1" fmla="val 50000"/>
              <a:gd name="adj2" fmla="val 1561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5181480"/>
            <a:ext cx="2133360" cy="13716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crea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rmo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6094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1371600"/>
            <a:ext cx="365760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ffects greater i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ha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CAM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ffects greater on induced than basal thermotoler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2860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Hypo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324480" y="5335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457200"/>
          <a:ext cx="7238880" cy="758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7238880" cy="75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715000" y="1066680"/>
            <a:ext cx="2819520" cy="16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Heat stress decreased P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in all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(not the result of stomatal closu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3623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13280" y="2735280"/>
            <a:ext cx="23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959200"/>
            <a:ext cx="2819520" cy="20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Elevated CO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had negative effects on P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of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species, and positive effects on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4572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5270400"/>
            <a:ext cx="2819520" cy="79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Pre-heat shock has a positive effect on P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-152280"/>
          <a:ext cx="7129440" cy="78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7129440" cy="78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638680" y="685800"/>
            <a:ext cx="3200400" cy="499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Heat shock decreased </a:t>
            </a:r>
            <a:r>
              <a:rPr b="0" lang="en-US" sz="2800" spc="-1" strike="noStrike">
                <a:solidFill>
                  <a:srgbClr val="808080"/>
                </a:solidFill>
                <a:latin typeface="宋体"/>
                <a:ea typeface="宋体"/>
              </a:rPr>
              <a:t>Ф</a:t>
            </a:r>
            <a:r>
              <a:rPr b="0" lang="en-US" sz="2800" spc="-1" strike="noStrike" baseline="-30000">
                <a:solidFill>
                  <a:srgbClr val="808080"/>
                </a:solidFill>
                <a:latin typeface="Times New Roman"/>
                <a:ea typeface="宋体"/>
              </a:rPr>
              <a:t>et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 of all C</a:t>
            </a:r>
            <a:r>
              <a:rPr b="0" lang="en-US" sz="28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3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 and C</a:t>
            </a:r>
            <a:r>
              <a:rPr b="0" lang="en-US" sz="28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4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There was negative CO</a:t>
            </a:r>
            <a:r>
              <a:rPr b="0" lang="en-US" sz="28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2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effects on all species, except for 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There was positive Pre-HS effects on all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5040" y="571680"/>
            <a:ext cx="733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yFACE: CO2 &amp; oz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Ring3a-10012001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6105600" cy="4567320"/>
          </a:xfrm>
          <a:prstGeom prst="rect">
            <a:avLst/>
          </a:prstGeom>
          <a:ln w="0">
            <a:noFill/>
          </a:ln>
        </p:spPr>
      </p:pic>
      <p:pic>
        <p:nvPicPr>
          <p:cNvPr id="143" name="t3hy-1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1974960" cy="2508480"/>
          </a:xfrm>
          <a:prstGeom prst="rect">
            <a:avLst/>
          </a:prstGeom>
          <a:ln w="0">
            <a:noFill/>
          </a:ln>
        </p:spPr>
      </p:pic>
      <p:pic>
        <p:nvPicPr>
          <p:cNvPr id="144" name="robert1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15080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143000" y="685800"/>
          <a:ext cx="6791400" cy="55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679140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72360" y="-5076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71280" y="-50760"/>
            <a:ext cx="928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53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3:27:57Z</dcterms:created>
  <dc:creator>Thomas Weicht</dc:creator>
  <dc:description/>
  <dc:language>en-US</dc:language>
  <cp:lastModifiedBy>sheckat</cp:lastModifiedBy>
  <dcterms:modified xsi:type="dcterms:W3CDTF">2005-09-29T14:05:16Z</dcterms:modified>
  <cp:revision>59</cp:revision>
  <dc:subject/>
  <dc:title>Ch. 4 Plant Physiology</dc:title>
</cp:coreProperties>
</file>