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7DA1-D67D-42A5-A5E5-37F43A32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96464-FDA6-4623-8C65-503F5204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121C-BC9E-45BC-9F7D-4D2AAE746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84D91-1755-4B38-8754-53B323E75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A58D-10E6-4E0B-B3F8-F89ED3FA8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5C7D-1BFC-45B8-81B6-A2A8AF74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2400D-6C06-4D53-8B3A-9297ABD3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727F-CA2D-4319-AD48-240158412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F247-B839-4319-8718-742668E7B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7990-6929-4873-A806-16F083C0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6BF8-687B-4347-8D08-ED9548F0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CDB0-B716-4440-A297-EA0074E3C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93FE-A88D-4AAC-B464-742714432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402</a:t>
            </a:r>
            <a:r>
              <a:rPr b="1" lang="ar-SA" sz="3200" spc="-1" strike="noStrike">
                <a:solidFill>
                  <a:srgbClr val="000000"/>
                </a:solidFill>
                <a:latin typeface="Arial"/>
              </a:rPr>
              <a:t> قصر </a:t>
            </a:r>
            <a:br>
              <a:rPr sz="3200"/>
            </a:br>
            <a:r>
              <a:rPr b="1" lang="ar-SA" sz="3200" spc="-1" strike="noStrike">
                <a:solidFill>
                  <a:srgbClr val="000000"/>
                </a:solidFill>
                <a:latin typeface="Arial"/>
              </a:rPr>
              <a:t>تطبيقات الحاسب الآلي في الاقتصاد الزراع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8AA9A9-9F22-4426-B7B6-C6E1A35EF13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9C0F58-3C92-412E-9C68-5248A704B7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C9A3E1C-1B68-43C3-8FB8-906353CAB6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06CBCA7-A9C4-4037-9563-BE9968F23F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0358E34-15D6-42F7-B1FC-339C93B86B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37CAFB-DE95-4CCC-BC39-491BB7DB6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3729088-581B-49B7-AA9D-BF3F04F3C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1A2C583-0AC7-4632-81E7-111F8C4DF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2FF8B4-D50C-4011-BA34-02B908228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9:04:13Z</dcterms:modified>
  <cp:revision>122</cp:revision>
  <dc:subject/>
  <dc:title>Slide 1</dc:title>
</cp:coreProperties>
</file>