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3D82-7E60-4009-870F-121E4268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9EE3-03C1-4816-816D-9A6A5814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31B-D3B9-413E-A3B0-168B7ED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468-F374-4FB0-968F-634B4C73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792-2765-4DFE-8CD3-19C62931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E334-DFD5-4BC2-9D82-70686722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057-F303-4E08-95ED-AB9C1B3C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762F-F42A-46D9-B57F-E1D0AD59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9761-6204-4900-B290-F634D987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C93-B742-445B-ACF0-5773FDF4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B48-B12C-4002-8036-18F710F5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989B-EBF2-4AD2-8D18-823B4E2A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F7A7-9003-4658-8577-25D6B3B5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0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الحاسب الآلي في الاقتصاد الزراع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9:04:20Z</dcterms:modified>
  <cp:revision>39</cp:revision>
  <dc:subject/>
  <dc:title>Slide 1</dc:title>
</cp:coreProperties>
</file>