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9A3-2CDF-410E-A21B-16D4F9FA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769-ED2E-489B-91A4-CA183754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5E0-B528-40A7-9018-1E8C2253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66A-1B7B-4A82-9D06-42A3BBA9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CDF-FE46-4C05-8335-A51EA09B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69F-6F52-4994-89C7-18C3D0D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D06-9530-4D3A-A95C-F4D27BB6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9F9-31BB-4D4A-8909-9387CF5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792-B569-419B-A7B7-7F65B62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D20-2C20-4B82-BC6A-1C3C121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DBA-C006-41B4-9BC9-FE99844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61B-E4B8-467A-847F-E1A6EFA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86E-2DF1-430D-AEDC-C6098BE46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0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طبيقات الحاسب الآلي في الاقتصاد الزراع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9:04:20Z</dcterms:modified>
  <cp:revision>39</cp:revision>
  <dc:subject/>
  <dc:title>Slide 1</dc:title>
</cp:coreProperties>
</file>