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48F2-BA4B-4BB1-BB5A-0E121D4F73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626-8E03-4830-AA12-59356E0CBE3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F7C1-C00D-4BFE-86DB-6F5684AC8AC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F47-0DA5-4959-A4C8-4BD18B3D16F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2F5-5228-45CA-A6DE-CBF083B1DF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BA2-D3DB-41F8-938B-388E53E3C7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0E36-CFE1-4B0A-9E0D-E813937BEC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D9FF-1B90-4D99-9CF5-4839110DF7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F1C-3F73-45A7-9E91-F026EEBA63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278-81EA-455D-9CCC-CA9DC8FD3A2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9CA3-A59F-440B-B424-178886992BC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3E9D-5634-4BEB-B1BC-87F1808715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EBA-11AA-4DDD-9AAB-2685D700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61A-2555-4876-B69F-32351358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209-F58A-4DF4-8C81-64A4AFF4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9EE-9E32-424E-89B8-91D05BE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6A32-CDE8-4CC3-8C70-EAF1A3F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DB1-EFA3-4891-9CE4-A54CA515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D8E-F6E4-4B9C-90F4-ECB593D4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43E5-1C95-4DD4-8625-634C41D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098-55D4-4670-B516-EC9BBF2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1764-455D-4B9B-A31F-7FC626EC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B05-1B1A-4425-9E14-DCA0A11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62E-65AD-445E-8D58-C457A38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8E8B-A71A-4299-B6DF-92847D1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559-D6E5-4165-9306-E2F2CAE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B6A-3AF9-41D6-BDB3-0A0ADA9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39B-0D83-46A0-A914-5695E34E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7D8-EA99-43C0-8B45-F3712F14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F630-E734-4356-BBEC-CCD42A19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FEA1-C2AE-4360-94B1-03C4E1A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8F6A-7EF8-484A-AC30-0A73B0A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98FE-467F-48F7-9A70-2B2AE079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C98F-B143-4573-B086-9676B085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A02-8929-418C-B98C-D44B12FD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09E7-F544-43A0-B57D-F8DE92F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40F7-8B83-4F32-A0DC-047077D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E762-EDCC-4E86-AF8E-F0BAC39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7CC2-49B8-410A-9407-A7951F5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8081-56A1-4B63-8044-6AF5BDBB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EDDF-AE3F-4BDD-A279-034DB13E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E76D-2BB0-4D94-9CA6-7E84C2DA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EF3B-6841-4BEA-9628-02EB70F8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E1C7-BD05-489B-9AD6-2504FC3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D201-C02E-4D2E-9053-1FF05204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A1A-8713-43A7-8393-7E11C2C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B7D85-8ED1-4140-B3BF-EFEBCB18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ABD8-0625-4AFD-AE02-07493444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F479-3D7A-4753-B41E-21928685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0A50-0F8F-46D7-83E9-C0BAA43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FBE1-9C9C-4897-AC6E-C39E9A89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579D-2D41-4A04-B002-67B70AC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D495-2A6C-4906-BC36-A5562EE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AA50-FEDF-4934-8ADA-4E306B0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89AB-292C-4CF2-8BB3-C98B59B4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4B9-7E4A-44CC-8032-8EF8650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E54-716E-49E3-948D-E058306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055-50F8-4715-AF11-6B9076F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239-165D-41E5-B934-B639DA2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AF6-FDAC-4963-85B9-404C6006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C9A2-EC60-4343-ADF6-1A776DE093C1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43F-B1DC-4B20-8C27-BA13ABDDA198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0A22-B418-4EF7-AB13-7A12366710C3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A3B2-926B-4350-A20F-A8759A3416BE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عنوان 1" descr=""/>
          <p:cNvPicPr/>
          <p:nvPr/>
        </p:nvPicPr>
        <p:blipFill>
          <a:blip r:embed="rId1"/>
          <a:stretch/>
        </p:blipFill>
        <p:spPr>
          <a:xfrm>
            <a:off x="1047600" y="1633680"/>
            <a:ext cx="6973920" cy="307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3" name="عنوان 1" descr=""/>
          <p:cNvPicPr/>
          <p:nvPr/>
        </p:nvPicPr>
        <p:blipFill>
          <a:blip r:embed="rId2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sp>
        <p:nvSpPr>
          <p:cNvPr id="244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ستطيل 4"/>
          <p:cNvSpPr/>
          <p:nvPr/>
        </p:nvSpPr>
        <p:spPr>
          <a:xfrm>
            <a:off x="826920" y="74448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d79ca"/>
                </a:solidFill>
                <a:uFillTx/>
                <a:latin typeface="Andalus"/>
                <a:cs typeface="Andalus"/>
              </a:rPr>
              <a:t>القسم الأول </a:t>
            </a:r>
            <a:r>
              <a:rPr b="0" lang="ar-SA" sz="2400" spc="-1" strike="noStrike">
                <a:solidFill>
                  <a:srgbClr val="0d79ca"/>
                </a:solidFill>
                <a:latin typeface="Andalus"/>
                <a:cs typeface="Andalus"/>
              </a:rPr>
              <a:t>يرمز له ( ل 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9153" t="0" r="8721" b="0"/>
          <a:stretch/>
        </p:blipFill>
        <p:spPr>
          <a:xfrm>
            <a:off x="547560" y="1413000"/>
            <a:ext cx="813600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57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0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0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78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092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32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3200" spc="-1" strike="noStrike">
                <a:solidFill>
                  <a:srgbClr val="5a2c64"/>
                </a:solidFill>
                <a:latin typeface="Trebuchet MS"/>
                <a:ea typeface="Mudir MT"/>
              </a:rPr>
              <a:t> فإكثر)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87" name="عنوان 1" descr=""/>
          <p:cNvPicPr/>
          <p:nvPr/>
        </p:nvPicPr>
        <p:blipFill>
          <a:blip r:embed="rId2"/>
          <a:stretch/>
        </p:blipFill>
        <p:spPr>
          <a:xfrm>
            <a:off x="609480" y="-73080"/>
            <a:ext cx="7242120" cy="1163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2700" spc="-1" strike="noStrike">
                <a:solidFill>
                  <a:srgbClr val="40404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0404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2700" spc="-1" strike="noStrike">
                <a:solidFill>
                  <a:srgbClr val="40404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0404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4e67c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67c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14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36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29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28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، وفي القدرة اللعددية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42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4e67c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212745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298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3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رابط كسهم مستقيم 9"/>
          <p:cNvCxnSpPr>
            <a:stCxn id="304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8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رابط كسهم مستقيم 9"/>
          <p:cNvCxnSpPr>
            <a:stCxn id="309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3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رابط كسهم مستقيم 9"/>
          <p:cNvCxnSpPr>
            <a:stCxn id="314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10920" y="475920"/>
            <a:ext cx="7777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e67c8"/>
                </a:solidFill>
                <a:latin typeface="Trebuchet MS"/>
                <a:cs typeface="Mudir MT"/>
              </a:rPr>
              <a:t>أقسام الاختبار 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</a:t>
            </a:r>
            <a:r>
              <a:rPr b="0" lang="ar-SA" sz="36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لقسم </a:t>
            </a: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أول </a:t>
            </a: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معاني الكلمات ويقيس القدرة اللغوية وهو أكثر الاختبارات تشعباً فيها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8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رابط كسهم مستقيم 9"/>
          <p:cNvCxnSpPr>
            <a:stCxn id="319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20640"/>
            <a:ext cx="82915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أقسام الاختبار 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Mudir MT"/>
              </a:rPr>
              <a:t>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Mudir MT"/>
              </a:rPr>
              <a:t> وهو اختبار الإدارك المكاني ويعتمد على التفريق بين الأشكال السوية والمعكوسة 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36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36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402920" y="549360"/>
            <a:ext cx="72392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40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الجمع البسيط ويقيس القدرة العددية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404640"/>
            <a:ext cx="829152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67c8"/>
                </a:solidFill>
                <a:latin typeface="Trebuchet MS"/>
                <a:cs typeface="Mudir MT"/>
              </a:rPr>
              <a:t>تعليمات عامة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عنوان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2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GCUSER</cp:lastModifiedBy>
  <dcterms:modified xsi:type="dcterms:W3CDTF">2016-02-25T10:00:18Z</dcterms:modified>
  <cp:revision>23</cp:revision>
  <dc:subject/>
  <dc:title>مقياس العوامل الخمس الكبرى في الشخصية</dc:title>
</cp:coreProperties>
</file>