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0CF0-7A45-4EFC-9914-693D306FF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D06F-AA98-4EEB-96F1-08B0E66C12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961B-3BF4-49D1-A987-26C3D5822F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7135-2CB2-4D7E-8921-ADD2CE2F40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3144-3916-4D9C-80AA-38FFF27779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BD3A-FE07-41DC-B68D-5398343264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BDED-3AD1-43B6-8F5D-88C69D05CA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A25C-F5C0-43DD-9BFF-AB3C0E8FB5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960" y="114264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oper Black"/>
              </a:rPr>
              <a:t>Development of the Face and The nose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1066680" y="378612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  <a:ea typeface="Aharoni"/>
              </a:rPr>
              <a:t>Dr. Mohammad Aloula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  <a:ea typeface="Aharoni"/>
              </a:rPr>
              <a:t>Assistant professor 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  <a:ea typeface="Aharoni"/>
              </a:rPr>
              <a:t>Consultan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  <a:ea typeface="Aharoni"/>
              </a:rPr>
              <a:t>KAU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51920" y="152280"/>
            <a:ext cx="49532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esenchymal cells proliferate at the margin of the placodes and produce horse-shoe shaped swellings around the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sides of these swellings are called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‘medial’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nd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‘lateral’ nasal promin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placodes now lie in the floor of a depression called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‘nasal pits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" descr="C:\Documents and Settings\user\My Documents\My Pictures\kjl.jpg"/>
          <p:cNvPicPr/>
          <p:nvPr/>
        </p:nvPicPr>
        <p:blipFill>
          <a:blip r:embed="rId1"/>
          <a:srcRect l="0" t="0" r="65886" b="0"/>
          <a:stretch/>
        </p:blipFill>
        <p:spPr>
          <a:xfrm>
            <a:off x="5105520" y="1066680"/>
            <a:ext cx="3809880" cy="307980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533520" y="5257800"/>
            <a:ext cx="8153280" cy="13737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ach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lateral nasal prominenc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is separated from the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maxillary swelling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by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nasolacrimal groov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28600" y="304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maxillary  prominences continue to increase in size an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Laterally,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erge with th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mandibular prominenc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o form the che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Medially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ompress the medial nasal prominences toward the midline and finally fuses with these to form the upper l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C:\Documents and Settings\user\My Documents\My Pictures\Copy of frt.jpg"/>
          <p:cNvPicPr/>
          <p:nvPr/>
        </p:nvPicPr>
        <p:blipFill>
          <a:blip r:embed="rId1"/>
          <a:srcRect l="0" t="0" r="38002" b="56509"/>
          <a:stretch/>
        </p:blipFill>
        <p:spPr>
          <a:xfrm>
            <a:off x="5181480" y="380880"/>
            <a:ext cx="3770280" cy="2438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user\My Documents\My Pictures\frt.jpg"/>
          <p:cNvPicPr/>
          <p:nvPr/>
        </p:nvPicPr>
        <p:blipFill>
          <a:blip r:embed="rId2"/>
          <a:srcRect l="40002" t="0" r="0" b="58679"/>
          <a:stretch/>
        </p:blipFill>
        <p:spPr>
          <a:xfrm>
            <a:off x="5181480" y="2971800"/>
            <a:ext cx="3721320" cy="2362320"/>
          </a:xfrm>
          <a:prstGeom prst="rect">
            <a:avLst/>
          </a:prstGeom>
          <a:ln w="0">
            <a:noFill/>
          </a:ln>
        </p:spPr>
      </p:pic>
      <p:sp>
        <p:nvSpPr>
          <p:cNvPr id="89" name="TextBox 7"/>
          <p:cNvSpPr/>
          <p:nvPr/>
        </p:nvSpPr>
        <p:spPr>
          <a:xfrm>
            <a:off x="685800" y="5562720"/>
            <a:ext cx="7848720" cy="1373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  <a:ea typeface="Tahoma"/>
              </a:rPr>
              <a:t>The upper lip is formed by the two medial nasal prominences &amp; the two maxillary  prominences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228600" y="533520"/>
            <a:ext cx="4648320" cy="26535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  <a:ea typeface="Tahoma"/>
              </a:rPr>
              <a:t>medial nasal swelling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nlarge, grow medially and merge with each other in the midline to form the </a:t>
            </a:r>
            <a:r>
              <a:rPr b="0" lang="en-US" sz="2800" spc="-1" strike="noStrike">
                <a:solidFill>
                  <a:srgbClr val="ff6b3c"/>
                </a:solidFill>
                <a:latin typeface="Tahoma"/>
                <a:ea typeface="Tahoma"/>
              </a:rPr>
              <a:t>intermaxillary seg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2" descr="C:\Documents and Settings\user\My Documents\My Pictures\Copy of Picture1h.jpg"/>
          <p:cNvPicPr/>
          <p:nvPr/>
        </p:nvPicPr>
        <p:blipFill>
          <a:blip r:embed="rId1"/>
          <a:srcRect l="0" t="13239" r="28000" b="0"/>
          <a:stretch/>
        </p:blipFill>
        <p:spPr>
          <a:xfrm>
            <a:off x="5029200" y="609480"/>
            <a:ext cx="3355920" cy="2133720"/>
          </a:xfrm>
          <a:prstGeom prst="rect">
            <a:avLst/>
          </a:prstGeom>
          <a:ln w="0">
            <a:noFill/>
          </a:ln>
        </p:spPr>
      </p:pic>
      <p:sp>
        <p:nvSpPr>
          <p:cNvPr id="92" name="Down Arrow 20"/>
          <p:cNvSpPr/>
          <p:nvPr/>
        </p:nvSpPr>
        <p:spPr>
          <a:xfrm>
            <a:off x="6629400" y="1523880"/>
            <a:ext cx="7632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ffcc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2" descr="C:\Documents and Settings\Free User\My Documents\My Pictures\asq.jpg"/>
          <p:cNvPicPr/>
          <p:nvPr/>
        </p:nvPicPr>
        <p:blipFill>
          <a:blip r:embed="rId2"/>
          <a:stretch/>
        </p:blipFill>
        <p:spPr>
          <a:xfrm>
            <a:off x="304920" y="3124080"/>
            <a:ext cx="5029200" cy="3214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1219320" y="58672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embryo: 7 wee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3" descr="C:\Documents and Settings\user\My Documents\My Pictures\Picture1h.jpg"/>
          <p:cNvPicPr/>
          <p:nvPr/>
        </p:nvPicPr>
        <p:blipFill>
          <a:blip r:embed="rId3"/>
          <a:srcRect l="44004" t="8166" r="0" b="0"/>
          <a:stretch/>
        </p:blipFill>
        <p:spPr>
          <a:xfrm>
            <a:off x="5486400" y="3276720"/>
            <a:ext cx="3321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Intermaxillary Segment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1920" y="1066680"/>
            <a:ext cx="39625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s rise to th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hiltrum of l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remaxillary part of the maxilla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t bears th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upper 4 incisor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th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ssociated gu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rimary pala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region of hard palate just posterior to the upper incis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6" descr="C:\Documents and Settings\Free User\My Documents\My Pictures\rtyu.jpg"/>
          <p:cNvPicPr/>
          <p:nvPr/>
        </p:nvPicPr>
        <p:blipFill>
          <a:blip r:embed="rId1"/>
          <a:srcRect l="1651" t="15445" r="59935" b="7341"/>
          <a:stretch/>
        </p:blipFill>
        <p:spPr>
          <a:xfrm>
            <a:off x="5105520" y="1066680"/>
            <a:ext cx="2438280" cy="1951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:\Documents and Settings\Free User\My Documents\My Pictures\rtyu.jpg"/>
          <p:cNvPicPr/>
          <p:nvPr/>
        </p:nvPicPr>
        <p:blipFill>
          <a:blip r:embed="rId2"/>
          <a:srcRect l="40956" t="0" r="2346" b="8337"/>
          <a:stretch/>
        </p:blipFill>
        <p:spPr>
          <a:xfrm>
            <a:off x="4191120" y="3124080"/>
            <a:ext cx="4225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685800" y="4648320"/>
            <a:ext cx="7391520" cy="13737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Besides the fleshy derivatives, the facial prominences also give rise to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bones of the facial skele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04920" y="380880"/>
            <a:ext cx="4038480" cy="435996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mesenchyme from the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 baseline="30000">
                <a:solidFill>
                  <a:srgbClr val="ff00ff"/>
                </a:solidFill>
                <a:latin typeface="Tahoma"/>
                <a:ea typeface="Tahoma"/>
              </a:rPr>
              <a:t>st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 &amp; 2</a:t>
            </a:r>
            <a:r>
              <a:rPr b="0" lang="en-US" sz="2800" spc="-1" strike="noStrike" baseline="30000">
                <a:solidFill>
                  <a:srgbClr val="ff00ff"/>
                </a:solidFill>
                <a:latin typeface="Tahoma"/>
                <a:ea typeface="Tahoma"/>
              </a:rPr>
              <a:t>nd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  pairs of pharyngeal arch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invade the facial prominences and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give rise to th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muscles of mastication and muscles of facial express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respectiv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C:\Documents and Settings\Free User\My Documents\My Pictures\qwa.png"/>
          <p:cNvPicPr/>
          <p:nvPr/>
        </p:nvPicPr>
        <p:blipFill>
          <a:blip r:embed="rId1"/>
          <a:srcRect l="5848" t="0" r="0" b="2038"/>
          <a:stretch/>
        </p:blipFill>
        <p:spPr>
          <a:xfrm>
            <a:off x="4419720" y="380880"/>
            <a:ext cx="4062240" cy="39625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4"/>
          <p:cNvSpPr/>
          <p:nvPr/>
        </p:nvSpPr>
        <p:spPr>
          <a:xfrm>
            <a:off x="304920" y="1371600"/>
            <a:ext cx="4343400" cy="26535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frontonasal prominenc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forms th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Forehea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and the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bridge of the n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  <a:ea typeface="Tahoma"/>
              </a:rPr>
              <a:t>Frontal and nasal b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228600" y="4419720"/>
            <a:ext cx="830592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maxillary prominenc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form th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Upper cheek region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nd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most of the upper l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  <a:ea typeface="Tahoma"/>
              </a:rPr>
              <a:t>Maxilla, zygomatic bone, secondary pa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itle 1"/>
          <p:cNvSpPr/>
          <p:nvPr/>
        </p:nvSpPr>
        <p:spPr>
          <a:xfrm>
            <a:off x="152280" y="3808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ahoma"/>
                <a:ea typeface="Tahoma"/>
              </a:rPr>
              <a:t>Derivatives of Facial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4" descr="C:\Documents and Settings\user\My Documents\My Pictures\Gray48.png"/>
          <p:cNvPicPr/>
          <p:nvPr/>
        </p:nvPicPr>
        <p:blipFill>
          <a:blip r:embed="rId1"/>
          <a:stretch/>
        </p:blipFill>
        <p:spPr>
          <a:xfrm>
            <a:off x="5105520" y="1219320"/>
            <a:ext cx="3376440" cy="28954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9"/>
          <p:cNvSpPr/>
          <p:nvPr/>
        </p:nvSpPr>
        <p:spPr>
          <a:xfrm>
            <a:off x="457200" y="457200"/>
            <a:ext cx="4114800" cy="26535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mandibular prominenc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fuse and form th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Chin, lower lip, and lower cheek reg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  <a:ea typeface="Tahoma"/>
              </a:rPr>
              <a:t>Mand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80880" y="3657600"/>
            <a:ext cx="8305920" cy="2653560"/>
          </a:xfrm>
          <a:prstGeom prst="rect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lateral nasal prominenc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form the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alae of the n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edial nasal prominenc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se and form the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intermaxillary seg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4" descr="C:\Documents and Settings\user\My Documents\My Pictures\Gray48.png"/>
          <p:cNvPicPr/>
          <p:nvPr/>
        </p:nvPicPr>
        <p:blipFill>
          <a:blip r:embed="rId1"/>
          <a:stretch/>
        </p:blipFill>
        <p:spPr>
          <a:xfrm>
            <a:off x="4724280" y="457200"/>
            <a:ext cx="3465720" cy="29718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1905120"/>
            <a:ext cx="7772400" cy="167472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5cc"/>
                </a:solidFill>
                <a:latin typeface="Cooper Black"/>
              </a:rPr>
              <a:t>Development of the Nasal Cavity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04920" y="456840"/>
            <a:ext cx="441936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With the formation of the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  <a:ea typeface="SimSun"/>
              </a:rPr>
              <a:t>medial and lateral nasal prominenc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, the nasal placodes lie in the floor of depressions called the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  <a:ea typeface="SimSun"/>
              </a:rPr>
              <a:t>nasal p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By the end of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SimSu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week, nasal pits deepen and form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  <a:ea typeface="SimSun"/>
              </a:rPr>
              <a:t>nasal s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Each nasal sac grows dorsocaudally, ventral to the developing b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C:\Documents and Settings\user\My Documents\My Pictures\Copy of frt.jpg"/>
          <p:cNvPicPr/>
          <p:nvPr/>
        </p:nvPicPr>
        <p:blipFill>
          <a:blip r:embed="rId1"/>
          <a:srcRect l="7314" t="40744" r="7314" b="0"/>
          <a:stretch/>
        </p:blipFill>
        <p:spPr>
          <a:xfrm>
            <a:off x="4952880" y="685800"/>
            <a:ext cx="3810240" cy="2666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Documents and Settings\user\My Documents\My Pictures\cv.jpg"/>
          <p:cNvPicPr/>
          <p:nvPr/>
        </p:nvPicPr>
        <p:blipFill>
          <a:blip r:embed="rId2"/>
          <a:stretch/>
        </p:blipFill>
        <p:spPr>
          <a:xfrm>
            <a:off x="5334120" y="3657600"/>
            <a:ext cx="3220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0880" y="380880"/>
            <a:ext cx="4267440" cy="609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Initially the nasal sacs are separated from the  oral cavity by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  <a:ea typeface="SimSun"/>
              </a:rPr>
              <a:t>oronasal membrane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The oronasal membrane ruptures by th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7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  <a:ea typeface="SimSun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 wee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, communicating the 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  <a:ea typeface="SimSun"/>
              </a:rPr>
              <a:t>primitive nasal caviti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with the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  <a:ea typeface="SimSun"/>
              </a:rPr>
              <a:t>oral c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2" descr="F:\New Folder\Copy (3) of fnp.jpg"/>
          <p:cNvPicPr/>
          <p:nvPr/>
        </p:nvPicPr>
        <p:blipFill>
          <a:blip r:embed="rId1"/>
          <a:srcRect l="52002" t="1546" r="8000" b="61016"/>
          <a:stretch/>
        </p:blipFill>
        <p:spPr>
          <a:xfrm>
            <a:off x="4800600" y="3276720"/>
            <a:ext cx="3500280" cy="2743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:\Documents and Settings\user\My Documents\My Pictures\cv.jpg"/>
          <p:cNvPicPr/>
          <p:nvPr/>
        </p:nvPicPr>
        <p:blipFill>
          <a:blip r:embed="rId2"/>
          <a:stretch/>
        </p:blipFill>
        <p:spPr>
          <a:xfrm>
            <a:off x="4952880" y="685800"/>
            <a:ext cx="3221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153280" cy="144756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5cc"/>
                </a:solidFill>
                <a:latin typeface="Cooper Black"/>
              </a:rPr>
              <a:t>Development of the Face</a:t>
            </a:r>
            <a:endParaRPr b="1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Content Placeholder 4" descr="F:\New Folder\Copy of fnp.jpg"/>
          <p:cNvPicPr/>
          <p:nvPr/>
        </p:nvPicPr>
        <p:blipFill>
          <a:blip r:embed="rId1"/>
          <a:srcRect l="4000" t="36788" r="54000" b="30179"/>
          <a:stretch/>
        </p:blipFill>
        <p:spPr>
          <a:xfrm>
            <a:off x="5257800" y="609480"/>
            <a:ext cx="3170160" cy="2264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228240" y="304920"/>
            <a:ext cx="4876920" cy="62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These communications are called the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  <a:ea typeface="SimSun"/>
              </a:rPr>
              <a:t>primitive choana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and are located posterior to the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  <a:ea typeface="SimSun"/>
              </a:rPr>
              <a:t>primary pa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fter the development of the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  <a:ea typeface="SimSun"/>
              </a:rPr>
              <a:t>secondary pal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, the choanae change their position and become  located at the junction of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nasal cavit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nd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pharyn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F:\New Folder\Copy of fnp.jpg"/>
          <p:cNvPicPr/>
          <p:nvPr/>
        </p:nvPicPr>
        <p:blipFill>
          <a:blip r:embed="rId2"/>
          <a:srcRect l="46004" t="30179" r="4000" b="27979"/>
          <a:stretch/>
        </p:blipFill>
        <p:spPr>
          <a:xfrm>
            <a:off x="5181480" y="3276720"/>
            <a:ext cx="3408480" cy="2590560"/>
          </a:xfrm>
          <a:prstGeom prst="rect">
            <a:avLst/>
          </a:prstGeom>
          <a:ln w="0">
            <a:noFill/>
          </a:ln>
        </p:spPr>
      </p:pic>
      <p:sp>
        <p:nvSpPr>
          <p:cNvPr id="120" name="Rounded Rectangle 7"/>
          <p:cNvSpPr/>
          <p:nvPr/>
        </p:nvSpPr>
        <p:spPr>
          <a:xfrm>
            <a:off x="5791320" y="1523880"/>
            <a:ext cx="83808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ounded Rectangle 8"/>
          <p:cNvSpPr/>
          <p:nvPr/>
        </p:nvSpPr>
        <p:spPr>
          <a:xfrm>
            <a:off x="7620120" y="4648320"/>
            <a:ext cx="838080" cy="533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304560"/>
            <a:ext cx="4572000" cy="609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nasal septu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develops as a downgrowth from the internal parts of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merged medial nasal promin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Fuses with the 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  <a:ea typeface="Tahoma"/>
              </a:rPr>
              <a:t>palatine proces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9-12 week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, superior to the hard palate primordiu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6" descr="C:\Documents and Settings\Free User\My Documents\My Pictures\zx.jpg"/>
          <p:cNvPicPr/>
          <p:nvPr/>
        </p:nvPicPr>
        <p:blipFill>
          <a:blip r:embed="rId1"/>
          <a:srcRect l="5442" t="9374" r="5790" b="47677"/>
          <a:stretch/>
        </p:blipFill>
        <p:spPr>
          <a:xfrm>
            <a:off x="5029200" y="685800"/>
            <a:ext cx="3600360" cy="2133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C:\Documents and Settings\Free User\My Documents\My Pictures\zx.jpg"/>
          <p:cNvPicPr/>
          <p:nvPr/>
        </p:nvPicPr>
        <p:blipFill>
          <a:blip r:embed="rId2"/>
          <a:srcRect l="12947" t="58703" r="5790" b="3121"/>
          <a:stretch/>
        </p:blipFill>
        <p:spPr>
          <a:xfrm>
            <a:off x="5029200" y="3124080"/>
            <a:ext cx="3657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F:\New Folder\Copy of fnp.jpg"/>
          <p:cNvPicPr/>
          <p:nvPr/>
        </p:nvPicPr>
        <p:blipFill>
          <a:blip r:embed="rId1"/>
          <a:srcRect l="46004" t="30179" r="4000" b="27979"/>
          <a:stretch/>
        </p:blipFill>
        <p:spPr>
          <a:xfrm>
            <a:off x="4724280" y="3276720"/>
            <a:ext cx="3510000" cy="2666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28600" y="228600"/>
            <a:ext cx="45720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superior, middle and inferior concha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develop on the lateral wall of each nasal c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ectodermal epithelium in the roof of each nasal cavity becomes specialized as the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olfactory epithel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Content Placeholder 4" descr="F:\New Folder\Copy of fnp.jpg"/>
          <p:cNvPicPr/>
          <p:nvPr/>
        </p:nvPicPr>
        <p:blipFill>
          <a:blip r:embed="rId2"/>
          <a:srcRect l="4000" t="36788" r="54000" b="30179"/>
          <a:stretch/>
        </p:blipFill>
        <p:spPr>
          <a:xfrm>
            <a:off x="4952880" y="685800"/>
            <a:ext cx="31705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4756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olfactory cell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of the olfactory epithelium give origin to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olfactory nerve fib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that grow into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olfactory bul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3" descr="F:\New Folder\Copy of fnp.jpg"/>
          <p:cNvPicPr/>
          <p:nvPr/>
        </p:nvPicPr>
        <p:blipFill>
          <a:blip r:embed="rId1"/>
          <a:srcRect l="4000" t="34584" r="52002" b="30179"/>
          <a:stretch/>
        </p:blipFill>
        <p:spPr>
          <a:xfrm>
            <a:off x="4648320" y="457200"/>
            <a:ext cx="3352680" cy="2438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F:\New Folder\Copy of fnp.jpg"/>
          <p:cNvPicPr/>
          <p:nvPr/>
        </p:nvPicPr>
        <p:blipFill>
          <a:blip r:embed="rId2"/>
          <a:srcRect l="46004" t="27979" r="6002" b="30179"/>
          <a:stretch/>
        </p:blipFill>
        <p:spPr>
          <a:xfrm>
            <a:off x="4572000" y="3124080"/>
            <a:ext cx="3560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  <a:ea typeface="Tahoma"/>
              </a:rPr>
              <a:t>Nasolacrimal duct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28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evelops from a rod-like thickening of the 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  <a:ea typeface="Tahoma"/>
              </a:rPr>
              <a:t>ectoder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in the floor of the nasolacrimal gro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is 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  <a:ea typeface="Tahoma"/>
              </a:rPr>
              <a:t>solid cord of cell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eparates from the surface ectoderm and lies in the underlying mesenchy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cord gets 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  <a:ea typeface="Tahoma"/>
              </a:rPr>
              <a:t>canaliz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to form the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  <a:ea typeface="Tahoma"/>
              </a:rPr>
              <a:t>nasolacrimal 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cranial en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of the duct expands to form the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  <a:ea typeface="Tahoma"/>
              </a:rPr>
              <a:t>lacrimal s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caudal en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opens into the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inferior meatus of the nasal c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duct is usually becomes completely patent only after bi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ailure of complete canalization of the duct leads to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atresi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of the duct (seen in about 6% of newborn infa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05920" cy="160020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f5f5f5"/>
              </a:gs>
            </a:gsLst>
            <a:lin ang="16200000"/>
          </a:gradFill>
          <a:ln w="9360">
            <a:solidFill>
              <a:srgbClr val="a6a6a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omic"/>
              </a:rPr>
              <a:t>Development of Palate (Palatogenesis)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"/>
          <p:cNvSpPr/>
          <p:nvPr/>
        </p:nvSpPr>
        <p:spPr>
          <a:xfrm>
            <a:off x="609480" y="4648320"/>
            <a:ext cx="7848720" cy="1556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alate develops from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two primordi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Primary pa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Secondary pa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endParaRPr b="1" lang="en-US" sz="49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761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ins at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nd of the 5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 completed by the end of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critical period for the development of palate is from th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end of 6</a:t>
            </a:r>
            <a:r>
              <a:rPr b="0" lang="en-US" sz="32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wee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to th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beginning of 9</a:t>
            </a:r>
            <a:r>
              <a:rPr b="0" lang="en-US" sz="32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1828800" y="60948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Palatogene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C:\Documents and Settings\Free User\My Documents\My Pictures\122.jpg"/>
          <p:cNvPicPr/>
          <p:nvPr/>
        </p:nvPicPr>
        <p:blipFill>
          <a:blip r:embed="rId1"/>
          <a:srcRect l="12480" t="12220" r="0" b="3328"/>
          <a:stretch/>
        </p:blipFill>
        <p:spPr>
          <a:xfrm>
            <a:off x="4419720" y="3505320"/>
            <a:ext cx="4221000" cy="2743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 Rounded MT Bold"/>
              </a:rPr>
              <a:t>The Primary Palate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990720"/>
            <a:ext cx="42670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ins to develo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ly in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we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deep part of the intermaxillary segment, as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median palatin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es behind 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maxillary par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maxi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ses with the developing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condary pa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2" descr="C:\Documents and Settings\Free User\My Documents\My Pictures\Picture111.jpg"/>
          <p:cNvPicPr/>
          <p:nvPr/>
        </p:nvPicPr>
        <p:blipFill>
          <a:blip r:embed="rId2"/>
          <a:srcRect l="9612" t="4429" r="5769" b="9140"/>
          <a:stretch/>
        </p:blipFill>
        <p:spPr>
          <a:xfrm>
            <a:off x="4952880" y="990720"/>
            <a:ext cx="2743200" cy="2431800"/>
          </a:xfrm>
          <a:prstGeom prst="rect">
            <a:avLst/>
          </a:prstGeom>
          <a:ln w="0">
            <a:noFill/>
          </a:ln>
        </p:spPr>
      </p:pic>
      <p:cxnSp>
        <p:nvCxnSpPr>
          <p:cNvPr id="142" name="Straight Arrow Connector 12"/>
          <p:cNvCxnSpPr/>
          <p:nvPr/>
        </p:nvCxnSpPr>
        <p:spPr>
          <a:xfrm flipH="1" flipV="1">
            <a:off x="6323760" y="5028840"/>
            <a:ext cx="229320" cy="21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3" name="Straight Arrow Connector 13"/>
          <p:cNvCxnSpPr/>
          <p:nvPr/>
        </p:nvCxnSpPr>
        <p:spPr>
          <a:xfrm flipH="1" flipV="1">
            <a:off x="6323760" y="5409360"/>
            <a:ext cx="229320" cy="2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4" name="Straight Arrow Connector 14"/>
          <p:cNvCxnSpPr/>
          <p:nvPr/>
        </p:nvCxnSpPr>
        <p:spPr>
          <a:xfrm flipH="1">
            <a:off x="6324480" y="5638320"/>
            <a:ext cx="76680" cy="2293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5" name="Straight Arrow Connector 15"/>
          <p:cNvCxnSpPr/>
          <p:nvPr/>
        </p:nvCxnSpPr>
        <p:spPr>
          <a:xfrm>
            <a:off x="5790960" y="5029200"/>
            <a:ext cx="229320" cy="21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6" name="Straight Arrow Connector 16"/>
          <p:cNvCxnSpPr/>
          <p:nvPr/>
        </p:nvCxnSpPr>
        <p:spPr>
          <a:xfrm>
            <a:off x="5790960" y="5409720"/>
            <a:ext cx="229320" cy="2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7" name="Straight Arrow Connector 17"/>
          <p:cNvCxnSpPr/>
          <p:nvPr/>
        </p:nvCxnSpPr>
        <p:spPr>
          <a:xfrm>
            <a:off x="5867280" y="5638320"/>
            <a:ext cx="153360" cy="2293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33520" y="228240"/>
            <a:ext cx="8076960" cy="1600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imary palate represents only a small part lying anterior to the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incisive foss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of the adult hard pa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Content Placeholder 4" descr="C:\Documents and Settings\Free User\My Documents\My Pictures\sss.jpg"/>
          <p:cNvPicPr/>
          <p:nvPr/>
        </p:nvPicPr>
        <p:blipFill>
          <a:blip r:embed="rId1"/>
          <a:srcRect l="13208" t="3593" r="0" b="4011"/>
          <a:stretch/>
        </p:blipFill>
        <p:spPr>
          <a:xfrm>
            <a:off x="2666880" y="2057400"/>
            <a:ext cx="4038840" cy="4268880"/>
          </a:xfrm>
          <a:prstGeom prst="rect">
            <a:avLst/>
          </a:prstGeom>
          <a:ln w="0">
            <a:noFill/>
          </a:ln>
        </p:spPr>
      </p:pic>
      <p:sp>
        <p:nvSpPr>
          <p:cNvPr id="150" name="Left Bracket 5"/>
          <p:cNvSpPr/>
          <p:nvPr/>
        </p:nvSpPr>
        <p:spPr>
          <a:xfrm>
            <a:off x="2895480" y="2819520"/>
            <a:ext cx="76320" cy="2971800"/>
          </a:xfrm>
          <a:custGeom>
            <a:avLst/>
            <a:gdLst>
              <a:gd name="textAreaLeft" fmla="*/ 22320 w 76320"/>
              <a:gd name="textAreaRight" fmla="*/ 76320 w 76320"/>
              <a:gd name="textAreaTop" fmla="*/ 2880 h 2971800"/>
              <a:gd name="textAreaBottom" fmla="*/ 296892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3"/>
                  <a:pt x="0" y="46"/>
                </a:cubicBezTo>
                <a:lnTo>
                  <a:pt x="0" y="21554"/>
                </a:lnTo>
                <a:cubicBezTo>
                  <a:pt x="0" y="21577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Straight Connector 8"/>
          <p:cNvSpPr/>
          <p:nvPr/>
        </p:nvSpPr>
        <p:spPr>
          <a:xfrm flipV="1">
            <a:off x="4800600" y="3123720"/>
            <a:ext cx="533520" cy="38124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Straight Connector 9"/>
          <p:cNvSpPr/>
          <p:nvPr/>
        </p:nvSpPr>
        <p:spPr>
          <a:xfrm>
            <a:off x="4191120" y="3124080"/>
            <a:ext cx="533160" cy="38124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3" name="Straight Arrow Connector 12"/>
          <p:cNvCxnSpPr/>
          <p:nvPr/>
        </p:nvCxnSpPr>
        <p:spPr>
          <a:xfrm flipH="1">
            <a:off x="4952520" y="2437200"/>
            <a:ext cx="1829520" cy="76284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54" name="Straight Arrow Connector 13"/>
          <p:cNvCxnSpPr/>
          <p:nvPr/>
        </p:nvCxnSpPr>
        <p:spPr>
          <a:xfrm>
            <a:off x="2362320" y="4266720"/>
            <a:ext cx="381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5" name="TextBox 18"/>
          <p:cNvSpPr/>
          <p:nvPr/>
        </p:nvSpPr>
        <p:spPr>
          <a:xfrm>
            <a:off x="533520" y="4038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rd pa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Box 20"/>
          <p:cNvSpPr/>
          <p:nvPr/>
        </p:nvSpPr>
        <p:spPr>
          <a:xfrm>
            <a:off x="6705720" y="20574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mary pa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Box 23"/>
          <p:cNvSpPr/>
          <p:nvPr/>
        </p:nvSpPr>
        <p:spPr>
          <a:xfrm>
            <a:off x="990720" y="5867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ft pa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8" name="Straight Arrow Connector 24"/>
          <p:cNvCxnSpPr/>
          <p:nvPr/>
        </p:nvCxnSpPr>
        <p:spPr>
          <a:xfrm>
            <a:off x="2590560" y="6095520"/>
            <a:ext cx="160092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9" name="TextBox 28"/>
          <p:cNvSpPr/>
          <p:nvPr/>
        </p:nvSpPr>
        <p:spPr>
          <a:xfrm>
            <a:off x="6934320" y="41911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ary pa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ight Brace 31"/>
          <p:cNvSpPr/>
          <p:nvPr/>
        </p:nvSpPr>
        <p:spPr>
          <a:xfrm>
            <a:off x="6705720" y="3048120"/>
            <a:ext cx="155520" cy="32004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3200400"/>
              <a:gd name="textAreaBottom" fmla="*/ 31964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4"/>
                  <a:pt x="10800" y="87"/>
                </a:cubicBezTo>
                <a:lnTo>
                  <a:pt x="10800" y="10713"/>
                </a:lnTo>
                <a:cubicBezTo>
                  <a:pt x="10800" y="10757"/>
                  <a:pt x="16200" y="10800"/>
                  <a:pt x="21600" y="10800"/>
                </a:cubicBezTo>
                <a:cubicBezTo>
                  <a:pt x="16200" y="10800"/>
                  <a:pt x="10800" y="10844"/>
                  <a:pt x="10800" y="10887"/>
                </a:cubicBezTo>
                <a:lnTo>
                  <a:pt x="10800" y="21513"/>
                </a:lnTo>
                <a:cubicBezTo>
                  <a:pt x="10800" y="2155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 Rounded MT Bold"/>
              </a:rPr>
              <a:t>The Secondary Palate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1920" y="990720"/>
            <a:ext cx="403884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 primordia of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ar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ft pala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erior to the incisive fos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Begins to develo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ly in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we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internal aspect of the maxillary processes, as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lateral palatin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2" descr="C:\Documents and Settings\Free User\My Documents\My Pictures\Picture111.jpg"/>
          <p:cNvPicPr/>
          <p:nvPr/>
        </p:nvPicPr>
        <p:blipFill>
          <a:blip r:embed="rId1"/>
          <a:srcRect l="9612" t="4429" r="5769" b="9140"/>
          <a:stretch/>
        </p:blipFill>
        <p:spPr>
          <a:xfrm>
            <a:off x="4267080" y="1676520"/>
            <a:ext cx="464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04560" y="8380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development of the face occurs mainly between 4 – 8 wee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lower jaw (mandible) is the first to form (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wee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facial proportions develop during the fetal period (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week to bir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uring infancy &amp; childhood, following the development of teeth and paranasal sinuses, the facial skeleton increases in size and contribute to the definitive shape of the f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C:\Documents and Settings\Free User\My Documents\My Pictures\p.jpg"/>
          <p:cNvPicPr/>
          <p:nvPr/>
        </p:nvPicPr>
        <p:blipFill>
          <a:blip r:embed="rId1"/>
          <a:srcRect l="3182" t="47764" r="48859" b="24740"/>
          <a:stretch/>
        </p:blipFill>
        <p:spPr>
          <a:xfrm>
            <a:off x="4343400" y="3352680"/>
            <a:ext cx="3962520" cy="3276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28600" y="228600"/>
            <a:ext cx="403848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e beginning, the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lateral palatine process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feromedial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each side of the tong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the development of the jaws, the tongue moves inferior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ing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7</a:t>
            </a:r>
            <a:r>
              <a:rPr b="0" lang="en-US" sz="2800" spc="-1" strike="noStrike" baseline="30000">
                <a:solidFill>
                  <a:srgbClr val="ffc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 &amp; 8</a:t>
            </a:r>
            <a:r>
              <a:rPr b="0" lang="en-US" sz="2800" spc="-1" strike="noStrike" baseline="30000">
                <a:solidFill>
                  <a:srgbClr val="ffc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eks, the lateral palatine processes elongate and ascend to 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orizontal posi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ve the tongu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3" descr="C:\Documents and Settings\Free User\My Documents\My Pictures\wed.jpg"/>
          <p:cNvPicPr/>
          <p:nvPr/>
        </p:nvPicPr>
        <p:blipFill>
          <a:blip r:embed="rId2"/>
          <a:srcRect l="7305" t="11266" r="4027" b="9882"/>
          <a:stretch/>
        </p:blipFill>
        <p:spPr>
          <a:xfrm>
            <a:off x="4289400" y="380880"/>
            <a:ext cx="4027680" cy="2819520"/>
          </a:xfrm>
          <a:prstGeom prst="rect">
            <a:avLst/>
          </a:prstGeom>
          <a:ln w="0">
            <a:noFill/>
          </a:ln>
        </p:spPr>
      </p:pic>
      <p:cxnSp>
        <p:nvCxnSpPr>
          <p:cNvPr id="167" name="Straight Arrow Connector 7"/>
          <p:cNvCxnSpPr/>
          <p:nvPr/>
        </p:nvCxnSpPr>
        <p:spPr>
          <a:xfrm>
            <a:off x="4647240" y="1599840"/>
            <a:ext cx="153000" cy="229320"/>
          </a:xfrm>
          <a:prstGeom prst="straightConnector1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168" name="Straight Arrow Connector 9"/>
          <p:cNvCxnSpPr/>
          <p:nvPr/>
        </p:nvCxnSpPr>
        <p:spPr>
          <a:xfrm>
            <a:off x="4952520" y="5029200"/>
            <a:ext cx="305640" cy="2160"/>
          </a:xfrm>
          <a:prstGeom prst="straightConnector1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169" name="Straight Arrow Connector 12"/>
          <p:cNvCxnSpPr/>
          <p:nvPr/>
        </p:nvCxnSpPr>
        <p:spPr>
          <a:xfrm flipV="1">
            <a:off x="4723200" y="1980360"/>
            <a:ext cx="38196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TextBox 23"/>
          <p:cNvSpPr/>
          <p:nvPr/>
        </p:nvSpPr>
        <p:spPr>
          <a:xfrm>
            <a:off x="49528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g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1" name="Straight Arrow Connector 11"/>
          <p:cNvCxnSpPr/>
          <p:nvPr/>
        </p:nvCxnSpPr>
        <p:spPr>
          <a:xfrm flipV="1">
            <a:off x="5333040" y="5486040"/>
            <a:ext cx="76680" cy="838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28240" y="304920"/>
            <a:ext cx="4419720" cy="62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radually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he lateral palatine processe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w medially and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fuse in the median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so fuse with th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erior part of the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primary palate &amp; nasal sept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C:\Documents and Settings\Free User\My Documents\My Pictures\122.jpg"/>
          <p:cNvPicPr/>
          <p:nvPr/>
        </p:nvPicPr>
        <p:blipFill>
          <a:blip r:embed="rId1"/>
          <a:srcRect l="12480" t="12220" r="0" b="3328"/>
          <a:stretch/>
        </p:blipFill>
        <p:spPr>
          <a:xfrm>
            <a:off x="4648320" y="304920"/>
            <a:ext cx="4221000" cy="2743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C:\Documents and Settings\Free User\My Documents\My Pictures\ertf.jpg"/>
          <p:cNvPicPr/>
          <p:nvPr/>
        </p:nvPicPr>
        <p:blipFill>
          <a:blip r:embed="rId2"/>
          <a:srcRect l="10346" t="18946" r="25220" b="8593"/>
          <a:stretch/>
        </p:blipFill>
        <p:spPr>
          <a:xfrm>
            <a:off x="4724280" y="3200400"/>
            <a:ext cx="41911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-360" y="380520"/>
            <a:ext cx="44197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sion with the nasal septum begin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terior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uring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week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sterior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i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pleted by 12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week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2" descr="C:\Documents and Settings\Free User\My Documents\My Pictures\asde.jpg"/>
          <p:cNvPicPr/>
          <p:nvPr/>
        </p:nvPicPr>
        <p:blipFill>
          <a:blip r:embed="rId1"/>
          <a:srcRect l="9856" t="19217" r="12674" b="3934"/>
          <a:stretch/>
        </p:blipFill>
        <p:spPr>
          <a:xfrm>
            <a:off x="4343400" y="3352680"/>
            <a:ext cx="4191120" cy="3048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C:\Documents and Settings\Free User\My Documents\My Pictures\dser.jpg"/>
          <p:cNvPicPr/>
          <p:nvPr/>
        </p:nvPicPr>
        <p:blipFill>
          <a:blip r:embed="rId2"/>
          <a:srcRect l="11719" t="19918" r="11719" b="11063"/>
          <a:stretch/>
        </p:blipFill>
        <p:spPr>
          <a:xfrm>
            <a:off x="4419720" y="380880"/>
            <a:ext cx="4079880" cy="28958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228600" y="3657600"/>
            <a:ext cx="3962520" cy="2226960"/>
          </a:xfrm>
          <a:prstGeom prst="rect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ne develops in the anterior part to form 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ard pa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The posterior part develops as muscular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ft pala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Rounded MT Bold"/>
              </a:rPr>
              <a:t>Changes in Face during Fetal period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914040"/>
            <a:ext cx="53341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ly result from changes in the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propor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amp;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relative positionin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facial 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early fetal period the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no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flat and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mandi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underdeveloped. They attain their characteristic form during fetal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nlargement of brain results in the formation of a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prominent fore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SimSun"/>
              </a:rPr>
              <a:t>Ey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initially appear on each side of frontonasal prominence move medi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SimSun"/>
              </a:rPr>
              <a:t>Ea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first appear on lower portion of lower jaw, grow in upper direction to the level of the e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2" descr="C:\Documents and Settings\Free User\My Documents\My Pictures\ffp.jpg"/>
          <p:cNvPicPr/>
          <p:nvPr/>
        </p:nvPicPr>
        <p:blipFill>
          <a:blip r:embed="rId1"/>
          <a:stretch/>
        </p:blipFill>
        <p:spPr>
          <a:xfrm>
            <a:off x="5334120" y="1295280"/>
            <a:ext cx="3557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428760" y="142920"/>
          <a:ext cx="8001000" cy="6778440"/>
        </p:xfrm>
        <a:graphic>
          <a:graphicData uri="http://schemas.openxmlformats.org/drawingml/2006/table">
            <a:tbl>
              <a:tblPr/>
              <a:tblGrid>
                <a:gridCol w="2286000"/>
                <a:gridCol w="1714320"/>
                <a:gridCol w="2000160"/>
                <a:gridCol w="2000520"/>
              </a:tblGrid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aryngeal Ar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r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c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elet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dibul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axillary ,mandibular process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geminal: maxillay &amp; mandibular divis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tication; mylohyoid; anterior belly of digastric, tensor palatine, tensor tympa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maxilla, maxilla, zygomatic bone,part of temporal bone, Meckel’s cartilage, mandible malleus, incus,anterior ligament of malleus, sphenomadibular lig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Hyoi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ial 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ial expression, posterior belly of digastric,  stylohyoid, stapediu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pes, styloid process, stylohyoid ligament, lesser horn &amp; upper portion of body of hyoi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ssopharynge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ylopharyngeu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ater horn &amp; lower portion of body of hyoid b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gu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or laryngeal (n to 4</a:t>
                      </a:r>
                      <a:r>
                        <a:rPr b="0" lang="en-ZA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h</a:t>
                      </a: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rch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urrent laryngeal (n to 6 arch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cothyroid, levator palatine, constrictors of pharyn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rinsic m. of laryn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ryngeal cartilag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showimage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14240" y="285840"/>
            <a:ext cx="821556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980360" y="22860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te of the Pharyngeal Grooves and Pouch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16360" y="838080"/>
            <a:ext cx="8613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 groove and pouch:  external auditory mea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mpanic membr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mpanic antr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toid antr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yngotympanic or eustachian tu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rooves are obliterated by overgrowth of the seco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ch forming a cervical sinus – if persists forms the branchial fistu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opens into the side of the neck extending form the tonsillar sin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ouch is obliterated by development of palatine tons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ouch: dorsally forms inferior parathyroid g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ntrally forms the thymus gland by fusing with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nterpart from opposite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581760" y="727200"/>
            <a:ext cx="835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ouch: dorsal gives rise to the superior parathyroid g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ntral gives rise to the ultimobranchial body (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ves rise to the parafollicular cells of the thyroid gl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ouch in humans is incorporated with the 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ouc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772400" cy="1447920"/>
          </a:xfrm>
          <a:prstGeom prst="rect">
            <a:avLst/>
          </a:prstGeom>
          <a:noFill/>
          <a:ln w="12600">
            <a:solidFill>
              <a:srgbClr val="ffc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ooper Black"/>
                <a:ea typeface="Tahoma"/>
              </a:rPr>
              <a:t>Anomalies related to Face, Nose &amp; Palate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4952880" cy="1447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  <a:ea typeface="Tahoma"/>
              </a:rPr>
              <a:t>Facial clefts 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ilure of the embryonic facial prominences to fuse properly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51920" y="2437920"/>
            <a:ext cx="5715000" cy="358164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ay be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unilateral or bilat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ay involv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Lips only: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Cleft l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alate only: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Cleft pa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Lip &amp; palate: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Cleft lip &amp; pa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Region of nasolacrimal groove: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Facial clef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6019920" y="2971800"/>
            <a:ext cx="2286000" cy="35067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Lead to difficulty in breathing feeding sucking swallo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&amp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spee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2" descr="F:\New Folder\123.jpg"/>
          <p:cNvPicPr/>
          <p:nvPr/>
        </p:nvPicPr>
        <p:blipFill>
          <a:blip r:embed="rId1"/>
          <a:srcRect l="20156" t="37038" r="20156" b="12963"/>
          <a:stretch/>
        </p:blipFill>
        <p:spPr>
          <a:xfrm>
            <a:off x="5943600" y="304920"/>
            <a:ext cx="236232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ace_31_0001"/>
          <p:cNvPicPr/>
          <p:nvPr/>
        </p:nvPicPr>
        <p:blipFill>
          <a:blip r:embed="rId1"/>
          <a:srcRect l="2957" t="9275" r="1458" b="1666"/>
          <a:stretch/>
        </p:blipFill>
        <p:spPr>
          <a:xfrm>
            <a:off x="914400" y="914400"/>
            <a:ext cx="7391520" cy="38862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057400" y="51814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ryo at 4 - 5 weeks (Lateral vie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52280" y="761760"/>
            <a:ext cx="51055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Median cleft lip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 results from failure of the medial nasal prominences to merge and form the intermaxillary segm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Unilateral cleft lip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result from failure of the maxillary prominence to merge with the medial nasal prominence on the affected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Bilateral cleft lip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resul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due to failure of maxillary prominences to meet and unite with the medial nasal prominences on both s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3" descr="median cleft of upper lip"/>
          <p:cNvPicPr/>
          <p:nvPr/>
        </p:nvPicPr>
        <p:blipFill>
          <a:blip r:embed="rId1"/>
          <a:srcRect l="8661" t="0" r="4682" b="0"/>
          <a:stretch/>
        </p:blipFill>
        <p:spPr>
          <a:xfrm>
            <a:off x="5105520" y="685800"/>
            <a:ext cx="1904760" cy="21556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8"/>
          <p:cNvSpPr/>
          <p:nvPr/>
        </p:nvSpPr>
        <p:spPr>
          <a:xfrm>
            <a:off x="5029200" y="2819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Cleft lip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Box 10"/>
          <p:cNvSpPr/>
          <p:nvPr/>
        </p:nvSpPr>
        <p:spPr>
          <a:xfrm>
            <a:off x="7010280" y="4267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lateral cleft l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10" descr="C:\Documents and Settings\user\My Documents\My Pictures\nm.jpg"/>
          <p:cNvPicPr/>
          <p:nvPr/>
        </p:nvPicPr>
        <p:blipFill>
          <a:blip r:embed="rId2"/>
          <a:stretch/>
        </p:blipFill>
        <p:spPr>
          <a:xfrm>
            <a:off x="7238880" y="2590920"/>
            <a:ext cx="1671840" cy="1679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C:\Documents and Settings\user\My Documents\My Pictures\zxxv.jpg"/>
          <p:cNvPicPr/>
          <p:nvPr/>
        </p:nvPicPr>
        <p:blipFill>
          <a:blip r:embed="rId3"/>
          <a:srcRect l="3734" t="1353" r="1803" b="1353"/>
          <a:stretch/>
        </p:blipFill>
        <p:spPr>
          <a:xfrm>
            <a:off x="5334120" y="4572000"/>
            <a:ext cx="1600200" cy="16794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>
            <a:off x="4952880" y="35053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Box 13"/>
          <p:cNvSpPr/>
          <p:nvPr/>
        </p:nvSpPr>
        <p:spPr>
          <a:xfrm>
            <a:off x="525780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lateral cleft l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240" y="380520"/>
            <a:ext cx="4724280" cy="586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2.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SimSun"/>
              </a:rPr>
              <a:t>Oblique facial clef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results from failure of the maxillary prominence to fuse with the lateral nasal promin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3.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SimSun"/>
              </a:rPr>
              <a:t>Cleft palat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leaves the nasal and oral cavities connected &amp; results in nursing problem for the new bo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May b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Anterior/posterior to incisive fora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Unilateral/bilat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Isolated/associated with cleft lip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5791320" y="586728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eft  lip, cleft jaw &amp;   cleft pa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3" descr="C:\Documents and Settings\Free User\My Documents\My Pictures\lkj.jpg"/>
          <p:cNvPicPr/>
          <p:nvPr/>
        </p:nvPicPr>
        <p:blipFill>
          <a:blip r:embed="rId1"/>
          <a:srcRect l="72004" t="6193" r="3838" b="51361"/>
          <a:stretch/>
        </p:blipFill>
        <p:spPr>
          <a:xfrm>
            <a:off x="5943600" y="3429000"/>
            <a:ext cx="1981080" cy="2386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C:\Documents and Settings\Free User\My Documents\My Pictures\lkj.jpg"/>
          <p:cNvPicPr/>
          <p:nvPr/>
        </p:nvPicPr>
        <p:blipFill>
          <a:blip r:embed="rId2"/>
          <a:srcRect l="36000" t="50005" r="36000" b="4192"/>
          <a:stretch/>
        </p:blipFill>
        <p:spPr>
          <a:xfrm>
            <a:off x="5867280" y="457200"/>
            <a:ext cx="1752840" cy="2128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5638680" y="25909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blique facial cle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Face_39_0001"/>
          <p:cNvPicPr/>
          <p:nvPr/>
        </p:nvPicPr>
        <p:blipFill>
          <a:blip r:embed="rId1"/>
          <a:srcRect l="0" t="0" r="0" b="60"/>
          <a:stretch/>
        </p:blipFill>
        <p:spPr>
          <a:xfrm>
            <a:off x="1143000" y="228600"/>
            <a:ext cx="6691320" cy="52578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1600200" y="56386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Cleft l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oupled with clefts of the anterior palate or entire pal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F:\New Folder26\p2.jpg"/>
          <p:cNvPicPr/>
          <p:nvPr/>
        </p:nvPicPr>
        <p:blipFill>
          <a:blip r:embed="rId1"/>
          <a:stretch/>
        </p:blipFill>
        <p:spPr>
          <a:xfrm>
            <a:off x="914400" y="914400"/>
            <a:ext cx="7581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tent Placeholder 2"/>
          <p:cNvSpPr/>
          <p:nvPr/>
        </p:nvSpPr>
        <p:spPr>
          <a:xfrm>
            <a:off x="612720" y="6858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imes New Roman"/>
              </a:rPr>
              <a:t>Gnathochisis- failure of central fusion of mandibular promin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imes New Roman"/>
              </a:rPr>
              <a:t>Micrognathia-underdevelopment of lower jaw, incorrect positioning of 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imes New Roman"/>
              </a:rPr>
              <a:t>Agnathia- total lack of development of lower jaw &amp; incorrect positioning of 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ZA" sz="3200" spc="-1" strike="noStrike">
                <a:solidFill>
                  <a:srgbClr val="ffffff"/>
                </a:solidFill>
                <a:latin typeface="Times New Roman"/>
              </a:rPr>
              <a:t>Failure of maxillary prominence to fuse with median nasal prominence results in unilateral or bilateral cleft pa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tle 1"/>
          <p:cNvSpPr/>
          <p:nvPr/>
        </p:nvSpPr>
        <p:spPr>
          <a:xfrm>
            <a:off x="609480" y="228600"/>
            <a:ext cx="8153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cc00"/>
                </a:solidFill>
                <a:latin typeface="Times New Roman"/>
              </a:rPr>
              <a:t>SUMMARY OF STRUCTURES CONTRIBUTING TO FORMATION OF THE FA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1120" y="2133720"/>
          <a:ext cx="7929360" cy="2489040"/>
        </p:xfrm>
        <a:graphic>
          <a:graphicData uri="http://schemas.openxmlformats.org/drawingml/2006/table">
            <a:tbl>
              <a:tblPr/>
              <a:tblGrid>
                <a:gridCol w="3965400"/>
                <a:gridCol w="3963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IN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TURES FORM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ontonasal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ehead, bridge of nose, medial and lateral nasal prominen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ill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eks, lateral portion of upper l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al nas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iltrum of upper lip, crest &amp; tip of no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eral nas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ae of no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dib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er l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212" name="Picture 3" descr="Face_41_0001"/>
          <p:cNvPicPr/>
          <p:nvPr/>
        </p:nvPicPr>
        <p:blipFill>
          <a:blip r:embed="rId1"/>
          <a:stretch/>
        </p:blipFill>
        <p:spPr>
          <a:xfrm>
            <a:off x="2286000" y="1447920"/>
            <a:ext cx="3692520" cy="44146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"/>
          <p:cNvSpPr/>
          <p:nvPr/>
        </p:nvSpPr>
        <p:spPr>
          <a:xfrm>
            <a:off x="5257800" y="4800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howcard Gothic"/>
              </a:rPr>
              <a:t>Thank</a:t>
            </a: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1600200"/>
          </a:xfrm>
          <a:prstGeom prst="rect">
            <a:avLst/>
          </a:prstGeom>
          <a:noFill/>
          <a:ln w="12600">
            <a:solidFill>
              <a:srgbClr val="66ff33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arly in the 4</a:t>
            </a:r>
            <a:r>
              <a:rPr b="0" lang="en-US" sz="2800" spc="-1" strike="noStrike" baseline="30000">
                <a:solidFill>
                  <a:srgbClr val="ffcc00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week, five primordial swellings consisting primarily of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neural crest-derived mesenchym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ppear around the stomodeum and play an important role in the development of face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762120" y="54864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omode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7" descr="C:\Documents and Settings\user\My Documents\My Pictures\Picture1x.jpg"/>
          <p:cNvPicPr/>
          <p:nvPr/>
        </p:nvPicPr>
        <p:blipFill>
          <a:blip r:embed="rId1"/>
          <a:stretch/>
        </p:blipFill>
        <p:spPr>
          <a:xfrm>
            <a:off x="1066680" y="2286000"/>
            <a:ext cx="4105440" cy="3087720"/>
          </a:xfrm>
          <a:prstGeom prst="rect">
            <a:avLst/>
          </a:prstGeom>
          <a:ln w="0">
            <a:noFill/>
          </a:ln>
        </p:spPr>
      </p:pic>
      <p:sp>
        <p:nvSpPr>
          <p:cNvPr id="55" name="Line 6"/>
          <p:cNvSpPr/>
          <p:nvPr/>
        </p:nvSpPr>
        <p:spPr>
          <a:xfrm flipV="1">
            <a:off x="1981080" y="3733920"/>
            <a:ext cx="990720" cy="17524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5181480" y="2286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rontonasal promin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5303160" y="3048120"/>
            <a:ext cx="37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xillary prominen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5257800" y="4648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ndibular promin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6"/>
          <p:cNvSpPr/>
          <p:nvPr/>
        </p:nvSpPr>
        <p:spPr>
          <a:xfrm flipH="1" flipV="1">
            <a:off x="3962520" y="4190760"/>
            <a:ext cx="1295280" cy="685800"/>
          </a:xfrm>
          <a:prstGeom prst="line">
            <a:avLst/>
          </a:prstGeom>
          <a:ln w="31680">
            <a:solidFill>
              <a:srgbClr val="ffcc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 flipH="1">
            <a:off x="4495680" y="3352680"/>
            <a:ext cx="914400" cy="76320"/>
          </a:xfrm>
          <a:prstGeom prst="line">
            <a:avLst/>
          </a:prstGeom>
          <a:ln w="31680">
            <a:solidFill>
              <a:srgbClr val="ffcc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Line 6"/>
          <p:cNvSpPr/>
          <p:nvPr/>
        </p:nvSpPr>
        <p:spPr>
          <a:xfrm flipH="1">
            <a:off x="3124080" y="2590920"/>
            <a:ext cx="1981440" cy="457200"/>
          </a:xfrm>
          <a:prstGeom prst="line">
            <a:avLst/>
          </a:prstGeom>
          <a:ln w="31680">
            <a:solidFill>
              <a:srgbClr val="ffcc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28240" y="68580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ingle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frontonasal prominen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entral to the foreb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he paired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SimSun"/>
              </a:rPr>
              <a:t>maxillary prominenc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develop from the cranial part of first pharyngeal 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he paired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SimSun"/>
              </a:rPr>
              <a:t>mandibular prominenc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develop from the caudal part of first pharyngeal 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2" descr="C:\Documents and Settings\user\My Documents\My Pictures\cvb.jpg"/>
          <p:cNvPicPr/>
          <p:nvPr/>
        </p:nvPicPr>
        <p:blipFill>
          <a:blip r:embed="rId1"/>
          <a:srcRect l="54955" t="0" r="0" b="0"/>
          <a:stretch/>
        </p:blipFill>
        <p:spPr>
          <a:xfrm>
            <a:off x="4800600" y="3505320"/>
            <a:ext cx="3597120" cy="205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Documents and Settings\user\My Documents\My Pictures\cvb.jpg"/>
          <p:cNvPicPr/>
          <p:nvPr/>
        </p:nvPicPr>
        <p:blipFill>
          <a:blip r:embed="rId2"/>
          <a:srcRect l="4198" t="3339" r="65270" b="10000"/>
          <a:stretch/>
        </p:blipFill>
        <p:spPr>
          <a:xfrm>
            <a:off x="5029200" y="990720"/>
            <a:ext cx="3048120" cy="1981080"/>
          </a:xfrm>
          <a:prstGeom prst="rect">
            <a:avLst/>
          </a:prstGeom>
          <a:ln w="0">
            <a:noFill/>
          </a:ln>
        </p:spPr>
      </p:pic>
      <p:cxnSp>
        <p:nvCxnSpPr>
          <p:cNvPr id="65" name="Straight Arrow Connector 6"/>
          <p:cNvCxnSpPr/>
          <p:nvPr/>
        </p:nvCxnSpPr>
        <p:spPr>
          <a:xfrm>
            <a:off x="4343400" y="1066320"/>
            <a:ext cx="1448640" cy="381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6" name="Straight Arrow Connector 8"/>
          <p:cNvCxnSpPr/>
          <p:nvPr/>
        </p:nvCxnSpPr>
        <p:spPr>
          <a:xfrm flipV="1">
            <a:off x="3886200" y="1980720"/>
            <a:ext cx="1372320" cy="534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7" name="Straight Arrow Connector 10"/>
          <p:cNvCxnSpPr/>
          <p:nvPr/>
        </p:nvCxnSpPr>
        <p:spPr>
          <a:xfrm flipV="1">
            <a:off x="4343400" y="2285640"/>
            <a:ext cx="991440" cy="1829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8" name="TextBox 17"/>
          <p:cNvSpPr/>
          <p:nvPr/>
        </p:nvSpPr>
        <p:spPr>
          <a:xfrm>
            <a:off x="5715000" y="57150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28240" y="76176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mesoderm of the five prominences is continuous with each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re is no internal division corresponding to the grooves demarcating the prominences external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2" descr="C:\Documents and Settings\user\My Documents\My Pictures\cvb.jpg"/>
          <p:cNvPicPr/>
          <p:nvPr/>
        </p:nvPicPr>
        <p:blipFill>
          <a:blip r:embed="rId1"/>
          <a:srcRect l="38001" t="35496" r="36000" b="0"/>
          <a:stretch/>
        </p:blipFill>
        <p:spPr>
          <a:xfrm>
            <a:off x="4876920" y="1905120"/>
            <a:ext cx="3887640" cy="2209680"/>
          </a:xfrm>
          <a:prstGeom prst="rect">
            <a:avLst/>
          </a:prstGeom>
          <a:ln w="0">
            <a:noFill/>
          </a:ln>
        </p:spPr>
      </p:pic>
      <p:cxnSp>
        <p:nvCxnSpPr>
          <p:cNvPr id="71" name="Straight Arrow Connector 6"/>
          <p:cNvCxnSpPr/>
          <p:nvPr/>
        </p:nvCxnSpPr>
        <p:spPr>
          <a:xfrm>
            <a:off x="5716440" y="2361960"/>
            <a:ext cx="75600" cy="686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Stomodeum</a:t>
            </a:r>
            <a:br>
              <a:rPr sz="4000"/>
            </a:b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51920" y="91404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n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ectoderm lin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e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eparated from the primitive pharynx by the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  <a:ea typeface="Tahoma"/>
              </a:rPr>
              <a:t>buccopharyngeal (oropharyngeal) membr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membrane later breaks down and stomodeum opens into the pharyn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3" descr="C:\Documents and Settings\user\My Documents\My Pictures\cvb.jpg"/>
          <p:cNvPicPr/>
          <p:nvPr/>
        </p:nvPicPr>
        <p:blipFill>
          <a:blip r:embed="rId1"/>
          <a:srcRect l="4198" t="3339" r="65270" b="10000"/>
          <a:stretch/>
        </p:blipFill>
        <p:spPr>
          <a:xfrm>
            <a:off x="4572000" y="3124080"/>
            <a:ext cx="3916440" cy="281952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228600" y="3809880"/>
            <a:ext cx="4038480" cy="1739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Forms the vestibule of the oral cav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28240" y="45720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By the end of 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  <a:ea typeface="Tahoma"/>
              </a:rPr>
              <a:t>4</a:t>
            </a:r>
            <a:r>
              <a:rPr b="0" lang="en-US" sz="3200" spc="-1" strike="noStrike" baseline="30000">
                <a:solidFill>
                  <a:srgbClr val="ffc000"/>
                </a:solidFill>
                <a:latin typeface="Tahoma"/>
                <a:ea typeface="Tahoma"/>
              </a:rPr>
              <a:t>th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  <a:ea typeface="Tahoma"/>
              </a:rPr>
              <a:t> wee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, bilateral oval-shaped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ectoderm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thickenings called ‘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nasal placod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’ appear on each side of the lower part of the 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  <a:ea typeface="Tahoma"/>
              </a:rPr>
              <a:t>frontonasal promin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Nasal placod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re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primordia of the nose and nasal caviti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3" descr="C:\Documents and Settings\user\My Documents\My Pictures\hghg.jpg"/>
          <p:cNvPicPr/>
          <p:nvPr/>
        </p:nvPicPr>
        <p:blipFill>
          <a:blip r:embed="rId1"/>
          <a:srcRect l="3417" t="0" r="66002" b="0"/>
          <a:stretch/>
        </p:blipFill>
        <p:spPr>
          <a:xfrm>
            <a:off x="5334120" y="3276720"/>
            <a:ext cx="3276360" cy="2781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7010280" y="32004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ontonasal promin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9" name="Straight Arrow Connector 5"/>
          <p:cNvCxnSpPr/>
          <p:nvPr/>
        </p:nvCxnSpPr>
        <p:spPr>
          <a:xfrm flipH="1">
            <a:off x="6552720" y="3657600"/>
            <a:ext cx="457920" cy="53424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pic>
        <p:nvPicPr>
          <p:cNvPr id="80" name="Picture 7" descr="C:\Documents and Settings\user\My Documents\My Pictures\Picture1x.jpg"/>
          <p:cNvPicPr/>
          <p:nvPr/>
        </p:nvPicPr>
        <p:blipFill>
          <a:blip r:embed="rId2"/>
          <a:stretch/>
        </p:blipFill>
        <p:spPr>
          <a:xfrm>
            <a:off x="5334120" y="762120"/>
            <a:ext cx="3200400" cy="2361960"/>
          </a:xfrm>
          <a:prstGeom prst="rect">
            <a:avLst/>
          </a:prstGeom>
          <a:ln w="0">
            <a:noFill/>
          </a:ln>
        </p:spPr>
      </p:pic>
      <p:cxnSp>
        <p:nvCxnSpPr>
          <p:cNvPr id="81" name="Straight Arrow Connector 5"/>
          <p:cNvCxnSpPr/>
          <p:nvPr/>
        </p:nvCxnSpPr>
        <p:spPr>
          <a:xfrm flipH="1" flipV="1">
            <a:off x="7923960" y="1370880"/>
            <a:ext cx="381960" cy="3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2" name="Straight Arrow Connector 5"/>
          <p:cNvCxnSpPr/>
          <p:nvPr/>
        </p:nvCxnSpPr>
        <p:spPr>
          <a:xfrm flipV="1">
            <a:off x="5638320" y="1294560"/>
            <a:ext cx="381960" cy="3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03:26:31Z</dcterms:created>
  <dc:creator>David Conley</dc:creator>
  <dc:description/>
  <dc:language>en-US</dc:language>
  <cp:lastModifiedBy>dr_aloulah@hotmail.com</cp:lastModifiedBy>
  <dcterms:modified xsi:type="dcterms:W3CDTF">2014-10-18T20:48:56Z</dcterms:modified>
  <cp:revision>200</cp:revision>
  <dc:subject/>
  <dc:title>Welcome to Anatomy!</dc:title>
</cp:coreProperties>
</file>