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4FB-4EB8-4334-921E-7D2F29FA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AC2-B4FD-4BE9-9D24-905B7181C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FE7-2432-4A06-8F3A-6BDA1490F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461-590C-486A-9752-AC58D3950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FF4-86AC-49F5-809B-9AF22E657B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C40-BB4B-450B-94B5-69FD12AFD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BE7-8B38-4054-B974-2D0A992AA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5A8-5797-4E2B-B7B8-33DB7D92F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oper Black"/>
              </a:rPr>
              <a:t>Development of the Face and The nos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66680" y="37861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Dr. Mohammad Aloula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Assistant professor 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Consult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KAU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1920" y="152280"/>
            <a:ext cx="4953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esenchymal cells proliferate at the margin of the placodes and produce horse-shoe shaped swellings around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sides of these swellings are call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medial’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lateral’ nasal promin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placodes now lie in the floor of a depression call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nasal pit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user\My Documents\My Pictures\kjl.jpg"/>
          <p:cNvPicPr/>
          <p:nvPr/>
        </p:nvPicPr>
        <p:blipFill>
          <a:blip r:embed="rId1"/>
          <a:srcRect l="0" t="0" r="65886" b="0"/>
          <a:stretch/>
        </p:blipFill>
        <p:spPr>
          <a:xfrm>
            <a:off x="5105520" y="1066680"/>
            <a:ext cx="3809880" cy="3079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33520" y="5257800"/>
            <a:ext cx="8153280" cy="1373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ach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lateral nasal prominen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s separated from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maxillary swell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y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nasolacrimal groo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304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axillary  prominences continue to increase in size 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Laterally,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erge with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ndibular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 form the ch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edially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mpress the medial nasal prominences toward the midline and finally fuses with these to form the upper l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C:\Documents and Settings\user\My Documents\My Pictures\Copy of frt.jpg"/>
          <p:cNvPicPr/>
          <p:nvPr/>
        </p:nvPicPr>
        <p:blipFill>
          <a:blip r:embed="rId1"/>
          <a:srcRect l="0" t="0" r="38002" b="56509"/>
          <a:stretch/>
        </p:blipFill>
        <p:spPr>
          <a:xfrm>
            <a:off x="5181480" y="380880"/>
            <a:ext cx="377028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user\My Documents\My Pictures\frt.jpg"/>
          <p:cNvPicPr/>
          <p:nvPr/>
        </p:nvPicPr>
        <p:blipFill>
          <a:blip r:embed="rId2"/>
          <a:srcRect l="40002" t="0" r="0" b="58679"/>
          <a:stretch/>
        </p:blipFill>
        <p:spPr>
          <a:xfrm>
            <a:off x="5181480" y="2971800"/>
            <a:ext cx="3721320" cy="2362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685800" y="5562720"/>
            <a:ext cx="7848720" cy="1373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The upper lip is formed by the two medial nasal prominences &amp; the two maxillary  prominence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28600" y="533520"/>
            <a:ext cx="4648320" cy="2653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medial nasal swellin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large, grow medially and merge with each other in the midline to form the </a:t>
            </a:r>
            <a:r>
              <a:rPr b="0" lang="en-US" sz="2800" spc="-1" strike="noStrike">
                <a:solidFill>
                  <a:srgbClr val="ff6b3c"/>
                </a:solidFill>
                <a:latin typeface="Tahoma"/>
                <a:ea typeface="Tahoma"/>
              </a:rPr>
              <a:t>intermaxillary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C:\Documents and Settings\user\My Documents\My Pictures\Copy of Picture1h.jpg"/>
          <p:cNvPicPr/>
          <p:nvPr/>
        </p:nvPicPr>
        <p:blipFill>
          <a:blip r:embed="rId1"/>
          <a:srcRect l="0" t="13239" r="28000" b="0"/>
          <a:stretch/>
        </p:blipFill>
        <p:spPr>
          <a:xfrm>
            <a:off x="5029200" y="609480"/>
            <a:ext cx="3355920" cy="2133720"/>
          </a:xfrm>
          <a:prstGeom prst="rect">
            <a:avLst/>
          </a:prstGeom>
          <a:ln w="0">
            <a:noFill/>
          </a:ln>
        </p:spPr>
      </p:pic>
      <p:sp>
        <p:nvSpPr>
          <p:cNvPr id="92" name="Down Arrow 20"/>
          <p:cNvSpPr/>
          <p:nvPr/>
        </p:nvSpPr>
        <p:spPr>
          <a:xfrm>
            <a:off x="6629400" y="15238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cc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Documents and Settings\Free User\My Documents\My Pictures\asq.jpg"/>
          <p:cNvPicPr/>
          <p:nvPr/>
        </p:nvPicPr>
        <p:blipFill>
          <a:blip r:embed="rId2"/>
          <a:stretch/>
        </p:blipFill>
        <p:spPr>
          <a:xfrm>
            <a:off x="304920" y="3124080"/>
            <a:ext cx="5029200" cy="32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1932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embryo: 7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Documents and Settings\user\My Documents\My Pictures\Picture1h.jpg"/>
          <p:cNvPicPr/>
          <p:nvPr/>
        </p:nvPicPr>
        <p:blipFill>
          <a:blip r:embed="rId3"/>
          <a:srcRect l="44004" t="8166" r="0" b="0"/>
          <a:stretch/>
        </p:blipFill>
        <p:spPr>
          <a:xfrm>
            <a:off x="5486400" y="3276720"/>
            <a:ext cx="332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termaxillary Segmen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rise to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hiltrum of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emaxillary part of the maxilla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bears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pper 4 incisor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ssociated g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imary pal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region of hard palate just posterior to the upper incis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C:\Documents and Settings\Free User\My Documents\My Pictures\rtyu.jpg"/>
          <p:cNvPicPr/>
          <p:nvPr/>
        </p:nvPicPr>
        <p:blipFill>
          <a:blip r:embed="rId1"/>
          <a:srcRect l="1651" t="15445" r="59935" b="7341"/>
          <a:stretch/>
        </p:blipFill>
        <p:spPr>
          <a:xfrm>
            <a:off x="5105520" y="10666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Documents and Settings\Free User\My Documents\My Pictures\rtyu.jpg"/>
          <p:cNvPicPr/>
          <p:nvPr/>
        </p:nvPicPr>
        <p:blipFill>
          <a:blip r:embed="rId2"/>
          <a:srcRect l="40956" t="0" r="2346" b="8337"/>
          <a:stretch/>
        </p:blipFill>
        <p:spPr>
          <a:xfrm>
            <a:off x="4191120" y="3124080"/>
            <a:ext cx="422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685800" y="4648320"/>
            <a:ext cx="7391520" cy="1373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esides the fleshy derivatives, the facial prominences also give rise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es of the facial skele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380880"/>
            <a:ext cx="4038480" cy="43599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esenchyme from 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ahoma"/>
                <a:ea typeface="Tahoma"/>
              </a:rPr>
              <a:t>st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&amp; 2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ahoma"/>
                <a:ea typeface="Tahoma"/>
              </a:rPr>
              <a:t>nd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 pairs of pharyngeal ar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invade the facial prominences and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ive rise to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uscles of mastication and muscles of facial express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C:\Documents and Settings\Free User\My Documents\My Pictures\qwa.png"/>
          <p:cNvPicPr/>
          <p:nvPr/>
        </p:nvPicPr>
        <p:blipFill>
          <a:blip r:embed="rId1"/>
          <a:srcRect l="5848" t="0" r="0" b="2038"/>
          <a:stretch/>
        </p:blipFill>
        <p:spPr>
          <a:xfrm>
            <a:off x="4419720" y="380880"/>
            <a:ext cx="4062240" cy="3962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304920" y="1371600"/>
            <a:ext cx="4343400" cy="2653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frontonasal prominen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s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Forehe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and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ridge of the 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Frontal and nasal b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8600" y="4419720"/>
            <a:ext cx="830592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axillary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Upper cheek regi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most of the upper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Maxilla, zygomatic bone, secondary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152280" y="380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ahoma"/>
                <a:ea typeface="Tahoma"/>
              </a:rPr>
              <a:t>Derivatives of Facial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C:\Documents and Settings\user\My Documents\My Pictures\Gray48.png"/>
          <p:cNvPicPr/>
          <p:nvPr/>
        </p:nvPicPr>
        <p:blipFill>
          <a:blip r:embed="rId1"/>
          <a:stretch/>
        </p:blipFill>
        <p:spPr>
          <a:xfrm>
            <a:off x="5105520" y="1219320"/>
            <a:ext cx="3376440" cy="28954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9"/>
          <p:cNvSpPr/>
          <p:nvPr/>
        </p:nvSpPr>
        <p:spPr>
          <a:xfrm>
            <a:off x="457200" y="457200"/>
            <a:ext cx="4114800" cy="2653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andibular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use and form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Chin, lower lip, and lower cheek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Mand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3657600"/>
            <a:ext cx="8305920" cy="265356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lateral nasal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alae of the 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edial nasal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e and form the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intermaxillary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C:\Documents and Settings\user\My Documents\My Pictures\Gray48.png"/>
          <p:cNvPicPr/>
          <p:nvPr/>
        </p:nvPicPr>
        <p:blipFill>
          <a:blip r:embed="rId1"/>
          <a:stretch/>
        </p:blipFill>
        <p:spPr>
          <a:xfrm>
            <a:off x="4724280" y="457200"/>
            <a:ext cx="3465720" cy="29718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167472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5cc"/>
                </a:solidFill>
                <a:latin typeface="Cooper Black"/>
              </a:rPr>
              <a:t>Development of the Nasal Cavity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456840"/>
            <a:ext cx="441936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With the formation of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medial and lateral nasal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, the nasal placodes lie in the floor of depressions called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nasal p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By the end of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SimSu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week, nasal pits deepen and form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nasal s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Each nasal sac grows dorsocaudally, ventral to the developing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Documents and Settings\user\My Documents\My Pictures\Copy of frt.jpg"/>
          <p:cNvPicPr/>
          <p:nvPr/>
        </p:nvPicPr>
        <p:blipFill>
          <a:blip r:embed="rId1"/>
          <a:srcRect l="7314" t="40744" r="7314" b="0"/>
          <a:stretch/>
        </p:blipFill>
        <p:spPr>
          <a:xfrm>
            <a:off x="4952880" y="68580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user\My Documents\My Pictures\cv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20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80880"/>
            <a:ext cx="42674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Initially the nasal sacs are separated from the  oral cavity by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SimSun"/>
              </a:rPr>
              <a:t>oronasal membran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The oronasal membrane ruptures by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7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SimSu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 we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, communicating the 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primitive nasal caviti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with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oral c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F:\New Folder\Copy (3) of fnp.jpg"/>
          <p:cNvPicPr/>
          <p:nvPr/>
        </p:nvPicPr>
        <p:blipFill>
          <a:blip r:embed="rId1"/>
          <a:srcRect l="52002" t="1546" r="8000" b="61016"/>
          <a:stretch/>
        </p:blipFill>
        <p:spPr>
          <a:xfrm>
            <a:off x="4800600" y="3276720"/>
            <a:ext cx="350028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user\My Documents\My Pictures\cv.jpg"/>
          <p:cNvPicPr/>
          <p:nvPr/>
        </p:nvPicPr>
        <p:blipFill>
          <a:blip r:embed="rId2"/>
          <a:stretch/>
        </p:blipFill>
        <p:spPr>
          <a:xfrm>
            <a:off x="4952880" y="685800"/>
            <a:ext cx="322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153280" cy="14475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5cc"/>
                </a:solidFill>
                <a:latin typeface="Cooper Black"/>
              </a:rPr>
              <a:t>Development of the Face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ntent Placeholder 4" descr="F:\New Folder\Copy of fnp.jpg"/>
          <p:cNvPicPr/>
          <p:nvPr/>
        </p:nvPicPr>
        <p:blipFill>
          <a:blip r:embed="rId1"/>
          <a:srcRect l="4000" t="36788" r="54000" b="30179"/>
          <a:stretch/>
        </p:blipFill>
        <p:spPr>
          <a:xfrm>
            <a:off x="5257800" y="609480"/>
            <a:ext cx="3170160" cy="226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2824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These communications are called th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SimSun"/>
              </a:rPr>
              <a:t>primitive choan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are located posterior to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prim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fter the development of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secondary pa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, the choanae change their position and become  located at the junction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nasal ca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n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ph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F:\New Folder\Copy of fnp.jpg"/>
          <p:cNvPicPr/>
          <p:nvPr/>
        </p:nvPicPr>
        <p:blipFill>
          <a:blip r:embed="rId2"/>
          <a:srcRect l="46004" t="30179" r="4000" b="27979"/>
          <a:stretch/>
        </p:blipFill>
        <p:spPr>
          <a:xfrm>
            <a:off x="5181480" y="3276720"/>
            <a:ext cx="3408480" cy="25905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le 7"/>
          <p:cNvSpPr/>
          <p:nvPr/>
        </p:nvSpPr>
        <p:spPr>
          <a:xfrm>
            <a:off x="5791320" y="1523880"/>
            <a:ext cx="83808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ounded Rectangle 8"/>
          <p:cNvSpPr/>
          <p:nvPr/>
        </p:nvSpPr>
        <p:spPr>
          <a:xfrm>
            <a:off x="7620120" y="4648320"/>
            <a:ext cx="8380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3045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nasal septu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velops as a downgrowth from the internal parts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merged medial nasal promin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uses with the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palatine proces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9-12 wee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, superior to the hard palate primord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C:\Documents and Settings\Free User\My Documents\My Pictures\zx.jpg"/>
          <p:cNvPicPr/>
          <p:nvPr/>
        </p:nvPicPr>
        <p:blipFill>
          <a:blip r:embed="rId1"/>
          <a:srcRect l="5442" t="9374" r="5790" b="47677"/>
          <a:stretch/>
        </p:blipFill>
        <p:spPr>
          <a:xfrm>
            <a:off x="5029200" y="685800"/>
            <a:ext cx="360036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Documents and Settings\Free User\My Documents\My Pictures\zx.jpg"/>
          <p:cNvPicPr/>
          <p:nvPr/>
        </p:nvPicPr>
        <p:blipFill>
          <a:blip r:embed="rId2"/>
          <a:srcRect l="12947" t="58703" r="5790" b="3121"/>
          <a:stretch/>
        </p:blipFill>
        <p:spPr>
          <a:xfrm>
            <a:off x="5029200" y="312408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New Folder\Copy of fnp.jpg"/>
          <p:cNvPicPr/>
          <p:nvPr/>
        </p:nvPicPr>
        <p:blipFill>
          <a:blip r:embed="rId1"/>
          <a:srcRect l="46004" t="30179" r="4000" b="27979"/>
          <a:stretch/>
        </p:blipFill>
        <p:spPr>
          <a:xfrm>
            <a:off x="4724280" y="3276720"/>
            <a:ext cx="351000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28600" y="2286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superior, middle and inferior concha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velop on the lateral wall of each nasal c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ectodermal epithelium in the roof of each nasal cavity becomes specialized as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olfacto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ontent Placeholder 4" descr="F:\New Folder\Copy of fnp.jpg"/>
          <p:cNvPicPr/>
          <p:nvPr/>
        </p:nvPicPr>
        <p:blipFill>
          <a:blip r:embed="rId2"/>
          <a:srcRect l="4000" t="36788" r="54000" b="30179"/>
          <a:stretch/>
        </p:blipFill>
        <p:spPr>
          <a:xfrm>
            <a:off x="4952880" y="685800"/>
            <a:ext cx="3170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475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lfactory cel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f the olfactory epithelium give origin to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olfactory nerve fi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hat grow into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lfactory bul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F:\New Folder\Copy of fnp.jpg"/>
          <p:cNvPicPr/>
          <p:nvPr/>
        </p:nvPicPr>
        <p:blipFill>
          <a:blip r:embed="rId1"/>
          <a:srcRect l="4000" t="34584" r="52002" b="30179"/>
          <a:stretch/>
        </p:blipFill>
        <p:spPr>
          <a:xfrm>
            <a:off x="4648320" y="4572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F:\New Folder\Copy of fnp.jpg"/>
          <p:cNvPicPr/>
          <p:nvPr/>
        </p:nvPicPr>
        <p:blipFill>
          <a:blip r:embed="rId2"/>
          <a:srcRect l="46004" t="27979" r="6002" b="30179"/>
          <a:stretch/>
        </p:blipFill>
        <p:spPr>
          <a:xfrm>
            <a:off x="4572000" y="3124080"/>
            <a:ext cx="3560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Nasolacrimal duc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28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velops from a rod-like thickening of the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ectode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in the floor of the nasolacrimal gro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is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solid cord of cel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from the surface ectoderm and lies in the underlying mesenchy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ord gets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canal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to form the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Tahoma"/>
              </a:rPr>
              <a:t>nasolacrimal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anial 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f the duct expands to form the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Tahoma"/>
              </a:rPr>
              <a:t>lacrimal s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audal 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ns in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inferior meatus of the nasal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duct is usually becomes completely patent only after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ailure of complete canalization of the duct leads to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atres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of the duct (seen in about 6% of newborn infa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6002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"/>
              </a:rPr>
              <a:t>Development of Palate (Palatogenesis)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609480" y="4648320"/>
            <a:ext cx="7848720" cy="1556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late develops from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wo primord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im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econd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endParaRPr b="1" lang="en-US" sz="4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76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s at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 of the 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 completed by the end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ritical period for the development of palate is from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nd of 6</a:t>
            </a:r>
            <a:r>
              <a:rPr b="0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ee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to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ginning of 9</a:t>
            </a:r>
            <a:r>
              <a:rPr b="0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82880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Palatogene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C:\Documents and Settings\Free User\My Documents\My Pictures\122.jpg"/>
          <p:cNvPicPr/>
          <p:nvPr/>
        </p:nvPicPr>
        <p:blipFill>
          <a:blip r:embed="rId1"/>
          <a:srcRect l="12480" t="12220" r="0" b="3328"/>
          <a:stretch/>
        </p:blipFill>
        <p:spPr>
          <a:xfrm>
            <a:off x="4419720" y="3505320"/>
            <a:ext cx="42210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The Primary Palate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907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develo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deep part of the intermaxillary segment, a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dian palatin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es behind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maxillary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maxi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ses with the develop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ary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Documents and Settings\Free User\My Documents\My Pictures\Picture111.jpg"/>
          <p:cNvPicPr/>
          <p:nvPr/>
        </p:nvPicPr>
        <p:blipFill>
          <a:blip r:embed="rId2"/>
          <a:srcRect l="9612" t="4429" r="5769" b="9140"/>
          <a:stretch/>
        </p:blipFill>
        <p:spPr>
          <a:xfrm>
            <a:off x="4952880" y="990720"/>
            <a:ext cx="2743200" cy="243180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12"/>
          <p:cNvCxnSpPr/>
          <p:nvPr/>
        </p:nvCxnSpPr>
        <p:spPr>
          <a:xfrm flipH="1" flipV="1">
            <a:off x="6323760" y="5028840"/>
            <a:ext cx="2293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Straight Arrow Connector 13"/>
          <p:cNvCxnSpPr/>
          <p:nvPr/>
        </p:nvCxnSpPr>
        <p:spPr>
          <a:xfrm flipH="1" flipV="1">
            <a:off x="6323760" y="5409360"/>
            <a:ext cx="22932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Straight Arrow Connector 14"/>
          <p:cNvCxnSpPr/>
          <p:nvPr/>
        </p:nvCxnSpPr>
        <p:spPr>
          <a:xfrm flipH="1">
            <a:off x="6324480" y="5638320"/>
            <a:ext cx="76680" cy="22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>
            <a:off x="5790960" y="5029200"/>
            <a:ext cx="2293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Straight Arrow Connector 16"/>
          <p:cNvCxnSpPr/>
          <p:nvPr/>
        </p:nvCxnSpPr>
        <p:spPr>
          <a:xfrm>
            <a:off x="5790960" y="5409720"/>
            <a:ext cx="22932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5867280" y="5638320"/>
            <a:ext cx="153360" cy="22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228240"/>
            <a:ext cx="8076960" cy="1600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mary palate represents only a small part lying anterior to th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cisive fos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f the adult hard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C:\Documents and Settings\Free User\My Documents\My Pictures\sss.jpg"/>
          <p:cNvPicPr/>
          <p:nvPr/>
        </p:nvPicPr>
        <p:blipFill>
          <a:blip r:embed="rId1"/>
          <a:srcRect l="13208" t="3593" r="0" b="4011"/>
          <a:stretch/>
        </p:blipFill>
        <p:spPr>
          <a:xfrm>
            <a:off x="2666880" y="2057400"/>
            <a:ext cx="4038840" cy="4268880"/>
          </a:xfrm>
          <a:prstGeom prst="rect">
            <a:avLst/>
          </a:prstGeom>
          <a:ln w="0">
            <a:noFill/>
          </a:ln>
        </p:spPr>
      </p:pic>
      <p:sp>
        <p:nvSpPr>
          <p:cNvPr id="150" name="Left Bracket 5"/>
          <p:cNvSpPr/>
          <p:nvPr/>
        </p:nvSpPr>
        <p:spPr>
          <a:xfrm>
            <a:off x="2895480" y="2819520"/>
            <a:ext cx="76320" cy="297180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2971800"/>
              <a:gd name="textAreaBottom" fmla="*/ 29689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6"/>
                </a:cubicBezTo>
                <a:lnTo>
                  <a:pt x="0" y="21554"/>
                </a:lnTo>
                <a:cubicBezTo>
                  <a:pt x="0" y="21577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traight Connector 8"/>
          <p:cNvSpPr/>
          <p:nvPr/>
        </p:nvSpPr>
        <p:spPr>
          <a:xfrm flipV="1">
            <a:off x="4800600" y="3123720"/>
            <a:ext cx="533520" cy="3812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4191120" y="3124080"/>
            <a:ext cx="533160" cy="3812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Straight Arrow Connector 12"/>
          <p:cNvCxnSpPr/>
          <p:nvPr/>
        </p:nvCxnSpPr>
        <p:spPr>
          <a:xfrm flipH="1">
            <a:off x="4952520" y="2437200"/>
            <a:ext cx="1829520" cy="7628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54" name="Straight Arrow Connector 13"/>
          <p:cNvCxnSpPr/>
          <p:nvPr/>
        </p:nvCxnSpPr>
        <p:spPr>
          <a:xfrm>
            <a:off x="2362320" y="42667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5" name="TextBox 18"/>
          <p:cNvSpPr/>
          <p:nvPr/>
        </p:nvSpPr>
        <p:spPr>
          <a:xfrm>
            <a:off x="533520" y="4038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670572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ft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" name="Straight Arrow Connector 24"/>
          <p:cNvCxnSpPr/>
          <p:nvPr/>
        </p:nvCxnSpPr>
        <p:spPr>
          <a:xfrm>
            <a:off x="2590560" y="6095520"/>
            <a:ext cx="16009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9" name="TextBox 28"/>
          <p:cNvSpPr/>
          <p:nvPr/>
        </p:nvSpPr>
        <p:spPr>
          <a:xfrm>
            <a:off x="6934320" y="41911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ight Brace 31"/>
          <p:cNvSpPr/>
          <p:nvPr/>
        </p:nvSpPr>
        <p:spPr>
          <a:xfrm>
            <a:off x="6705720" y="3048120"/>
            <a:ext cx="155520" cy="3200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200400"/>
              <a:gd name="textAreaBottom" fmla="*/ 31964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7"/>
                </a:cubicBezTo>
                <a:lnTo>
                  <a:pt x="10800" y="10713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4"/>
                  <a:pt x="10800" y="10887"/>
                </a:cubicBezTo>
                <a:lnTo>
                  <a:pt x="10800" y="21513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The Secondary Palate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1920" y="990720"/>
            <a:ext cx="4038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rimordia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r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ft pa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erior to the incisive fos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gins to devel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internal aspect of the maxillary processes, a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ateral palatin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C:\Documents and Settings\Free User\My Documents\My Pictures\Picture111.jpg"/>
          <p:cNvPicPr/>
          <p:nvPr/>
        </p:nvPicPr>
        <p:blipFill>
          <a:blip r:embed="rId1"/>
          <a:srcRect l="9612" t="4429" r="5769" b="9140"/>
          <a:stretch/>
        </p:blipFill>
        <p:spPr>
          <a:xfrm>
            <a:off x="4267080" y="1676520"/>
            <a:ext cx="464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development of the face occurs mainly between 4 – 8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lower jaw (mandible) is the first to form (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we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facial proportions develop during the fetal period (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week to bir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uring infancy &amp; childhood, following the development of teeth and paranasal sinuses, the facial skeleton increases in size and contribute to the definitive shape of the f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C:\Documents and Settings\Free User\My Documents\My Pictures\p.jpg"/>
          <p:cNvPicPr/>
          <p:nvPr/>
        </p:nvPicPr>
        <p:blipFill>
          <a:blip r:embed="rId1"/>
          <a:srcRect l="3182" t="47764" r="48859" b="24740"/>
          <a:stretch/>
        </p:blipFill>
        <p:spPr>
          <a:xfrm>
            <a:off x="4343400" y="335268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2860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beginning, th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lateral palatine proces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romedia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each side of the ton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development of the jaws, the tongue moves inferio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c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&amp; 8</a:t>
            </a:r>
            <a:r>
              <a:rPr b="0" lang="en-US" sz="2800" spc="-1" strike="noStrike" baseline="30000">
                <a:solidFill>
                  <a:srgbClr val="ffc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s, the lateral palatine processes elongate and ascend to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rizontal posi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 the tong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3" descr="C:\Documents and Settings\Free User\My Documents\My Pictures\wed.jpg"/>
          <p:cNvPicPr/>
          <p:nvPr/>
        </p:nvPicPr>
        <p:blipFill>
          <a:blip r:embed="rId2"/>
          <a:srcRect l="7305" t="11266" r="4027" b="9882"/>
          <a:stretch/>
        </p:blipFill>
        <p:spPr>
          <a:xfrm>
            <a:off x="4289400" y="380880"/>
            <a:ext cx="4027680" cy="281952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7"/>
          <p:cNvCxnSpPr/>
          <p:nvPr/>
        </p:nvCxnSpPr>
        <p:spPr>
          <a:xfrm>
            <a:off x="4647240" y="1599840"/>
            <a:ext cx="153000" cy="22932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68" name="Straight Arrow Connector 9"/>
          <p:cNvCxnSpPr/>
          <p:nvPr/>
        </p:nvCxnSpPr>
        <p:spPr>
          <a:xfrm>
            <a:off x="4952520" y="5029200"/>
            <a:ext cx="305640" cy="216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/>
          <p:nvPr/>
        </p:nvCxnSpPr>
        <p:spPr>
          <a:xfrm flipV="1">
            <a:off x="4723200" y="1980360"/>
            <a:ext cx="3819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Box 23"/>
          <p:cNvSpPr/>
          <p:nvPr/>
        </p:nvSpPr>
        <p:spPr>
          <a:xfrm>
            <a:off x="49528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" name="Straight Arrow Connector 11"/>
          <p:cNvCxnSpPr/>
          <p:nvPr/>
        </p:nvCxnSpPr>
        <p:spPr>
          <a:xfrm flipV="1">
            <a:off x="5333040" y="5486040"/>
            <a:ext cx="7668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304920"/>
            <a:ext cx="441972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adually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lateral palatine process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 medially an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fuse in the media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fuse with 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part of 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imary palate &amp; nasal sept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Documents and Settings\Free User\My Documents\My Pictures\122.jpg"/>
          <p:cNvPicPr/>
          <p:nvPr/>
        </p:nvPicPr>
        <p:blipFill>
          <a:blip r:embed="rId1"/>
          <a:srcRect l="12480" t="12220" r="0" b="3328"/>
          <a:stretch/>
        </p:blipFill>
        <p:spPr>
          <a:xfrm>
            <a:off x="4648320" y="304920"/>
            <a:ext cx="42210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Free User\My Documents\My Pictures\ertf.jpg"/>
          <p:cNvPicPr/>
          <p:nvPr/>
        </p:nvPicPr>
        <p:blipFill>
          <a:blip r:embed="rId2"/>
          <a:srcRect l="10346" t="18946" r="25220" b="8593"/>
          <a:stretch/>
        </p:blipFill>
        <p:spPr>
          <a:xfrm>
            <a:off x="4724280" y="3200400"/>
            <a:ext cx="4191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380520"/>
            <a:ext cx="4419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with the nasal septum begi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terior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eek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erior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leted by 1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ee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C:\Documents and Settings\Free User\My Documents\My Pictures\asde.jpg"/>
          <p:cNvPicPr/>
          <p:nvPr/>
        </p:nvPicPr>
        <p:blipFill>
          <a:blip r:embed="rId1"/>
          <a:srcRect l="9856" t="19217" r="12674" b="3934"/>
          <a:stretch/>
        </p:blipFill>
        <p:spPr>
          <a:xfrm>
            <a:off x="4343400" y="33526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Free User\My Documents\My Pictures\dser.jpg"/>
          <p:cNvPicPr/>
          <p:nvPr/>
        </p:nvPicPr>
        <p:blipFill>
          <a:blip r:embed="rId2"/>
          <a:srcRect l="11719" t="19918" r="11719" b="11063"/>
          <a:stretch/>
        </p:blipFill>
        <p:spPr>
          <a:xfrm>
            <a:off x="4419720" y="380880"/>
            <a:ext cx="4079880" cy="2895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228600" y="3657600"/>
            <a:ext cx="3962520" cy="22269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e develops in the anterior part to form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rd pa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The posterior part develops as muscula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ft pal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Rounded MT Bold"/>
              </a:rPr>
              <a:t>Changes in Face during Fetal period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91404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ly result from changes in t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ropor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relative position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facial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arly fetal period t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flat an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derdeveloped. They attain their characteristic form during fetal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largement of brain results in the formation of a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rominent fore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SimSun"/>
              </a:rPr>
              <a:t>Ey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initially appear on each side of frontonasal prominence move medi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SimSun"/>
              </a:rPr>
              <a:t>Ea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first appear on lower portion of lower jaw, grow in upper direction to the level of the e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2" descr="C:\Documents and Settings\Free User\My Documents\My Pictures\ffp.jpg"/>
          <p:cNvPicPr/>
          <p:nvPr/>
        </p:nvPicPr>
        <p:blipFill>
          <a:blip r:embed="rId1"/>
          <a:stretch/>
        </p:blipFill>
        <p:spPr>
          <a:xfrm>
            <a:off x="5334120" y="1295280"/>
            <a:ext cx="3557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28760" y="142920"/>
          <a:ext cx="8001000" cy="6778440"/>
        </p:xfrm>
        <a:graphic>
          <a:graphicData uri="http://schemas.openxmlformats.org/drawingml/2006/table">
            <a:tbl>
              <a:tblPr/>
              <a:tblGrid>
                <a:gridCol w="2286000"/>
                <a:gridCol w="1714320"/>
                <a:gridCol w="2000160"/>
                <a:gridCol w="200052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ryngeal 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ele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xillary ,mandibular process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eminal: maxillay &amp; mandibular divi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tication; mylohyoid; anterior belly of digastric, tensor palatine, tensor tymp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maxilla, maxilla, zygomatic bone,part of temporal bone, Meckel’s cartilage, mandible malleus, incus,anterior ligament of malleus, sphenomadibular li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Hyo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expression, posterior belly of digastric,  stylohyoid, stapedi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pes, styloid process, stylohyoid ligament, lesser horn &amp; upper portion of body of hyo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ssopharynge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opharynge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horn &amp; lower portion of body of hyoid b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g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or laryngeal (n to 4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rent laryngeal (n to 6 ar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othyroid, levator palatine, constrictors of pharyn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m. of laryn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yngeal cartil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showimag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14240" y="285840"/>
            <a:ext cx="82155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980360" y="2286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e of the Pharyngeal Grooves and Pou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16360" y="838080"/>
            <a:ext cx="861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groove and pouch:  external auditory me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mpanic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mpanic an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toid an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yngotympanic or eustachian tu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oves are obliterated by overgrowth of the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 forming a cervical sinus – if persists forms the branchial fist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opens into the side of the neck extending form the tonsillar s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is obliterated by development of palatine ton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: dorsally forms inferior parathyro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ly forms the thymus gland by fusing with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erpart from opposite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81760" y="727200"/>
            <a:ext cx="835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: dorsal gives rise to the superior parathyro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 gives rise to the ultimobranchial body (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rise to the parafollicular cells of the thyroid gl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in humans is incorporated with 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479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ooper Black"/>
                <a:ea typeface="Tahoma"/>
              </a:rPr>
              <a:t>Anomalies related to Face, Nose &amp; Palat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4952880" cy="144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Facial clefts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the embryonic facial prominences to fuse properly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1920" y="2437920"/>
            <a:ext cx="5715000" cy="35816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b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unilateral or bi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invol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ps only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alate only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p &amp; palate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lip &amp;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gion of nasolacrimal groove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Facial cle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6019920" y="2971800"/>
            <a:ext cx="2286000" cy="35067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Lead to difficulty in breathing feeding sucking swal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spe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F:\New Folder\123.jpg"/>
          <p:cNvPicPr/>
          <p:nvPr/>
        </p:nvPicPr>
        <p:blipFill>
          <a:blip r:embed="rId1"/>
          <a:srcRect l="20156" t="37038" r="20156" b="12963"/>
          <a:stretch/>
        </p:blipFill>
        <p:spPr>
          <a:xfrm>
            <a:off x="5943600" y="304920"/>
            <a:ext cx="23623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ace_31_0001"/>
          <p:cNvPicPr/>
          <p:nvPr/>
        </p:nvPicPr>
        <p:blipFill>
          <a:blip r:embed="rId1"/>
          <a:srcRect l="2957" t="9275" r="1458" b="1666"/>
          <a:stretch/>
        </p:blipFill>
        <p:spPr>
          <a:xfrm>
            <a:off x="914400" y="91440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57400" y="5181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ryo at 4 - 5 weeks (Lateral 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2280" y="7617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Median cleft lip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 results from failure of the medial nasal prominences to merge and form the intermaxillary seg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Unilateral cleft li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 from failure of the maxillary prominence to merge with the medial nasal prominence on the affecte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Bilateral cleft lip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due to failure of maxillary prominences to meet and unite with the medial nasal prominences on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3" descr="median cleft of upper lip"/>
          <p:cNvPicPr/>
          <p:nvPr/>
        </p:nvPicPr>
        <p:blipFill>
          <a:blip r:embed="rId1"/>
          <a:srcRect l="8661" t="0" r="4682" b="0"/>
          <a:stretch/>
        </p:blipFill>
        <p:spPr>
          <a:xfrm>
            <a:off x="5105520" y="685800"/>
            <a:ext cx="1904760" cy="2155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5029200" y="2819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Cleft l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7010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lateral cleft 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10" descr="C:\Documents and Settings\user\My Documents\My Pictures\nm.jpg"/>
          <p:cNvPicPr/>
          <p:nvPr/>
        </p:nvPicPr>
        <p:blipFill>
          <a:blip r:embed="rId2"/>
          <a:stretch/>
        </p:blipFill>
        <p:spPr>
          <a:xfrm>
            <a:off x="7238880" y="2590920"/>
            <a:ext cx="1671840" cy="1679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C:\Documents and Settings\user\My Documents\My Pictures\zxxv.jpg"/>
          <p:cNvPicPr/>
          <p:nvPr/>
        </p:nvPicPr>
        <p:blipFill>
          <a:blip r:embed="rId3"/>
          <a:srcRect l="3734" t="1353" r="1803" b="1353"/>
          <a:stretch/>
        </p:blipFill>
        <p:spPr>
          <a:xfrm>
            <a:off x="5334120" y="4572000"/>
            <a:ext cx="1600200" cy="1679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52880" y="3505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5257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ateral cleft 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240" y="380520"/>
            <a:ext cx="4724280" cy="586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2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Oblique facial clef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s from failure of the maxillary prominence to fuse with the lateral 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3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Cle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leaves the nasal and oral cavities connected &amp; results in nursing problem for the new b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May 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nterior/posterior to incisive fora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Unilateral/bi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solated/associated with cleft l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791320" y="58672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ft  lip, cleft jaw &amp;   cleft pa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3" descr="C:\Documents and Settings\Free User\My Documents\My Pictures\lkj.jpg"/>
          <p:cNvPicPr/>
          <p:nvPr/>
        </p:nvPicPr>
        <p:blipFill>
          <a:blip r:embed="rId1"/>
          <a:srcRect l="72004" t="6193" r="3838" b="51361"/>
          <a:stretch/>
        </p:blipFill>
        <p:spPr>
          <a:xfrm>
            <a:off x="5943600" y="3429000"/>
            <a:ext cx="1981080" cy="23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Documents and Settings\Free User\My Documents\My Pictures\lkj.jpg"/>
          <p:cNvPicPr/>
          <p:nvPr/>
        </p:nvPicPr>
        <p:blipFill>
          <a:blip r:embed="rId2"/>
          <a:srcRect l="36000" t="50005" r="36000" b="4192"/>
          <a:stretch/>
        </p:blipFill>
        <p:spPr>
          <a:xfrm>
            <a:off x="5867280" y="457200"/>
            <a:ext cx="1752840" cy="2128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5638680" y="2590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lique facial cle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ace_39_0001"/>
          <p:cNvPicPr/>
          <p:nvPr/>
        </p:nvPicPr>
        <p:blipFill>
          <a:blip r:embed="rId1"/>
          <a:srcRect l="0" t="0" r="0" b="60"/>
          <a:stretch/>
        </p:blipFill>
        <p:spPr>
          <a:xfrm>
            <a:off x="1143000" y="228600"/>
            <a:ext cx="6691320" cy="5257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600200" y="5638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left 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upled with clefts of the anterior palate or entire pal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F:\New Folder26\p2.jpg"/>
          <p:cNvPicPr/>
          <p:nvPr/>
        </p:nvPicPr>
        <p:blipFill>
          <a:blip r:embed="rId1"/>
          <a:stretch/>
        </p:blipFill>
        <p:spPr>
          <a:xfrm>
            <a:off x="914400" y="914400"/>
            <a:ext cx="7581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tent Placeholder 2"/>
          <p:cNvSpPr/>
          <p:nvPr/>
        </p:nvSpPr>
        <p:spPr>
          <a:xfrm>
            <a:off x="612720" y="6858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Gnathochisis- failure of central fusion of mandibular promin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Micrognathia-underdevelopment of lower jaw, incorrect positioning of 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Agnathia- total lack of development of lower jaw &amp; incorrect positioning of 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Failure of maxillary prominence to fuse with median nasal prominence results in unilateral or bilateral cleft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tle 1"/>
          <p:cNvSpPr/>
          <p:nvPr/>
        </p:nvSpPr>
        <p:spPr>
          <a:xfrm>
            <a:off x="609480" y="228600"/>
            <a:ext cx="8153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Times New Roman"/>
              </a:rPr>
              <a:t>SUMMARY OF STRUCTURES CONTRIBUTING TO FORMATION OF THE F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1120" y="2133720"/>
          <a:ext cx="7929360" cy="2489040"/>
        </p:xfrm>
        <a:graphic>
          <a:graphicData uri="http://schemas.openxmlformats.org/drawingml/2006/table">
            <a:tbl>
              <a:tblPr/>
              <a:tblGrid>
                <a:gridCol w="3965400"/>
                <a:gridCol w="396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S FORM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ntonasa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ehead, bridge of nose, medial and lateral nasal promine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ll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eks, lateral portion of upper l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l na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trum of upper lip, crest &amp; tip of n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ral na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e of n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l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2" name="Picture 3" descr="Face_41_0001"/>
          <p:cNvPicPr/>
          <p:nvPr/>
        </p:nvPicPr>
        <p:blipFill>
          <a:blip r:embed="rId1"/>
          <a:stretch/>
        </p:blipFill>
        <p:spPr>
          <a:xfrm>
            <a:off x="2286000" y="1447920"/>
            <a:ext cx="3692520" cy="4414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5257800" y="4800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Thank</a:t>
            </a: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600200"/>
          </a:xfrm>
          <a:prstGeom prst="rect">
            <a:avLst/>
          </a:prstGeom>
          <a:noFill/>
          <a:ln w="12600">
            <a:solidFill>
              <a:srgbClr val="66ff33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arly in the 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week, five primordial swellings consisting primarily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ural crest-derived mesenchym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ppear around the stomodeum and play an important role in the development of fac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21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omod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C:\Documents and Settings\user\My Documents\My Pictures\Picture1x.jpg"/>
          <p:cNvPicPr/>
          <p:nvPr/>
        </p:nvPicPr>
        <p:blipFill>
          <a:blip r:embed="rId1"/>
          <a:stretch/>
        </p:blipFill>
        <p:spPr>
          <a:xfrm>
            <a:off x="1066680" y="2286000"/>
            <a:ext cx="4105440" cy="3087720"/>
          </a:xfrm>
          <a:prstGeom prst="rect">
            <a:avLst/>
          </a:prstGeom>
          <a:ln w="0">
            <a:noFill/>
          </a:ln>
        </p:spPr>
      </p:pic>
      <p:sp>
        <p:nvSpPr>
          <p:cNvPr id="55" name="Line 6"/>
          <p:cNvSpPr/>
          <p:nvPr/>
        </p:nvSpPr>
        <p:spPr>
          <a:xfrm flipV="1">
            <a:off x="1981080" y="3733920"/>
            <a:ext cx="990720" cy="1752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181480" y="2286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nto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303160" y="3048120"/>
            <a:ext cx="37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xillary prominen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2578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ndibular promin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 flipH="1" flipV="1">
            <a:off x="3962520" y="4190760"/>
            <a:ext cx="1295280" cy="6858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H="1">
            <a:off x="4495680" y="3352680"/>
            <a:ext cx="914400" cy="7632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3124080" y="2590920"/>
            <a:ext cx="1981440" cy="4572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240" y="6858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ngl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frontonasal promin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ntral to the fore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pair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SimSun"/>
              </a:rPr>
              <a:t>maxillary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evelop from the cranial part of first pharyngeal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pair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SimSun"/>
              </a:rPr>
              <a:t>mandibular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evelop from the caudal part of first pharyngeal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2" descr="C:\Documents and Settings\user\My Documents\My Pictures\cvb.jpg"/>
          <p:cNvPicPr/>
          <p:nvPr/>
        </p:nvPicPr>
        <p:blipFill>
          <a:blip r:embed="rId1"/>
          <a:srcRect l="54955" t="0" r="0" b="0"/>
          <a:stretch/>
        </p:blipFill>
        <p:spPr>
          <a:xfrm>
            <a:off x="4800600" y="3505320"/>
            <a:ext cx="359712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user\My Documents\My Pictures\cvb.jpg"/>
          <p:cNvPicPr/>
          <p:nvPr/>
        </p:nvPicPr>
        <p:blipFill>
          <a:blip r:embed="rId2"/>
          <a:srcRect l="4198" t="3339" r="65270" b="10000"/>
          <a:stretch/>
        </p:blipFill>
        <p:spPr>
          <a:xfrm>
            <a:off x="5029200" y="990720"/>
            <a:ext cx="3048120" cy="198108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6"/>
          <p:cNvCxnSpPr/>
          <p:nvPr/>
        </p:nvCxnSpPr>
        <p:spPr>
          <a:xfrm>
            <a:off x="4343400" y="1066320"/>
            <a:ext cx="144864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Straight Arrow Connector 8"/>
          <p:cNvCxnSpPr/>
          <p:nvPr/>
        </p:nvCxnSpPr>
        <p:spPr>
          <a:xfrm flipV="1">
            <a:off x="3886200" y="1980720"/>
            <a:ext cx="137232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" name="Straight Arrow Connector 10"/>
          <p:cNvCxnSpPr/>
          <p:nvPr/>
        </p:nvCxnSpPr>
        <p:spPr>
          <a:xfrm flipV="1">
            <a:off x="4343400" y="2285640"/>
            <a:ext cx="991440" cy="1829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" name="TextBox 17"/>
          <p:cNvSpPr/>
          <p:nvPr/>
        </p:nvSpPr>
        <p:spPr>
          <a:xfrm>
            <a:off x="5715000" y="5715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240" y="7617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mesoderm of the five prominences is continuous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is no internal division corresponding to the grooves demarcating the prominences extern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C:\Documents and Settings\user\My Documents\My Pictures\cvb.jpg"/>
          <p:cNvPicPr/>
          <p:nvPr/>
        </p:nvPicPr>
        <p:blipFill>
          <a:blip r:embed="rId1"/>
          <a:srcRect l="38001" t="35496" r="36000" b="0"/>
          <a:stretch/>
        </p:blipFill>
        <p:spPr>
          <a:xfrm>
            <a:off x="4876920" y="1905120"/>
            <a:ext cx="3887640" cy="220968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6"/>
          <p:cNvCxnSpPr/>
          <p:nvPr/>
        </p:nvCxnSpPr>
        <p:spPr>
          <a:xfrm>
            <a:off x="5716440" y="2361960"/>
            <a:ext cx="7560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Stomodeum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1920" y="9140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ectoderm lin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parated from the primitive pharynx by 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buccopharyngeal (oropharyngeal)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embrane later breaks down and stomodeum opens into th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3" descr="C:\Documents and Settings\user\My Documents\My Pictures\cvb.jpg"/>
          <p:cNvPicPr/>
          <p:nvPr/>
        </p:nvPicPr>
        <p:blipFill>
          <a:blip r:embed="rId1"/>
          <a:srcRect l="4198" t="3339" r="65270" b="10000"/>
          <a:stretch/>
        </p:blipFill>
        <p:spPr>
          <a:xfrm>
            <a:off x="4572000" y="3124080"/>
            <a:ext cx="391644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28600" y="3809880"/>
            <a:ext cx="403848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Forms the vestibule of the oral cav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4572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y the end of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4</a:t>
            </a:r>
            <a:r>
              <a:rPr b="0" lang="en-US" sz="3200" spc="-1" strike="noStrike" baseline="30000">
                <a:solidFill>
                  <a:srgbClr val="ffc000"/>
                </a:solidFill>
                <a:latin typeface="Tahoma"/>
                <a:ea typeface="Tahoma"/>
              </a:rPr>
              <a:t>th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 we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, bilateral oval-shaped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ectoderm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hickenings called ‘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nasal placod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’ appear on each side of the lower part of the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frontonasal promin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Nasal placod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re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imordia of the nose and nasal cavit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" descr="C:\Documents and Settings\user\My Documents\My Pictures\hghg.jpg"/>
          <p:cNvPicPr/>
          <p:nvPr/>
        </p:nvPicPr>
        <p:blipFill>
          <a:blip r:embed="rId1"/>
          <a:srcRect l="3417" t="0" r="66002" b="0"/>
          <a:stretch/>
        </p:blipFill>
        <p:spPr>
          <a:xfrm>
            <a:off x="5334120" y="3276720"/>
            <a:ext cx="3276360" cy="2781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10280" y="3200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nto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>
            <a:off x="6552720" y="3657600"/>
            <a:ext cx="457920" cy="534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pic>
        <p:nvPicPr>
          <p:cNvPr id="80" name="Picture 7" descr="C:\Documents and Settings\user\My Documents\My Pictures\Picture1x.jpg"/>
          <p:cNvPicPr/>
          <p:nvPr/>
        </p:nvPicPr>
        <p:blipFill>
          <a:blip r:embed="rId2"/>
          <a:stretch/>
        </p:blipFill>
        <p:spPr>
          <a:xfrm>
            <a:off x="5334120" y="762120"/>
            <a:ext cx="320040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5"/>
          <p:cNvCxnSpPr/>
          <p:nvPr/>
        </p:nvCxnSpPr>
        <p:spPr>
          <a:xfrm flipH="1" flipV="1">
            <a:off x="7923960" y="1370880"/>
            <a:ext cx="3819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2" name="Straight Arrow Connector 5"/>
          <p:cNvCxnSpPr/>
          <p:nvPr/>
        </p:nvCxnSpPr>
        <p:spPr>
          <a:xfrm flipV="1">
            <a:off x="5638320" y="1294560"/>
            <a:ext cx="3819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3:26:31Z</dcterms:created>
  <dc:creator>David Conley</dc:creator>
  <dc:description/>
  <dc:language>en-US</dc:language>
  <cp:lastModifiedBy>dr_aloulah@hotmail.com</cp:lastModifiedBy>
  <dcterms:modified xsi:type="dcterms:W3CDTF">2014-10-18T20:48:56Z</dcterms:modified>
  <cp:revision>200</cp:revision>
  <dc:subject/>
  <dc:title>Welcome to Anatomy!</dc:title>
</cp:coreProperties>
</file>