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6D1-0791-40DA-9B00-4FEEC376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4EE-B64C-41C2-B1D1-C48A036B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2517-30E6-4DEF-B711-9130F041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1DE-1A1C-4ACD-A07D-2D41B903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26E4-7E0E-41F0-9645-CCDBA7D1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9E2-9D0A-4F95-B37A-3C80D4B8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6E7-2854-4D42-8723-DFCA4E3E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C86E-BAF4-428C-B7A3-A563CF6B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EE8D-3188-4EB9-9E3A-15CDF549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A32-25D4-45C9-8DB2-76654093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4BE-6AD7-4A23-9E48-2AAC45C0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6B9-59F9-482F-9E8F-A39CFD14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42FA-A08C-4E30-BEE9-6C0EE74FD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93884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4120" y="28195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Figure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523880"/>
            <a:ext cx="8458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0359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99880" y="393840"/>
            <a:ext cx="854244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7800" y="1438200"/>
            <a:ext cx="79866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512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1:16Z</dcterms:created>
  <dc:creator>Chelsea Bell</dc:creator>
  <dc:description/>
  <dc:language>en-US</dc:language>
  <cp:lastModifiedBy>Chelsea Bell</cp:lastModifiedBy>
  <dcterms:modified xsi:type="dcterms:W3CDTF">2009-11-11T14:41:38Z</dcterms:modified>
  <cp:revision>1</cp:revision>
  <dc:subject/>
  <dc:title>Slide 1</dc:title>
</cp:coreProperties>
</file>