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2C9-05C9-476E-A45A-DC555BBF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306-3269-4841-8356-B8654ECB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047-DBC2-43CC-89B4-475C83CB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DF1-87CA-4565-AD79-D1F6A9A0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691-6989-4F57-81B5-F46658E7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94D-C675-44B8-B1BD-3C2263EE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60F-A3A2-4DAF-B3E7-0FB11B49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754-6689-4117-BDE9-CDBAB6FE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647-0A77-484D-839D-5483D59B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027-B4FF-4BF3-B971-9B6E42CF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F77-C15A-4B39-870D-F47C3A35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095-7639-41B0-9A56-ED31CC08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AD32-E17E-4558-84FD-7D7BD52A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93884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4120" y="28195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Figure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52388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0359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9880" y="393840"/>
            <a:ext cx="854244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7800" y="1438200"/>
            <a:ext cx="79866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51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1:16Z</dcterms:created>
  <dc:creator>Chelsea Bell</dc:creator>
  <dc:description/>
  <dc:language>en-US</dc:language>
  <cp:lastModifiedBy>Chelsea Bell</cp:lastModifiedBy>
  <dcterms:modified xsi:type="dcterms:W3CDTF">2009-11-11T14:41:38Z</dcterms:modified>
  <cp:revision>1</cp:revision>
  <dc:subject/>
  <dc:title>Slide 1</dc:title>
</cp:coreProperties>
</file>