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C55-C51C-45D8-A8C3-572A5BA3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68E-496C-40AA-9D9B-885C751D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C01-FE73-41CC-87CF-977761E0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7C6-CECB-4B6F-B37D-5B8DEBC2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EFD-A002-4139-A1F1-2F728BD4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618-FF47-488D-946E-AF2672FB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DCE2-E7E0-452C-A949-F16BDD28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C91-B100-4CE4-8F23-DC422E7B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620-DAB9-41DA-9D71-704A390C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89F-CA91-440A-800D-B5360012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ADDF-8929-4CD1-8AAD-34B476ED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8C7D-4C27-4CD3-B064-A2E0701E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817F-8EE9-41AC-8F86-04EB44F85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Intermediate Re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074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72280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8642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839160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6:33Z</dcterms:created>
  <dc:creator>Chelsea Bell</dc:creator>
  <dc:description/>
  <dc:language>en-US</dc:language>
  <cp:lastModifiedBy>Jeff Holcomb</cp:lastModifiedBy>
  <dcterms:modified xsi:type="dcterms:W3CDTF">2011-02-11T22:37:03Z</dcterms:modified>
  <cp:revision>3</cp:revision>
  <dc:subject/>
  <dc:title>Slide 1</dc:title>
</cp:coreProperties>
</file>