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527-784B-449E-9D8C-85094F8D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F3F-D1E6-436B-9DD0-3F488AE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5AE-3CED-4837-A4E4-E758E22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72-B68A-44BB-AB97-E2627779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825-DAF4-4D5E-B80B-E8DC82F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61B-9199-4577-9C08-CDDF408C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20B-640C-4BED-88B9-47DD004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A6B-0D66-4EBC-8D22-2DE2269D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7B8-680C-4DF8-B593-10595160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368-2C1A-4DE3-947D-4BA9421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693-1AA8-4E29-876D-C49E366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BA0-5D2B-4E2E-A6F5-81521EA8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B94-A367-4ECE-9B05-E1921F3E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Intermediate Re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074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228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642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3916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33Z</dcterms:created>
  <dc:creator>Chelsea Bell</dc:creator>
  <dc:description/>
  <dc:language>en-US</dc:language>
  <cp:lastModifiedBy>Jeff Holcomb</cp:lastModifiedBy>
  <dcterms:modified xsi:type="dcterms:W3CDTF">2011-02-11T22:37:03Z</dcterms:modified>
  <cp:revision>3</cp:revision>
  <dc:subject/>
  <dc:title>Slide 1</dc:title>
</cp:coreProperties>
</file>