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2BE-C652-4088-B2D4-B40B6B7A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372-8C79-4A8C-8A72-4AB0FC3A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552-EED6-4C55-A697-D40F41A5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DCA-C04A-4DA7-BFA5-5B040CF8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667-AB30-4D13-8220-9289E2A3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761-B408-483C-A6F9-2D3C7BF0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01F-6258-424F-AE8D-541C51C2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7DC-F5F0-41DD-B926-3D1471A6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9BC-E1D8-46F7-9BEF-42948FE5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56A-FBA0-44FF-A4BD-1E379658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AA4-C388-41B3-9A75-496908E5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EB4A-3CEC-4765-A316-19DC3D97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A18A-1F6B-4652-AEE5-DD4829501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ode Generation for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Virtual Mach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0320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52720" y="0"/>
            <a:ext cx="503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592200"/>
            <a:ext cx="914400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6:54Z</dcterms:created>
  <dc:creator>Chelsea Bell</dc:creator>
  <dc:description/>
  <dc:language>en-US</dc:language>
  <cp:lastModifiedBy>Jeff Holcomb</cp:lastModifiedBy>
  <dcterms:modified xsi:type="dcterms:W3CDTF">2011-02-11T22:40:40Z</dcterms:modified>
  <cp:revision>3</cp:revision>
  <dc:subject/>
  <dc:title>Slide 1</dc:title>
</cp:coreProperties>
</file>