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83F7-5602-405A-8531-96BF9BFD3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FFED-FBA1-4120-AA3E-AC47D57CB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9679-4A30-44DA-BB3D-36A32210B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2411-8298-4905-A423-29DD3B7AD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C675-1D3E-43AA-BBF6-D18F706B5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05AD-3D83-4C2C-864E-B1C473864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8517-38D5-45EF-BBC7-AC865538A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B3AB-848F-44E7-81E3-F5FAE1DF0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BBD6-293C-462D-ABCB-BBD904D8E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3486-0100-4437-AD8A-322E9929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7E1C-5103-496A-A5B6-C81833E89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1F02-B6C8-40F8-96C6-8782F0C52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415F9-F272-4FE7-8CD2-835C0D94FE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752480"/>
            <a:ext cx="91440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Georgia"/>
              </a:rPr>
              <a:t>Chapter 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Georgia"/>
              </a:rPr>
              <a:t>Code Generation for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Georgia"/>
              </a:rPr>
              <a:t>Virtual Mach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403200"/>
            <a:ext cx="91440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052720" y="0"/>
            <a:ext cx="5037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592200"/>
            <a:ext cx="9144000" cy="56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4:46:54Z</dcterms:created>
  <dc:creator>Chelsea Bell</dc:creator>
  <dc:description/>
  <dc:language>en-US</dc:language>
  <cp:lastModifiedBy>Jeff Holcomb</cp:lastModifiedBy>
  <dcterms:modified xsi:type="dcterms:W3CDTF">2011-02-11T22:40:40Z</dcterms:modified>
  <cp:revision>3</cp:revision>
  <dc:subject/>
  <dc:title>Slide 1</dc:title>
</cp:coreProperties>
</file>