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9.png" ContentType="image/png"/>
  <Override PartName="/ppt/media/image18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7320-670C-4F16-AAA3-6880C0353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E1D1-020F-40C9-940C-22338E4A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CC2B-C5E6-48C5-A0C1-18B103FE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FEFF-8AE0-4A68-82B3-445C65681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B12F-B586-40A7-A79E-52B0A541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A0B8-DDD0-4259-96EF-63C35474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0FF9-A41B-4B0B-B9AC-2F429573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0DB5-805C-4584-99A8-C9055805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8142-2891-40A5-AEEA-991109CD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A5DF-1232-4B2D-BD4D-4777285C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7DE8-02C5-4A59-9FCD-17D98280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BBB8-C5C4-4E3B-B68A-34F64EC5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0F0F-2890-4B21-9D03-51C36A44C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524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Chapter 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Runtime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6629400" cy="2587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0880" y="3124080"/>
            <a:ext cx="8059680" cy="1459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04920" y="5153040"/>
            <a:ext cx="83898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289720" cy="42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22628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732440" cy="2784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3520" y="3809880"/>
            <a:ext cx="80866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737856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798660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5100480" cy="2568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00200" y="3505320"/>
            <a:ext cx="712620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0740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64396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7885080" cy="30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3282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438280" y="3362400"/>
            <a:ext cx="670572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176960" cy="38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2770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22772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4:47:19Z</dcterms:created>
  <dc:creator>Chelsea Bell</dc:creator>
  <dc:description/>
  <dc:language>en-US</dc:language>
  <cp:lastModifiedBy>Chelsea Bell</cp:lastModifiedBy>
  <dcterms:modified xsi:type="dcterms:W3CDTF">2009-11-11T14:47:26Z</dcterms:modified>
  <cp:revision>1</cp:revision>
  <dc:subject/>
  <dc:title>Slide 1</dc:title>
</cp:coreProperties>
</file>