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CDA-B7EF-4972-A29A-60C9E107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ADD-2078-498A-8D32-4BFCD78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843-F330-4321-B7BC-E501E51E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D3F-215B-4AD8-8BF4-FD8E6344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B1A-F9C1-461C-9D09-EA7868F8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650-C89F-4A17-9505-615BEC7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06D-C81D-4A0D-AE86-CB83A36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27E-C976-4719-AF5A-F2B3483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8DF-34DA-46A9-8C9A-835ECAAB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FAC-8D79-4BDF-9A7E-FA88712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31C-2D53-4183-AAB7-9BA800E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DEA-041A-4C52-9C77-F40DE21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2161-FA1F-4A02-895D-E710DFEF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Runtim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662940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8059680" cy="145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5153040"/>
            <a:ext cx="8389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897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2262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732440" cy="278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86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785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986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5100480" cy="25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71262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0740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643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85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328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3362400"/>
            <a:ext cx="6705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76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277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227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7:19Z</dcterms:created>
  <dc:creator>Chelsea Bell</dc:creator>
  <dc:description/>
  <dc:language>en-US</dc:language>
  <cp:lastModifiedBy>Chelsea Bell</cp:lastModifiedBy>
  <dcterms:modified xsi:type="dcterms:W3CDTF">2009-11-11T14:47:26Z</dcterms:modified>
  <cp:revision>1</cp:revision>
  <dc:subject/>
  <dc:title>Slide 1</dc:title>
</cp:coreProperties>
</file>