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11.png" ContentType="image/png"/>
  <Override PartName="/ppt/media/image27.pct" ContentType="image/x-pict"/>
  <Override PartName="/ppt/media/image4.pct" ContentType="image/x-pict"/>
  <Override PartName="/ppt/media/image7.pct" ContentType="image/x-pict"/>
  <Override PartName="/ppt/media/image12.png" ContentType="image/png"/>
  <Override PartName="/ppt/media/image21.pct" ContentType="image/x-pict"/>
  <Override PartName="/ppt/media/image8.png" ContentType="image/png"/>
  <Override PartName="/ppt/media/image19.pct" ContentType="image/x-pict"/>
  <Override PartName="/ppt/media/image10.pct" ContentType="image/x-pict"/>
  <Override PartName="/ppt/media/image13.png" ContentType="image/png"/>
  <Override PartName="/ppt/media/image22.pct" ContentType="image/x-pict"/>
  <Override PartName="/ppt/media/image9.png" ContentType="image/png"/>
  <Override PartName="/ppt/media/image30.pct" ContentType="image/x-pict"/>
  <Override PartName="/ppt/media/image6.png" ContentType="image/png"/>
  <Override PartName="/ppt/media/image3.pct" ContentType="image/x-pict"/>
  <Override PartName="/ppt/media/image26.pct" ContentType="image/x-pict"/>
  <Override PartName="/ppt/media/image16.pct" ContentType="image/x-pict"/>
  <Override PartName="/ppt/media/image5.png" ContentType="image/png"/>
  <Override PartName="/ppt/media/image2.pct" ContentType="image/x-pict"/>
  <Override PartName="/ppt/media/image28.png" ContentType="image/png"/>
  <Override PartName="/ppt/media/image25.pct" ContentType="image/x-pict"/>
  <Override PartName="/ppt/media/image1.pct" ContentType="image/x-pict"/>
  <Override PartName="/ppt/media/image24.pct" ContentType="image/x-pict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3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641-CD2E-4EC5-809A-827C23A3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0E6-676A-4200-B187-7CA36235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6BB-7649-438F-A9CF-0B043128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089-54DF-490D-A789-5162B88F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5FD-269C-4F66-8D07-BF14D8DE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83D-71B4-4F9C-A407-6F415412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BB4-C2FA-4336-ACFD-C548AA2A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E01-E7F1-464F-B4BA-B9CBEEC3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1CB-C06A-409C-8E09-F81D1052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3C7-8B7C-4E02-A198-09AD659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03C-BA8A-4440-87A6-6C186A24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507-0CC7-41E2-AC98-3DCEBFEA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1F50-FFF8-4AD8-A8E2-611FBE9A4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Target Code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520" y="1166760"/>
            <a:ext cx="9048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8200" y="0"/>
            <a:ext cx="518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9213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79246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-144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164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8977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13780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84520" y="0"/>
            <a:ext cx="557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112680"/>
            <a:ext cx="761976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6553080" cy="3165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80852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42840"/>
            <a:ext cx="80769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7454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403200"/>
            <a:ext cx="8001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00" y="115920"/>
            <a:ext cx="884700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556240" cy="307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6200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9400" y="533520"/>
            <a:ext cx="89946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9679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996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210960"/>
            <a:ext cx="813744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77835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104760"/>
            <a:ext cx="777240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87962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71440"/>
            <a:ext cx="9144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792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228680"/>
            <a:ext cx="91440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29008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7:55Z</dcterms:created>
  <dc:creator>Chelsea Bell</dc:creator>
  <dc:description/>
  <dc:language>en-US</dc:language>
  <cp:lastModifiedBy>Jeff Holcomb</cp:lastModifiedBy>
  <dcterms:modified xsi:type="dcterms:W3CDTF">2011-02-11T22:48:27Z</dcterms:modified>
  <cp:revision>3</cp:revision>
  <dc:subject/>
  <dc:title>Slide 1</dc:title>
</cp:coreProperties>
</file>