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11.png" ContentType="image/png"/>
  <Override PartName="/ppt/media/image27.pct" ContentType="image/x-pict"/>
  <Override PartName="/ppt/media/image4.pct" ContentType="image/x-pict"/>
  <Override PartName="/ppt/media/image7.pct" ContentType="image/x-pict"/>
  <Override PartName="/ppt/media/image12.png" ContentType="image/png"/>
  <Override PartName="/ppt/media/image21.pct" ContentType="image/x-pict"/>
  <Override PartName="/ppt/media/image8.png" ContentType="image/png"/>
  <Override PartName="/ppt/media/image19.pct" ContentType="image/x-pict"/>
  <Override PartName="/ppt/media/image10.pct" ContentType="image/x-pict"/>
  <Override PartName="/ppt/media/image13.png" ContentType="image/png"/>
  <Override PartName="/ppt/media/image22.pct" ContentType="image/x-pict"/>
  <Override PartName="/ppt/media/image9.png" ContentType="image/png"/>
  <Override PartName="/ppt/media/image30.pct" ContentType="image/x-pict"/>
  <Override PartName="/ppt/media/image6.png" ContentType="image/png"/>
  <Override PartName="/ppt/media/image3.pct" ContentType="image/x-pict"/>
  <Override PartName="/ppt/media/image26.pct" ContentType="image/x-pict"/>
  <Override PartName="/ppt/media/image16.pct" ContentType="image/x-pict"/>
  <Override PartName="/ppt/media/image5.png" ContentType="image/png"/>
  <Override PartName="/ppt/media/image2.pct" ContentType="image/x-pict"/>
  <Override PartName="/ppt/media/image28.png" ContentType="image/png"/>
  <Override PartName="/ppt/media/image25.pct" ContentType="image/x-pict"/>
  <Override PartName="/ppt/media/image1.pct" ContentType="image/x-pict"/>
  <Override PartName="/ppt/media/image24.pct" ContentType="image/x-pict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3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AF3-2517-4D71-89DB-37BC7F2B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AD0-50BD-4532-8B41-5B7B318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30F-7921-4778-8DF9-72414BF2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4EA-0F53-46F4-B664-7A3CB079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DAA-0CA6-49E4-9F54-0337DEDA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5FF-45BB-40C6-80FC-751D2C54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FFC5-3EDF-4783-BE76-2037F372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F77-A7FB-4107-A471-5B38A5E8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DFA-64BA-44E2-A702-2880C496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171-3A46-44C2-9636-F21FB3A2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F96-4CA6-4582-A8AC-614E4497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53D-00E4-4F87-8AA6-A97CEB7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9A56-80EA-4C50-BD3C-29941207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Target Code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520" y="1166760"/>
            <a:ext cx="90489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8200" y="0"/>
            <a:ext cx="518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9213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79246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-144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164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8977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3780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84520" y="0"/>
            <a:ext cx="557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112680"/>
            <a:ext cx="761976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6553080" cy="3165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80852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42840"/>
            <a:ext cx="80769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7454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3520" y="403200"/>
            <a:ext cx="8001000" cy="62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7600" y="115920"/>
            <a:ext cx="8847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556240" cy="307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6200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9400" y="533520"/>
            <a:ext cx="89946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89679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96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210960"/>
            <a:ext cx="813744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77835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104760"/>
            <a:ext cx="777240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87962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71440"/>
            <a:ext cx="91440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7920" cy="61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2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228680"/>
            <a:ext cx="9144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29008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7:55Z</dcterms:created>
  <dc:creator>Chelsea Bell</dc:creator>
  <dc:description/>
  <dc:language>en-US</dc:language>
  <cp:lastModifiedBy>Jeff Holcomb</cp:lastModifiedBy>
  <dcterms:modified xsi:type="dcterms:W3CDTF">2011-02-11T22:48:27Z</dcterms:modified>
  <cp:revision>3</cp:revision>
  <dc:subject/>
  <dc:title>Slide 1</dc:title>
</cp:coreProperties>
</file>