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9.pct" ContentType="image/x-pict"/>
  <Override PartName="/ppt/media/image15.pct" ContentType="image/x-pict"/>
  <Override PartName="/ppt/media/image14.png" ContentType="image/png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985-7D3D-4E66-9288-1950695E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F1D-BC57-44EA-8195-117F0165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2C0-56DF-401B-8CFC-0B1E89B7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3D5-FBF5-4A59-843F-EC4BA7C9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034-061A-4A5F-AA23-F0EBDB7F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A0A-0FE4-4D48-8925-1C8DC292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A5E-14FB-44DE-A0B1-A80F5887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A5F-FABF-483B-83E7-8C449747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73B-486D-45A7-8ADD-65DECF85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5AC-C24E-4CE5-ADA7-D430BC1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0A5-CE04-4DCF-848A-91CA69AA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6E0-944C-48F8-80AF-8139AB8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E2A9-BD56-4469-986E-8FB2CBD3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388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A Simple Compi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564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4931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988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880" y="371520"/>
            <a:ext cx="83869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71440" y="0"/>
            <a:ext cx="67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" y="758880"/>
            <a:ext cx="87663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1320" y="590400"/>
            <a:ext cx="692136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06200"/>
            <a:ext cx="67820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7800" y="1128600"/>
            <a:ext cx="79866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56296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1360" y="0"/>
            <a:ext cx="592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2:00Z</dcterms:created>
  <dc:creator>Chelsea Bell</dc:creator>
  <dc:description/>
  <dc:language>en-US</dc:language>
  <cp:lastModifiedBy>Jeff Holcomb</cp:lastModifiedBy>
  <dcterms:modified xsi:type="dcterms:W3CDTF">2011-02-09T21:53:18Z</dcterms:modified>
  <cp:revision>8</cp:revision>
  <dc:subject/>
  <dc:title>Slide 1</dc:title>
</cp:coreProperties>
</file>