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ct" ContentType="image/x-pict"/>
  <Override PartName="/ppt/media/image9.pct" ContentType="image/x-pict"/>
  <Override PartName="/ppt/media/image15.pct" ContentType="image/x-pict"/>
  <Override PartName="/ppt/media/image14.png" ContentType="image/png"/>
  <Override PartName="/ppt/media/image1.png" ContentType="image/png"/>
  <Override PartName="/ppt/media/image2.png" ContentType="image/png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93EA-DC2B-4B37-BA4F-B24508F6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CFD-3DD4-428E-AE8B-CA6D2D06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C8F-23DA-43A9-A9B8-27CE8C3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122-E517-4785-B0D7-7C3A8BEC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1FB-9D34-40C7-B1E0-3F4CDAF9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22C7-BEB6-49E2-B9D8-14C5CF97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5F1-497D-4BBF-B4FA-EF7E4394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5A3-AE47-47F8-8E71-D85BA683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120-1A38-4F80-9494-ED67BC84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12C-2540-4C7C-B17C-59EE808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A0D-D5F9-4E56-9D47-5DA1D1E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756-4B88-4E4B-AD5C-A268381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4C9C-C444-4B0A-BDA5-DF7AAA27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5238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A Simple Compi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8564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49312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0988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9880" y="371520"/>
            <a:ext cx="83869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71440" y="0"/>
            <a:ext cx="67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" y="758880"/>
            <a:ext cx="876636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1320" y="590400"/>
            <a:ext cx="6921360" cy="56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06200"/>
            <a:ext cx="67820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77800" y="1128600"/>
            <a:ext cx="79866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56296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1360" y="0"/>
            <a:ext cx="592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2:00Z</dcterms:created>
  <dc:creator>Chelsea Bell</dc:creator>
  <dc:description/>
  <dc:language>en-US</dc:language>
  <cp:lastModifiedBy>Jeff Holcomb</cp:lastModifiedBy>
  <dcterms:modified xsi:type="dcterms:W3CDTF">2011-02-09T21:53:18Z</dcterms:modified>
  <cp:revision>8</cp:revision>
  <dc:subject/>
  <dc:title>Slide 1</dc:title>
</cp:coreProperties>
</file>