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3.png" ContentType="image/png"/>
  <Override PartName="/ppt/media/image10.pct" ContentType="image/x-pict"/>
  <Override PartName="/ppt/media/image5.pct" ContentType="image/x-pict"/>
  <Override PartName="/ppt/media/image28.pct" ContentType="image/x-pict"/>
  <Override PartName="/ppt/media/image4.png" ContentType="image/png"/>
  <Override PartName="/ppt/media/image15.pct" ContentType="image/x-pict"/>
  <Override PartName="/ppt/media/image27.png" ContentType="image/png"/>
  <Override PartName="/ppt/media/image24.pct" ContentType="image/x-pict"/>
  <Override PartName="/ppt/media/image22.pct" ContentType="image/x-pict"/>
  <Override PartName="/ppt/media/image21.pct" ContentType="image/x-pict"/>
  <Override PartName="/ppt/media/image19.png" ContentType="image/png"/>
  <Override PartName="/ppt/media/image20.pct" ContentType="image/x-pict"/>
  <Override PartName="/ppt/media/image18.pct" ContentType="image/x-pict"/>
  <Override PartName="/ppt/media/image17.png" ContentType="image/png"/>
  <Override PartName="/ppt/media/image16.png" ContentType="image/png"/>
  <Override PartName="/ppt/media/image25.pct" ContentType="image/x-pict"/>
  <Override PartName="/ppt/media/image2.pct" ContentType="image/x-pict"/>
  <Override PartName="/ppt/media/image3.png" ContentType="image/png"/>
  <Override PartName="/ppt/media/image14.pct" ContentType="image/x-pict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CE2-3F8C-49C0-A56A-DDAF2528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3C2-3FB7-442D-9F96-5C7EF708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C77-036E-49F3-B33F-8C29CC16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942-F356-49E1-870E-8BBF45C2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422F-8163-4977-A5BA-428A92A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30B-1977-4A30-A6A8-D943AAC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A12-64D5-4C18-B579-B3193729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365-2012-4C54-8981-310EBA8D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DD0-121E-40DC-882D-89CCAB3D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ED9-A442-4108-95B4-BD3EE4A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431-F913-4FF7-B359-47AA2F1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348F-FA0F-466F-9A93-1145A6C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7F5-B66D-44ED-8710-F21032D6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524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eorgia"/>
              </a:rPr>
              <a:t>Scanning – Theory an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5722920" cy="1904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38080" y="3024360"/>
            <a:ext cx="724392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960" y="628560"/>
            <a:ext cx="829008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4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01760" y="1128600"/>
            <a:ext cx="833904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1000" y="1641600"/>
            <a:ext cx="8442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4680" y="2565360"/>
            <a:ext cx="85932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06400" y="603360"/>
            <a:ext cx="75312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372080" cy="61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041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12880" y="0"/>
            <a:ext cx="571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5088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6131160" cy="290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352680"/>
            <a:ext cx="62294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1957320"/>
            <a:ext cx="899172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3533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15652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43760" cy="64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92160" y="0"/>
            <a:ext cx="52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324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6200" y="1065240"/>
            <a:ext cx="83916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9376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682560"/>
            <a:ext cx="91440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1400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8280" y="2084400"/>
            <a:ext cx="89474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4320" y="730080"/>
            <a:ext cx="697392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5440" y="1122480"/>
            <a:ext cx="84931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4:42:44Z</dcterms:created>
  <dc:creator>Chelsea Bell</dc:creator>
  <dc:description/>
  <dc:language>en-US</dc:language>
  <cp:lastModifiedBy>Jeff Holcomb</cp:lastModifiedBy>
  <dcterms:modified xsi:type="dcterms:W3CDTF">2011-02-10T15:19:26Z</dcterms:modified>
  <cp:revision>6</cp:revision>
  <dc:subject/>
  <dc:title>Slide 1</dc:title>
</cp:coreProperties>
</file>