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3.png" ContentType="image/png"/>
  <Override PartName="/ppt/media/image10.pct" ContentType="image/x-pict"/>
  <Override PartName="/ppt/media/image5.pct" ContentType="image/x-pict"/>
  <Override PartName="/ppt/media/image28.pct" ContentType="image/x-pict"/>
  <Override PartName="/ppt/media/image4.png" ContentType="image/png"/>
  <Override PartName="/ppt/media/image15.pct" ContentType="image/x-pict"/>
  <Override PartName="/ppt/media/image27.png" ContentType="image/png"/>
  <Override PartName="/ppt/media/image24.pct" ContentType="image/x-pict"/>
  <Override PartName="/ppt/media/image22.pct" ContentType="image/x-pict"/>
  <Override PartName="/ppt/media/image21.pct" ContentType="image/x-pict"/>
  <Override PartName="/ppt/media/image19.png" ContentType="image/png"/>
  <Override PartName="/ppt/media/image20.pct" ContentType="image/x-pict"/>
  <Override PartName="/ppt/media/image18.pct" ContentType="image/x-pict"/>
  <Override PartName="/ppt/media/image17.png" ContentType="image/png"/>
  <Override PartName="/ppt/media/image16.png" ContentType="image/png"/>
  <Override PartName="/ppt/media/image25.pct" ContentType="image/x-pict"/>
  <Override PartName="/ppt/media/image2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DA9-C29F-4EB3-998E-5AEA5410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AF9-EE92-4C6A-A0CE-D4285A62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E10-6EF4-4FAC-9510-8CFEC898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1B8-6827-40C2-8F0E-1D19C5DE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34F-0324-4C27-9FE9-BD5D702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056-7A04-4942-ABA9-3DA0371F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DF0-FC9F-4F4F-B19A-ECCD0CE1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C9B-B573-4F39-B1AE-6CC14B0A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D47-D09F-4F59-92F3-E1428213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460-D7F1-4492-BACD-02693A1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30B-9D7A-44B1-AED7-8860418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19F-5CF1-4F64-A6A6-0E461B3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2D8-40FD-41AE-91F1-60820186B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canning – Theory an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72292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3024360"/>
            <a:ext cx="72439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960" y="628560"/>
            <a:ext cx="829008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1760" y="1128600"/>
            <a:ext cx="8339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1000" y="1641600"/>
            <a:ext cx="844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4680" y="2565360"/>
            <a:ext cx="85932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06400" y="603360"/>
            <a:ext cx="75312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37208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041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12880" y="0"/>
            <a:ext cx="571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5088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6131160" cy="290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29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957320"/>
            <a:ext cx="899172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533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1565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4376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2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324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6200" y="1065240"/>
            <a:ext cx="83916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1400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8280" y="2084400"/>
            <a:ext cx="8947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4320" y="730080"/>
            <a:ext cx="69739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5440" y="1122480"/>
            <a:ext cx="84931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2:44Z</dcterms:created>
  <dc:creator>Chelsea Bell</dc:creator>
  <dc:description/>
  <dc:language>en-US</dc:language>
  <cp:lastModifiedBy>Jeff Holcomb</cp:lastModifiedBy>
  <dcterms:modified xsi:type="dcterms:W3CDTF">2011-02-10T15:19:26Z</dcterms:modified>
  <cp:revision>6</cp:revision>
  <dc:subject/>
  <dc:title>Slide 1</dc:title>
</cp:coreProperties>
</file>