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ct" ContentType="image/x-pict"/>
  <Override PartName="/ppt/media/image8.png" ContentType="image/png"/>
  <Override PartName="/ppt/media/image13.png" ContentType="image/png"/>
  <Override PartName="/ppt/media/image6.pct" ContentType="image/x-pict"/>
  <Override PartName="/ppt/media/image9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C42-FA61-4FFE-BD75-4DD36BDA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9F1-C237-47E0-8F3F-EDD3AE87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A4B-1346-48DD-8CB8-CCDF3291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476-5883-4A7C-AF90-95556B39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8F4-CA0C-4BCE-B76D-050552CE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F1B-B4FC-4241-A4A4-7998C12E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42A-77CA-40DE-9305-30AF760B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9B1-532A-4760-AFC5-F2911437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231-9DF5-4482-BD27-7E0A8D64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7A1-A879-47A6-96FA-06024252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8B64-8E03-4A5C-A3B2-A71F0B1D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7D3-41D1-4728-A276-E7964200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C0A9-BF1E-4ACC-B9BA-FEC892E1E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Grammars and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32080" y="0"/>
            <a:ext cx="62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25760" y="0"/>
            <a:ext cx="588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31680"/>
            <a:ext cx="73152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9360" y="0"/>
            <a:ext cx="624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36600" y="1893960"/>
            <a:ext cx="6669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73244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6932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1707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6608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-1440"/>
            <a:ext cx="8686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3:40Z</dcterms:created>
  <dc:creator>Chelsea Bell</dc:creator>
  <dc:description/>
  <dc:language>en-US</dc:language>
  <cp:lastModifiedBy>Jeff Holcomb</cp:lastModifiedBy>
  <dcterms:modified xsi:type="dcterms:W3CDTF">2011-02-10T16:51:19Z</dcterms:modified>
  <cp:revision>9</cp:revision>
  <dc:subject/>
  <dc:title>Slide 1</dc:title>
</cp:coreProperties>
</file>