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ct" ContentType="image/x-pict"/>
  <Override PartName="/ppt/media/image8.png" ContentType="image/png"/>
  <Override PartName="/ppt/media/image13.png" ContentType="image/png"/>
  <Override PartName="/ppt/media/image6.pct" ContentType="image/x-pict"/>
  <Override PartName="/ppt/media/image9.png" ContentType="image/png"/>
  <Override PartName="/ppt/media/image7.png" ContentType="image/png"/>
  <Override PartName="/ppt/media/image12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82E6-9551-4D79-B474-E4E5402B2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A595-F5FF-4E38-AEEA-E4D31F8A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85DA-5FE5-440C-9247-111CF0D01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ACAA-231B-4EF8-8946-B1BCCD75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2008-D718-4784-A74B-B812E50F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0D44-D499-4BEB-9FEA-3E4A1B57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D7DD-6E3F-4F5C-8CC6-42147358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4651-316D-42FB-AE31-CB318C89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834E-8A69-42D0-ABAF-1E49A5B8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0C72-C7A5-4EC5-ABFA-899E25C8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9A1E-BEE4-4699-93E3-BC13584D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97E2-A4DF-4DEF-9281-C2F41DFB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14B6-EC3C-4DCC-B14B-278EFDECB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524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Chapter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Grammars and Par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32080" y="0"/>
            <a:ext cx="627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25760" y="0"/>
            <a:ext cx="588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14400" y="31680"/>
            <a:ext cx="7315200" cy="67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49360" y="0"/>
            <a:ext cx="624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36600" y="1893960"/>
            <a:ext cx="6669000" cy="30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773244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869328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40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71600" y="152280"/>
            <a:ext cx="617076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706608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-1440"/>
            <a:ext cx="86868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4:43:40Z</dcterms:created>
  <dc:creator>Chelsea Bell</dc:creator>
  <dc:description/>
  <dc:language>en-US</dc:language>
  <cp:lastModifiedBy>Jeff Holcomb</cp:lastModifiedBy>
  <dcterms:modified xsi:type="dcterms:W3CDTF">2011-02-10T16:51:19Z</dcterms:modified>
  <cp:revision>9</cp:revision>
  <dc:subject/>
  <dc:title>Slide 1</dc:title>
</cp:coreProperties>
</file>