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ct" ContentType="image/x-pict"/>
  <Override PartName="/ppt/media/image8.pct" ContentType="image/x-pict"/>
  <Override PartName="/ppt/media/image10.png" ContentType="image/png"/>
  <Override PartName="/ppt/media/image12.png" ContentType="image/png"/>
  <Override PartName="/ppt/media/image7.png" ContentType="image/png"/>
  <Override PartName="/ppt/media/image4.png" ContentType="image/png"/>
  <Override PartName="/ppt/media/image11.png" ContentType="image/png"/>
  <Override PartName="/ppt/media/image6.png" ContentType="image/png"/>
  <Override PartName="/ppt/media/image3.pct" ContentType="image/x-pict"/>
  <Override PartName="/ppt/media/image23.png" ContentType="image/png"/>
  <Override PartName="/ppt/media/image22.png" ContentType="image/png"/>
  <Override PartName="/ppt/media/image2.pct" ContentType="image/x-pict"/>
  <Override PartName="/ppt/media/image5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4.pct" ContentType="image/x-pict"/>
  <Override PartName="/ppt/media/image16.png" ContentType="image/png"/>
  <Override PartName="/ppt/media/image1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DDA8-B623-4A48-9052-C9A44F152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7671-D80A-4271-B68B-BFA694D4C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149E-4712-47E5-ACE8-B4723A80B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8C85-2078-4F0D-88DB-74CC18674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3E65-A21A-4AAA-B23A-8C294CEC3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EE10-3AF5-4DF6-9B3F-370528E30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1E14-F866-4AB7-B369-A9F8D7365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4E52-D2C3-4861-AA34-20E3E5287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FA38-AEBF-43E2-93C0-44E76C966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EFBC-EAFB-401F-A2AA-83EAC5D5F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A30A-7136-45E0-BA7B-9BE4CF330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C4CF-3726-4BDC-AECE-6C140344B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AC2AC-FEF4-4235-B843-D3BF9B7824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ct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752480"/>
            <a:ext cx="9144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Georgia"/>
              </a:rPr>
              <a:t>Chapter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Georgia"/>
              </a:rPr>
              <a:t>Top-Down Pars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447920" y="228600"/>
            <a:ext cx="580392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09480" y="44280"/>
            <a:ext cx="7925040" cy="67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373040" y="0"/>
            <a:ext cx="6396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09480" y="1295280"/>
            <a:ext cx="7581960" cy="43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806400" y="2173320"/>
            <a:ext cx="7531200" cy="25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6320" y="1517760"/>
            <a:ext cx="8915400" cy="38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649440"/>
            <a:ext cx="9144000" cy="55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52280" y="1109520"/>
            <a:ext cx="8915400" cy="45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28600" y="700200"/>
            <a:ext cx="8686800" cy="54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514440"/>
            <a:ext cx="9144000" cy="58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864252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994040" y="0"/>
            <a:ext cx="5155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557280"/>
            <a:ext cx="9144000" cy="57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09480" y="1063800"/>
            <a:ext cx="8458200" cy="44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57200" y="0"/>
            <a:ext cx="8273880" cy="682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084320" y="1469880"/>
            <a:ext cx="6973920" cy="392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8305560" cy="40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195120"/>
            <a:ext cx="9144000" cy="646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2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289240" y="0"/>
            <a:ext cx="4565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33520" y="20520"/>
            <a:ext cx="8076960" cy="681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314360" y="3505320"/>
            <a:ext cx="7829640" cy="31654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295280" y="304920"/>
            <a:ext cx="6666120" cy="29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1T14:44:20Z</dcterms:created>
  <dc:creator>Chelsea Bell</dc:creator>
  <dc:description/>
  <dc:language>en-US</dc:language>
  <cp:lastModifiedBy>Jeff Holcomb</cp:lastModifiedBy>
  <dcterms:modified xsi:type="dcterms:W3CDTF">2011-02-10T17:17:14Z</dcterms:modified>
  <cp:revision>18</cp:revision>
  <dc:subject/>
  <dc:title>Slide 1</dc:title>
</cp:coreProperties>
</file>