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ct" ContentType="image/x-pict"/>
  <Override PartName="/ppt/media/image8.pct" ContentType="image/x-pict"/>
  <Override PartName="/ppt/media/image10.png" ContentType="image/png"/>
  <Override PartName="/ppt/media/image12.png" ContentType="image/png"/>
  <Override PartName="/ppt/media/image7.png" ContentType="image/png"/>
  <Override PartName="/ppt/media/image4.png" ContentType="image/png"/>
  <Override PartName="/ppt/media/image11.png" ContentType="image/png"/>
  <Override PartName="/ppt/media/image6.png" ContentType="image/png"/>
  <Override PartName="/ppt/media/image3.pct" ContentType="image/x-pict"/>
  <Override PartName="/ppt/media/image23.png" ContentType="image/png"/>
  <Override PartName="/ppt/media/image22.png" ContentType="image/png"/>
  <Override PartName="/ppt/media/image2.pct" ContentType="image/x-pict"/>
  <Override PartName="/ppt/media/image5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ct" ContentType="image/x-pict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6FD-D385-4461-A0B8-92D3E0C0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9EE-1EC4-469C-9FA2-960298E4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EA0-884B-4935-99CB-3FC4F340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5C0-2A03-4C67-8599-6E7CC0A1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0DD-6A98-4A27-AFF1-3CE6E7A9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AF2-AF25-45A9-9C74-9DE7E166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3CD-4DFC-4DDA-8143-040707D5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C2F-01A4-46E3-B68C-AC5667A1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8B5-B1B1-401A-A50E-37C63972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D016-45F4-4C8F-BF9A-FB536D7F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D81A-6067-4BA9-914F-13900F12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862-5914-4A3E-8112-5107F0E4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4A66-6803-44B7-8A76-BFAB47F88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Top-Down Pa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5803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44280"/>
            <a:ext cx="792504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3040" y="0"/>
            <a:ext cx="639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581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06400" y="2173320"/>
            <a:ext cx="753120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320" y="1517760"/>
            <a:ext cx="891540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55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109520"/>
            <a:ext cx="891540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700200"/>
            <a:ext cx="86868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514440"/>
            <a:ext cx="914400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42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94040" y="0"/>
            <a:ext cx="515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557280"/>
            <a:ext cx="914400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1063800"/>
            <a:ext cx="84582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738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4320" y="1469880"/>
            <a:ext cx="697392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0556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924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0520"/>
            <a:ext cx="807696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14360" y="3505320"/>
            <a:ext cx="7829640" cy="3165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95280" y="304920"/>
            <a:ext cx="66661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4:20Z</dcterms:created>
  <dc:creator>Chelsea Bell</dc:creator>
  <dc:description/>
  <dc:language>en-US</dc:language>
  <cp:lastModifiedBy>Jeff Holcomb</cp:lastModifiedBy>
  <dcterms:modified xsi:type="dcterms:W3CDTF">2011-02-10T17:17:14Z</dcterms:modified>
  <cp:revision>18</cp:revision>
  <dc:subject/>
  <dc:title>Slide 1</dc:title>
</cp:coreProperties>
</file>