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1.png" ContentType="image/png"/>
  <Override PartName="/ppt/media/image13.png" ContentType="image/png"/>
  <Override PartName="/ppt/media/image8.png" ContentType="image/png"/>
  <Override PartName="/ppt/media/image6.png" ContentType="image/png"/>
  <Override PartName="/ppt/media/image12.png" ContentType="image/png"/>
  <Override PartName="/ppt/media/image7.png" ContentType="image/png"/>
  <Override PartName="/ppt/media/image18.pct" ContentType="image/x-pict"/>
  <Override PartName="/ppt/media/image20.pct" ContentType="image/x-pict"/>
  <Override PartName="/ppt/media/image4.pct" ContentType="image/x-pict"/>
  <Override PartName="/ppt/media/image3.png" ContentType="image/png"/>
  <Override PartName="/ppt/media/image14.pct" ContentType="image/x-pict"/>
  <Override PartName="/ppt/media/image26.png" ContentType="image/png"/>
  <Override PartName="/ppt/media/image25.png" ContentType="image/png"/>
  <Override PartName="/ppt/media/image22.pct" ContentType="image/x-pict"/>
  <Override PartName="/ppt/media/image24.png" ContentType="image/png"/>
  <Override PartName="/ppt/media/image23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.pct" ContentType="image/x-pict"/>
  <Override PartName="/ppt/media/image16.pct" ContentType="image/x-pict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1FF-E8D6-406D-A153-72548EAC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A37-E5D2-482C-9921-E0DE21A1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023-2462-4629-8624-D6536869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C2D-3439-4500-81D7-DC6F489D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39D-8D2C-4966-842B-C80ED208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699-E385-40A0-9625-82522D66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268-2CD4-4FC5-83C5-6B3F6B23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261-97E2-4841-8AAF-55710C33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D2C-334E-4D1F-956E-B32AF2F5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E91-B222-4B37-B423-77D6A858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061-673B-450B-A944-0A0455ED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BFF-6B85-4072-8CF9-F1BE9C14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0B9B-FA15-4F00-B586-3015EBE3D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Syntax-Directed Trans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8720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4320" y="204840"/>
            <a:ext cx="502128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56892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37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36640" y="0"/>
            <a:ext cx="566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783432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693396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73244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662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9917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030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62480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248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517840"/>
            <a:ext cx="59436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56296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2320" y="0"/>
            <a:ext cx="549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24200" y="0"/>
            <a:ext cx="529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549360"/>
            <a:ext cx="670536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482840"/>
            <a:ext cx="91440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6439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3920" y="861840"/>
            <a:ext cx="869472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6480"/>
            <a:ext cx="86868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57240"/>
            <a:ext cx="79250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76312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5:22Z</dcterms:created>
  <dc:creator>Chelsea Bell</dc:creator>
  <dc:description/>
  <dc:language>en-US</dc:language>
  <cp:lastModifiedBy>Jeff Holcomb</cp:lastModifiedBy>
  <dcterms:modified xsi:type="dcterms:W3CDTF">2011-02-11T20:25:22Z</dcterms:modified>
  <cp:revision>14</cp:revision>
  <dc:subject/>
  <dc:title>Slide 1</dc:title>
</cp:coreProperties>
</file>