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1.png" ContentType="image/png"/>
  <Override PartName="/ppt/media/image13.png" ContentType="image/png"/>
  <Override PartName="/ppt/media/image8.png" ContentType="image/png"/>
  <Override PartName="/ppt/media/image6.png" ContentType="image/png"/>
  <Override PartName="/ppt/media/image12.png" ContentType="image/png"/>
  <Override PartName="/ppt/media/image7.png" ContentType="image/png"/>
  <Override PartName="/ppt/media/image18.pct" ContentType="image/x-pict"/>
  <Override PartName="/ppt/media/image20.pct" ContentType="image/x-pict"/>
  <Override PartName="/ppt/media/image4.pct" ContentType="image/x-pict"/>
  <Override PartName="/ppt/media/image3.png" ContentType="image/png"/>
  <Override PartName="/ppt/media/image14.pct" ContentType="image/x-pict"/>
  <Override PartName="/ppt/media/image26.png" ContentType="image/png"/>
  <Override PartName="/ppt/media/image25.png" ContentType="image/png"/>
  <Override PartName="/ppt/media/image22.pct" ContentType="image/x-pict"/>
  <Override PartName="/ppt/media/image24.png" ContentType="image/png"/>
  <Override PartName="/ppt/media/image23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2.pct" ContentType="image/x-pict"/>
  <Override PartName="/ppt/media/image16.pct" ContentType="image/x-pict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707-71F8-400E-86C0-54B41B0B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514-2E91-4278-A377-B6CE70B8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CE7-BFD6-4572-9BB7-3049DA21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A92-BC48-47EC-9C36-07022E6F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082-53A6-49EF-A295-F1E54611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69B2-E2B2-48A8-8C0F-42F2698D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62E-C4E7-42BA-BA39-134F4B90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4FFA-E081-4042-9437-DB91BD18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377-2C0B-4A05-82A7-BD107A26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65F-1D46-46D2-93E9-EFD2523C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ECC-EC11-4B20-A92D-E1F89380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010-415A-4B7C-B5E8-5A6B6D0F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8EBE-8252-428A-9A56-07D6DA0DC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Syntax-Directed Trans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8720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84320" y="204840"/>
            <a:ext cx="502128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56892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372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36640" y="0"/>
            <a:ext cx="566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783432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693396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773244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662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899172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030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62480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2481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2517840"/>
            <a:ext cx="59436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856296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2320" y="0"/>
            <a:ext cx="549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24200" y="0"/>
            <a:ext cx="529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549360"/>
            <a:ext cx="670536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482840"/>
            <a:ext cx="91440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64396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50800"/>
            <a:ext cx="91440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3920" y="861840"/>
            <a:ext cx="8694720" cy="51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6480"/>
            <a:ext cx="86868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57240"/>
            <a:ext cx="79250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76312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5:22Z</dcterms:created>
  <dc:creator>Chelsea Bell</dc:creator>
  <dc:description/>
  <dc:language>en-US</dc:language>
  <cp:lastModifiedBy>Jeff Holcomb</cp:lastModifiedBy>
  <dcterms:modified xsi:type="dcterms:W3CDTF">2011-02-11T20:25:22Z</dcterms:modified>
  <cp:revision>14</cp:revision>
  <dc:subject/>
  <dc:title>Slide 1</dc:title>
</cp:coreProperties>
</file>