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5.pct" ContentType="image/x-pict"/>
  <Override PartName="/ppt/media/image26.pct" ContentType="image/x-pict"/>
  <Override PartName="/ppt/media/image29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5.pct" ContentType="image/x-pict"/>
  <Override PartName="/ppt/media/image17.png" ContentType="image/png"/>
  <Override PartName="/ppt/media/image21.pct" ContentType="image/x-pict"/>
  <Override PartName="/ppt/media/image19.pct" ContentType="image/x-pict"/>
  <Override PartName="/ppt/media/image13.png" ContentType="image/png"/>
  <Override PartName="/ppt/media/image36.pct" ContentType="image/x-pict"/>
  <Override PartName="/ppt/media/image11.png" ContentType="image/png"/>
  <Override PartName="/ppt/media/image9.pct" ContentType="image/x-pict"/>
  <Override PartName="/ppt/media/image39.pct" ContentType="image/x-pict"/>
  <Override PartName="/ppt/media/image16.png" ContentType="image/png"/>
  <Override PartName="/ppt/media/image10.png" ContentType="image/png"/>
  <Override PartName="/ppt/media/image31.png" ContentType="image/png"/>
  <Override PartName="/ppt/media/image6.png" ContentType="image/png"/>
  <Override PartName="/ppt/media/image32.pct" ContentType="image/x-pict"/>
  <Override PartName="/ppt/media/image12.pct" ContentType="image/x-pict"/>
  <Override PartName="/ppt/media/image38.png" ContentType="image/png"/>
  <Override PartName="/ppt/media/image8.png" ContentType="image/png"/>
  <Override PartName="/ppt/media/image35.pct" ContentType="image/x-pict"/>
  <Override PartName="/ppt/media/image5.pct" ContentType="image/x-pict"/>
  <Override PartName="/ppt/media/image37.png" ContentType="image/png"/>
  <Override PartName="/ppt/media/image7.png" ContentType="image/png"/>
  <Override PartName="/ppt/media/image4.pct" ContentType="image/x-pict"/>
  <Override PartName="/ppt/media/image27.pct" ContentType="image/x-pict"/>
  <Override PartName="/ppt/media/image33.png" ContentType="image/png"/>
  <Override PartName="/ppt/media/image30.pct" ContentType="image/x-pict"/>
  <Override PartName="/ppt/media/image3.png" ContentType="image/png"/>
  <Override PartName="/ppt/media/image2.png" ContentType="image/png"/>
  <Override PartName="/ppt/media/image34.png" ContentType="image/png"/>
  <Override PartName="/ppt/media/image1.pct" ContentType="image/x-pict"/>
  <Override PartName="/ppt/media/image24.pct" ContentType="image/x-pict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D09-FD83-41B0-BE91-FB427A77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762-DBE9-4FA8-8455-8A79B820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0FF-FBE1-43B2-8339-0117DA3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C0D-02AA-4C63-8833-D3D322F0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617-B63A-4F96-8474-3CE0A836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D61D-B8AC-4EF0-A443-12B7D58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A4D2-0304-420D-83EC-E75A0059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C05-81BC-4643-AD0B-E6E5F861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221-926F-4F1E-88DD-FA66C4B3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8C4-01E7-4F8D-84FC-76B4B46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653-8D47-4588-995F-608A79D8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D75-A599-4756-BAF3-597262E3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884-0E18-4A83-B24D-8B86B2101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5.pct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ymbol Tables 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Declaration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36880" y="0"/>
            <a:ext cx="507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3280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3278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54244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66680" y="15840"/>
            <a:ext cx="70106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181720" cy="356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80880" y="3927600"/>
            <a:ext cx="876312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69472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46080"/>
            <a:ext cx="6858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41400"/>
            <a:ext cx="8839440" cy="67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00800" cy="25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90920" y="3298680"/>
            <a:ext cx="63338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869472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79624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4916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95360" y="0"/>
            <a:ext cx="635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9776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8995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7197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43000" y="12600"/>
            <a:ext cx="68580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1440"/>
            <a:ext cx="71625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08668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4700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696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932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0866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8897760" cy="299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46240" y="0"/>
            <a:ext cx="8897760" cy="299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82393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22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51364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338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3075120"/>
            <a:ext cx="53244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5:52Z</dcterms:created>
  <dc:creator>Chelsea Bell</dc:creator>
  <dc:description/>
  <dc:language>en-US</dc:language>
  <cp:lastModifiedBy>Jeff Holcomb</cp:lastModifiedBy>
  <dcterms:modified xsi:type="dcterms:W3CDTF">2011-02-11T21:00:52Z</dcterms:modified>
  <cp:revision>14</cp:revision>
  <dc:subject/>
  <dc:title>Slide 1</dc:title>
</cp:coreProperties>
</file>