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ct" ContentType="image/x-pict"/>
  <Override PartName="/ppt/media/image26.pct" ContentType="image/x-pict"/>
  <Override PartName="/ppt/media/image29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5.pct" ContentType="image/x-pict"/>
  <Override PartName="/ppt/media/image17.png" ContentType="image/png"/>
  <Override PartName="/ppt/media/image21.pct" ContentType="image/x-pict"/>
  <Override PartName="/ppt/media/image19.pct" ContentType="image/x-pict"/>
  <Override PartName="/ppt/media/image13.png" ContentType="image/png"/>
  <Override PartName="/ppt/media/image36.pct" ContentType="image/x-pict"/>
  <Override PartName="/ppt/media/image11.png" ContentType="image/png"/>
  <Override PartName="/ppt/media/image9.pct" ContentType="image/x-pict"/>
  <Override PartName="/ppt/media/image39.pct" ContentType="image/x-pict"/>
  <Override PartName="/ppt/media/image16.png" ContentType="image/png"/>
  <Override PartName="/ppt/media/image10.png" ContentType="image/png"/>
  <Override PartName="/ppt/media/image31.png" ContentType="image/png"/>
  <Override PartName="/ppt/media/image6.png" ContentType="image/png"/>
  <Override PartName="/ppt/media/image32.pct" ContentType="image/x-pict"/>
  <Override PartName="/ppt/media/image12.pct" ContentType="image/x-pict"/>
  <Override PartName="/ppt/media/image38.png" ContentType="image/png"/>
  <Override PartName="/ppt/media/image8.png" ContentType="image/png"/>
  <Override PartName="/ppt/media/image35.pct" ContentType="image/x-pict"/>
  <Override PartName="/ppt/media/image5.pct" ContentType="image/x-pict"/>
  <Override PartName="/ppt/media/image37.png" ContentType="image/png"/>
  <Override PartName="/ppt/media/image7.png" ContentType="image/png"/>
  <Override PartName="/ppt/media/image4.pct" ContentType="image/x-pict"/>
  <Override PartName="/ppt/media/image27.pct" ContentType="image/x-pict"/>
  <Override PartName="/ppt/media/image33.png" ContentType="image/png"/>
  <Override PartName="/ppt/media/image30.pct" ContentType="image/x-pict"/>
  <Override PartName="/ppt/media/image3.png" ContentType="image/png"/>
  <Override PartName="/ppt/media/image2.png" ContentType="image/png"/>
  <Override PartName="/ppt/media/image34.png" ContentType="image/png"/>
  <Override PartName="/ppt/media/image1.pct" ContentType="image/x-pict"/>
  <Override PartName="/ppt/media/image24.pct" ContentType="image/x-pict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884-C551-436A-AC4B-CD232C66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4EB-2CDA-4CF9-9C37-6A7C88A1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701-AC23-457A-B652-0FF1D072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7B8-F43F-40BA-A845-C7A7FFF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315-5F6C-423F-B187-DB5315F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7F8-AB3D-4BA9-8CA7-F8F8E147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6BE-1648-4168-916E-65C7108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81D-469A-45AE-B794-449AF2B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9F7-F5FC-4E4A-8B42-AA338CA5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381-A91D-46C5-A6B4-B30E008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8F4-8DD3-47C1-9DA5-908450C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CC1-CC33-4C62-A855-9C61847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E285-A365-4133-86EF-1F3AEA98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ymbol Tables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Declaration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36880" y="0"/>
            <a:ext cx="507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328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327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5424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5840"/>
            <a:ext cx="70106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181720" cy="35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3927600"/>
            <a:ext cx="8763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69472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46080"/>
            <a:ext cx="6858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41400"/>
            <a:ext cx="883944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00800" cy="25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90920" y="3298680"/>
            <a:ext cx="63338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694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796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4916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977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899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719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2600"/>
            <a:ext cx="6858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1440"/>
            <a:ext cx="716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0866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470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93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0866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8897760" cy="299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6240" y="0"/>
            <a:ext cx="8897760" cy="299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82393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513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338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3075120"/>
            <a:ext cx="53244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5:52Z</dcterms:created>
  <dc:creator>Chelsea Bell</dc:creator>
  <dc:description/>
  <dc:language>en-US</dc:language>
  <cp:lastModifiedBy>Jeff Holcomb</cp:lastModifiedBy>
  <dcterms:modified xsi:type="dcterms:W3CDTF">2011-02-11T21:00:52Z</dcterms:modified>
  <cp:revision>14</cp:revision>
  <dc:subject/>
  <dc:title>Slide 1</dc:title>
</cp:coreProperties>
</file>