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ct" ContentType="image/x-pict"/>
  <Override PartName="/ppt/media/image2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10.png" ContentType="image/png"/>
  <Override PartName="/ppt/media/image8.pct" ContentType="image/x-pict"/>
  <Override PartName="/ppt/media/image6.png" ContentType="image/png"/>
  <Override PartName="/ppt/media/image29.png" ContentType="image/png"/>
  <Override PartName="/ppt/media/image11.png" ContentType="image/png"/>
  <Override PartName="/ppt/media/image9.pct" ContentType="image/x-pict"/>
  <Override PartName="/ppt/media/image13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2.pct" ContentType="image/x-pict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4.png" ContentType="image/png"/>
  <Override PartName="/ppt/media/image21.pct" ContentType="image/x-pict"/>
  <Override PartName="/ppt/media/image23.png" ContentType="image/png"/>
  <Override PartName="/ppt/media/image25.png" ContentType="image/png"/>
  <Override PartName="/ppt/media/image22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F17-043D-41AD-85B9-9A1550CD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E3C-A9D7-4DF2-854D-65E65581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2EF-088B-4CA8-AFB7-8BB73572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D1A3-E19D-4958-A0FA-B5D68FE67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FFF-F284-461D-87B5-7E57CBDB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CFC-BD54-41D3-BED5-0C84742D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963-FD97-4873-9EBD-F5EFF9BD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E42-B956-4C44-8576-35704945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824-451F-4BFE-8827-600F12E5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2FD-F322-41FD-AD4B-1D9026DF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499-3FEF-496C-B6FB-83FAC74C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ED6-B9F7-48BF-A90F-2A467229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F9D3-BF2F-4EE3-8BE4-FC118DC29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Semantic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6769080" cy="3041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84582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23720"/>
            <a:ext cx="91440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6932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84240"/>
            <a:ext cx="853416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9840"/>
            <a:ext cx="906768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78850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90720" y="92160"/>
            <a:ext cx="70866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03592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16200" y="0"/>
            <a:ext cx="551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9556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0" y="200160"/>
            <a:ext cx="46260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723960"/>
            <a:ext cx="914400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6553080" cy="2503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17640" y="3809880"/>
            <a:ext cx="732636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87360" y="0"/>
            <a:ext cx="656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8128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78200" y="0"/>
            <a:ext cx="518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49320"/>
            <a:ext cx="792468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019560" cy="3233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52280" y="3809880"/>
            <a:ext cx="6693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50800" y="0"/>
            <a:ext cx="623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36360"/>
            <a:ext cx="7467840" cy="678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27040" y="0"/>
            <a:ext cx="628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3278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70040" y="152280"/>
            <a:ext cx="5673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71880" y="90360"/>
            <a:ext cx="4800600" cy="667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3240"/>
            <a:ext cx="71625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320" y="1057320"/>
            <a:ext cx="90676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42840"/>
            <a:ext cx="8686800" cy="67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9358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6:14Z</dcterms:created>
  <dc:creator>Chelsea Bell</dc:creator>
  <dc:description/>
  <dc:language>en-US</dc:language>
  <cp:lastModifiedBy>Jeff Holcomb</cp:lastModifiedBy>
  <dcterms:modified xsi:type="dcterms:W3CDTF">2011-02-11T22:32:37Z</dcterms:modified>
  <cp:revision>8</cp:revision>
  <dc:subject/>
  <dc:title>Slide 1</dc:title>
</cp:coreProperties>
</file>