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ct" ContentType="image/x-pict"/>
  <Override PartName="/ppt/media/image26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8.pct" ContentType="image/x-pict"/>
  <Override PartName="/ppt/media/image6.png" ContentType="image/png"/>
  <Override PartName="/ppt/media/image29.png" ContentType="image/png"/>
  <Override PartName="/ppt/media/image11.png" ContentType="image/png"/>
  <Override PartName="/ppt/media/image9.pct" ContentType="image/x-pict"/>
  <Override PartName="/ppt/media/image13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2.pct" ContentType="image/x-pict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4.png" ContentType="image/png"/>
  <Override PartName="/ppt/media/image21.pct" ContentType="image/x-pict"/>
  <Override PartName="/ppt/media/image23.png" ContentType="image/png"/>
  <Override PartName="/ppt/media/image25.png" ContentType="image/png"/>
  <Override PartName="/ppt/media/image22.pct" ContentType="image/x-pi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96C-1D8C-42DA-A7E8-603FCCA6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30B-A8D3-42A4-BE4B-EB1ED9D8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A0E-5DFF-4E64-AD7D-EB3C1324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6F7-DF71-4CAF-94EB-9C014BE2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09B-F955-46AF-AAF2-C016C18D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FE8-07C6-454B-B7A0-A8D76BA1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7AD-52FE-4760-9D85-5E9A8F27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2E6-838C-4623-9221-D2C2B39C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B3E-300E-4DDF-8D0D-A27F8FBC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3AF-5414-4C00-AABA-0FD0240F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A4A-8AA7-43D5-9C3B-11E8E449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D342-4BAE-4811-95F0-632EE117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1A66-2EB5-4B68-B533-A674F1188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Semantic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6769080" cy="304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84582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6932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84240"/>
            <a:ext cx="8534160" cy="66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9840"/>
            <a:ext cx="906768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78850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92160"/>
            <a:ext cx="70866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0359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16200" y="0"/>
            <a:ext cx="551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9556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0" y="200160"/>
            <a:ext cx="4626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553080" cy="2503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17640" y="3809880"/>
            <a:ext cx="73263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87360" y="0"/>
            <a:ext cx="65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8128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78200" y="0"/>
            <a:ext cx="518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49320"/>
            <a:ext cx="7924680" cy="67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019560" cy="3233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3809880"/>
            <a:ext cx="66931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50800" y="0"/>
            <a:ext cx="623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36360"/>
            <a:ext cx="7467840" cy="67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27040" y="0"/>
            <a:ext cx="628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3278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70040" y="152280"/>
            <a:ext cx="5673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71880" y="90360"/>
            <a:ext cx="48006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3240"/>
            <a:ext cx="716256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320" y="1057320"/>
            <a:ext cx="90676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42840"/>
            <a:ext cx="8686800" cy="67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93584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6:14Z</dcterms:created>
  <dc:creator>Chelsea Bell</dc:creator>
  <dc:description/>
  <dc:language>en-US</dc:language>
  <cp:lastModifiedBy>Jeff Holcomb</cp:lastModifiedBy>
  <dcterms:modified xsi:type="dcterms:W3CDTF">2011-02-11T22:32:37Z</dcterms:modified>
  <cp:revision>8</cp:revision>
  <dc:subject/>
  <dc:title>Slide 1</dc:title>
</cp:coreProperties>
</file>