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CEF4-AB60-47F4-944D-A16AE823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B04E-068D-46C4-A0F6-4A02896BD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2502-8C86-4C60-90CA-74D956DBD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0B8E-BB94-4482-AB09-E99979345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4E57-F051-4784-840C-4086F848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9101-5A71-42F2-8C09-C25238D06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E533-E834-45B6-850E-546315F5E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4B04-C11B-49C2-91AD-FF0B875BB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7B67-8A88-4271-A776-8FFBB099D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6988-D136-4D96-B3C6-BB6C6AFFC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494F-3001-466E-9CE8-350914BCF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6D54-C9B2-4F48-A72B-D3437A35D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8FF3-ED99-4FAC-B2F9-5F588CBB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6424-4355-49FF-878A-9EE0FD177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C74C-5D5C-4063-BFD7-F48A38712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0328-0985-4D20-A439-E39B0ADC9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4F01-4163-406E-9972-90FC314CA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276A-9BA1-4CA8-8260-03561436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EA04-73AB-4A65-8FAF-1B7F7089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BE68-39C6-4A46-B147-EEFA1E5ED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78CA-F56F-464A-8EF6-DBBB0DB4E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5E84-BA05-4634-A058-E3E49C31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CEA2-A8AD-48FC-8817-F0EB518F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F766-0167-4AE1-898F-58D93C8B3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997A-FDBF-4FA9-94F8-1CC379B82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14DA-0AB0-4AE4-8F10-EF01D94E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C62F-27FE-4487-9044-E96F6EE8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E0AE-A937-4266-BD7A-607CC7C6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713B0-B7CE-4A8A-85F3-D2BEAD60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8084-A129-47A0-83FB-8BC3FAEE5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FC75-7529-4246-8E18-13FF5969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345B-637B-45B1-8741-D84ADD20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A00D-F8A1-4B29-B7D8-EA261DC4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3DD6-B5B6-4171-B2B6-5D4AE8CD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42A4-65C3-4EF2-8945-D12D73E2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FEB5-3911-40D4-9B8C-B74E5B89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FC30-2351-4B86-9820-51E51B86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037A-5C11-4235-A6C8-67390A16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AE67-95FC-4955-9E83-C5F117AD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ED70-7566-4858-ACCB-8518299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EC36-F1FD-4AC6-85F9-AF3B27DB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011E-F620-4DF3-90D1-74EDE6A8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7388-5DE0-463E-A497-FF19D09D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2901-3948-4D0A-AC61-043434D4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3940-0DB1-4473-A9BA-B4AF5A37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3C3A-3E8C-4325-BD4D-BF33F164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5B0B-F9B4-4311-A595-0994C50D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1830-3565-4778-B88B-9E28D9A8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2A431-6FA9-4469-BB6A-E70BA5D6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7EC77-E11B-48FB-84B5-12446C96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F5DE-24A7-4EAE-A19E-25087CAAE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0548-38B6-486F-84F5-FDFA4576FC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167652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The Big Idea</a:t>
            </a:r>
            <a:endParaRPr b="1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819160" y="4114440"/>
            <a:ext cx="60195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mitations of the Analogy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know a lot about buildings, much less about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ature of software is different from that of building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is much more malleable than physical materi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wo “construction industries” are very diffe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deployment has no counterpart in building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is a machine; a building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F7B4-463C-4551-B3C7-5FB074EB3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n Action: WWW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0B8F-E1B6-4459-A135-2C6506BFA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" descr="fig_01_01.jpg"/>
          <p:cNvPicPr/>
          <p:nvPr/>
        </p:nvPicPr>
        <p:blipFill>
          <a:blip r:embed="rId1"/>
          <a:stretch/>
        </p:blipFill>
        <p:spPr>
          <a:xfrm>
            <a:off x="3657600" y="1981080"/>
            <a:ext cx="4432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e in Action: WWW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i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4CC3-62E2-446C-A376-2E1170421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Fig 1-2"/>
          <p:cNvPicPr/>
          <p:nvPr/>
        </p:nvPicPr>
        <p:blipFill>
          <a:blip r:embed="rId1"/>
          <a:stretch/>
        </p:blipFill>
        <p:spPr>
          <a:xfrm>
            <a:off x="2438280" y="1752480"/>
            <a:ext cx="5715000" cy="38912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n Action: WWW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A286-9DB1-4ABB-937C-4F6D35D8B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Fig 1-3"/>
          <p:cNvPicPr/>
          <p:nvPr/>
        </p:nvPicPr>
        <p:blipFill>
          <a:blip r:embed="rId1"/>
          <a:stretch/>
        </p:blipFill>
        <p:spPr>
          <a:xfrm>
            <a:off x="4114800" y="1523880"/>
            <a:ext cx="4557600" cy="4953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WW in a (Big) Nutshe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eb is a collection of resources, each of which has a unique name known as a uniform resource locator, or “URL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esource denotes, informally, some informatio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I’s can be used to determine the identity of a machine on the Internet, known as an origin server, where the value of the resource may be ascerta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is initiated by clients, known as user agents, who make requests of server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browsers are common instances of user ag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52CB-9C03-4A31-A1AE-C8A3693594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WW in a (Big) Nutshell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can be manipulated through their representation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ML is a very common representation language used on the We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mmunication between user agents and origin servers must be performed by a simple, generic protocol (HTTP), which offers the command methods GET, POST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mmunication between user agents and origin servers must be fully self-contained. (So-called “stateless interactions”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808E-1642-4A09-973C-EC70784F25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WW’s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of the Web is wholly separate from th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no single piece of code that implements the archite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multiple pieces of code that implement the various components of the architec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ifferent Web brow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9803-8E15-42BE-9C40-33C4BFEB05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WW’s Architecture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ylistic constraints of the Web’s architectural style are not apparent in th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ffects of the constraints are evident in the 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world’s most successful applications is only understood adequately from an architectural vantage 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B029-282C-4BA4-BC9D-D52145676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n Action: Desktop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 pipes and filters in Unix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 invoices | grep –e august | so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architecture can be understood based on very few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s can be composed by non-program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in to Lego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architectural concept that can be comprehended and applied by a broad aud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2BD4-F816-44DB-AFA0-818270098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 in Action: Product Lin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ing 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umer is interested in a 35-inch HDTV with a built-in DVD player for the North American marke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ch a device might contain upwards of a million lines of embedded softwar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articular television/DVD player will be very similar to a 35-inch HDTV without the DVD player, and also to a 35-inch HDTV with a built-in DVD player for the European market, where the TV must be able to handle PAL or SECAM encoded broadcasts, rather than North America’s NTSC forma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closely related televisions will similarly each have a million or more lines of code embedded within th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A362-3B03-44DA-860D-A3A911262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Orig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ngineers have always employed software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often without realizing i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ssues identified by researchers and practitio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sential software engineering difficul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characteristics of programming-in-the-lar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for software re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deas originated in other (non-computing)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AD8B-6E11-4C6D-AC1B-A337DF210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ing Sophistication of Consumer Devic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910E-EC1A-40D2-8E89-C7D33C860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24" descr="C:\Users\zakarya.ISHRAF4-ZAKARYA\Pictures\Picture1.jpg"/>
          <p:cNvPicPr/>
          <p:nvPr/>
        </p:nvPicPr>
        <p:blipFill>
          <a:blip r:embed="rId1"/>
          <a:stretch/>
        </p:blipFill>
        <p:spPr>
          <a:xfrm>
            <a:off x="1447920" y="1419120"/>
            <a:ext cx="64008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milies of Related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A921-27B1-40EB-9BB3-D73C1A3DBD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" descr="fig_01_05.jpg"/>
          <p:cNvPicPr/>
          <p:nvPr/>
        </p:nvPicPr>
        <p:blipFill>
          <a:blip r:embed="rId1"/>
          <a:stretch/>
        </p:blipFill>
        <p:spPr>
          <a:xfrm>
            <a:off x="876240" y="1620720"/>
            <a:ext cx="7407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Necessity and Benefit of P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each of these TVs from scratch would likely put Philips out of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ing structure, behaviors, and component implementations is increasingly important to successful business pract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implifies the software development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reduces the development time and co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roves the overall system reliabi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gnizing and exploiting commonality and variability across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1401-76EE-4300-8AE2-6163A3612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use as the Big Wi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9047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: reuse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de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tter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gineering guida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ell-worn experi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52640" y="19047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families: reuse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ehavi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lement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est suites…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10FD-E472-47E6-BEB0-5BF42AE5D6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dded Benefit – Product Popul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FF1B-7989-4B1D-8109-270FB37D1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TVProductConvergence"/>
          <p:cNvPicPr/>
          <p:nvPr/>
        </p:nvPicPr>
        <p:blipFill>
          <a:blip r:embed="rId1"/>
          <a:srcRect l="1865" t="7021" r="1865" b="6665"/>
          <a:stretch/>
        </p:blipFill>
        <p:spPr>
          <a:xfrm>
            <a:off x="1295280" y="1676520"/>
            <a:ext cx="66931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Centerpiece – Architectur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7895-3705-4522-8B0F-71DF37A0AD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762120" y="1612800"/>
            <a:ext cx="7573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is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ar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other engineering artifa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architectures are an attractive source of ana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ngineers can learn from other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also need to develop—and have developed—a rich body of their own architectural knowledge and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0844-3BCF-4954-BDF9-A9666B701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Engineering Difficul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ngineers deal with unique set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ng field with tremendous expec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f vastly complex, but intangibl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is not useful on its own e.g., unlike a car, th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must conform to changes in other engineering are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blems can be eliminated, other problems can be lessened, but not elimin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F5E-9CA4-4EAC-80E8-2B5FA4CB9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imacy of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ngineers collect requirements, code, test, integrate, configur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chitecture-centric approach to software engineering places an emphasis on desig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pervades the engineering activity from the very begi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how do we go about the task of architectural desig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FAEB-375D-4944-BF54-672678F5C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ogy: Architecture of Building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l live in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We think) We know how they are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(bluepr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similar (though not identical) to how we buil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FF63-935D-4025-AA37-59F16F381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me Obvious Parall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isfaction of customers’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ization of la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erspectives of the final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points where plans and progress are revie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81F6-F960-4B47-B45B-728A667237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eper Parall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is different from, but linked with the product/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 of structures are induced by the design of th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 has a distinctive role and charac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CBDB-A523-423A-878F-FABFAAB70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eper Parallel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is not as important as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nd resulting qualities are at the fore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is a means, not an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has matured over time into a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styles as sets of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yles also as wide range of solutions, techniques and palettes of compatible materials, colors, and si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A222-F38D-432A-961F-D374967EA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re about the Archite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stinctive role and character in a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broad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asses and leverages extensive exper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en sense of aesthe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ep understanding of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erties of structures, materials, and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s of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first-rate programming skills are insufficient for the creation of complex softwar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re they even necessar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55CF-C924-4E34-9291-5CF642613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4T14:32:49Z</dcterms:modified>
  <cp:revision>28</cp:revision>
  <dc:subject>Software Architecture: Foundations, Theory, and Practice</dc:subject>
  <dc:title>The Big Idea</dc:title>
</cp:coreProperties>
</file>