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1599-FE14-44C4-A77C-812FC80D6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069F-68BC-47B8-B40A-3E5D251B9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6562-8D4C-42EE-8DED-062A9FCDF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6466-6521-43C9-93F2-53C8857E6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6370-6FC4-40F3-9A21-AC4E66DB3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5034-8ECD-4961-A4DA-6CA1B9074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B19B-0608-427A-A8E7-AFB655063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1068-AAD8-4B8B-8FE5-F15A53EC5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1ECF-D148-4EE2-B627-C4095CE5F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892E-36B4-47AA-A3C8-FCC0DF36D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5BDA-F525-4EAE-BFAC-D304B4D8C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9A23-4DC9-4EDE-9660-0A0D02C6E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DB2A-F65F-4859-B959-2A5495872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B189-102E-446A-98F1-C3E5D8CE9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6184-2A18-4112-88C4-4B4799479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B84E-F4A0-4C6A-9586-729F9B358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C4F5-B473-4ADD-BA50-4D9DC34A1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B711-88CA-4CDD-8137-586C5AD62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A8C1-39D5-47F7-94B3-D735F46C2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C9FB-75F2-4F34-926E-7C01A1ED4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58C5-D310-4B6B-A2E9-DE60C4A25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8B78-69C4-4775-95EF-66A520337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B496-6562-4EB8-B5AD-7246C95D9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5790-0AF2-4CE3-BF3F-D55C6594C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04E8-146B-4797-BFFE-15867B6FA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80BE-228A-4ACF-BF11-DCD733093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88E71-0015-4984-975C-8ACED6A26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C7C75-202F-4041-95F1-C5907B9E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5308A-3E87-4BA2-95A6-192759ECC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AF60D-AA5C-4D86-BA8A-2C88867DB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0417-B883-45B8-A099-FC959216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E0BD-989C-40FB-9031-A947A25E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435E-787E-4FD8-BA36-B6C7AC85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CDF4-5830-4C38-9590-75358ABF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6A68-8B97-49AD-A4BF-578E9291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95DA-AAF6-495F-A19F-E2E83B70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A35B-6607-43F8-B400-852E8767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A595C-06A3-47B3-9F1F-C3C73AC2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791C-05FD-4650-A9C0-D5718054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590D-6119-471B-95C2-03EB5CB8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BBA5-1B04-4A74-BCEE-F7480050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325A-B2E5-4614-9261-69B663EC8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A61D-23ED-4B98-BA78-B4660D050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BEB66-E02B-4B6B-A04D-78328416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828EA-CD7E-44C6-B099-02A7F7A2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920C4-771E-4897-986B-759C8EE9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13AE8-14DD-44EB-9C50-002C0659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92A1F-F824-4BC5-B4FE-4B6D8D5C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9F23E-0D0E-43F1-8B81-31650F82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B21BD-0D90-483E-B678-09E7AEAC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B780-8379-41DD-9D3D-98FBB0DB81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42"/>
          <p:cNvSpPr/>
          <p:nvPr/>
        </p:nvSpPr>
        <p:spPr>
          <a:xfrm>
            <a:off x="380880" y="68580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47"/>
          <p:cNvSpPr/>
          <p:nvPr/>
        </p:nvSpPr>
        <p:spPr>
          <a:xfrm>
            <a:off x="380880" y="165240"/>
            <a:ext cx="8305920" cy="41904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29019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ftware Architecture: Foundations, Theory, and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2"/>
          <p:cNvSpPr/>
          <p:nvPr/>
        </p:nvSpPr>
        <p:spPr>
          <a:xfrm rot="5400000">
            <a:off x="-2019240" y="3162240"/>
            <a:ext cx="487656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3"/>
          <p:cNvSpPr/>
          <p:nvPr/>
        </p:nvSpPr>
        <p:spPr>
          <a:xfrm>
            <a:off x="3886200" y="655308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64"/>
          <p:cNvSpPr/>
          <p:nvPr/>
        </p:nvSpPr>
        <p:spPr>
          <a:xfrm rot="5400000">
            <a:off x="6400800" y="4190760"/>
            <a:ext cx="464796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9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0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1"/>
          <p:cNvSpPr/>
          <p:nvPr/>
        </p:nvSpPr>
        <p:spPr>
          <a:xfrm>
            <a:off x="2645640" y="6583320"/>
            <a:ext cx="665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© Richard N. Taylor, Nenad Medvidovic, and Eric M. Dashofy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C7C1-45AE-46DD-8BA1-1E82F93399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167652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Verdana"/>
              </a:rPr>
              <a:t>The Big Idea</a:t>
            </a:r>
            <a:endParaRPr b="1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819160" y="4114440"/>
            <a:ext cx="60195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oftware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ecture 1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imitations of the Analogy…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know a lot about buildings, much less about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ature of software is different from that of building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is much more malleable than physical materi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wo “construction industries” are very diffe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deployment has no counterpart in building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is a machine; a building i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288E-06B1-4587-8380-52495082C9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e in Action: WWW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the We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77E8-0D74-4A8F-8104-A6128D93D5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1" descr="fig_01_01.jpg"/>
          <p:cNvPicPr/>
          <p:nvPr/>
        </p:nvPicPr>
        <p:blipFill>
          <a:blip r:embed="rId1"/>
          <a:stretch/>
        </p:blipFill>
        <p:spPr>
          <a:xfrm>
            <a:off x="3657600" y="1981080"/>
            <a:ext cx="44323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chitecture in Action: WWW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i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56EC-C173-4C03-AEB3-D619621EC1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4" descr="Fig 1-2"/>
          <p:cNvPicPr/>
          <p:nvPr/>
        </p:nvPicPr>
        <p:blipFill>
          <a:blip r:embed="rId1"/>
          <a:stretch/>
        </p:blipFill>
        <p:spPr>
          <a:xfrm>
            <a:off x="2438280" y="1752480"/>
            <a:ext cx="5715000" cy="38912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e in Action: WWW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128E-8623-4E43-BA27-4995EE8330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4" descr="Fig 1-3"/>
          <p:cNvPicPr/>
          <p:nvPr/>
        </p:nvPicPr>
        <p:blipFill>
          <a:blip r:embed="rId1"/>
          <a:stretch/>
        </p:blipFill>
        <p:spPr>
          <a:xfrm>
            <a:off x="4114800" y="1523880"/>
            <a:ext cx="4557600" cy="49532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WW in a (Big) Nutshel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eb is a collection of resources, each of which has a unique name known as a uniform resource locator, or “URL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esource denotes, informally, some information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I’s can be used to determine the identity of a machine on the Internet, known as an origin server, where the value of the resource may be ascertain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is initiated by clients, known as user agents, who make requests of servers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b browsers are common instances of user ag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F766-5F7F-43F7-8266-6C0160D951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WW in a (Big) Nutshell (cont’d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can be manipulated through their representations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ML is a very common representation language used on the We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mmunication between user agents and origin servers must be performed by a simple, generic protocol (HTTP), which offers the command methods GET, POST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mmunication between user agents and origin servers must be fully self-contained. (So-called “stateless interactions”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DC4F-0062-4523-9A52-E99E9DDE57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WW’s Architectur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ure of the Web is wholly separate from the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no single piece of code that implements the architectu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multiple pieces of code that implement the various components of the architectu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ifferent Web brow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D116-F39F-4C97-B39D-84F430E6FF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WW’s Architecture (cont’d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ylistic constraints of the Web’s architectural style are not apparent in the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ffects of the constraints are evident in the We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world’s most successful applications is only understood adequately from an architectural vantage poi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E720-A123-4665-93A5-7C38F80EF5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e in Action: Deskto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ember pipes and filters in Unix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 invoices | grep –e august | so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architecture can be understood based on very few ru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s can be composed by non-programm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in to Lego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ple architectural concept that can be comprehended and applied by a broad aud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B540-5970-48D9-9268-67478AC90C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e in Action: Product Lin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ing exam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umer is interested in a 35-inch HDTV with a built-in DVD player for the North American market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ch a device might contain upwards of a million lines of embedded software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particular television/DVD player will be very similar to a 35-inch HDTV without the DVD player, and also to a 35-inch HDTV with a built-in DVD player for the European market, where the TV must be able to handle PAL or SECAM encoded broadcasts, rather than North America’s NTSC format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closely related televisions will similarly each have a million or more lines of code embedded within th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D624-62E0-4E69-AA02-ADC1515B1C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Origi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Engineers have always employed software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often without realizing i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ssues identified by researchers and practition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sential software engineering difficul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 characteristics of programming-in-the-lar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for software re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ideas originated in other (non-computing) dom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788C-4CCD-4709-A51E-949CA768AD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ing Sophistication of Consumer Devic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8749-8D3F-4BED-8D23-80EE0F134A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024" descr="C:\Users\zakarya.ISHRAF4-ZAKARYA\Pictures\Picture1.jpg"/>
          <p:cNvPicPr/>
          <p:nvPr/>
        </p:nvPicPr>
        <p:blipFill>
          <a:blip r:embed="rId1"/>
          <a:stretch/>
        </p:blipFill>
        <p:spPr>
          <a:xfrm>
            <a:off x="1447920" y="1419120"/>
            <a:ext cx="640080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amilies of Related Produc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A596-F1F6-45F1-8DA6-E7F7EF4221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1" descr="fig_01_05.jpg"/>
          <p:cNvPicPr/>
          <p:nvPr/>
        </p:nvPicPr>
        <p:blipFill>
          <a:blip r:embed="rId1"/>
          <a:stretch/>
        </p:blipFill>
        <p:spPr>
          <a:xfrm>
            <a:off x="876240" y="1620720"/>
            <a:ext cx="740736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Necessity and Benefit of P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each of these TVs from scratch would likely put Philips out of busi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using structure, behaviors, and component implementations is increasingly important to successful business practi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simplifies the software development ta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reduces the development time and cos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roves the overall system reliabilit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gnizing and exploiting commonality and variability across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C26E-6848-41CF-8DE1-C391BAD550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use as the Big Wi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1904760"/>
            <a:ext cx="403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ure: reuse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de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Knowledg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atter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ngineering guidan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ell-worn experien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52640" y="1904760"/>
            <a:ext cx="403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families: reuse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Behavio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mplementat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est suites…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72DE-1D10-46C7-B9E0-95C6D1CC9B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dded Benefit – Product Popula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C25F-60CA-4AF3-9B7F-15B220D281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2" descr="TVProductConvergence"/>
          <p:cNvPicPr/>
          <p:nvPr/>
        </p:nvPicPr>
        <p:blipFill>
          <a:blip r:embed="rId1"/>
          <a:srcRect l="1865" t="7021" r="1865" b="6665"/>
          <a:stretch/>
        </p:blipFill>
        <p:spPr>
          <a:xfrm>
            <a:off x="1295280" y="1676520"/>
            <a:ext cx="669312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Centerpiece – Architecture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A0F9-1C8B-4E25-A6AD-4FB2519C48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762120" y="1612800"/>
            <a:ext cx="7573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is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ar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other engineering artifa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architectures are an attractive source of ana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engineers can learn from other dom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also need to develop—and have developed—a rich body of their own architectural knowledge and exper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30C0-82E8-4C25-880C-712BD63EB3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ftware Engineering Difficulti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engineers deal with unique set of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ng field with tremendous expec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f vastly complex, but intangibl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is not useful on its own e.g., unlike a car, thu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must conform to changes in other engineering are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problems can be eliminated, other problems can be lessened, but not elimin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5E9E-FF1A-4517-BAFE-539FD03964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imacy of Desig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engineers collect requirements, code, test, integrate, configur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chitecture-centric approach to software engineering places an emphasis on desig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pervades the engineering activity from the very begin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how do we go about the task of architectural desig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74AE-3789-497B-8777-310E817E1C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nalogy: Architecture of Building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ll live in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We think) We know how they are bui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(bluepr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similar (though not identical) to how we buil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BBAD-8C9D-4DF6-A1C1-7C4402E2A1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me Obvious Paralle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isfaction of customers’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ization of lab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erspectives of the final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points where plans and progress are revie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A5F2-FC06-4C8C-8891-BBC7C4287F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eper Paralle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ure is different from, but linked with the product/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erties of structures are induced by the design of the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 has a distinctive role and charac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3817-F34A-4826-9EE2-3D2414655B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eper Parallels (cont’d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is not as important as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and resulting qualities are at the fore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is a means, not an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ure has matured over time into a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ural styles as sets of cons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yles also as wide range of solutions, techniques and palettes of compatible materials, colors, and siz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DA74-7AE7-41D3-945E-4620E51008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re about the Architec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istinctive role and character in a pro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broad tr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asses and leverages extensive exper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keen sense of aesthe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ep understanding of the dom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erties of structures, materials, and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s of custom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first-rate programming skills are insufficient for the creation of complex software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are they even necessar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1838-5636-40C1-8405-B9007D0444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7:40:37Z</dcterms:created>
  <dc:creator>Taylor, Medvidovic, and Dashofy</dc:creator>
  <dc:description>Copyright (C) Richard N. Taylor, Nenad Medvidovic, and Eric M. Dashofy. All rights reserved.</dc:description>
  <dc:language>en-US</dc:language>
  <cp:lastModifiedBy>zakarya</cp:lastModifiedBy>
  <dcterms:modified xsi:type="dcterms:W3CDTF">2011-09-24T14:32:49Z</dcterms:modified>
  <cp:revision>28</cp:revision>
  <dc:subject>Software Architecture: Foundations, Theory, and Practice</dc:subject>
  <dc:title>The Big Idea</dc:title>
</cp:coreProperties>
</file>