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1A66-3DBA-4408-A7F7-2E9C3E7A0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C80F-5590-43C0-9DDC-F340F714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BE5A-1094-4670-892E-0431B18F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22D3-627A-4787-9CB6-ED8F3FDA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6F0E-CA80-47E0-80EE-429B4F99C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0D24-4CE5-4BDD-B4AA-1F665723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C0B8-F42E-4ECC-A809-9B4BD3C15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472F-D403-4328-BAC7-E8752AEF7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E943-EEB0-481E-B0C5-87A7EBBF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7A43-9E6A-4116-AC96-C5A0DB98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B47F-DB38-4E1F-BD88-2835A70DC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3910-4CA3-4782-8FA2-F15DCF47F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2428-6986-465B-AA4B-58469EC35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9FD2-6478-4BE1-8D18-8824B519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E212-51E3-4ACF-A780-03D25D7B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1BFC-9E8D-4874-8604-938C7006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2616-B5D4-4BBB-8840-C5EA2C3C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7963-59B6-4050-A75D-26DB10B2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4EA-A222-4E5A-8D7C-1A517E279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1534-1A91-47C2-8D61-780156E9C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0EE6-325B-4DB5-A310-B7893240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ors are th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re the 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go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otor represents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core represents informatio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rotor represents lots of investment of (people)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7258-C4E7-4EE0-943B-A9C959C2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425D-FD82-4F25-B1E4-95ACF4E4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  Reqts 50%; Architecture assessment 30%; Project planning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Design: 50%; Impl. 25%; Reqts 12.5%;  Other 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Design 15%; Impl. 50%; A&amp;T: 25%; Reqts 5%; Other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4: Impl. 15%, A&amp;T 50%; Deployment 20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5: Analysis of lessons learned: 85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GAP rotor (i.e. some amount of the core sticks out above the top r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A43A-FBE5-4C5C-83B4-6600CEC31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F3D2-2A0A-4D04-9BB0-2EC60C5B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95F-A4EC-47AC-AC14-AEA0A5D2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  Reqts 50%; Architecture assessment 30%; Project planning 2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Design: 50%; Impl. 25%; Reqts 12.5%;  Other 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Design 15%; Impl. 50%; A&amp;T: 25%; Reqts 5%; Other 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4: Impl. 15%, A&amp;T 50%; Deployment 20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5: Analysis of lessons learned: 85%; Other 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GAP rotor (i.e. some amount of the core sticks out above the top r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A9DB-3B8D-4BF2-B66C-F5371159E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substance coming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olume (cost) in the ro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1: Assessment: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2:  Parameterization:  50%   Customization: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Rotor 3:  Deployment:   50  Capture:  30  Other: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55"/>
                </a:solidFill>
                <a:latin typeface="Arial"/>
                <a:ea typeface="AppleGothic"/>
              </a:rPr>
              <a:t>Capture is the work to take what was customization here and package it so that it is reusable in future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4E66-E72C-4782-ABE8-8F09764F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348F-A157-467C-9547-1AFE7B32A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E85F-1241-4CBC-AA74-5A9DE2487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C0DB-9DAE-41EF-81CC-0DF59E686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4926-0EC1-480F-94F3-FADF918F5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6CED-5F55-466B-AA40-87740C23C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5424-14C6-438E-8B9F-D9ED1A88D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2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44CF-456C-46CA-8EC1-0D0D9DAA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3861-D217-4442-AB70-DD4D997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94137-2B75-442A-A45F-3815DD2A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1E018-AC0B-4125-93F0-BEC67CFE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00FDB-8265-4166-B29C-B2A77CE6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A0B-774D-4BD1-876B-D35E584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25E-D6F8-4268-822A-E977A3B6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6BC9-C57B-40FD-9278-79C1BEBE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D133-1E5D-4CCF-9780-43D81E45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7F4-C7A0-49E1-92D9-4851299B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3045-F598-40FD-9263-4F8300D6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E41EE-3F54-4A1A-A38C-DACD7E1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5CAE-B380-4419-B7A4-6D2CF162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7B6-2EAE-4D11-A808-859836C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8B95-028B-449F-977A-DD9C2E1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E1BF-6416-4927-8B07-28DE46FF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138B-71B6-4334-BCC9-6F5DD32E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E019-C5AB-4BC3-8FCE-A8ABCEE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41C4-14D9-4631-BEA2-0FCEDA99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4192-20E7-4A07-8654-348D6036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1DA7-6605-4074-85BD-1CE601D9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CD12E-81F6-49BA-B1DD-3CCD08F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AE00-7444-41A5-91B6-CB52B351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2B215-74DB-4C33-8BF9-7019EFB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CA06-36E1-41F2-9A11-72B123549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33F7-44F0-4E51-866F-3A9578212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ctures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 Context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2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Centric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design phase suggests translating the requirements into algorithms, so a programmer can implem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-centric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keholder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sion about use of COTS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arching style and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and primary class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 implementation/deployment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FA3E-3027-4CFC-8644-5CE759D10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Techniq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conceptual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illustrative widely adapted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ain-specific software architectures (DS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443-C150-408C-BC57-09EDE0DA9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-Oriented Design (OO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abstraction entity in 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ions of state with functions for accessing and manipulating that st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C3FD-C9E8-4721-BDD9-938FB73FE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s and Cons of O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ML modeling no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gn 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level of encapsulation (the objec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notion of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type of explicit connector (procedure cal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 message passing is realized via procedure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O programming language might dictate important design dec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OD assumes a shared address sp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7A72-7D2C-4648-B062-C574061745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SS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ing and characterizing the best solutions and best practices from past projects within a dom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ion of new applications can focus on the points of novel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 applicable parts of the architecture and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for product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the Philips Koala example discussed in the previous l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D082-7B66-4C8B-84DF-7CBDF29FA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ive is to create machine-executable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ode should be faithful to the architect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ernatively, it may adapt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adaptation is allow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ly-relevant vs. -unimportant adap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must fully develop all outstanding details of the appl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85B-5A0E-47D8-8271-785C24606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ithful Implementa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structural elements found in the architecture are implemented in the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 must not utilize major new computational elements that have no corresponding elements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code must not contain new connections between architectural elements that are not found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is realistic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ly constraining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deviate from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6157-FB3C-476F-9556-FB6EE07A3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nfaithful Implementation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mplementation does have an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atent, as opposed to what is document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to recognize the distinction between planned and implemented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s one of the ability to reason about the application’s architecture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sleads all stakeholders regarding what they believe they have as opposed to what they reall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any development or evolution strategy that is based on the documented (but inaccurate) architecture doomed to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B8E-9A43-4A04-A504-0AFA87D03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mplement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ive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parser genera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s of source code with identified places where the engineer must “fill in the blank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BA, DCOM, RPC, 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use-based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TS, open-source, in-hou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ing all code manu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C58-B62B-48B7-B3BB-0B07A232B1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It Al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gethe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1A1-A900-40FD-830B-1629C669E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ImplementationModel"/>
          <p:cNvPicPr/>
          <p:nvPr/>
        </p:nvPicPr>
        <p:blipFill>
          <a:blip r:embed="rId1"/>
          <a:stretch/>
        </p:blipFill>
        <p:spPr>
          <a:xfrm>
            <a:off x="3503520" y="838080"/>
            <a:ext cx="4876920" cy="555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ndamental Understan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a set of principal design decisions about a softwar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undamental understandings of softwar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has an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application has at least one archit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not a phase of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186-21A8-4C18-B754-A17F1F56C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and Te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testing are activities undertaken to assess the qualities of an artif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arlier an error is detected and corrected the lower the aggregate co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orous representations are required for analysis, so precise questions can be asked and answ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0BE5-0A00-4D0D-B122-AF585DBE0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of Architectural Mode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l architectural model can be examined for internal consistency and 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nalysis on a formal model can rev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ple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sired communication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la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for size and development time estim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4218-E860-4E46-B701-81FADC850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alysis of Architectural Models (cont’d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al mo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examined for consistency wi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used in determining analysis and testing strategies for source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used to check if an implementation is faith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7B31-BF75-47DC-A368-FE5D0AB38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olution and Mainten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activities that chronologically follow the release of an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ftware will evol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gardless of whether one is using an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-centric development process or no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ditional software engineering approach to maintenance is largely ad ho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sk of architectural decay and overall quality degrad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-centric approac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stained focus on an explicit, substantive, modifiable, faithful architectural mod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5B5D-3D53-44E1-BBA8-4945EF8FEE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e-Centric Evolution Proces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or assess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and choice of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eparation for the next round of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1E2-768D-4DBE-9F6A-56B006F80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oftware process discussions make the process activities the focal po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rchitecture-centric software engineering the product becomes the focal po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ingle “right” software process for architecture-centric software engineering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6A13-3449-4A3D-AA50-885136031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urbine – A New Visualization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als of the 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an intuitive sense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activities at any give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ing concurrency of types of development activit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“information space” of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 centrality of the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Hopefully) Growing body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for the centrality of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t work equally well for other approach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ing “dysfunctional” 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ive for indicating time, gaps, duration of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stment (cost) indica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EA23-95B4-490C-AA74-60737BD41F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urbine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4AA0-1C46-4674-B3C0-C60857AE9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waterfall-front-40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676440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347520" y="4703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556240" y="5505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719760" y="2076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-133920" y="56386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mplistic Waterfa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de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Group 8"/>
          <p:cNvGrpSpPr/>
          <p:nvPr/>
        </p:nvGrpSpPr>
        <p:grpSpPr>
          <a:xfrm>
            <a:off x="7907760" y="1523880"/>
            <a:ext cx="912240" cy="3961800"/>
            <a:chOff x="7907760" y="1523880"/>
            <a:chExt cx="912240" cy="3961800"/>
          </a:xfrm>
        </p:grpSpPr>
        <p:sp>
          <p:nvSpPr>
            <p:cNvPr id="184" name="Line 9"/>
            <p:cNvSpPr/>
            <p:nvPr/>
          </p:nvSpPr>
          <p:spPr>
            <a:xfrm flipV="1">
              <a:off x="8381880" y="205668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7907760" y="1523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 flipH="1">
            <a:off x="6558120" y="2286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 flipH="1">
            <a:off x="6558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H="1">
            <a:off x="60246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 flipH="1">
            <a:off x="556704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6"/>
          <p:cNvSpPr/>
          <p:nvPr/>
        </p:nvSpPr>
        <p:spPr>
          <a:xfrm>
            <a:off x="1523880" y="2286000"/>
            <a:ext cx="2210040" cy="76212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200" h="456">
                <a:moveTo>
                  <a:pt x="0" y="0"/>
                </a:moveTo>
                <a:cubicBezTo>
                  <a:pt x="188" y="156"/>
                  <a:pt x="376" y="312"/>
                  <a:pt x="576" y="384"/>
                </a:cubicBezTo>
                <a:cubicBezTo>
                  <a:pt x="776" y="456"/>
                  <a:pt x="988" y="444"/>
                  <a:pt x="1200" y="43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96200" y="1828800"/>
            <a:ext cx="277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” of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if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8"/>
          <p:cNvSpPr/>
          <p:nvPr/>
        </p:nvSpPr>
        <p:spPr>
          <a:xfrm>
            <a:off x="1981080" y="3124080"/>
            <a:ext cx="838440" cy="762120"/>
          </a:xfrm>
          <a:custGeom>
            <a:avLst/>
            <a:gdLst>
              <a:gd name="textAreaLeft" fmla="*/ 0 w 838440"/>
              <a:gd name="textAreaRight" fmla="*/ 838800 w 8384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816" h="192">
                <a:moveTo>
                  <a:pt x="0" y="192"/>
                </a:moveTo>
                <a:cubicBezTo>
                  <a:pt x="268" y="160"/>
                  <a:pt x="536" y="128"/>
                  <a:pt x="672" y="96"/>
                </a:cubicBezTo>
                <a:cubicBezTo>
                  <a:pt x="808" y="64"/>
                  <a:pt x="812" y="32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-189360" y="380988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of rotor indic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 of staffing at tim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0"/>
          <p:cNvSpPr/>
          <p:nvPr/>
        </p:nvSpPr>
        <p:spPr>
          <a:xfrm>
            <a:off x="6172200" y="2895480"/>
            <a:ext cx="762120" cy="76320"/>
          </a:xfrm>
          <a:custGeom>
            <a:avLst/>
            <a:gdLst>
              <a:gd name="textAreaLeft" fmla="*/ 0 w 762120"/>
              <a:gd name="textAreaRight" fmla="*/ 762480 w 762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816" h="112">
                <a:moveTo>
                  <a:pt x="816" y="0"/>
                </a:moveTo>
                <a:cubicBezTo>
                  <a:pt x="620" y="40"/>
                  <a:pt x="424" y="80"/>
                  <a:pt x="288" y="96"/>
                </a:cubicBezTo>
                <a:cubicBezTo>
                  <a:pt x="152" y="112"/>
                  <a:pt x="76" y="104"/>
                  <a:pt x="0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6615360" y="2590920"/>
            <a:ext cx="201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p between ro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s no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for tha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>
            <a:off x="2590920" y="5257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2232720" y="50436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-4082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oss-section at tim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7B18-A6DC-4F94-BE72-A4A248181E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9"/>
          <p:cNvGrpSpPr/>
          <p:nvPr/>
        </p:nvGrpSpPr>
        <p:grpSpPr>
          <a:xfrm>
            <a:off x="2362320" y="1676520"/>
            <a:ext cx="4190760" cy="4190760"/>
            <a:chOff x="2362320" y="1676520"/>
            <a:chExt cx="4190760" cy="4190760"/>
          </a:xfrm>
        </p:grpSpPr>
        <p:sp>
          <p:nvSpPr>
            <p:cNvPr id="202" name="Oval 3"/>
            <p:cNvSpPr/>
            <p:nvPr/>
          </p:nvSpPr>
          <p:spPr>
            <a:xfrm>
              <a:off x="3086280" y="2438280"/>
              <a:ext cx="2743200" cy="2742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>
              <a:off x="2362320" y="1676520"/>
              <a:ext cx="4190760" cy="4190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3456000" y="1676520"/>
              <a:ext cx="2009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sig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ctivit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>
              <a:off x="3505320" y="2971440"/>
              <a:ext cx="1904760" cy="888840"/>
            </a:xfrm>
            <a:prstGeom prst="foldedCorner">
              <a:avLst>
                <a:gd name="adj" fmla="val 12500"/>
              </a:avLst>
            </a:prstGeom>
            <a:solidFill>
              <a:srgbClr val="8fba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4038480" y="4114440"/>
              <a:ext cx="838440" cy="838080"/>
            </a:xfrm>
            <a:prstGeom prst="foldedCorner">
              <a:avLst>
                <a:gd name="adj" fmla="val 12500"/>
              </a:avLst>
            </a:prstGeom>
            <a:solidFill>
              <a:srgbClr val="005b7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urbine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B498-47B7-4FB8-B63D-61DD7E04DD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737280" y="1676520"/>
            <a:ext cx="7171200" cy="4424040"/>
            <a:chOff x="737280" y="1676520"/>
            <a:chExt cx="7171200" cy="4424040"/>
          </a:xfrm>
        </p:grpSpPr>
        <p:pic>
          <p:nvPicPr>
            <p:cNvPr id="211" name="Picture 2" descr="waterfall-persptop-40"/>
            <p:cNvPicPr/>
            <p:nvPr/>
          </p:nvPicPr>
          <p:blipFill>
            <a:blip r:embed="rId1"/>
            <a:srcRect l="10549" t="14065" r="10549" b="14065"/>
            <a:stretch/>
          </p:blipFill>
          <p:spPr>
            <a:xfrm>
              <a:off x="1720800" y="1871640"/>
              <a:ext cx="6187680" cy="42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4"/>
            <p:cNvSpPr/>
            <p:nvPr/>
          </p:nvSpPr>
          <p:spPr>
            <a:xfrm>
              <a:off x="737280" y="5060520"/>
              <a:ext cx="347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aterfall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ngled perspec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5"/>
            <p:cNvGrpSpPr/>
            <p:nvPr/>
          </p:nvGrpSpPr>
          <p:grpSpPr>
            <a:xfrm>
              <a:off x="6723000" y="1676520"/>
              <a:ext cx="912240" cy="3383280"/>
              <a:chOff x="6723000" y="1676520"/>
              <a:chExt cx="912240" cy="3383280"/>
            </a:xfrm>
          </p:grpSpPr>
          <p:sp>
            <p:nvSpPr>
              <p:cNvPr id="214" name="Line 6"/>
              <p:cNvSpPr/>
              <p:nvPr/>
            </p:nvSpPr>
            <p:spPr>
              <a:xfrm flipV="1">
                <a:off x="7140960" y="2131200"/>
                <a:ext cx="0" cy="29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"/>
              <p:cNvSpPr/>
              <p:nvPr/>
            </p:nvSpPr>
            <p:spPr>
              <a:xfrm>
                <a:off x="6723000" y="16765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rong View: Architecture as a Pha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ing architecture as a phase denies its foundational role in software develop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“high-level desig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 is also represented, e.g., by object code, source cod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98BB-37EF-48AF-8906-983EB3270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Ric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9693-EBE9-4CCA-A05F-C01E86074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xample-front-40"/>
          <p:cNvPicPr/>
          <p:nvPr/>
        </p:nvPicPr>
        <p:blipFill>
          <a:blip r:embed="rId1"/>
          <a:srcRect l="10549" t="6722" r="10549" b="4690"/>
          <a:stretch/>
        </p:blipFill>
        <p:spPr>
          <a:xfrm>
            <a:off x="1981080" y="1676520"/>
            <a:ext cx="5791320" cy="4876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7913520" y="51166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42320" y="481176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2400" y="2754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901080" y="2144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/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15520" y="5802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ment/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690120" y="37450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/Desig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10"/>
          <p:cNvGrpSpPr/>
          <p:nvPr/>
        </p:nvGrpSpPr>
        <p:grpSpPr>
          <a:xfrm>
            <a:off x="8060040" y="2068560"/>
            <a:ext cx="912240" cy="3961800"/>
            <a:chOff x="8060040" y="2068560"/>
            <a:chExt cx="912240" cy="3961800"/>
          </a:xfrm>
        </p:grpSpPr>
        <p:sp>
          <p:nvSpPr>
            <p:cNvPr id="227" name="Line 11"/>
            <p:cNvSpPr/>
            <p:nvPr/>
          </p:nvSpPr>
          <p:spPr>
            <a:xfrm flipV="1">
              <a:off x="8534160" y="2601360"/>
              <a:ext cx="0" cy="342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060040" y="20685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Line 13"/>
          <p:cNvSpPr/>
          <p:nvPr/>
        </p:nvSpPr>
        <p:spPr>
          <a:xfrm>
            <a:off x="2514600" y="519264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Sample Cross-Sec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58B6-37BA-406A-933F-BC93DADC7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3" descr="Ring-S1"/>
          <p:cNvPicPr/>
          <p:nvPr/>
        </p:nvPicPr>
        <p:blipFill>
          <a:blip r:embed="rId1"/>
          <a:stretch/>
        </p:blipFill>
        <p:spPr>
          <a:xfrm>
            <a:off x="2057400" y="1600200"/>
            <a:ext cx="4646520" cy="47242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Cross-Section at Project En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0BC1-C784-41E2-92EC-8067E6106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Ring-Sn"/>
          <p:cNvPicPr/>
          <p:nvPr/>
        </p:nvPicPr>
        <p:blipFill>
          <a:blip r:embed="rId1"/>
          <a:stretch/>
        </p:blipFill>
        <p:spPr>
          <a:xfrm>
            <a:off x="2227320" y="1828800"/>
            <a:ext cx="455436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olume Indicates Where Time was Sp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2A69-584B-482F-A5FC-075168E7C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example-persptop-40"/>
          <p:cNvPicPr/>
          <p:nvPr/>
        </p:nvPicPr>
        <p:blipFill>
          <a:blip r:embed="rId1"/>
          <a:srcRect l="8866" t="5910" r="9143" b="3971"/>
          <a:stretch/>
        </p:blipFill>
        <p:spPr>
          <a:xfrm>
            <a:off x="2666880" y="1600200"/>
            <a:ext cx="5639040" cy="46483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437400" y="4876920"/>
            <a:ext cx="19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47480" y="25909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/Bui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596160" y="198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ss/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-9000" y="571500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tecture Assessment /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85200" y="35812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/Desig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/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Technically Strong Product-Line Proje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7D7E-22AD-44D8-ABC5-9EE95CC3F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dssa-persptop-40"/>
          <p:cNvPicPr/>
          <p:nvPr/>
        </p:nvPicPr>
        <p:blipFill>
          <a:blip r:embed="rId1"/>
          <a:srcRect l="12088" t="7328" r="12088" b="9158"/>
          <a:stretch/>
        </p:blipFill>
        <p:spPr>
          <a:xfrm>
            <a:off x="1676520" y="1981080"/>
            <a:ext cx="5257800" cy="43434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6391440" y="525780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270120" y="40384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-21240" y="419112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6438240" y="2438280"/>
            <a:ext cx="307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of new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81040" y="3882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Visualization Summ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ustrative, not pr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aid to thinking about what’s going on in a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utomatically generated based on input of monitored projec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extended to illustrate development of the information space (artifac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slides have focused primarily on the developmen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6F7-1CFF-4225-9799-B58B8AB1F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cesses Possible in this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, straight-line waterf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hitecture-centric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SA-based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ile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sfunctional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E60D-63F7-4012-BA3E-CC506F3D5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ext of Software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C4ED-E2CD-4CEE-9CFD-9A821A30B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Analysi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itional SE suggests requirements analysis should remain unsullied by any consideration for a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without reference to existing architectures it becomes difficult to assess practicality, schedules, o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ilding architecture we talk about specific rooms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the abstract concept “means for providing shelter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engineering new products come from the observation of existing solution and their limi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64E-4FE4-42A2-B58F-50CE13445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w Perspective on Requirements Analysi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designs and architectures provide the solution vocabul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understanding of what works now, and how it works, affects our wants and perceived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insights from our experiences with existing syste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s us imagine what might work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us to assess development time and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analysis and consideration of design must be pursued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C6EE-9E38-44CE-BC3B-7038E64418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on-Functional Properties (NF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Ps are the result of architectural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P questions are raised as the result of architectural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 of NFP might require an architectural framework to even enable their stat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chitectural framework will be required for assessment of whether the properties are achiev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C78C-8500-47C0-B713-00ED5D08BE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Twin Peaks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8728-069C-437D-B88F-B1C6C9C00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952560" y="1905120"/>
            <a:ext cx="7238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and Architectu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ign is an activity that pervades software developm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n activity that creates part of a system’s archite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ly in the traditional Design Phase decisions concer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ystem’s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tion of its primary compon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interconnec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chitecture denotes the set of principal design decisions about a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more than just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8272-5117-4461-9082-A56E2EE4C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7:40:37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4T14:32:17Z</dcterms:modified>
  <cp:revision>26</cp:revision>
  <dc:subject>Software Architecture: Foundations, Theory, and Practice</dc:subject>
  <dc:title>Architectures in Context</dc:title>
</cp:coreProperties>
</file>