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F8C-A95A-49C4-8280-4A853FFF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A74F-D8FE-49DD-B5AD-56813210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3788-2E8C-4876-AD43-25E7A4D9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294-735C-4643-9E1F-D8D8E5D2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2C11-60E2-499D-A572-C23B4C44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711B-3B40-4B9F-9D11-61A7A3AA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83D-E156-4BBB-AE1C-8C48CB190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496D-8BD7-4D11-B192-9C28A5C33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E60B-8B0A-4D18-A780-2B169405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4AE0-9C5C-4565-AD96-5D0C0D0E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3AD4-045B-4C37-A64D-44503F70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4C93-BFF4-4255-A4CE-F6E389C2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240E-5C78-4C8B-A059-57DA7EA75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3136-0315-4B70-A597-B958F97C8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51B6-570A-4669-AE6D-1161EA9D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61CE-C514-4358-A022-F5302F4E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DCF4-A9D6-4378-8F9E-CD1BFB02B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BD8-596E-4B6E-A49F-8C24645B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FCBA-9050-428E-8340-133366835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E2A1-7962-47CB-B6EF-62FCE174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4273-3080-445E-90F8-79000EB1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ors are th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are the 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go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otor represents c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core represents informatio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rotor represents lots of investment of (people)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BDB4-9C32-4FF9-8895-523ED4E1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055-B1FC-41CB-868F-FB535695E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1:   Reqts 50%; Architecture assessment 30%; Project planning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2: Design: 50%; Impl. 25%; Reqts 12.5%;  Other 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3: Design 15%; Impl. 50%; A&amp;T: 25%; Reqts 5%; Other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4: Impl. 15%, A&amp;T 50%; Deployment 20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5: Analysis of lessons learned: 85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GAP rotor (i.e. some amount of the core sticks out above the top r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6E51-4875-4196-9905-3D2063B3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34F4-1DD6-4842-B0B7-BEA647C3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E5C-3D86-48E0-AE06-C1424BAD3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1:   Reqts 50%; Architecture assessment 30%; Project planning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2: Design: 50%; Impl. 25%; Reqts 12.5%;  Other 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3: Design 15%; Impl. 50%; A&amp;T: 25%; Reqts 5%; Other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4: Impl. 15%, A&amp;T 50%; Deployment 20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5: Analysis of lessons learned: 85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GAP rotor (i.e. some amount of the core sticks out above the top r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3D5C-855A-474D-A9D1-C49CC9FC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substance coming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olume (cost) in the ro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1: Assessment: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2:  Parameterization:  50%   Customization: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3:  Deployment:   50  Capture:  30  Other: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Capture is the work to take what was customization here and package it so that it is reusable in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6AC-E11B-41C9-86D4-F310F417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B65A-7A6C-46C9-B157-55266506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DE98-46AA-4F34-BAEF-3B97467C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2CA3-7606-4038-A7E0-BA2D2406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495C-AB44-41AC-8735-C9A992A1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4529-C496-4EA1-822C-DAD6C783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A79C-A666-448D-8187-0E1E09A9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F56F-BBCD-4B58-A0EA-358CF744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114B-3C0B-4FB9-AF02-E9A4C72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F6A4-409E-4657-B579-A6F22B1F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17B0-3EA5-4051-9995-BFBDA02C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C69-7A92-4D80-8B7F-58003069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EB0-36F0-4A81-9F2E-39D3D9E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ADFA-8DCC-4C66-AC0F-AF6E57D2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8CB8-50DB-4D87-ACF3-F8E97D92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770D-5AB8-4EEB-A5CD-1B6B924B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53DA-8C03-4EB7-9F53-5369A35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B5DE-8879-4B2D-8E17-FE29BC0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334C-D268-4C99-B036-910981C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679C-F5A6-4666-AFA9-A027530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DEF6-3FEA-42AF-A878-61123AF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2BC6-AFE1-41AD-A43D-0E671731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D5D6-E49A-496F-B0A6-ED237DBD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9C45-67B3-4F95-8C9A-2E6C4344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E593-A0F5-4733-AFC1-DC44910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7A97-E359-4357-87A0-A1F53E94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5E6D-DB9E-434C-91A7-6A41015E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7C32-93B1-4160-BFCF-1F7C5FC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A559-6CB8-43C1-A929-35969CD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E438-910A-441F-985F-D9C4ED9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B443-9C7B-40BB-A1F0-18B382F3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708B-326E-4E71-AEE6-3370EDB04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6FD5-4FC1-45FF-97CB-60A9AC8BC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ctures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Contex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2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-Centric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design phase suggests translating the requirements into algorithms, so a programmer can implem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-centric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keholder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about use of COTS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rching style and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and primary class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ment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 implementation/deployment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3517-CFD6-4DD5-A70E-94BA3D146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Techniq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ual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illustrative widely adapted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-specific software architectures (DS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9205-FB12-4EEF-9FDE-D37ED25A3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-Oriented Design (OO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abstraction entity in 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ons of state with functions for accessing and manipulating that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E322-ECD2-44BE-86B6-E650F5C90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s and Cons of O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ML modeling no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level of encapsulation (the ob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notion of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type of explicit connector (procedure cal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 message passing is realized via procedure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O programming language might dictate important design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OD assumes a shared address sp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6FA6-4662-40B4-BB97-AC2D564BC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SS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ing and characterizing the best solutions and best practices from past projects within a dom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ion of new applications can focus on the points of novel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 applicable parts of the architecture and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for product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the Philips Koala example discussed in the previous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4EAC-56D4-46C4-8E0D-220AC232E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ive is to create machine-executable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ode should be faithful to the architect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ly, it may adapt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adaptation is allow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ly-relevant vs. -unimportant adap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must fully develop all outstanding details of the appl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250-9EF5-4470-8850-8D59584D2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ithful Implementatio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structural elements found in the architecture are implemented in the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code must not utilize major new computational elements that have no corresponding elements in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code must not contain new connections between architectural elements that are not found in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is realistic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y constraining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deviate from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AE6B-3BB3-47B3-BE6E-A80FD7C88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nfaithful Implementatio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mplementation does have an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atent, as opposed to what is documen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to recognize the distinction between planned and implemented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s one of the ability to reason about the application’s architecture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leads all stakeholders regarding what they believe they have as opposed to what they reall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any development or evolution strategy that is based on the documented (but inaccurate) architecture doomed to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9460-6C1F-487A-8E38-5D68B93DF4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atio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ive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parser gen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s of source code with identified places where the engineer must “fill in the blank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, DCOM, RPC, 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-based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TS, open-source, in-hou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all code man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7D93-A05B-4EEA-8489-12EEB3C72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It Al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geth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FA25-CAC2-445E-827D-16E12D017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ImplementationModel"/>
          <p:cNvPicPr/>
          <p:nvPr/>
        </p:nvPicPr>
        <p:blipFill>
          <a:blip r:embed="rId1"/>
          <a:stretch/>
        </p:blipFill>
        <p:spPr>
          <a:xfrm>
            <a:off x="3503520" y="838080"/>
            <a:ext cx="4876920" cy="555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undamental Understan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a set of principal design decisions about a softwar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undamental understandings of softwar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application has an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application has at least one archit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not a phase of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02C8-9D3C-4628-8B91-E8AD18BCE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and Te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and testing are activities undertaken to assess the qualities of an artif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arlier an error is detected and corrected the lower the aggregate c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orous representations are required for analysis, so precise questions can be asked and answ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2B59-DB27-4C01-A8FE-855D84D30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of Architectural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architectural model can be examined for internal consistency and 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nalysis on a formal model can rev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ple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sired communication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la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for size and development time est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E0AE-31A3-479E-8F6C-05EF2CC6A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of Architectural Mod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mod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examined for consistency wi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used in determining analysis and testing strategies for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used to check if an implementation is faithfu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A3D0-1271-4877-B418-5F1F61C8FD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olution and Mainten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activities that chronologically follow the release of an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will evol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ardless of whether one is using 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-centric development process or no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raditional software engineering approach to maintenance is largely ad ho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sk of architectural decay and overall quality degrad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-centric approa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stained focus on an explicit, substantive, modifiable, faithful architectur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9934-7B50-49C6-A8FF-E8FD1BD59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-Centric Evolution Proc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or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choice of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eparation for the next round of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6F2E-6970-486E-BF05-37B10C060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software process discussions make the process activities the focal po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rchitecture-centric software engineering the product becomes the focal po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ingle “right” software process for architecture-centric software engineering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4D7E-650D-42E2-B2BF-4121773AB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rbine – A New Visualizatio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als of the 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an intuitive sense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activities at any give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ing concurrency of types of development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“information space” of the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 centrality of the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Hopefully) Growing body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for the centrality of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work equally well for other approach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ing “dysfunctional” 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ive for indicating time, gaps, duration of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stment (cost) indic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5A3-23C0-49EE-9520-05735789F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urbine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C8AA-13A8-4F28-AB02-8ED96393D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waterfall-front-40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676440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347520" y="4703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556240" y="5505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719760" y="2076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-133920" y="56386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istic Waterf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e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7907760" y="1523880"/>
            <a:ext cx="912240" cy="3961800"/>
            <a:chOff x="7907760" y="1523880"/>
            <a:chExt cx="912240" cy="3961800"/>
          </a:xfrm>
        </p:grpSpPr>
        <p:sp>
          <p:nvSpPr>
            <p:cNvPr id="184" name="Line 9"/>
            <p:cNvSpPr/>
            <p:nvPr/>
          </p:nvSpPr>
          <p:spPr>
            <a:xfrm flipV="1">
              <a:off x="8381880" y="205668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7907760" y="1523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Line 12"/>
          <p:cNvSpPr/>
          <p:nvPr/>
        </p:nvSpPr>
        <p:spPr>
          <a:xfrm flipH="1">
            <a:off x="655812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 flipH="1">
            <a:off x="6558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H="1">
            <a:off x="60246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 flipH="1">
            <a:off x="556704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6"/>
          <p:cNvSpPr/>
          <p:nvPr/>
        </p:nvSpPr>
        <p:spPr>
          <a:xfrm>
            <a:off x="1523880" y="2286000"/>
            <a:ext cx="2210040" cy="76212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200" h="456">
                <a:moveTo>
                  <a:pt x="0" y="0"/>
                </a:moveTo>
                <a:cubicBezTo>
                  <a:pt x="188" y="156"/>
                  <a:pt x="376" y="312"/>
                  <a:pt x="576" y="384"/>
                </a:cubicBezTo>
                <a:cubicBezTo>
                  <a:pt x="776" y="456"/>
                  <a:pt x="988" y="444"/>
                  <a:pt x="1200" y="43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196200" y="1828800"/>
            <a:ext cx="27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” of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8"/>
          <p:cNvSpPr/>
          <p:nvPr/>
        </p:nvSpPr>
        <p:spPr>
          <a:xfrm>
            <a:off x="1981080" y="312408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816" h="192">
                <a:moveTo>
                  <a:pt x="0" y="192"/>
                </a:moveTo>
                <a:cubicBezTo>
                  <a:pt x="268" y="160"/>
                  <a:pt x="536" y="128"/>
                  <a:pt x="672" y="96"/>
                </a:cubicBezTo>
                <a:cubicBezTo>
                  <a:pt x="808" y="64"/>
                  <a:pt x="812" y="3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-189360" y="38098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of rotor in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 of staffing at ti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0"/>
          <p:cNvSpPr/>
          <p:nvPr/>
        </p:nvSpPr>
        <p:spPr>
          <a:xfrm>
            <a:off x="6172200" y="2895480"/>
            <a:ext cx="762120" cy="763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16" h="112">
                <a:moveTo>
                  <a:pt x="816" y="0"/>
                </a:moveTo>
                <a:cubicBezTo>
                  <a:pt x="620" y="40"/>
                  <a:pt x="424" y="80"/>
                  <a:pt x="288" y="96"/>
                </a:cubicBezTo>
                <a:cubicBezTo>
                  <a:pt x="152" y="112"/>
                  <a:pt x="76" y="104"/>
                  <a:pt x="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6615360" y="2590920"/>
            <a:ext cx="201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p between ro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s no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for tha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2590920" y="5257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2232720" y="50436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oss-section at tim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016-C3C4-442E-8EF4-E0866C85B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9"/>
          <p:cNvGrpSpPr/>
          <p:nvPr/>
        </p:nvGrpSpPr>
        <p:grpSpPr>
          <a:xfrm>
            <a:off x="2362320" y="1676520"/>
            <a:ext cx="4190760" cy="4190760"/>
            <a:chOff x="2362320" y="1676520"/>
            <a:chExt cx="4190760" cy="4190760"/>
          </a:xfrm>
        </p:grpSpPr>
        <p:sp>
          <p:nvSpPr>
            <p:cNvPr id="202" name="Oval 3"/>
            <p:cNvSpPr/>
            <p:nvPr/>
          </p:nvSpPr>
          <p:spPr>
            <a:xfrm>
              <a:off x="3086280" y="2438280"/>
              <a:ext cx="2743200" cy="27428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2362320" y="1676520"/>
              <a:ext cx="4190760" cy="41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3456000" y="1676520"/>
              <a:ext cx="200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ctivit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3505320" y="2971440"/>
              <a:ext cx="1904760" cy="888840"/>
            </a:xfrm>
            <a:prstGeom prst="foldedCorner">
              <a:avLst>
                <a:gd name="adj" fmla="val 12500"/>
              </a:avLst>
            </a:prstGeom>
            <a:solidFill>
              <a:srgbClr val="8fba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4038480" y="4114440"/>
              <a:ext cx="838440" cy="838080"/>
            </a:xfrm>
            <a:prstGeom prst="foldedCorner">
              <a:avLst>
                <a:gd name="adj" fmla="val 12500"/>
              </a:avLst>
            </a:prstGeom>
            <a:solidFill>
              <a:srgbClr val="005b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urbine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67F7-5410-4D5C-A184-E502E448A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737280" y="1676520"/>
            <a:ext cx="7171200" cy="4424040"/>
            <a:chOff x="737280" y="1676520"/>
            <a:chExt cx="7171200" cy="4424040"/>
          </a:xfrm>
        </p:grpSpPr>
        <p:pic>
          <p:nvPicPr>
            <p:cNvPr id="211" name="Picture 2" descr="waterfall-persptop-40"/>
            <p:cNvPicPr/>
            <p:nvPr/>
          </p:nvPicPr>
          <p:blipFill>
            <a:blip r:embed="rId1"/>
            <a:srcRect l="10549" t="14065" r="10549" b="14065"/>
            <a:stretch/>
          </p:blipFill>
          <p:spPr>
            <a:xfrm>
              <a:off x="1720800" y="1871640"/>
              <a:ext cx="6187680" cy="42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4"/>
            <p:cNvSpPr/>
            <p:nvPr/>
          </p:nvSpPr>
          <p:spPr>
            <a:xfrm>
              <a:off x="737280" y="5060520"/>
              <a:ext cx="347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aterfall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ngled persp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5"/>
            <p:cNvGrpSpPr/>
            <p:nvPr/>
          </p:nvGrpSpPr>
          <p:grpSpPr>
            <a:xfrm>
              <a:off x="6723000" y="1676520"/>
              <a:ext cx="912240" cy="3383280"/>
              <a:chOff x="6723000" y="1676520"/>
              <a:chExt cx="912240" cy="3383280"/>
            </a:xfrm>
          </p:grpSpPr>
          <p:sp>
            <p:nvSpPr>
              <p:cNvPr id="214" name="Line 6"/>
              <p:cNvSpPr/>
              <p:nvPr/>
            </p:nvSpPr>
            <p:spPr>
              <a:xfrm flipV="1">
                <a:off x="7140960" y="2131200"/>
                <a:ext cx="0" cy="29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6723000" y="16765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rong View: Architecture as a Ph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ing architecture as a phase denies its foundational role in software develop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“high-level desig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also represented, e.g., by object code, source cod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C901-B7CB-4D62-8139-623B4E052F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Richer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DDFF-A556-4EB3-B410-A1A04EBF6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example-front-40"/>
          <p:cNvPicPr/>
          <p:nvPr/>
        </p:nvPicPr>
        <p:blipFill>
          <a:blip r:embed="rId1"/>
          <a:srcRect l="10549" t="6722" r="10549" b="4690"/>
          <a:stretch/>
        </p:blipFill>
        <p:spPr>
          <a:xfrm>
            <a:off x="1981080" y="1676520"/>
            <a:ext cx="5791320" cy="4876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7913520" y="51166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42320" y="48117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2400" y="2754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901080" y="2144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/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15520" y="58024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ment/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690120" y="37450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/Desig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8060040" y="2068560"/>
            <a:ext cx="912240" cy="3961800"/>
            <a:chOff x="8060040" y="2068560"/>
            <a:chExt cx="912240" cy="3961800"/>
          </a:xfrm>
        </p:grpSpPr>
        <p:sp>
          <p:nvSpPr>
            <p:cNvPr id="227" name="Line 11"/>
            <p:cNvSpPr/>
            <p:nvPr/>
          </p:nvSpPr>
          <p:spPr>
            <a:xfrm flipV="1">
              <a:off x="8534160" y="260136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060040" y="2068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13"/>
          <p:cNvSpPr/>
          <p:nvPr/>
        </p:nvSpPr>
        <p:spPr>
          <a:xfrm>
            <a:off x="2514600" y="519264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Sample Cross-S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146-5E64-467C-8CBA-D126CEF11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3" descr="Ring-S1"/>
          <p:cNvPicPr/>
          <p:nvPr/>
        </p:nvPicPr>
        <p:blipFill>
          <a:blip r:embed="rId1"/>
          <a:stretch/>
        </p:blipFill>
        <p:spPr>
          <a:xfrm>
            <a:off x="2057400" y="1600200"/>
            <a:ext cx="4646520" cy="47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Cross-Section at Project En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B9B6-D074-4E34-8CAE-8DA9FEAAA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Ring-Sn"/>
          <p:cNvPicPr/>
          <p:nvPr/>
        </p:nvPicPr>
        <p:blipFill>
          <a:blip r:embed="rId1"/>
          <a:stretch/>
        </p:blipFill>
        <p:spPr>
          <a:xfrm>
            <a:off x="2227320" y="1828800"/>
            <a:ext cx="45543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olume Indicates Where Time was Sp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E95A-3531-4731-8479-9EA964563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example-persptop-40"/>
          <p:cNvPicPr/>
          <p:nvPr/>
        </p:nvPicPr>
        <p:blipFill>
          <a:blip r:embed="rId1"/>
          <a:srcRect l="8866" t="5910" r="9143" b="3971"/>
          <a:stretch/>
        </p:blipFill>
        <p:spPr>
          <a:xfrm>
            <a:off x="2666880" y="1600200"/>
            <a:ext cx="5639040" cy="46483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437400" y="48769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47480" y="25909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96160" y="198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/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-9000" y="57150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 Assessment /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85200" y="35812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/Desig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Technically Strong Product-Line Proje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B691-17BE-4AC7-A571-E06EF3FA3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dssa-persptop-40"/>
          <p:cNvPicPr/>
          <p:nvPr/>
        </p:nvPicPr>
        <p:blipFill>
          <a:blip r:embed="rId1"/>
          <a:srcRect l="12088" t="7328" r="12088" b="9158"/>
          <a:stretch/>
        </p:blipFill>
        <p:spPr>
          <a:xfrm>
            <a:off x="1676520" y="1981080"/>
            <a:ext cx="5257800" cy="43434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6391440" y="525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270120" y="4038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-21240" y="4191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438240" y="2438280"/>
            <a:ext cx="307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of new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81040" y="3882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sualization Summ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ustrative, not pr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aid to thinking about what’s going on in a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utomatically generated based on input of monitored projec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xtended to illustrate development of the information space (artifa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slides have focused primarily on the development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621F-123D-4777-AC7D-0D4B9A219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ses Possible in this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, straight-line waterf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-centric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SA-based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il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sfunctional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7CE4-1B95-4B58-9C13-6B04A30944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xt of Softwar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F234-AC60-442C-9FCA-99E0F7843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SE suggests requirements analysis should remain unsullied by any consideration for a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without reference to existing architectures it becomes difficult to assess practicality, schedules, o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uilding architecture we talk about specific room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the abstract concept “means for providing shelt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ngineering new products come from the observation of existing solution and their lim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0F11-ED2A-4AFA-8A91-FDAA741F6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w Perspective on Requirements Analysi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designs and architectures provide the solution vocabu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understanding of what works now, and how it works, affects our wants and perceived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sights from our experiences with existing syst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s us imagine what might work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us to assess development time and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analysis and consideration of design must be pursued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C4D-8097-4883-A881-45D9D13F8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n-Functional Properties (NF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Ps are the result of architectural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P questions are raised as the result of architectural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 of NFP might require an architectural framework to even enable their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al framework will be required for assessment of whether the properties are achie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8819-B903-4C24-BD36-CF309F481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win Peaks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265-F311-4D00-9F60-45A322222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952560" y="1905120"/>
            <a:ext cx="7238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and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ign is an activity that pervades software developm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an activity that creates part of a system’s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 in the traditional Design Phase decisions concer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ystem’s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ntification of its primary component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interconnec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 denotes the set of principal design decisions about a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 more than just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96F8-1A81-49BD-8237-27964049B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4T14:32:17Z</dcterms:modified>
  <cp:revision>26</cp:revision>
  <dc:subject>Software Architecture: Foundations, Theory, and Practice</dc:subject>
  <dc:title>Architectures in Context</dc:title>
</cp:coreProperties>
</file>