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232A-5C18-4C81-AC1C-7E77A352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005E-AC09-4DEC-9193-80BCCFC46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CDA1-51E6-40EA-941F-6DCB7E36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8F53-9312-4B24-A832-E41AD0BFC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03FA-4329-4755-81E5-11CF4DA0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392E-A2A9-4266-A31C-6305FD25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67E4-A98A-46B3-89A2-0F9ECAC8C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9B55-5964-473B-9E30-6D0E1056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1D4A-4DBF-48D4-A7E2-5B0B78553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12F9-F4C0-44D7-91D8-F2EEEDE5F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1076-B38A-43A0-8DDD-212A657DB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7CA3-29E8-4BC8-B8CB-5D928345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C257-0326-467B-A48B-D8BE399F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91B6-262B-4385-A173-0F246B4E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AF95-A985-436C-A9BF-1AC0896A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9E0C-2CF2-490B-8B93-85987D647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EE40-D43D-4A1D-A3BB-9F10D70A3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1B6-5B72-4683-B20D-7836DC76C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0357-4545-41D7-B117-DC11599A9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F72-11E5-4E5B-A5F7-7A41445F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D0D4-8BC3-4D0F-A5A5-572F65053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ECC5-F7E5-4BDE-82D8-BE5103FEA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42F7-AC55-4D6C-95AE-56814336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78DA-5C0E-43D6-AF55-976E7FC2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A6A4-D8A8-41C2-B98D-4F6F2902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DF53-561F-490F-8AC4-BB317073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F032-26AA-4E84-8016-271276C4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8ACD-80BD-46CA-A605-3E2E0842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9386-55E2-4966-AFF6-6039CD69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BC3B-2B56-4FA7-913B-ED270DA5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1EFC-2F5E-4E3C-A8A7-984928D7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A1DE-CC06-41CF-8C0A-77689BDF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CAA5-673D-4BC7-BAA3-AFF9C3E8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5A92-54EC-4DF2-9772-C6016F2C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217-AE61-4FFE-9E46-4B79DEE6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C793-F6D3-4695-9F95-06BD6B52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CF7A-D496-4906-9131-598A1BB3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E700-3F29-4585-92E0-D1E742A5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872A-E14E-4238-AB9D-8ED35AD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B944-8EE0-4506-92A5-52C8C815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75F6-3888-4643-A877-0F74682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5817-E132-4728-A743-0B515477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5318-DE2E-4ECC-BD86-35984BC9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45F5-9AC0-4599-90CC-5E2C5BB9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2D8D-D762-4E49-8035-AC7454B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26CB-8442-4AEC-90DE-6A7739D8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98B8-B882-46F8-A0F0-AA96C0E4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9DB5-9832-4956-ACAE-52045BAF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E6BD-910B-4913-AB8A-DF6998D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405B-64A6-4764-9616-6763CE8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E537-8690-453A-A28A-4698BD9DB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B74E-0477-4A73-A074-BD8459886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asic Concept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3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Degrad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523520"/>
            <a:ext cx="77724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related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dri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er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dri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ntroduction of principal design decisions into a system’s descriptive architecture th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not included in, encompassed by, or implied by the prescriptiv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hich do not violate any of the prescriptive architecture’s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ero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introduction of architectural design decisions into a system’s descriptive architecture that violate its prescriptiv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9849-E524-41ED-BAED-1E2979357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Recove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rchitectural degradation is allowed to occur, one will be forced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o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system’s architecture sooner or la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re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rocess of determining a software system’s architecture from its implementation-level artif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-level artifacts can 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abl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.class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399-3A7B-41F6-BE06-C322608FB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mplementation-Level View of an Applicat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2365-7BB7-43AD-9CEC-87E393CCA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-6591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" descr="fig_03_06.jpg"/>
          <p:cNvPicPr/>
          <p:nvPr/>
        </p:nvPicPr>
        <p:blipFill>
          <a:blip r:embed="rId1"/>
          <a:stretch/>
        </p:blipFill>
        <p:spPr>
          <a:xfrm>
            <a:off x="822240" y="1981080"/>
            <a:ext cx="7407360" cy="3803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5105520" y="4952880"/>
            <a:ext cx="33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nd virtu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rehen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67652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oftware system cannot fulfill its purpose until i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l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ecutable modules are physically placed on the hardware devices on which they are supposed to ru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ployment view of an architecture can be critical in assessing whether the system will be able to satisfy its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assessment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 con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network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0A0F-6BA6-414B-BB26-993E90AE6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System’s Deployment Architectural Perspectiv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BEC8-FD89-49D2-B394-020F79CD9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-8114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" descr="fig_03_03.jpg"/>
          <p:cNvPicPr/>
          <p:nvPr/>
        </p:nvPicPr>
        <p:blipFill>
          <a:blip r:embed="rId1"/>
          <a:stretch/>
        </p:blipFill>
        <p:spPr>
          <a:xfrm>
            <a:off x="4114800" y="1523880"/>
            <a:ext cx="3776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Architecture’s El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ftware system’s architecture typically is not (and should not be) a uniform monol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ftware system’s architecture should be a composition and interplay of different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also referred as information or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54D7-1CCD-40A0-B225-0A099570B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on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59984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that encapsulate processing and data in a system’s architecture are referred to 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oftware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oftware compon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n architectural entity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s a subset of the system’s functionality and/o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tricts access to that subset via an explicitly defined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explicitly defined dependencies on its required execution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nents typically provide application-specific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F3A4-117B-4231-8907-D38A95539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complex system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y become more important and challenging than the functionality of the individual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ftware conne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architectural building block tasked with effecting and regulating interactions among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many software systems connectors are usually simple procedure calls or shared data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more sophisticated and complex connectors are possibl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typically provide application-independent interact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80EE-CF6D-4361-91C6-5CCE198604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s of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 call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d memory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passing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ing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/adaptor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C6BA-9D15-43EC-A83D-D3D7306C6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figur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nd connectors are composed in a specific way in a given system’s architecture to accomplish that system’s obj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configu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topology, is a set of specific associations between the components and connectors of a software system’s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0C90-70FC-4333-92E0-E7F628E4F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Software Architecture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75248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ftware system’s architecture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ncipal design 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ut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architecture is the blueprint for a software system’s construction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decisions encompass every facet of the system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0D19-4789-4E96-9462-E4E448D07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 Example Configu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Object 0"/>
          <p:cNvGraphicFramePr/>
          <p:nvPr/>
        </p:nvGraphicFramePr>
        <p:xfrm>
          <a:off x="927000" y="822240"/>
          <a:ext cx="701532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822240"/>
                    <a:ext cx="701532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A600-EFD7-4A53-8EBC-14CC20C25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-56052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ertain design choices regularly result in solutions with superior proper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ared to other possible alternatives, solutions such as this are more elegant, effective, efficient, dependable, evolvable, scalable, and so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sty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named collection of architectural design decisions th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e applicable in a given development 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 architectural design decisions that are specific to a particular system within that 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icit beneficial qualities in each resulting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8D18-6D18-4113-A1C4-85DAD694C1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Patter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patt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set of architectural design decisions that are applicable to a recurring design problem, and parameterized to account for different software development contexts in which that problem appe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widely used pattern in modern distributed systems i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-tiered syste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n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erva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443B-C4CF-486A-9ADE-655CE6874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-Tiered Patter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3249360"/>
            <a:ext cx="773892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 T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s the user interface functionality to access the system’s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s the application’s major function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 T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s the application’s data access and storage function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7EAC-4682-4A8F-B4AF-08E0B44B9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-6591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" descr="fig_03_04.jpg"/>
          <p:cNvPicPr/>
          <p:nvPr/>
        </p:nvPicPr>
        <p:blipFill>
          <a:blip r:embed="rId1"/>
          <a:stretch/>
        </p:blipFill>
        <p:spPr>
          <a:xfrm>
            <a:off x="838080" y="1676520"/>
            <a:ext cx="74073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chitectural Models, Views, and Visualiza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artifact documenting some or all of the architectural design decisions about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of depicting some or all of the architectural design decisions about a system to a stakehol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ubset of related architectural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020B-E9FE-43AF-8BB9-100DCA908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Proces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modeling and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-driven system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-driven system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-driven system deployment, runtime redeployment, and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-based design for non-functional properties, including security and tru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4CC6-96B8-49AD-B46A-623006684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keholders in a System’s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A9B7-933C-407C-93F2-133128721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“Principal”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al” implies a degree of importance that grants a design decision “architectural statu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es that not all design decisions are architec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, they do not necessarily impact a system’s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one defines “principal” will depend on what the stakeholders define as the system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46FD-BC4C-4B99-8C03-CBA7BB82D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693360"/>
            <a:ext cx="8595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ther Definitions of Softwar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08200" y="18669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ry and Wo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Architecture = { Elements, Form, Rationale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      how       w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w and Gar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architecture [is a level of design that] involv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scription of elements from which systems are buil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ons among those element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s that guide their composition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s on these patter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uch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architecture deals with the design and implementation of the high-level structure of softwa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e deals with abstraction, decomposition, composition, style,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estheti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6BE9-6B09-4373-9A3D-B01F35722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mporal Aspe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decisions are made and unmade over a system’s life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has a temporal asp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given point in time the system has only on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ystem’s architecture will change and evolve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B776-ADBC-4F58-8F5B-BA7570A27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escriptive vs. Descriptiv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ystem’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scriptive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ptures the design decisions made prior to the system’s 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-conceiv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-intend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ystem’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criptive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cribes how the system has been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-implemen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-realiz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C604-2E79-4577-ADFD-6CE0B4801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s-Designed vs. As-Implemented Architectu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995C-AAC6-4448-829F-5C452CD2C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-6591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" descr="fig_03_01.jpg"/>
          <p:cNvPicPr/>
          <p:nvPr/>
        </p:nvPicPr>
        <p:blipFill>
          <a:blip r:embed="rId1"/>
          <a:stretch/>
        </p:blipFill>
        <p:spPr>
          <a:xfrm>
            <a:off x="533520" y="1752480"/>
            <a:ext cx="4086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fig_03_02.jpg"/>
          <p:cNvPicPr/>
          <p:nvPr/>
        </p:nvPicPr>
        <p:blipFill>
          <a:blip r:embed="rId2"/>
          <a:stretch/>
        </p:blipFill>
        <p:spPr>
          <a:xfrm>
            <a:off x="4749840" y="1752480"/>
            <a:ext cx="38606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s-Designed vs. As-Implemented Architectu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40AA-2C66-4358-A4D2-87CB0CD1A1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-6591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architecture is “correct”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rchitectures consistent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ne another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riteria are used to establis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consistency between the two architectur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what information is the answer to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preceding questions based?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Evolu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system evolves, ideally its prescriptive architecture is modified 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actice, the system – and thus its descriptive architecture – is often directly modifi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happens because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 slopp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ception of short deadlines which prevent thinking through and document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ocumented prescriptiv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or desire for code optim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adequate techniques or tool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4A6F-1AD9-4357-A59A-F2799C1E6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6:57:16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16T21:10:32Z</dcterms:modified>
  <cp:revision>21</cp:revision>
  <dc:subject>Software Architecture: Foundations, Theory, and Practice</dc:subject>
  <dc:title>Basic Concepts</dc:title>
</cp:coreProperties>
</file>