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323A-FFB5-4A19-B626-9D1C984C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FB43-2293-40B5-81B8-66D76D8CB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DC4-DD65-43C4-A478-89DAF3507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1473-C8EC-4C2D-8C92-1DDCE94A3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F1B1-2D9B-434F-9BD2-7C0473CB7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62F-4E41-4355-B8B5-3AF1CB67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5578-5192-4F76-8F1A-D57B646E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A959-B009-40FA-82FA-DBF1442C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E41E-17B1-4203-A4AB-FCE48F1F3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F47-740C-4EB8-A8E2-E1BBD7DC4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9A71-F01D-4094-8BEF-70FB2AE45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B342-A453-4CFA-8CA7-3904EE9A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1840-8080-432C-A909-452F62927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9520-0FA8-4E55-B9DD-25F4025EC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EB32-F22A-4FF2-BEAE-9EA097E96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9CC9-AE31-465C-B938-5168B03F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8763-1280-4440-ABB7-037A69BB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D360-0E2D-472D-B7B3-DD81A8C47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1B5-BE41-4A92-8F3B-3BB4FD5F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341-54A7-4B1E-BC9F-AAB330A8A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D035-8926-4149-835B-676FBDF2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102-8D4D-4443-8A5A-F9134C94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8B6-585B-4466-B48C-EC8CD1A7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222F-FA86-4561-89AE-FA37C21D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3C0-94AD-4AD8-81F4-0726EE25E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F5C8-487C-45CD-9C31-203E1364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8CEDA-2251-43FF-86DF-5E8844DD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630C-4774-48E0-B832-DA1D8410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44F2-AFD9-4AC4-990F-AA80BCE0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90C7-4F5A-4EEC-9FA8-985762D3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DCB4-F0E7-4275-BFBC-6F2EDB9D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6FCC-C2E4-4A58-9A30-0A3C5D25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FE61-ADC9-4CBB-B823-2DAF9B72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5EED-1347-49D5-9373-A177023B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5BA9-E7AB-4F58-AE10-C77EB639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6584-B6FC-4762-9348-2426523A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E5BB-706E-4A28-9774-44859992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A2519-5A60-4EC8-A9AB-1E22493E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82D-ED5E-48FC-AAC9-6184252B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E5CD-502E-4F8C-9DC8-2B6180DD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960D-AEB8-4D3D-8609-603F109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E3F0-EF86-4E78-8643-54EEE574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2D04-02F8-4D88-8AE6-4E5CBF3F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F22A-9535-4FFD-B156-965724CC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4F36-7C48-4228-A923-161A2DC4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47DF0-3D79-4B4E-80EC-87690EE4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22CC3-C3E5-4C42-9688-C38F1F8F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720D-2358-4A13-BF22-F227C33C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8472-3EE0-4F8C-9AC0-0187ACD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E7F9-66A8-4487-8593-7B2727B2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C83A-3DA6-4241-B665-0F44DC2BF5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7F32-339F-4EC1-B907-7B1C09CBD3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asic Concept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Degrad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523520"/>
            <a:ext cx="77724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relate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dri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er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dri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ntroduction of principal design decisions into a system’s descriptive architecture tha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not included in, encompassed by, or implied by the prescriptiv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hich do not violate any of the prescriptive architecture’s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eros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introduction of architectural design decisions into a system’s descriptive architecture that violate its prescriptiv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FF1E-4D88-4D90-868C-E52069584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Recove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rchitectural degradation is allowed to occur, one will be forced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o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system’s architecture sooner or la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rchitectural re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rocess of determining a software system’s architecture from its implementation-level artif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-level artifacts can 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abl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.class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BD9-FE0A-4010-B39E-D8A055D801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lementation-Level View of an Application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42D-F19C-42A7-AC59-7F6AB9773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" descr="fig_03_06.jpg"/>
          <p:cNvPicPr/>
          <p:nvPr/>
        </p:nvPicPr>
        <p:blipFill>
          <a:blip r:embed="rId1"/>
          <a:stretch/>
        </p:blipFill>
        <p:spPr>
          <a:xfrm>
            <a:off x="822240" y="1981080"/>
            <a:ext cx="7407360" cy="3803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105520" y="4952880"/>
            <a:ext cx="333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and virt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rehen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676520"/>
            <a:ext cx="7772400" cy="47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oftware system cannot fulfill its purpose until i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ecutable modules are physically placed on the hardware devices on which they are supposed to ru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ployment view of an architecture can be critical in assessing whether the system will be able to satisfy its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assessment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con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d network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2F10-57FD-4970-8DED-6AABC3C36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 System’s Deployment Architectural Perspectiv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E989-B0A6-4B15-ACCF-EBA7870FA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-8114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" descr="fig_03_03.jpg"/>
          <p:cNvPicPr/>
          <p:nvPr/>
        </p:nvPicPr>
        <p:blipFill>
          <a:blip r:embed="rId1"/>
          <a:stretch/>
        </p:blipFill>
        <p:spPr>
          <a:xfrm>
            <a:off x="4114800" y="1523880"/>
            <a:ext cx="3776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Architecture’s El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architecture typically is not (and should not be) a uniform monol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architecture should be a composition and interplay of different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also referred as information or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7673-7784-4680-9F06-FC7420BA5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on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59984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that encapsulate processing and data in a system’s architecture are referred to 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oftware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oftware compon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n architectural entity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s a subset of the system’s functionality and/o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tricts access to that subset via an explicitly defined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explicitly defined dependencies on its required execution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s typically provide application-specific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8F52-380E-4C8D-9292-37D1D8032E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67616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mplex system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y become more important and challenging than the functionality of the individual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ftware conn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architectural building block tasked with effecting and regulating interactions among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many software systems connectors are usually simple procedure calls or shared data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more sophisticated and complex connectors are possibl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typically provide application-independent interact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A9C1-599A-4133-BF07-D1B71D2FD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s of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all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d memory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passing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ing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/adaptor connect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E7C0-4B93-49D8-9BB5-30C466DE7C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igur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nd connectors are composed in a specific way in a given system’s architecture to accomplish that system’s objec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config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topology, is a set of specific associations between the components and connectors of a software system’s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D18D-36F3-4266-804F-EBCB5FE480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Software Architecture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752480"/>
            <a:ext cx="77724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architecture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ncipal design 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ut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architecture is the blueprint for a software system’s construction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ecisions encompass every facet of the system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functional 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28D-150D-4053-809B-A7BC9CBE8A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 Example Configur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Object 0"/>
          <p:cNvGraphicFramePr/>
          <p:nvPr/>
        </p:nvGraphicFramePr>
        <p:xfrm>
          <a:off x="927000" y="822240"/>
          <a:ext cx="701532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822240"/>
                    <a:ext cx="701532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5CBD-FF63-48F4-ABBC-986C4050C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ertain design choices regularly result in solutions with superior properti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ared to other possible alternatives, solutions such as this are more elegant, effective, efficient, dependable, evolvable, scalable, and so 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sty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named collection of architectural design decisions tha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e applicable in a given development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 architectural design decisions that are specific to a particular system within that contex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icit beneficial qualities in each resulting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EBA3-7760-4B3E-BAD2-B895BCA3A3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Patter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patte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set of architectural design decisions that are applicable to a recurring design problem, and parameterized to account for different software development contexts in which that problem appe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widely used pattern in modern distributed systems i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-tiered syste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ervatio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5623-65EC-4E17-8867-C0E363C416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-Tiered Patter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3249360"/>
            <a:ext cx="773892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 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the user interface functionality to access the system’s serv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ddle 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the application’s major function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 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s the application’s data access and storage function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4B1A-DF9F-4451-AF3D-C7760A1DE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" descr="fig_03_04.jpg"/>
          <p:cNvPicPr/>
          <p:nvPr/>
        </p:nvPicPr>
        <p:blipFill>
          <a:blip r:embed="rId1"/>
          <a:stretch/>
        </p:blipFill>
        <p:spPr>
          <a:xfrm>
            <a:off x="838080" y="1676520"/>
            <a:ext cx="740736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chitectural Models, Views, and Visualization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artifact documenting some or all of the architectural design decisions about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of depicting some or all of the architectural design decisions about a system to a stakehol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ubset of related architectural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034-878B-4FD4-BF59-4C75C28E20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Proces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modeling and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driven system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driven system implement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driven system deployment, runtime redeployment, and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-based design for non-functional properties, including security and tru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al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B113-CF50-48D2-9E13-7CDD868C93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keholders in a System’s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A6C0-7B3C-4C4E-9CFA-0A8C406C2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“Principal”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al” implies a degree of importance that grants a design decision “architectural statu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es that not all design decisions are architectu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they do not necessarily impact a system’s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one defines “principal” will depend on what the stakeholders define as the system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90F-789C-4BC4-8CEF-C9CE9E15C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693360"/>
            <a:ext cx="85950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Definitions of Softwar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08200" y="186696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ry and Wo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rchitecture = { Elements, Form, Rationale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      how       w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w and Gar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rchitecture [is a level of design that] involv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escription of elements from which systems are buil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ons among those element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s that guide their composition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s on these patter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uch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architecture deals with the design and implementation of the high-level structure of softwa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tecture deals with abstraction, decomposition, composition, style,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esthetic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54BB-45FC-4067-95E2-EC4B9A622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mporal Aspe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ecisions are made and unmade over a system’s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has a temporal asp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any given point in time the system has only on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’s architecture will change and evolve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22C-9DC7-46A2-9AC4-3B9D7C984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escriptive vs. Descriptiv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’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scriptiv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ptures the design decisions made prior to the system’s 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conceiv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intend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’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criptiv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cribes how the system has been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implemen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-realiz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53FF-E4B2-4A2B-BC1A-34B2B8E696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s-Designed vs. As-Implemented Architectu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A018-B77D-4CF4-8F9C-B846D995B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fig_03_01.jpg"/>
          <p:cNvPicPr/>
          <p:nvPr/>
        </p:nvPicPr>
        <p:blipFill>
          <a:blip r:embed="rId1"/>
          <a:stretch/>
        </p:blipFill>
        <p:spPr>
          <a:xfrm>
            <a:off x="533520" y="1752480"/>
            <a:ext cx="4086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fig_03_02.jpg"/>
          <p:cNvPicPr/>
          <p:nvPr/>
        </p:nvPicPr>
        <p:blipFill>
          <a:blip r:embed="rId2"/>
          <a:stretch/>
        </p:blipFill>
        <p:spPr>
          <a:xfrm>
            <a:off x="4749840" y="1752480"/>
            <a:ext cx="386064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s-Designed vs. As-Implemented Architectur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E93-4129-42B4-9767-2886C8326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-6591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architecture is “correct”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 two architectures consistent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ne another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riteria are used to establis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consistency between the two architecture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what information is the answer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ceding questions based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Evolu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system evolves, ideally its prescriptive architecture is modified 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ractice, the system – and thus its descriptive architecture – is often directly modifi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happens because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 slopp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ception of short deadlines which prevent thinking through and document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ocumented prescriptiv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or desire for code optim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adequate techniques or to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2195-6E99-49D9-B5B5-273598AD0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16T21:10:32Z</dcterms:modified>
  <cp:revision>21</cp:revision>
  <dc:subject>Software Architecture: Foundations, Theory, and Practice</dc:subject>
  <dc:title>Basic Concepts</dc:title>
</cp:coreProperties>
</file>