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0133-25C2-47C3-B593-77F3DAA6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8EEAC-5F64-4708-A144-0090DA2A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8A928-46B0-4250-A36A-F2906AFE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322DC-1227-44B3-B584-4174E9C9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2EBB-30E1-49E7-8A86-3E92D320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1AC5-FC12-4EBB-A249-EF14200C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AF6D-5011-4365-9E21-F7CE48F6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AE4E-CC31-41E4-B392-6DBBA6B5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EA2E-5809-4FF2-A803-4B85ADBB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CA41-C369-4D9C-A972-A03D18CE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EF53-39B1-45FF-98FD-5EABEF8C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C1FDC-2F7D-4DEB-9B2F-1DB2BB2D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A119-8D54-4114-888A-3B4B9CDC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EAA6-1646-4224-8E66-D032A562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EB04-5B36-41DC-BEDC-E230364C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7E0B-89EF-4940-B2E7-8484EFAE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F3A1-12A4-486A-9019-BE73F43B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4D660-B0AF-4935-ADE2-0D80D19C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DCE1A-22E8-44CE-AB8F-AEE1095F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2F26D-C68B-4051-A1CB-8198419D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4083A-D676-41C0-8511-9981D679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7032B-94C0-4FC6-AFF0-4ADAD980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DEF2-3A58-477D-82DC-152BA940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AFD37-F8FC-42FE-98D8-41D9030D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E33D-1C33-44E7-96DB-DD3C3EB765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C8B6-8C25-4D46-BF10-346E47E139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irwa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aluation and Manag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in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-Measurements of the mand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Thyro-mental distance (head exten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rmally 6.5 c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s than 6 cm=expect difficul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sts to predict difficul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llampatti tes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the hypothe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t when the base of t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ngue is disproportiona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rge it will overshadow t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ryn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Simple easy test,correlates with what is seen during laryngoscopy or Cormack-Lehene grades ,bu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-moderate sensitivity and specificity(12% false +v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-Inter observer vari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-Phonation increases false negative vie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57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-Wilson te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Consists of 5 easily assessed fact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dy wight(n=0 ,&gt;90=1,&gt;110=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ad and neck mo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w mo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eding ja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ck tee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factor assigned as o ,1 ,2 max is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Difficult airwa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xpected from history,exami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ecure airway while awake under 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nexpected   different op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iority for maintenance of patent airway and oxyge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Airway gadge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70160" y="1600200"/>
            <a:ext cx="2212920" cy="2185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224000" y="3938760"/>
            <a:ext cx="2503440" cy="2187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410080" y="1295280"/>
            <a:ext cx="2424240" cy="2490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410080" y="4114800"/>
            <a:ext cx="27432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Needle cricothyroidotom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nfirm tube pos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irect visualization of ETT between co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ronchoscopy ;carina se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ntinuous trace of capnograp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3 point auscul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sophageal detector dev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ther as bilateral chest movement,mist in the tube,CX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apid sequence in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d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echniqu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Preoxyge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IV induction with su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Cricoid press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Intubate, inflate the cuff ,confirm 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Release cricoid and fix the tu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ndications of intub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esuscitation (CP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evention of lung soi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ositive pressure ventilation (G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ulmonary toi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atent airway (coma or near com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espiratory failure(CO2 retention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lications of intub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-Inadequate venti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-Esophageal intub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-Airway obstr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-Bronchospa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-Aspi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- Trau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7-Stress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400720" y="2595600"/>
            <a:ext cx="2533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ommend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equate airway assessment to pick up expected D.A to be secured awa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icult intubation cart always rea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 oxygenation as a rout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intenance of oxygenation not the intubation should be your ai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the technique you are familiar wi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ways have plan B,C,D in unexpected D.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Requirement of successful intbati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1-Normal roomy mand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2-Normal T-M, A-O , and C-sp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equirements of successful intub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-Alignment of 3 axes 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uming sniffing 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Any anomaly in these 3 j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-O, T-M or C-spine can resul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ifficult intub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15000" y="1619280"/>
            <a:ext cx="28861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Requirement of successful intub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oper equi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Bag and mask,oxygen sour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Airways oro and nasopharynge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Laryngosopes different bla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ETT different siz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suction 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Airway gadge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36680" y="1600200"/>
            <a:ext cx="2279520" cy="2185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600200" y="4038480"/>
            <a:ext cx="1981080" cy="2667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029200" y="1143000"/>
            <a:ext cx="3200400" cy="2590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876920" y="3962520"/>
            <a:ext cx="33526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nagemen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-Histor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vious history of difficulty is the best predic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quire about:-Nature of difficul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No of tri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Ability to ventilate bet tri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Maneuver u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Compl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-Snoring and sleep apnea( prdictors of DMV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in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Look for any obvious anomal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bid obesity(BM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ku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uth,tee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c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23749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in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-The 3 joints move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-O joint(15-20 degre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ce of a gap bet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ciput and C1 is essen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ervical spine(range&gt;9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.M joint:-interdental gap(3 finge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subluxation  (1 finge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10080" y="1295280"/>
            <a:ext cx="2533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5:25:55Z</dcterms:created>
  <dc:creator>adel</dc:creator>
  <dc:description/>
  <dc:language>en-US</dc:language>
  <cp:lastModifiedBy>adel elshimy</cp:lastModifiedBy>
  <dcterms:modified xsi:type="dcterms:W3CDTF">2009-11-09T17:25:48Z</dcterms:modified>
  <cp:revision>30</cp:revision>
  <dc:subject/>
  <dc:title>Difficult Airway</dc:title>
</cp:coreProperties>
</file>