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5C3E-DB02-485E-BE46-D7E3E7B8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F59F-C67F-4BF5-832E-F7B6F1A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A00E-D8A4-45CD-BCA9-ADC814A6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D446-727C-4980-A5F0-7FD229A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44D2-0CD9-4B50-A4AF-7CB96720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A245-40A7-4AC5-B101-DEC3467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9D0-53A1-4D30-8E78-1B23E96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ED16-693A-4239-91E3-635C103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9D26-A844-49C8-9D64-2B702182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715-723B-4C47-AA0C-3F099D3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A0EF-5509-4A69-80B8-F30DEAA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08C2-13BC-4E1F-A7C5-56EE698F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AAF-E518-4F20-AF74-EFB4A3B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332-C81B-461E-B78D-47950F0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ED9-6855-4A9A-BE59-79C311D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F802-BC7E-447D-8A59-D56917E5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54C-0FDF-44DE-9881-4C36809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BD2C-DC17-4CC3-ACC4-65F7E43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B64F-BCEC-4404-9344-AB836296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C299-0F96-4F96-81DF-943C408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94D2-BF49-4FBB-A055-88ADCCDC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587D-E707-48BD-A82F-44A4194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0942-C6B7-45F3-BF5D-F936A15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6A6B-FA84-4239-A8A7-1E675D6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804-DA34-4F75-8D9D-1018E8C68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04DE-DC69-4070-8848-48BE99A60E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irwa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ion and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Measurements of the man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Thyro-mental distance (head exten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ly 6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than 6 cm=expect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s to predict difficul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lampatti te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the 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when the base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ngue is disproportion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it will overshadow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yn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imple easy test,correlates with what is seen during laryngoscopy or Cormack-Lehene grades ,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moderate sensitivity and specificity(12% false +v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Inter observer vari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Phonation increases false negative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-Wilson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nsists of 5 easily assessed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dy wight(n=0 ,&gt;90=1,&gt;110=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 and neck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ding 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ck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factor assigned as o ,1 ,2 max is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ifficult airwa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ected from history,ex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cure airway while awake under 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expected   different o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ority for maintenance of patent airway and 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221292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400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424240" cy="249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2743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Needle cricothyroidoto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firm tube 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rect visualization of ETT between 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nchoscopy ;carina s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inuous trace of capno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 point auscul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sophageal detector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 bilateral chest movement,mist in the tube,CX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apid sequence in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qu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Pre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V induction with su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Cricoid pres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ntubate, inflate the cuff ,confirm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Release cricoid and fix the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d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uscitation (CP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vention of lung so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itive pressure ventilation (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ulmonary toi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atent airway (coma or near com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piratory failure(CO2 reten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Inadequate venti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Esophageal intub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-Airway obstr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Bronchospa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-Aspi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- Trau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-Stress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00720" y="25956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airway assessment to pick up expected D.A to be secured aw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 intubation cart always rea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 oxygenation as a rout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enance of oxygenation not the intubation should be your a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technique you are familiar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ways have plan B,C,D in unexpected D.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bat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-Normal roomy mand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-Normal T-M, A-O , and C-sp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ments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Alignment of 3 axes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ing sniffing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ny anomaly in these 3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, T-M or C-spine can resu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ifficult intub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19280"/>
            <a:ext cx="2886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oper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Bag and mask,oxygen 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Airways oro and nasopharyng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Laryngosopes different bl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ETT different si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suction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227952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98108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352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ious history of difficulty is the best predi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e about:-Nature of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No of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bility to ventilate bet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Maneuver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Snoring and sleep apnea( prdictors of D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Look for any obvious anoma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bid obesity(B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u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uth,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c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37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The 3 joints mov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 joint(15-20 degre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ce of a gap bet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iput and C1 is ess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ervical spine(range&gt;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.M joint:-interdental gap(3 fing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ubluxation  (1 fing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25:55Z</dcterms:created>
  <dc:creator>adel</dc:creator>
  <dc:description/>
  <dc:language>en-US</dc:language>
  <cp:lastModifiedBy>adel elshimy</cp:lastModifiedBy>
  <dcterms:modified xsi:type="dcterms:W3CDTF">2009-11-09T17:25:48Z</dcterms:modified>
  <cp:revision>30</cp:revision>
  <dc:subject/>
  <dc:title>Difficult Airway</dc:title>
</cp:coreProperties>
</file>