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2884-BEB4-4814-9768-9F3B122C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2D5F-FF72-4E57-A5DF-BD2E3862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1D95-9A7F-436A-89F7-4431F5C8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EA3D-D852-4AE4-9D0E-F736F3F0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97B3-22C7-428A-8587-DC27F4E5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AFBC-170D-44D8-AD1E-95208712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F188-606C-4204-9DEF-1CAB2743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CACD-ED45-4903-B033-C181F29D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EAE8-68FD-4249-AD9D-CE6E19B0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64AD-1554-48B7-A4AA-355CB1EA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3882-E51C-4A61-B60E-1154A17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4EEA-259C-40D9-94F0-FB90AE85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1843-AF0B-470E-A66A-9A99844C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E40D-5ABB-4A91-97B0-9DC21EE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4C69-D064-4039-A744-21835390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B190-EC06-469F-80E1-25D6723A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B444-5694-4AF0-BFD2-382AC285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DCC6-DB5E-449A-B8FC-81FC5F60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AF3D-6893-49FA-A281-37DF1294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3667-343C-4BC5-8763-8D568084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FB84-E9DC-43C5-BC93-4257C97C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5360-E3F7-4C02-A006-81A5D989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7F5F-8D07-4821-A4F1-6983DB6F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02BD4-B70B-46E5-9FB5-7E69F932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9454-0656-463F-82F6-67B503FAAD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66F9-7ED2-4D5F-A487-4AEEE04C79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irwa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ion and 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-Measurements of the mand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Thyro-mental distance (head exten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mally 6.5 c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 than 6 cm=expect difficu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s to predict difficul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llampatti te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the hypoth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when the base of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ngue is disproportion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 it will overshadow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yn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imple easy test,correlates with what is seen during laryngoscopy or Cormack-Lehene grades ,b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-moderate sensitivity and specificity(12% false +v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Inter observer vari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Phonation increases false negative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5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-Wilson te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nsists of 5 easily assessed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dy wight(n=0 ,&gt;90=1,&gt;110=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d and neck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w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eding j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ck 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factor assigned as o ,1 ,2 max is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Difficult airwa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pected from history,exam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cure airway while awake under 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expected   different o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ority for maintenance of patent airway and oxyge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Airway gad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0160" y="1600200"/>
            <a:ext cx="2212920" cy="218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24000" y="3938760"/>
            <a:ext cx="2503440" cy="218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2424240" cy="249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2743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Needle cricothyroidoto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firm tube po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irect visualization of ETT between 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ronchoscopy ;carina s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ntinuous trace of capnogra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 point auscul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sophageal detector de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ther as bilateral chest movement,mist in the tube,CX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apid sequence in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qu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Preoxyge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IV induction with su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Cricoid press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Intubate, inflate the cuff ,confirm 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Release cricoid and fix the tu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dications of intub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suscitation (CP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vention of lung soi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itive pressure ventilation (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ulmonary toi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atent airway (coma or near com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spiratory failure(CO2 retention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ications of intub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Inadequate venti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Esophageal intub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-Airway obstr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-Bronchospa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-Aspi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- Trau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-Stress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00720" y="259560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equate airway assessment to pick up expected D.A to be secured awa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 intubation cart always rea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 oxygenation as a rout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tenance of oxygenation not the intubation should be your ai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he technique you are familiar 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ways have plan B,C,D in unexpected D.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equirement of successful intbat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-Normal roomy mand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2-Normal T-M, A-O , and C-sp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quirements of successful intub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Alignment of 3 axes 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ing sniffing 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ny anomaly in these 3 j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O, T-M or C-spine can resu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ifficult intub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1619280"/>
            <a:ext cx="2886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equirement of successful intub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oper equi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Bag and mask,oxygen sou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Airways oro and nasopharynge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Laryngosopes different bla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ETT different siz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suction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Airway gad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6680" y="1600200"/>
            <a:ext cx="227952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98108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3352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-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ious history of difficulty is the best predi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e about:-Nature of difficu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No of t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bility to ventilate bet t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Maneuver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-Snoring and sleep apnea( prdictors of DMV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Look for any obvious anoma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bid obesity(B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u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uth,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c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374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-The 3 joints mov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O joint(15-20 degre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ce of a gap bet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iput and C1 is ess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ervical spine(range&gt;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.M joint:-interdental gap(3 fing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subluxation  (1 fing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5:25:55Z</dcterms:created>
  <dc:creator>adel</dc:creator>
  <dc:description/>
  <dc:language>en-US</dc:language>
  <cp:lastModifiedBy>adel elshimy</cp:lastModifiedBy>
  <dcterms:modified xsi:type="dcterms:W3CDTF">2009-11-09T17:25:48Z</dcterms:modified>
  <cp:revision>30</cp:revision>
  <dc:subject/>
  <dc:title>Difficult Airway</dc:title>
</cp:coreProperties>
</file>