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7.jpeg" ContentType="image/jpeg"/>
  <Override PartName="/ppt/media/image16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10.jpeg" ContentType="image/jpeg"/>
  <Override PartName="/ppt/media/image2.png" ContentType="image/png"/>
  <Override PartName="/ppt/media/image4.jpeg" ContentType="image/jpeg"/>
  <Override PartName="/ppt/media/image6.jpeg" ContentType="image/jpeg"/>
  <Override PartName="/ppt/media/image8.png" ContentType="image/pn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FAF07E-3233-4278-A848-DFBD253B4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963A4D-EDD4-43DB-8613-93C461879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48FD5D-03F4-4B96-911F-8A0BCF8A2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1C49AD-7750-4ED5-BCF7-9E91CDCDA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97070-20B4-48EC-BCC1-307610B27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CC8FE-B5FC-42FE-93D3-018C3E054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AB355-15C4-4046-8FC7-9B600175D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35F08-2FFB-4E0D-85DB-509814D4F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F8E5C-1554-4405-938A-0AC23CA1A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54D29-2E19-4F77-AC29-6FD34F027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553DA-61F2-4A2E-AA90-A81A4DA52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45B606-BF63-4A2C-AE21-A8434A704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A92D9-88E9-4A93-A005-A3B761618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48259-E1ED-4208-B117-486C21B65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31627-643C-4A93-B3B1-F844EF0FA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2B4DF-08AA-4427-BD4F-ADFB7DAE7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D21B3-8B37-4241-A038-6E655C4D9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B4A1DE-4A5B-4605-99DC-842B4509A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14D418-545E-4FED-A489-9373EA6AD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B017A0-8148-4940-8C22-3BE722828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F504D1-F1E2-4FA6-B407-3B2AAFC67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128AB7-B2A3-4949-B09E-4AD384C0C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A5616D-C31B-4DBE-ADA6-4427AEADC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EDE391-324C-4E56-ABB3-022BEA4B1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91285-C78B-4E54-A762-7573551DB7E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73A2C-3CD7-4F7F-9E25-9441B9D9026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0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Airway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aluation and Managem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xamina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I-Measurements of the mandi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-Thyro-mental distance (head exten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ormally 6.5 c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ess than 6 cm=expect difficult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Tests to predict difficult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allampatti test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ased on the hypothesi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at when the base of th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ongue is disproportionall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arge it will overshadow th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arynx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5105520" y="1752480"/>
            <a:ext cx="38098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-Simple easy test,correlates with what is seen during laryngoscopy or Cormack-Lehene grades ,bu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-moderate sensitivity and specificity(12% false +ve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2-Inter observer variatio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3-Phonation increases false negative view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2133720" y="1600200"/>
            <a:ext cx="457200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II-Wilson tes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-Consists of 5 easily assessed factor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ody wight(n=0 ,&gt;90=1,&gt;110=2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ead and neck movem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Jaw movem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ceding jaw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uck teet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ch factor assigned as o ,1 ,2 max is 10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e5e5ff"/>
                </a:solidFill>
                <a:latin typeface="Garamond"/>
              </a:rPr>
              <a:t>Difficult airwa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Expected from history,examin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Secure airway while awake under L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Unexpected   different option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Priority for maintenance of patent airway and oxygen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e5e5ff"/>
                </a:solidFill>
                <a:latin typeface="Garamond"/>
              </a:rPr>
              <a:t>Airway gadge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370160" y="1600200"/>
            <a:ext cx="2212920" cy="21859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1224000" y="3938760"/>
            <a:ext cx="2503440" cy="21873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5410080" y="1295280"/>
            <a:ext cx="2424240" cy="249084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4"/>
          <a:stretch/>
        </p:blipFill>
        <p:spPr>
          <a:xfrm>
            <a:off x="5410080" y="4114800"/>
            <a:ext cx="2743200" cy="25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57240">
            <a:solidFill>
              <a:srgbClr val="ff00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e5e5ff"/>
                </a:solidFill>
                <a:latin typeface="Garamond"/>
              </a:rPr>
              <a:t>Needle cricothyroidotom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990720" y="1523880"/>
            <a:ext cx="7391160" cy="483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e5e5ff"/>
                </a:solidFill>
                <a:latin typeface="Garamond"/>
              </a:rPr>
              <a:t>Confirm tube posi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Direct visualization of ETT between cord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Bronchoscopy ;carina se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Continuous trace of capnograp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3 point auscult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Esophageal detector devi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Other as bilateral chest movement,mist in the tube,CX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e5e5ff"/>
                </a:solidFill>
                <a:latin typeface="Garamond"/>
              </a:rPr>
              <a:t>Rapid sequence induc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Indication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Technique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-Preoxygen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-IV induction with sux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-Cricoid pressur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-Intubate, inflate the cuff ,confirm posi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-Release cricoid and fix the tub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e5e5ff"/>
                </a:solidFill>
                <a:latin typeface="Garamond"/>
              </a:rPr>
              <a:t>Indications of intuba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Resuscitation (CPR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Prevention of lung soil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Positive pressure ventilation (GA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Pulmonary toile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Patent airway (coma or near coma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Respiratory failure(CO2 retention 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lications of intuba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1-Inadequate ventil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2-Esophageal intub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3-Airway obstruc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4-Bronchospasm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5-Aspir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6- Traum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7-Stress respons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5400720" y="2595600"/>
            <a:ext cx="2533680" cy="25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Recommendatio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dequate airway assessment to pick up expected D.A to be secured awak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fficult intubation cart always read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e oxygenation as a routin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aintenance of oxygenation not the intubation should be your aim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Use the technique you are familiar with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lways have plan B,C,D in unexpected D.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e5e5ff"/>
                </a:solidFill>
                <a:latin typeface="Garamond"/>
              </a:rPr>
              <a:t>Requirement of successful intbatin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1-Normal roomy mandibl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2-Normal T-M, A-O , and C-spin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Requirements of successful intubation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3-Alignment of 3 axes o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ssuming sniffing posi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-Any anomaly in these 3 join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-O, T-M or C-spine can resul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 difficult intub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715000" y="1619280"/>
            <a:ext cx="2886120" cy="52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e5e5ff"/>
                </a:solidFill>
                <a:latin typeface="Garamond"/>
              </a:rPr>
              <a:t>Requirement of successful intubation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Proper equipm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-Bag and mask,oxygen sour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-Airways oro and nasopharyngea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-Laryngosopes different blad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-ETT different siz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-suction 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e5e5ff"/>
                </a:solidFill>
                <a:latin typeface="Garamond"/>
              </a:rPr>
              <a:t>Airway gadge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336680" y="1600200"/>
            <a:ext cx="2279520" cy="21859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600200" y="4038480"/>
            <a:ext cx="1981080" cy="266724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5029200" y="1143000"/>
            <a:ext cx="3200400" cy="25909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4"/>
          <a:stretch/>
        </p:blipFill>
        <p:spPr>
          <a:xfrm>
            <a:off x="4876920" y="3962520"/>
            <a:ext cx="335268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Management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-History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revious history of difficulty is the best predicto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quire about:-Nature of difficult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-No of trial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-Ability to ventilate bet trial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-Maneuver use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-Complication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I-Snoring and sleep apnea( prdictors of DMV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xamina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-Look for any obvious anomaly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orbid obesity(BMI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kul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Jaw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outh,teet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eck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248520" y="1447920"/>
            <a:ext cx="2374920" cy="347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xamina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-The 3 joints movemen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-O joint(15-20 degrees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resence of a gap bet the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cciput and C1 is essentia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cervical spine(range&gt;90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.M joint:-interdental gap(3 fingers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        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-subluxation  (1 finger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5410080" y="1295280"/>
            <a:ext cx="2533680" cy="25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2T15:25:55Z</dcterms:created>
  <dc:creator>adel</dc:creator>
  <dc:description/>
  <dc:language>en-US</dc:language>
  <cp:lastModifiedBy>adel elshimy</cp:lastModifiedBy>
  <dcterms:modified xsi:type="dcterms:W3CDTF">2009-11-09T17:25:48Z</dcterms:modified>
  <cp:revision>30</cp:revision>
  <dc:subject/>
  <dc:title>Difficult Airway</dc:title>
</cp:coreProperties>
</file>