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8D53-054D-420E-ABA4-F6F3AE820C0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D746-6B6E-4BAA-A531-D27EDA07E8A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57F0-FE04-4A39-AE5F-43A7108D198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D7AB-4A00-481A-80A6-00953C62A0C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0A28-F13E-4E1F-80ED-025210717F0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6183-97C2-4F48-B0C5-E3B671EF49B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C6EE-DD78-4B01-A7FE-C60BDF04497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614E-2B1D-4AD3-A541-5C68C07EF09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BF11-DCA4-4967-BD03-073494591D0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C177-D2CE-429F-A5BE-F1693688B30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AC5F-F55E-4304-9C33-F8DE6B5B801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55DD-1EC2-455F-9A93-F01B8EA174C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73A9-9712-4549-A24D-E70E0127AB8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F775-DBF2-4894-87C8-864655E7345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62F9-2214-45E0-969E-9A7BF5E592F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A921-FE3A-4C2A-904C-6FB79B5982C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CF97-A87E-49F4-9141-34E7641B90E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07F1-26A3-415B-AB38-C561A561BB8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FB7D-BAA2-43C9-9831-E9792DE30BB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DF42-0B51-4808-A711-CC14F79F6C2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6A58-365D-481B-B0E2-3196C35701C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42A1-CE6D-4583-BD1F-BE8FF40C212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08C7-6CE2-428D-896A-D05CC9BC240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CBEA-BDC1-4633-BDB6-2C45FDDBC2A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C455-EA4F-4B19-8F20-C2E242BCBEE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D942-56CF-49E4-A94C-F4AAD2C6097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3DD1-73D7-4CF9-B57F-F01759A355B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8CAD-828C-4BEA-93A1-813F2255CB4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FF76-3E7D-4D8E-A665-24727AF234C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BE17-3A36-43DF-A9A3-5CC55E1F2BF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27F3-5878-49E1-91E2-39DB8D81263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96D4-7012-41C9-B56E-D052E6FA716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D872-2106-4CE8-8107-841DAD9C92B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F10F-6521-4CEA-8519-74BCE936F4F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9595-31C9-4C4A-9C74-8FA5B51F4E8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1440-AF14-47E0-8AE1-AAC01694D4D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5414-AE7B-4358-93AF-37560A20DD1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A6EB-FD20-4203-B339-998646319AA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5A17-5668-41F2-89E8-12D1A03E129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4063-4966-41FD-924C-051858E7334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92C5-8A0F-46A9-AC26-BDC6113289A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E7BA-5103-4408-95CA-3CAD12874D4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8572-9CC6-466E-A9C0-0199040D00A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5527-7770-4EB1-ACDC-4BF3224FC65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4069-B868-48B8-8D25-2590276F4D3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8F06-FF62-40D3-8CC0-A19E3EE2716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AD12-4D9D-4C2E-BB38-0CE0428E9B1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DAE3-6CC1-4111-AC41-8DDC8F841FF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543E-C042-419F-A579-374FB304F50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5143-CC90-4A07-B2EC-8D11549EF84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76EA-BA4B-473B-9E7C-779E40586F1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24CD-FEC2-475A-BB47-8285F779734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F5A0-BF42-450F-8F3E-F29CD3C19C4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269-A626-4322-8680-EB672FDD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7B5-B092-4616-B258-044A0DD7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BE68C-C606-493B-B5FB-CD92E6A0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CB9B6-D141-4F33-9E7E-15913D90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53A88-F255-4BCE-A990-B980CB8B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E8264-DB96-49FB-8DF4-3A91DB1B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A5F1D-FFAC-43DC-B28D-DEEF6595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D7764-ABE6-4409-9D69-07F9F3CB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2E5B1-E751-4532-BA04-C55E3DE6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2E666-F753-40DC-8EBB-4C265310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554D1-B531-4BC5-9FFF-3AD443FD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E1BA6-8AFE-4F2F-9384-95BD72D2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304-0AAF-4BBB-B391-3D4E5933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13EAA-93C5-4FC5-96B5-8B282CAD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DD54A-9E6D-4026-9556-7AEC7C9E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C0FDF-EE0C-4600-94C3-707D51A8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C1889-5094-4E98-A89A-6576A77E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D5372-D102-4798-B6BE-CF7B09F8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289C9-50B1-4745-8112-6A9660B3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12065-C358-4F1D-AFD5-90FFC0E1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F850C-4D3C-4C82-8613-4D0F663A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C58AF-C0A7-48F5-8C20-086BCA7C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3CD50-11A9-460B-8F6D-17875F54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A7FA-FADF-415F-A16E-52B27342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AE53B-D787-42E0-8696-2B28E77A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751AC-B18C-4BB7-A8F5-41B50392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B33CC-4E12-44FF-9061-8CAF91AA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8F6A9-5529-415A-9794-E236DF63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80812-2E1F-48E9-8B50-B4CA9164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9F621-E9E6-4728-AD7C-913A38B2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12021-5BD8-46A6-B8B3-71035833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A1DB3-D744-4ED6-B6D1-79C80509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AEE19-7298-4E2B-A4F4-1A3650E5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CB769-6734-4BF3-93D9-F74FB51E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0CA0-5D7A-4490-B6FB-D361AFB0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28EDE-D167-4E78-AE03-F4E1FAF8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54716-6223-4398-9CD9-CAA1EC45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49F7C-A50C-4318-A548-BC3740E7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9D992-605D-4899-A2F2-8E98E5AB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97A82-92BF-4955-9F32-B34BD91B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D29E9-284C-459A-8014-1B79A01E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C80A5-AA47-4C8C-BE15-7FC6638C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F203F-3A75-490E-856D-47ACC95F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A5F4A-8058-4292-9833-96ED9A94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D7882-0201-41B7-8C50-20691B02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7689-B34D-4732-A80A-1C23543F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10E93-90BF-4387-8EB3-D52D19FD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ED8A4-6BA5-4CCE-9B1A-E861086B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622EC-1C19-4D43-9B66-68BE87A5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521B4-6BA0-42E0-B0C6-2C8E3EBB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004B9-6B00-4160-82A5-606BFA10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C926-494A-4F83-B96D-EAA65FE0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BA66-DA64-4307-9529-49C501E4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E625-BDDE-464A-8828-E1839659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4DCF-8F6E-4D52-9E1A-5A8E7716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E8C5-1C90-4BDD-A9A1-1A817B9C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E00-8692-494E-BEF9-1FC0F71A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84A5-CF3D-4259-B3B9-5D3909DA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D9BA-AC68-41E5-A2F5-E638042A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4ACC-0BB7-45CE-B037-B8DA84FD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0EFD-B534-42FC-ADC3-8B5CB043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5356-FD0B-42A9-A2EF-55380987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F08A3-66A4-441A-8D7C-781ABF21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2B740-D8D4-4692-85FD-AA1145B7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9EE27-54D5-4356-9980-6A019A48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5C618-173E-4A5A-A4F7-4EC3A95B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7646-CAC1-4005-B740-F2CC3614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330-E63F-4FBC-889E-55EDE4D6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DBE4-0491-4318-AE4F-DF90D738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694A6-00F8-469D-9F17-EEC4047E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0855-5600-4F58-B58B-7FD8C5CF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AE70-3F52-4BB4-B40D-C99F591F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A9321-1868-4AD8-8BB3-239579F0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92C32-55EE-42F3-A360-AB2AD7D5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9CC82-14A0-4CD3-84F4-0A79098F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E309E-D5A3-4106-A687-B2246FB4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A3B7D-6D1D-4E2F-97B2-24620FEB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0A0BA-34EB-4038-BDAD-482ECF53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895-BD94-497E-BC33-CD58CDD4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EB8B3-AB53-4381-9A9E-494FF3DB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81395-DF34-410F-ACCE-8DAB7C5E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7F87-9965-4297-80D7-4B2A2BAD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D5B0B-D057-44F0-A9DC-05889E62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374A3-0CC7-4B50-A39F-B3386346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D659-7AF4-45CF-A357-4A3DB37F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E58EA-5840-4D9A-BBF4-EBA51583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F6160-98AE-4871-B8A9-B2648332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1FF9A-6DE7-4659-8404-18CC5CD6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42E3F-0C58-435F-9F4E-42FE1947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A006-AD85-4692-B614-78F9A320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0F216-ACE9-499F-B36A-98066FE4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09A0C-70C8-4A1B-AF3A-3AD42B65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C34E0-461A-4A7C-8FA5-C422DBA6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D19B1-7B9F-4C62-9131-8DF6D407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A44A9-D7E5-44DE-A69C-AFA642AE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02118-9CFD-4DC0-B5A4-58043010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EC345-CD0A-463C-B209-1DE9C685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47C70-268D-456B-AE11-A4F96AC6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1A8EB-A9C6-44F8-9287-61018BC6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CBD1F-6982-49DA-9C5A-FCCB5ADE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1B1-4D60-4228-822D-81D90B94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5804A-AC26-4A88-AD2B-431AD992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A3F05-04B0-4D50-80E5-93541B2E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BC403-5E2A-43E7-BB5C-DBF4685A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8C416-5BAD-457B-9A30-278966A3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2DC32-FE8E-4350-A90F-CB1FADD2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B780C-13E8-4A4D-979E-5B7E3CF5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0E2EB-1A4B-4EDC-B4A0-C6AB24D5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7F821-F526-4E3C-8133-8F1D756D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D4EE-D5B4-413B-93BA-D08FD9AC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BA58B-256A-48F0-9037-C914D26B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D5B-F041-42BD-8B80-15AB637D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F4E05-B749-43D0-9A27-AD6B5E93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BE67F-EFF5-4B5F-B333-C6BE3DC4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4EF14-5B41-4DCA-8255-AB73AF6D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4E0F6-A9E3-4505-8284-B74996F7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E66FA-AE35-4534-B32E-74AFED74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2CA2E-06AA-46FB-BC9E-03706BD5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CC901-CA95-461B-8F32-D6FAE282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27164-D876-47F8-A85D-79B592CE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3B42C-DD84-41D0-80F4-FF154880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C0B9F-D066-426E-A15E-740CBB75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BE2-9951-4BC9-BB39-4390DDDE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487EF-09C2-44CB-89E0-92FDA807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59FC9-8AE0-48FF-B3BC-764286B0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08071-BE4B-4205-94B0-0B1EC2A9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F9088-4001-4B79-A62E-119EFD65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1F054-5FF8-4B68-8B0F-4E84EF8F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41301-074C-4144-A759-20EB6CF3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367E9-BDE3-41DB-8B2E-F63FFE1F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BDDB0-0157-4B20-A4A1-25E4FA03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1F19B-1455-40A6-9432-DB923FC0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F5806-AE8C-4F8C-999E-975D8C78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AC1-3DCA-4F4A-8167-26F78FC8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3B44A-77EF-4126-A61A-D0324193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5C5B7-17C6-4FE1-8621-0D1ABF0A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A8EB7-AE0A-425A-AFE3-324F4842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79C06-8A93-4C04-880E-54222341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C0990-A930-4FE7-B4D7-E81C9DAD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F175D-D764-4B0B-8D2A-8F3C6739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3AAB5-A4F7-4C1A-B3ED-AC9F1292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A4920-AF5A-482C-BC71-CCF7B069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FC39C-7388-46E1-B218-C17CC405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79849-2302-4998-959F-A8D88CCD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E5E8-2565-4FDA-83F0-15347F7FE9B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6FAC-A479-4D86-8204-3076F2D6BDE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748E-A4FD-4181-9688-A72DDED1F47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A80D-575C-4612-B385-494F4297F46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C7A2-C015-4054-BE4B-23ACF0DBAE1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6918-7782-4D50-89EE-C8729081161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2C91-8C29-49C7-A676-8B500068363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B484-FE2E-4F24-BDE0-CFEDFD5FC27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B74F-585B-4E3E-9561-091C04DB620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016E-F6F3-42BE-B053-1709215ECC5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C1F9-7806-414B-ACDA-1BAD7877E1A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4359-003F-4B74-A75F-A65A7EC9931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Blood transf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BL"/>
          <p:cNvPicPr/>
          <p:nvPr/>
        </p:nvPicPr>
        <p:blipFill>
          <a:blip r:embed="rId1"/>
          <a:stretch/>
        </p:blipFill>
        <p:spPr>
          <a:xfrm>
            <a:off x="6300720" y="19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BLOOD"/>
          <p:cNvPicPr/>
          <p:nvPr/>
        </p:nvPicPr>
        <p:blipFill>
          <a:blip r:embed="rId2"/>
          <a:stretch/>
        </p:blipFill>
        <p:spPr>
          <a:xfrm>
            <a:off x="324000" y="1989000"/>
            <a:ext cx="3238200" cy="2514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PRC"/>
          <p:cNvPicPr/>
          <p:nvPr/>
        </p:nvPicPr>
        <p:blipFill>
          <a:blip r:embed="rId3"/>
          <a:stretch/>
        </p:blipFill>
        <p:spPr>
          <a:xfrm>
            <a:off x="3780000" y="1989000"/>
            <a:ext cx="22572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guid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4000" y="2781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$ case series : reports of Jehovah witness; some may tolerate very low Hb&lt; 6-8 g/dl in the perioperative period without an incresae in 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guid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ealthy, normovolemic individual, tissue oxygenation is maintained and anemia tolerated at Hct as low as 18-25%(Hb 6-8gm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$ RBC transfusion is rarely indicated when Hb&gt; 10 g/dl and is almost always indicated when Hb&lt; 6 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erican Society Anesthesiologist : 199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คุณหมอขาหนูหน้าซีดแล้วต้องให้เลือดหนูหรือเปล่าค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4000" y="2781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800" spc="-1" strike="noStrike">
              <a:solidFill>
                <a:srgbClr val="000000"/>
              </a:solidFill>
              <a:latin typeface="Arial"/>
              <a:ea typeface="Angsana New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Baby_001"/>
          <p:cNvPicPr/>
          <p:nvPr/>
        </p:nvPicPr>
        <p:blipFill>
          <a:blip r:embed="rId1"/>
          <a:stretch/>
        </p:blipFill>
        <p:spPr>
          <a:xfrm>
            <a:off x="1709640" y="2781360"/>
            <a:ext cx="5724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initial therapeutic dose : 10-15 ml/kg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d factor de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warfari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 of coagulopathy associated with liv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patients who are received massive blood trans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crovasc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e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cations (PATCH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lets – dec,Potassium – inc., ARDS, Acidosis,Temp dec., Citrate intoxication, Hepat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1 BV/ 24 HR&gt; 50 % BV within 3 hrs &gt; 150 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thrombin III de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P ( Thrombotic thrombocytopenic purpura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thrombocytopenia or dysfunction platelets in        the presence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hylactic : plt.counts below 10,000-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hylactic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operative : plt.counts below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Microvascular bleeding in surgical patient with platelets &lt; 50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Neuro/ ocular surgery &gt; 7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539640" y="2349360"/>
            <a:ext cx="79930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Massive transfusio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vascular bleeding with platelets &lt; 1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2 BVs = 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Qualitative dysfunctio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vascular bleeding (may be &gt; 100,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ml: 0.5- 0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telets (some RBC’s and WBC’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donor apheresis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donor (x 6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79280" y="0"/>
            <a:ext cx="871380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CRYOPRECIPITA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l: fibrinogen (150-250 mg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I (80-145 U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ronectin, X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U/ 10k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brinogen 50 mg/dL (usually a 6- p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fibrinogenemia (congenital or acqui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vascular bleeding with massive BT (fibrinogen &lt; 80-100mg/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ngsana New"/>
              </a:rPr>
              <a:t>2 BVs = &lt; 100 mg/d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ee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tients with vWD (or unresponsive to DDAV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trategies for management of blood loss during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4000" y="2781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logous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alvage &amp; re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olemic hemodi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5" descr="cell salvage"/>
          <p:cNvPicPr/>
          <p:nvPr/>
        </p:nvPicPr>
        <p:blipFill>
          <a:blip r:embed="rId1"/>
          <a:stretch/>
        </p:blipFill>
        <p:spPr>
          <a:xfrm>
            <a:off x="179280" y="836640"/>
            <a:ext cx="3745080" cy="54007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cell"/>
          <p:cNvPicPr/>
          <p:nvPr/>
        </p:nvPicPr>
        <p:blipFill>
          <a:blip r:embed="rId2"/>
          <a:stretch/>
        </p:blipFill>
        <p:spPr>
          <a:xfrm>
            <a:off x="5435640" y="836640"/>
            <a:ext cx="3313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42560" y="2781000"/>
            <a:ext cx="7489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ion to blood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trategies for management of blood loss during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684000" y="620640"/>
            <a:ext cx="8064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s still the best possible thing to have in our veins” - Woody 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transfusion is a lot like marri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not be entered upon lightly, unadvisedly or wantonly, or more often than is absolutely necessary” - B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7" descr="lover"/>
          <p:cNvPicPr/>
          <p:nvPr/>
        </p:nvPicPr>
        <p:blipFill>
          <a:blip r:embed="rId1"/>
          <a:stretch/>
        </p:blipFill>
        <p:spPr>
          <a:xfrm>
            <a:off x="179280" y="2133720"/>
            <a:ext cx="19051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ุณหมอขาตัวหนูแดงทั้งตัวแล้ว แล้วคุณหมอเป็นไงบ้าง หัวบวมหรือยังค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84000" y="2781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7" descr="Baby_004"/>
          <p:cNvPicPr/>
          <p:nvPr/>
        </p:nvPicPr>
        <p:blipFill>
          <a:blip r:embed="rId1"/>
          <a:stretch/>
        </p:blipFill>
        <p:spPr>
          <a:xfrm>
            <a:off x="684360" y="2781360"/>
            <a:ext cx="8135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RANSFUSION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y unfavorable transfusion-related event occurring in a patient during or after transfusion of bloo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blood transfusion"/>
          <p:cNvPicPr/>
          <p:nvPr/>
        </p:nvPicPr>
        <p:blipFill>
          <a:blip r:embed="rId1"/>
          <a:stretch/>
        </p:blipFill>
        <p:spPr>
          <a:xfrm>
            <a:off x="1684440" y="2637000"/>
            <a:ext cx="57751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RANSFUSION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@RBC’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hemolyt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5 % transfu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Causes   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r chemical destruc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:  freezin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ing, hemolytic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olution added to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cterial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ever, chills, urtic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transfusion, diphenhydramine , antipyretic for f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oly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BO incompati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 12-33,000) with fatality (1/ 500-80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are group O patients receiving type A, B or AB bl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ment activation, RBC lysis, free Hb (+ direct Coombs Ab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6858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cute Hemolytic Transfusion Rea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1116000" y="23623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b 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 recipient serum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 + Ag 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n RBC dono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2743200" y="3124080"/>
            <a:ext cx="46069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endocrin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mplement Ac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agulation Ac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ytokines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547640" y="5805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ute hemolytic transfusio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4572000" y="2781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>
            <a:off x="4572000" y="53737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0"/>
          <p:cNvSpPr/>
          <p:nvPr/>
        </p:nvSpPr>
        <p:spPr>
          <a:xfrm>
            <a:off x="541440" y="14842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ute Hemolytic Transfusion Reac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712960"/>
            <a:ext cx="822960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611280" y="2276640"/>
            <a:ext cx="817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onset within minutes or 1-2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ransfuse incompatible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ause is ABO-in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ns and Symptoms of AHT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ls , 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al flu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na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st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s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ed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 along infusion 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sthesia: hypotension, urticaria, abnorma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infusion, blood and urine to blood bank, coagulation screen (urine/plasma Hb, haptoglob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id therapy and osmotic diur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zation of urine (increase solubility of Hb degradation produ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bleeding, Rx. D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oratory investigation for AHT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from blood bag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ABO, Rh, Ab scre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 Tx sample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ABO, Rh, Ab scre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Tx sample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ABO, Rh, Ab screening, D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C, UA, Bilirubin, BUN, C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gulation 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compatibility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e Tx sample  &amp;  Dono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ost Tx sample &amp;  Dono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"/>
          <p:cNvSpPr/>
          <p:nvPr/>
        </p:nvSpPr>
        <p:spPr>
          <a:xfrm>
            <a:off x="3995640" y="19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"/>
          <p:cNvSpPr/>
          <p:nvPr/>
        </p:nvSpPr>
        <p:spPr>
          <a:xfrm>
            <a:off x="3419640" y="2924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6"/>
          <p:cNvSpPr/>
          <p:nvPr/>
        </p:nvSpPr>
        <p:spPr>
          <a:xfrm>
            <a:off x="3492360" y="35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ay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extravascular immune)1/ 5-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olysis 1-2 weeks after transfusion (reappearance of Ab against donor Ag from previous exposure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, anemia, jau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immu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ient produces Ab’s against RBC membrane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future delayed hemolytic reactions and difficulty cross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899640" y="1413000"/>
            <a:ext cx="748836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red cell membrane : least 300 different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unately, only the ABO and the Rh systems are important in the majority of blood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 : Hepatitis B,C  syphillis  HIV-1,2      HTLV-I,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1117440" y="144792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@WBC’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: All products leukode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: Initial FDA recommendation now reversed pending objective data (NO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ngth of stay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ens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ile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ient Ab reacts with donor Ag, stimulates pyrogens  (1-2 % transfus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- 30% of platelet transf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transfusion, antipyretic, meperidine for shiv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68360" y="17524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LI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usion related acute lung inju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or Ab reacts with recipient A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/ 10,00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cardiogenic pulmonary 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ve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-related Acute Lung Inju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R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Pathophysiolog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ukocyte Ab in donor react with pt. leuk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comp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rence of granulocytes to pulmonary endothelium with release of proteolytic enz.&amp; toxic O</a:t>
            </a:r>
            <a:r>
              <a:rPr b="0" lang="en-US" sz="2800" spc="-1" strike="noStrike" baseline="-44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abol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thelia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stitial edema and fluid in alve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"/>
          <p:cNvSpPr/>
          <p:nvPr/>
        </p:nvSpPr>
        <p:spPr>
          <a:xfrm>
            <a:off x="4572000" y="2565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5"/>
          <p:cNvSpPr/>
          <p:nvPr/>
        </p:nvSpPr>
        <p:spPr>
          <a:xfrm>
            <a:off x="457200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6"/>
          <p:cNvSpPr/>
          <p:nvPr/>
        </p:nvSpPr>
        <p:spPr>
          <a:xfrm>
            <a:off x="4572000" y="4797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7"/>
          <p:cNvSpPr/>
          <p:nvPr/>
        </p:nvSpPr>
        <p:spPr>
          <a:xfrm>
            <a:off x="4572000" y="558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-related Acute Lung Inju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R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and severe type of transfusio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Symptoms and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hy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s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e pulmonary infiltration on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of noncardiogenic pumonary 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usion-related Acute Lung Inju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R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erapy and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quate respiratory and hemodynamic supportiv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RALI is caused by pt. A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L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RALI is caused by donor A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pecial bloo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-associated Graft-versus-Ho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( TA-GVH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: immunocompromised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 that more common with designated don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T, LBW neonates, Hodgkin's disease, exchange Tx in neo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7680" y="426600"/>
            <a:ext cx="79563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-associated Graft-versus-Ho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TA-GVHD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fusion of Immunocompete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Lymphocy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tient a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liferation of donor T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ttack against patient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4572000" y="40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4572000" y="3068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6"/>
          <p:cNvSpPr/>
          <p:nvPr/>
        </p:nvSpPr>
        <p:spPr>
          <a:xfrm>
            <a:off x="4572000" y="515772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t-versus-Host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s &amp;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757080" y="2924280"/>
            <a:ext cx="8352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et ~ 3 to 30 days after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significant – pancytop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ffects include fever,  liver enzy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ous watery diarrhe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ematous skin          erythrode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esqua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"/>
          <p:cNvSpPr/>
          <p:nvPr/>
        </p:nvSpPr>
        <p:spPr>
          <a:xfrm>
            <a:off x="4356000" y="5300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539640" y="83808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@Platele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immu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% of repeated platelet transf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-dependent elimination of platelets with lack of 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ingle donor apher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Signs &amp; Symp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light fever and    H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telet refractoriness with bl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transfusion purp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ient Ab leads to sudden destruction of platelets 1-2 weeks after transfusion (sudden on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 com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munomodulatory effects of trans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nd infection: circumstantial evidence (? leukocyte filters for immunocompromi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cial effects on renal graft survival (now &lt; NB with C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: 9% graft survival advantage after 5 yea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specific overload of 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ocytes, A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 T helper/suppressor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geneic lymphocytes may circulate for years after transf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403280" y="1557360"/>
            <a:ext cx="64008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Crossmatching (50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s ABO and Rh ty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s antibodies to the other blood group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s antibodies in low titers or those that do not agglutinate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1835280" y="404640"/>
            <a:ext cx="51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880920" y="1267920"/>
            <a:ext cx="750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 recurrence (mostl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trosp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: 90 % studies suggest increased re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st: 70 % stud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and neck: 75 %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geneic blood products increase cancer recurrence after potentially curative surgical resection” - Lan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circumstantial NOT ca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49040" y="1519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FECTIOUS CO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17440" y="12952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epatitis 88% of per unit viral risk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patitis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1/ 200,000 due to HBsAg, antiHBc screening (7-17 % of PT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unit risk 1/63-66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2% residual HBV remains in ‘negative’ donors (window 2-16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HBc testing retained as surrogate marker for H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1117440" y="11430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NB and Hepatiti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now 1/ 103,000 (NEJM 96) with 2nd/ 1/ 125,000 with 3rd generation HCV Ab/ HVC RNA t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4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% patients become chronic carriers, 10-20 % develop cirrh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1117440" y="12952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risk 1/ 450- 660,000 (9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current screening (Abs to HIV I, II and p24 Ag), window 6-8 weeks (third generation ELISA tests in Euro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o -ve window to &lt; 16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117440" y="12952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LV I,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n cellular components (not FFP, cr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1/ 641,000 (window period unkn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for antibody I may not pick up 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JD (and variant CJ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015560" y="45720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componen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in immunocompromised, although 80 % adults have serum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filtration decreases risk of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V -ve bloo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V -ve pregnant patients, LBW neonates, CMV -ve transplant recipi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V-ve/ HIV +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920000" cy="57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. Bac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unlikely in products stored for &gt; 72 hours at 1-6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 –ve, gram +ve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req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rsinia enterocoli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ndotox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elets stored at room temperature for 5 days, with infection rate of 0.2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II. Protoz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panosoma cruzi (Chaga’s disea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oplasm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ological Tes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Infectious mar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61920" y="2138040"/>
            <a:ext cx="454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V – 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 – 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Bs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 – H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or syphi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49040" y="759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CO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17440" y="144792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itrate tox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rate (3G/ unit WB) binds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bolized liver, mobilization bone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calcemia ONLY if &gt; 1 unit/ 5 min or hepatic dys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ension more likely due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rdiac output/ perfusion th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cium (except neonat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e with hypothermia/ hepatic dys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perkalem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3 weeks,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25- 30 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8- 15 mmol per unit PRBC/ 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 with &gt; 1 unit/5 min @ inf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0" y="191592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Antibody screen : Indirect Coombs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5 m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ject serum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tigenic composition)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 red cell agglu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Type&amp;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Emergency trans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78748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278748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1117440" y="13716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id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load after after 3 weeks 30-40 mmol/l (pH 6.6 - 6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acidosis more likely due to decreased perfusion, hepatic impairment, hypother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THAM if base deficit &gt; 7-10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20480" y="137160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, 3 D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eted within 96 hours of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 DC to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d within 8- 24 hours of trans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17440" y="1519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49040" y="121932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Guidelines for Blood Component Therapy (ASA Task Force). Anesthesiology 1996; 84: 732-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of the Blood Supply. JAMA 1995; 274:1368--7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ctious Disease Testing for Blood Transfusions (NIH Consensus Conference). JAMA 1995; 274: 1374-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84000" y="220464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T&amp;S -determines ABO and Rh status and the presence of most commonly encountered antibodies – risk of adverse rxn is 1: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-takes about 5 m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T&amp;C -determines ABO and Rh status as well as adverse rxn to even low incidence antigens – risk of rxn is 1: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-takes about 45 m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684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nd screen vs Type and cross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nd screen vs Type and cross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79280" y="2204640"/>
            <a:ext cx="8569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&amp;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 red cells are mixed with pt serum Antibody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&amp;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 red cells are mixed with pt serum Antibody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Donor red cells are then mixed with the pt’s serum to determine possible in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684360" y="9079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99640" y="1413000"/>
            <a:ext cx="748836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units – RBC @ PRC 1unit (250 ml Hct.7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platelet@ 1 unit (50-70 ml, stored at 20-24c for 5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plasma @ F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cryoprecipitate @ high conc. Of factor VII, fibrino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84000" y="907920"/>
            <a:ext cx="8064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patients requiring red cells but not volume replacem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one – Increase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rrying capa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                            BLOOD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o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mature                                      95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term                                         85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                                      80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                                                 75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men                                            65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able blood loss = EBV*( Hct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ตั้งต้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t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ที่ยอมรับได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 Hct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เฉลี่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t. 30% not mag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hovah” s wi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3:48:14Z</dcterms:created>
  <dc:creator>ABX</dc:creator>
  <dc:description/>
  <dc:language>en-US</dc:language>
  <cp:lastModifiedBy>MAI</cp:lastModifiedBy>
  <dcterms:modified xsi:type="dcterms:W3CDTF">2010-05-11T18:51:10Z</dcterms:modified>
  <cp:revision>21</cp:revision>
  <dc:subject/>
  <dc:title>Blood transfusion</dc:title>
</cp:coreProperties>
</file>