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866-2E84-4E02-850E-05F1EB1F63C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FEEC-6963-4706-8DF4-367C48FABAD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4CF-64E6-4D6F-98C7-7DE0ECCD86D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6C3-4E0B-496B-8031-B0F3343715D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DA66-9AE2-452F-919E-8605BA9C94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7DF-33F8-4221-8013-66F51C9A13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EC0-E611-40B0-AFC9-5AA23BEBE9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87EA-D76D-4FA4-AEBA-D2A2EE008A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231-7F02-4571-BA70-28BB8EC8CC5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DB0-C614-4C02-BD8B-FE65B26B132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C438-2885-45F4-9063-584634C0B3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2E6-EB93-415B-BB66-13D2C4F242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E74-BAB1-4D07-A5BF-D8D7E59EF66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05D5-5478-46E3-AC18-B216DCB2ECF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CF0-7CD3-4A18-B6A0-E60EA68A183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5DD-95A0-43E4-8023-39D4D5748C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8ED6-2879-4985-86B3-5EE0AB7E17F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843-315C-4E1B-AF17-B35E140413B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897-D643-4865-91CC-69AB03B365A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935-9CA5-49DA-A261-C0F70132676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9028-198E-4751-BB30-4336D9A1CE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101-C6EF-4AE8-8CD9-3A8ADD12BBE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80F-9E90-4B25-AF01-E62F5FC29E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E9A-EAE5-474D-84F7-EE4139E148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907-0AE0-45A3-9D57-07FA9BDC5D3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F7A-346C-4FA1-AEBA-71A1900E6C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67CA-0DDF-4579-A860-FFED885A1C6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0B4-A762-43BA-B1DF-D3C7C14C23B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347-66BB-4FBA-B023-D262E276CEE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DD7-6DE4-4044-8D03-26904FAF5CF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64FC-E6BD-4D59-9EFD-3CDC68991E2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AD3-E4B1-4D75-8440-2B55B0B253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134-F398-4B63-97F2-101E4EC4C11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246-1EC2-4B60-87E8-B47E79A40D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4EA-CDF6-4883-BBBE-19F78EC0EE0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377-8278-4B53-9761-40D36AA187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CD3B-D774-45FE-A79F-DDD87AEFBD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A9A-8561-4E1C-8D05-26D3D0D1D4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6D6-C459-426E-B3CD-752C07434C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2C4-DB67-428E-8BD5-D5E298FD88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22D-4160-4D96-97DA-0E5D30049C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5BE-7AB5-4C0E-81EC-A79A3D3D475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E979-1A56-48E0-B605-943E486BE12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079D-72A8-4BB9-9969-0DF96DC996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A0EE-17B1-46BE-9B95-004C85AEC94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A28-14AD-4FDB-9394-63CCA43FEA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B84-2BB6-477E-B280-DA35818CDF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7292-97E9-48AC-B604-E40781F3F9A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F1DF-59BB-4C62-837A-01A94E5A3D7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C05-B5EC-4B1D-8C8E-DE5977C16BF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7A4A-7F26-43FE-AC88-E22157BFBB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14D4-A4AB-4C9B-B2CE-EE74266C1D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AEA5-6B4D-4579-AF30-A19ED5A864E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6DD-CFA6-47BD-87AC-12CEFD00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AF3-4B1B-41B2-AC90-B118402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3CA5F-3221-4812-ACA4-7293385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44986-9F16-4DC0-9725-C0FCB55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59B49-07C9-4D26-A2B0-7B17C28A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02BA2-FED8-4E10-9126-04D46E0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D1C49-F532-4266-8301-AE3F070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20887-A903-47E8-B66B-7CB523A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EE913-3265-4DFD-A754-6F8ED5CF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BED47-8D10-4E81-9474-82A8FACD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A5B6-758C-4053-A169-09C5DC4A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9DA83-D5B9-4799-BCA2-46B1CC1A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922-23A2-4CA4-80B8-D3705C67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4A025-96A7-4F2A-9866-8A92F8E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1D06-0FD9-4902-B37C-EB78F791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5B676-B621-4E71-AA5B-AC913F63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97EBB-3EB6-481A-9F20-D28FA5A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59D9B-724B-4B1B-B6B3-E4F63B21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C6BB9-F66E-4DD2-B34E-8AAF62C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4352-778A-4ACB-B181-06AB658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E3F1B-DF08-4040-8989-FDDAE7A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0D441-2F01-478A-9F5E-BD6DCC84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41B88-73E8-4BE5-8C55-A8032199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892-BF75-4EAD-9D76-BD1DD2C0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35D7A-9C8F-4D5C-BA46-50A39F2A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77FD-5BBF-4C6E-BAD1-68A864CD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0BB99-9333-477A-81E0-45477E85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EEBA-99C8-48B0-9A50-6387B62A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09F6-D3B2-4DCA-817D-324B480C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F2DE8-AD65-4BF4-A5E7-2A439E4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8FD04-1927-4371-8475-F7183A4D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1388-4482-4F87-86AE-3208834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7F8FD-49CD-473D-9155-BDC4E3B0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CA29E-CFF5-4EBB-BFA6-D4D4D98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D87-90AE-4979-B6A0-1F4510D0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0435-5894-45B6-AC5D-037BC10F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60EDD-45A3-4536-ADB3-80F06AB9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591F-387E-4D39-B42A-F9FCBCDA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8D6A4-77EC-4951-84F2-CF774E4D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24505-C157-4020-A7DA-D8B4AB3C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BCB82-DAB9-4B57-9BB8-6EEBC7DE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87002-1FB8-4FFF-9E09-157AD22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4F7A-4633-479A-9DBD-BE697E6B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B3A04-44D2-4DF8-9E25-AE07E69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B8EA8-B2B4-4CA1-8B85-C6FD314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FC3-DA16-4332-BC1E-5B7A09B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6D4D1-37AF-4937-BB6C-A01D25C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85AFF-C3A7-4AB4-93C9-2D72F4F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1E27B-C99D-432A-9B31-F97C6E2C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B7991-17A8-4E5B-9712-BFDD2934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9788A-D888-4A33-8E12-CFFAC508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1F9-A351-4706-9FD4-457F4187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016-07A3-4E6F-B9F1-3C82034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ABA-4DF8-4295-B05F-88C06D3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69A-C8E0-4763-A5E1-240791F6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2CF-C2A3-4F23-ACB6-B83A87E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06A-133E-4C6B-85CF-2C1D75A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431-8DF1-4A6E-8FC7-C681C81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E6BE-2D57-45A4-B757-9BC4459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EACD-E4C2-4B13-A21A-9BC09D86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634-4593-486E-BC99-51A1A807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3EE1-381D-4939-809A-B90BBD67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78BF-A64A-4D50-B44C-32707218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031A-FD25-4356-B495-7D2580A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668B-51BE-43A8-BCDA-0A6EE48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40B2-664E-44F2-AD15-C4D3A00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3C05-3FC5-4EF4-B470-C12C1428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9A3-883C-4C07-8339-96E0CB4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3382-E776-4CE9-A68D-1C36A42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8E1E-063C-431C-B1E6-050DDE7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024E-D182-4E23-948F-021E4A2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9EA2-4733-4A0B-93A5-2300072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F789-4729-4A71-895E-1595A6A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C110-066F-46A8-AC51-60B07246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FF84-92B8-472A-B9C0-792DF58E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935A-6EE7-4108-8C5A-40C5F940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5816-17A9-4C78-B212-279EA50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FDBC-4074-49FC-81DF-03F2EC2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659-308F-4DCC-976C-22C0119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C8D8-916F-469B-85E8-DDEAD43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2F28-AACB-47C1-A8D2-4F9515C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C8C9-0ECB-43BE-BCFA-0E71498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7187-38A0-4D0F-BBEB-F4A07D0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3866-7FC7-450C-8857-37C3085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18DB-6179-4DF7-B334-D126ADB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C740-9C9C-46C4-89F8-7C555A5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3A86-436E-4A0E-9DD2-A8793BF4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E305-5E7D-4FC7-84D7-74E7A295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F480-D8DA-46BE-BB2A-F09C092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8E3-BF30-4052-9BB6-9D0EF7A5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83D2-A9C7-49C7-8706-C3DAA10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1CBA-89FD-4A45-9C6C-7FDEA059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5CABC-23F2-4ABD-AF09-D04A164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5194-8182-4C87-88BB-9269E016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6292-2940-414A-B58F-A9B0A58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D85A-EA57-4C54-8C3C-64D2B0C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7241-95A8-478E-8AE6-6C81902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819A-81AA-4FA4-9FA1-13D746F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3117-55E9-46BE-8683-99ABFEDE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3185-8122-409F-9F2F-473C4E4B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D4B-9028-4D99-B8FA-3039B9F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F21D-5977-44A0-B4C2-14838A2A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D563-999D-411E-B749-04A9932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C563-DABA-4207-8F21-654902ED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B8DB-901C-4176-9898-6781973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BE2B-68D6-41AF-9277-10809551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E320-6B40-4EBA-8073-7AABF22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518C0-2C15-4312-9133-0B075B2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86BA-E2B8-4E4E-8FB6-D2BCB64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1B7D-C020-4B09-9255-0B852A1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27A1C-423E-4204-9604-8A770F8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55C-CA96-4D81-9661-5C3CF5C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0595-34CA-4044-BD60-41D4019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7A73-AA86-4755-B4B7-3779A8E9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525A-E421-4B74-8CE2-38871F2B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3D77-4966-41D4-8AD1-596F679A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8AAB-7B94-4DA3-9A16-38264D6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D2C8-F1E0-4529-950F-349BA2C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BF4E-8E2A-4EE4-83B4-ACBBEEB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DC7C-0691-4544-BFDB-8083003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3501-3A52-4F4D-AA37-6CBE8C98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1BC3-2893-43EC-A4D1-6B79D38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781-CCFA-45DC-AD7D-B890DCB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7F9F-3F96-4BA4-AE84-52E6119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7D389-FFD2-4131-8EDB-499C6DE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D1B9-1ABC-4ABD-A9A4-AE554621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8041-F9B3-4FE0-BE2B-173CE4FE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6FCE-628B-4C41-A034-4D018230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5F63-BFFC-43D2-9EE9-12E796A6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89179-099D-48FA-B88E-980CDCB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35EC-0C1D-4EF9-9507-E23973B9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AEAD-1F3E-4DF6-AEC6-7BAA0FFB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266C7-A2B1-4E50-AC13-D15D247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043-4AD7-4ECE-B23B-A41F36A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B259-2FD6-4159-A03E-E84FB50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B646D-5248-439B-881E-765E577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7C85-6F91-4C51-9178-6EF0DB3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6079-DB69-45F5-8098-A7464D9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7316-B2AD-4347-A415-343D3C5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3A9BB-D512-4836-9CE9-1061E3E7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BF72-3589-408F-A436-B05F3ED2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09968-FA1E-4F4B-B0F5-76B209BE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5531-9B60-4C2D-AB7E-63AFC9D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10F0-E264-4560-A584-159FC30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D568-0CBB-41E5-AC9B-9E5C8DB05F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5A5-59EB-4FB9-B3E5-A2ABCD08ADC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C1B-1280-4C92-92CD-C5D5111BCB5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6C12-07E6-4B5A-B733-B1448D561A5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BBE-D422-4A37-A969-0168E61D55D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2C86-B2A6-43C9-8172-DF441638DA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6520-9DC4-49DF-B001-E8D1F612B24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CE5-921A-43E2-A57E-B02C9146315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2680-3BF9-4813-872F-DD118B6CCD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66D7-2636-456A-B08A-C9881789D33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89E-69B8-45CC-96A5-55D893EA174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6E9B-003F-4D64-9EDE-A9C5C3DC663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lood trans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BL"/>
          <p:cNvPicPr/>
          <p:nvPr/>
        </p:nvPicPr>
        <p:blipFill>
          <a:blip r:embed="rId1"/>
          <a:stretch/>
        </p:blipFill>
        <p:spPr>
          <a:xfrm>
            <a:off x="6300720" y="19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BLOOD"/>
          <p:cNvPicPr/>
          <p:nvPr/>
        </p:nvPicPr>
        <p:blipFill>
          <a:blip r:embed="rId2"/>
          <a:stretch/>
        </p:blipFill>
        <p:spPr>
          <a:xfrm>
            <a:off x="324000" y="1989000"/>
            <a:ext cx="3238200" cy="2514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PRC"/>
          <p:cNvPicPr/>
          <p:nvPr/>
        </p:nvPicPr>
        <p:blipFill>
          <a:blip r:embed="rId3"/>
          <a:stretch/>
        </p:blipFill>
        <p:spPr>
          <a:xfrm>
            <a:off x="3780000" y="1989000"/>
            <a:ext cx="2257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case series : reports of Jehovah witness; some may tolerate very low Hb&lt; 6-8 g/dl in the perioperative period without an incresae in 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althy, normovolemic individual, tissue oxygenation is maintained and anemia tolerated at Hct as low as 18-25%(Hb 6-8gm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RBC transfusion is rarely indicated when Hb&gt; 10 g/dl and is almost always indicated when Hb&lt; 6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an Society Anesthesiologist : 19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ุณหมอขาหนูหน้าซีดแล้วต้องให้เลือดหนูหรือเปล่าค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Arial"/>
              <a:ea typeface="Angsana New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Baby_001"/>
          <p:cNvPicPr/>
          <p:nvPr/>
        </p:nvPicPr>
        <p:blipFill>
          <a:blip r:embed="rId1"/>
          <a:stretch/>
        </p:blipFill>
        <p:spPr>
          <a:xfrm>
            <a:off x="1709640" y="2781360"/>
            <a:ext cx="572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initial therapeutic dose : 10-15 ml/kg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factor de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warfari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of coagulopathy associated with liv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atients who are received massive blood trans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rovas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cations (PAT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– dec,Potassium – inc., ARDS, Acidosis,Temp dec., Citrate intoxication, Hepa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BV/ 24 HR&gt; 50 % BV within 3 hrs &gt; 15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thrombin III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 ( Thrombotic thrombocytopenic purpura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thrombocytopenia or dysfunction platelets in        the presence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 : plt.counts below 10,000-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ve : plt.counts below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crovascular bleeding in surgical patient with platelets &lt; 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uro/ ocular surgery &gt; 7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2349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ssive transfus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with platelets &lt;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2 BVs =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Qualitative dysfunct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(may be &gt; 10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: 0.5- 0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telets (some RBC’s and WBC’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nor apheresis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onor (x 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79280" y="0"/>
            <a:ext cx="87138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RYOPRECIPIT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l: fibrinogen (150-250 m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 (80-145 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onectin, X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U/ 10k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brinogen 50 mg/dL (usually a 6- p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fibrinogenemia (congenital or ac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vascular bleeding with massive BT (fibrinogen &lt; 80-100mg/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2 BVs = &lt; 100 mg/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ients with vWD (or unresponsive to DDA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logous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alvage &amp; re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olemic hemo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cell salvage"/>
          <p:cNvPicPr/>
          <p:nvPr/>
        </p:nvPicPr>
        <p:blipFill>
          <a:blip r:embed="rId1"/>
          <a:stretch/>
        </p:blipFill>
        <p:spPr>
          <a:xfrm>
            <a:off x="179280" y="836640"/>
            <a:ext cx="3745080" cy="540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cell"/>
          <p:cNvPicPr/>
          <p:nvPr/>
        </p:nvPicPr>
        <p:blipFill>
          <a:blip r:embed="rId2"/>
          <a:stretch/>
        </p:blipFill>
        <p:spPr>
          <a:xfrm>
            <a:off x="5435640" y="836640"/>
            <a:ext cx="331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781000"/>
            <a:ext cx="7489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 to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4000" y="620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still the best possible thing to have in our veins” - Woody 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 is a lot like marri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 entered upon lightly, unadvisedly or wantonly, or more often than is absolutely necessary” - B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lover"/>
          <p:cNvPicPr/>
          <p:nvPr/>
        </p:nvPicPr>
        <p:blipFill>
          <a:blip r:embed="rId1"/>
          <a:stretch/>
        </p:blipFill>
        <p:spPr>
          <a:xfrm>
            <a:off x="179280" y="21337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ุณหมอขาตัวหนูแดงทั้งตัวแล้ว แล้วคุณหมอเป็นไงบ้าง หัวบวมหรือยังค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Baby_004"/>
          <p:cNvPicPr/>
          <p:nvPr/>
        </p:nvPicPr>
        <p:blipFill>
          <a:blip r:embed="rId1"/>
          <a:stretch/>
        </p:blipFill>
        <p:spPr>
          <a:xfrm>
            <a:off x="684360" y="2781360"/>
            <a:ext cx="813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unfavorable transfusion-related event occurring in a patient during or after transfusion of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blood transfusion"/>
          <p:cNvPicPr/>
          <p:nvPr/>
        </p:nvPicPr>
        <p:blipFill>
          <a:blip r:embed="rId1"/>
          <a:stretch/>
        </p:blipFill>
        <p:spPr>
          <a:xfrm>
            <a:off x="1684440" y="2637000"/>
            <a:ext cx="57751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@RBC’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hemoly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 % transf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auses  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r chemical destru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:  freez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hemolytic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olution add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terial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ever, chills, urtic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transfusion, diphenhydramine , antipyretic for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O incompat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 12-33,000) with fatality (1/ 500-8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group O patients receiving type A, B or AB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 activation, RBC lysis, free Hb (+ direct Coombs Ab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ute Hemolytic Transfusion Rea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116000" y="23623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recipient seru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+ Ag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RBC dono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743200" y="3124080"/>
            <a:ext cx="46069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endocrin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plement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agulation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ytokines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47640" y="580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molytic transfusio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4572000" y="2781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4572000" y="537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541440" y="14842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ute Hemolytic Transfusion Rea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712960"/>
            <a:ext cx="82296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11280" y="2276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onset within minutes or 1-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ransfuse incompatib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is ABO-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and Symptoms of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ls , 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fl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long infusion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: hypotension, urticaria, abnorm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infusion, blood and urine to blood bank, coagulation screen (urine/plasma Hb, haptoglo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therapy and osmotic di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zation of urine (increase solubility of Hb degradation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bleeding, Rx. 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investigation for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from blood bag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Tx sampl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ample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, D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, UA, Bilirubin, BUN, C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gulation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compati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 Tx sample 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st Tx sample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95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341964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349236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extravascular immune)1/ 5-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sis 1-2 weeks after transfusion (reappearance of Ab against donor Ag from previous exposur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anemia, jau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produces Ab’s against RBC membran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future delayed hemolytic reactions and difficulty cross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d cell membrane : least 300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only the ABO and the Rh systems are important in the majority of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: Hepatitis B,C  syphillis  HIV-1,2      HTLV-I,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WBC’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: All products leukode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: Initial FDA recommendation now reversed pending objective data (NO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ngth of stay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il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reacts with donor Ag, stimulates pyrogens  (1-2 % transfus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- 30% of platelet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ransfusion, antipyretic, meperidine for shi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68360" y="17524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L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usion related acute lung inj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or Ab reacts with recipient A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 10,00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ardiogenic pul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thophys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 Ab in donor react with pt. 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of granulocytes to pulmonary endothelium with release of proteolytic enz.&amp; toxic O</a:t>
            </a:r>
            <a:r>
              <a:rPr b="0" lang="en-US" sz="2800" spc="-1" strike="noStrike" baseline="-44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bo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 edema and fluid in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"/>
          <p:cNvSpPr/>
          <p:nvPr/>
        </p:nvSpPr>
        <p:spPr>
          <a:xfrm>
            <a:off x="457200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6"/>
          <p:cNvSpPr/>
          <p:nvPr/>
        </p:nvSpPr>
        <p:spPr>
          <a:xfrm>
            <a:off x="4572000" y="4797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4572000" y="558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nd severe type of transfus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ymptom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hy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pulmonary infiltration on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of noncardiogenic pu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usion-related Acute Lung Inj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rapy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respiratory and hemodynamic supportiv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pt.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L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donor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( TA-GV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: immunocompromised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that more common with designated d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T, LBW neonates, Hodgkin's disease, exchange Tx in ne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7680" y="42660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A-GVH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usion of Immunocompet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Lymphoc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tient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liferation of donor T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tack against patient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457200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4572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4572000" y="5157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t-versus-Hos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s &amp;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7080" y="2924280"/>
            <a:ext cx="8352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~ 3 to 30 days after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significant –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ffects include fever,  liver enzy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ous watery diarrh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tous skin          erythrode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squ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4356000" y="5300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539640" y="83808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@Platel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% of repeated platelet transf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-dependent elimination of platelets with lack of 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ingle donor apher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ght fever and   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elet refractoriness with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ransfusion pur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leads to sudden destruction of platelets 1-2 weeks after transfusion (sudden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unomodulatory effects of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nd infection: circumstantial evidence (? leukocyte filters for immunocomprom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l effects on renal graft survival (now &lt; NB with C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: 9% graft survival advantage after 5 ye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pecific overload of 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ocytes, A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T helper/suppressor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lymphocytes may circulate for years after trans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Crossmatching (5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ABO and Rh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to the other blood grou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in low titers or those that do not agglutinate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35280" y="40464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80920" y="1267920"/>
            <a:ext cx="750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recurrence (most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: 90 % studies suggest increased 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: 70 %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and neck: 75 %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blood products increase cancer recurrence after potentially curative surgical resection” - La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circumstantial NOT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90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CTIOUS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titis 88% of per unit viral risk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200,000 due to HBsAg, antiHBc screening (7-17 % of P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unit risk 1/63-6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% residual HBV remains in ‘negative’ donors (window 2-1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HBc testing retained as surrogate marker for 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17440" y="11430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NB and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now 1/ 103,000 (NEJM 96) with 2nd/ 1/ 125,000 with 3rd generation HCV Ab/ HVC RNA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% patients become chronic carriers, 10-20 % develop cirr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isk 1/ 450- 660,000 (9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urrent screening (Abs to HIV I, II and p24 Ag), window 6-8 weeks (third generation ELISA tests in Eu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 -ve window to &lt; 16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LV I,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 cellular components (not FFP, cr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641,000 (window period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antibody I may not pick up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JD (and variant CJ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15560" y="4572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mponen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immunocompromised, although 80 % adults have serum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filtration decreases risk of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blo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pregnant patients, LBW neonates, CMV -ve transplant recip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-ve/ HIV +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200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. 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unlikely in products stored for &gt; 72 hours at 1-6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 –ve, gram +ve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rsinia enterocoli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ndo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stored at room temperature for 5 days, with infection rate of 0.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I. Protoz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panosoma cruzi (Chaga’s dise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ological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fectious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61920" y="213804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–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yph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9040" y="759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rat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rate (3G/ unit WB) bind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zed liver, mobilization bo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calcemia ONLY if &gt; 1 unit/ 5 min or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more likely du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ac output/ perfusion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ium (except neona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with hypothermia/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erk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weeks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25- 30 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8- 15 mmol per unit PRBC/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with &gt; 1 unit/5 min @ inf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Antibody screen : Indirect Coombs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5 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seru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ic composition)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red cell agglu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ype&amp;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mergency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117440" y="13716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load after after 3 weeks 30-40 mmol/l (pH 6.6 - 6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more likely due to decreased perfusion, hepatic impairment, 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AM if base deficit &gt; 7-10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204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, 3 D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eted within 96 hours of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DC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within 8- 24 hours of 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9040" y="12193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s for Blood Component Therapy (ASA Task Force). Anesthesiology 1996; 84: 732-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of the Blood Supply. JAMA 1995; 274:1368--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ious Disease Testing for Blood Transfusions (NIH Consensus Conference). JAMA 1995; 274: 1374-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S -determines ABO and Rh status and the presence of most commonly encountered antibodies – risk of adverse rxn is 1: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C -determines ABO and Rh status as well as adverse rxn to even low incidence antigens – risk of rxn is 1: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4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84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nor red cells are then mixed with the pt’s serum to determine possible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684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ts – RBC @ PRC 1unit (250 ml Hct.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telet@ 1 unit (50-70 ml, stored at 20-24c for 5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sma @ F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ryoprecipitate @ high conc. Of factor VII,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806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patients requiring red cells but not volume replac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– Increase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rrying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                            BLOO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ature                                      9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erm                                         8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                                      80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                                                7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                                           6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ble blood loss = EBV*(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ั้งต้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ที่ยอมรับได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ฉลี่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. 30% not mag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hovah” s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8:14Z</dcterms:created>
  <dc:creator>ABX</dc:creator>
  <dc:description/>
  <dc:language>en-US</dc:language>
  <cp:lastModifiedBy>MAI</cp:lastModifiedBy>
  <dcterms:modified xsi:type="dcterms:W3CDTF">2010-05-11T18:51:10Z</dcterms:modified>
  <cp:revision>21</cp:revision>
  <dc:subject/>
  <dc:title>Blood transfusion</dc:title>
</cp:coreProperties>
</file>