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137-683E-409C-952B-1458DBFA64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EB3C-A437-4BDF-AC10-A1E9DBC698D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6FC7-5EBD-4507-90D1-7FF9C33DC49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6231-0845-49EF-8366-2FDD68F097D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8256-361C-41BD-A5AD-F6C05406578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B76-4F60-4BD6-958E-9D52C19A7A2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C633-8751-485F-80D5-5B6D6B11731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A844-FE0C-403C-9FF6-B13B0F86CFB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0CAA-CA6A-49CD-9B85-F8F2960F54E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6960-827A-4ED7-9BCC-6919592B5B9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495-BEBB-44CD-A82F-93E9F1B3EEB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2D4E-92FA-449C-893F-E538FD929ED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BFE-3AE7-47AA-A05E-79A60CB0D63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4A1F-75ED-4677-ACF8-C66D165B735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C910-8554-420E-815E-A758DC2B444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9AC-4953-4D7F-AC2A-D7BDF05A868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F8C8-9B6C-44AC-ACDC-0BE2507656A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9400-3419-4E9B-8381-10797F9195A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200-1833-4D3C-9AC9-84B41CF1C9D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5918-E9A4-4E8A-BAFC-1779A9395B6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C3DE-4633-49FC-ADE3-F8EE75C2043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348-8051-4418-9DB1-92977FD839F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77E4-1D32-433D-9518-C215C3DE0CD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597B-53D6-4F05-A065-ACBC162A997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D881-B76E-461C-A347-57CE5735909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0864-9497-4ECB-9D1A-2F68F883787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F8A-EB5F-429F-A63C-8D440457257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18B2-7958-4915-B381-F54B34B2DB2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B13-C70D-48D1-986E-EAD66C7288D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47C-4A0D-4AD0-93B1-65CFCBFF632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330-124C-48FC-AB89-D74337344A9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3EDE-0915-409E-9AAA-8776AB23294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7B9F-6D59-4C1F-930D-DA03DE4E341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0D8-AFF5-43EC-98E8-7AD79E1817D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DB1A-4606-46EA-AEAF-760F190C2C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72A-DA0A-4AA0-AD7B-8496E77B54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9CA2-9772-4694-811E-AA669EF83D4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430F-9E80-47BA-A6A5-16D2710B89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D60D-4E11-4670-89ED-48736E95817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6CE8-9DC8-43CA-97B7-470969B10A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EFEA-B0F4-4251-94DE-2A2CB90620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85B-23E0-4030-9787-391A841130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196-27CA-4B8D-9987-A0D955F5C61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01B2-FD1C-4638-B150-F00503F966E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BC3E-4A58-43DB-88D3-496BA10A5EC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43E-8C01-4E24-B0AE-7D8F9FC7056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2E4D-D18D-47A2-A080-FAD1A031DC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0D6E-6AC4-4EA9-961E-A21B2400CC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FC45-81DC-471C-8517-1C791529ABE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0059-2BC4-42C0-AE08-10D9E8ED232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88E3-DD95-4A5B-B6C8-29E267918DE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8763-A79D-48E4-9A97-70CAEBE0804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2DF7-A95E-4541-81A1-E8618603132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A6E-A1E7-4ACF-97D0-AE4F6B45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98B-2AA1-4E54-B1C1-1C37D7D4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8B28F-8A06-4FC4-AFC5-8F7293E4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F227B-2BE4-4E93-92C9-F8FFF6CA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3D425-FBD3-4F1E-8BE9-1415472F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F4E0E-79F4-41C6-9B5B-040FF59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DFB83-D75B-4188-B8A1-7AC34BC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A7C89-1E17-4E54-B817-7345E85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AE66F-4E08-47F8-9430-50EC975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068FB-3EEA-4906-BBA6-B03F6C98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6182C-433C-495F-BA3B-080617E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B0A19-88BF-4D17-9EFA-467F4C29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19F-3850-4353-A91E-765F2FE7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63E81-DB4B-4C3B-B473-80813F1D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E6D67-C6F5-4D2E-AEF3-9500D4C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14EB7-9BA0-4C4E-9F8E-6821B69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D95EC-0102-4465-B796-3341279F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FD9AD-B030-4D54-BC96-450F0A21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A6F54-9DC3-4A5B-813F-2813CFD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8E028-0579-45BB-AD60-E020591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DA9A9-7F62-46DA-B6D9-4ABFB87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5CA70-0836-4514-9FE5-8601A45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D323B-852B-40AA-87EF-DE787CD2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844-E9E4-4C67-9C6A-077B05A1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642F3-EBBE-4593-B4BE-9E04DFBF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7FB27-4DA3-47F4-8295-14E5D205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7E372-8007-4D8E-A861-4FE5DA12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E4387-05F1-45F3-9DCF-D43C4475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0010C-C66D-44BA-981D-D3608B00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32EBD-E264-4C95-B13A-D01A315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9EDFE-270F-4083-BA5E-CC50448E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D69D5-2ABA-41DA-B020-41C52C6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01370-3F66-4761-9CD1-FF75E876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CF26A-39CE-404C-9708-91298F2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7191-7ABF-49A9-B1C9-E89DFB4E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79EBC-9D61-48A3-88FC-700D722A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5E3E8-D723-4EEA-B353-C3CB47BA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28FDA-EC28-4752-AEBC-B440A0D7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EDA2D-1A59-4578-893B-4B60CCDF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17451-1978-4C85-B836-6AF28222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B95EE-4F65-4244-903B-C273ACD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258FA-EEC8-461D-A6EE-DFD313C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F168C-5F2F-462F-BEF6-67F6C3E3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D5D07-5CA5-48D9-9966-933761A7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C00C4-BD41-43BA-B0A2-17825A9B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EAA8-2A52-49EE-8B95-BEDD701A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F59D1-E9BD-4F2F-B4A1-28275BE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79FB2-4A9C-40BF-9CA0-7827A51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83504-8A25-4B8F-A1EE-42ADD6A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D86DC-C1C1-4093-B85B-80490CB6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90197-8ECB-484E-BDF8-D7B4183B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674A-AC12-448B-BC84-0D3A48D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1EBA-BBC8-4A8E-99FA-67D50EDE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C34-DB30-42D0-B96A-10BDC49F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8FCA-EA60-4DA6-98A1-115FC0F5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EDD-E0C2-4F28-9995-ADB9E1D2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BEA-8E4E-41B6-B25B-2CF8239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BF57-E182-465A-B264-C9BDBA7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E6EF-3FEF-4D8E-B3B5-A619A6CA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E2E-BAAE-47E1-A7B6-882BDB01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D850-56EB-4174-8E68-73C520C1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FE0A-E88F-406B-9C2A-A7E2F6A7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268D-5E5B-47EA-9569-16948283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03AD-D8FC-4607-8AE0-E5F870B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98A4-C31B-45B7-AD0A-007D5D6C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F4F5-CE43-417E-9BE8-D5988C1B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8EAA-536E-4EB6-9942-7EDA3A50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050-B38B-42B7-9D44-3DC1039F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0B64-4573-4C24-B284-F8784AF1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F3FC-105B-4E6D-B953-545C027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7CB6-A895-4D91-BCBD-BB00072B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C912-8764-4D05-A0D4-E25ECB5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DE9B-59FA-4F37-BE32-E7820C7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B3D1-53C1-4857-899B-D6165F15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1B84-9E7E-4A04-99CF-B9E18487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CEF9-5B30-483B-9031-36A99B8F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2674-065F-4C04-AB68-06346B0F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09B7-C70E-4285-914A-CCD0B91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C0B-01E7-429D-BEAD-FF30C36E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A3E8-002F-4218-8C2D-DEB2B19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DE13E-D884-4152-BDB3-60CC20AB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8560-50AA-4938-B281-082BCCDE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2150-0E53-4352-AC25-56C5DEA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B011-EC0F-4C9C-A252-E9C63917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A3F49-0704-45B3-B294-3392987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DA06-0BB0-4D2E-9C74-038E34C7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DEAD-27DD-439E-852D-F6B6F954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2361-D2A5-418F-BB91-89FE396A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36666-CF2F-43B6-A8DE-C09E514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95F-FCF7-449E-AF30-B55ECC00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059D7-6687-4662-B56C-8951914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1658-E09B-44DE-896E-53F423EB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7033A-5622-4E58-B4D6-FAEF5243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64B1-1C8D-4AE5-86EA-B6AE5A65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D9726-0C2E-4F74-A1EE-561EDC79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898E-9D19-4B71-9BA8-2EA869C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69A0A-642B-4E64-B92D-E825EAD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FD9C-1F6D-4871-A992-F8BCC8C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4AEB3-7A99-4448-8D4D-2DCF37C1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0F36-CFBB-4046-866E-CD5226C3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A37-3C09-41E5-85A2-9D29FC44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B8FA-A637-4C7E-BED2-A5CB5C16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0BDFA-B671-4CB2-A94B-A3BD1F4F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D92C-35CC-443E-8442-BDE54BE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49104-C9DC-4B5F-A383-257E50D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E19D-DBA8-4E50-BA5F-CE995C3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B191-34E7-4727-B2D2-399E441C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A3B8-548D-4848-A3DA-CFEB82D5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F7F9-B40C-4BF8-97A8-1C655A4D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D511F-19CA-4F30-A15F-B9DFE29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1AA96-C9F3-4A1D-B9E5-7F64EEC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06F-4EB8-4175-95A5-56D70B46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17F78-4B1C-4571-B9DF-44F86BBB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3206-A8D7-46A9-917D-C5F12966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B72D0-048B-444C-BECC-BF84A6B6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7CD02-2524-4F2E-8C84-BB34AC83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1075-A144-4DB5-9BA9-B715822D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14B1A-BED8-4262-82A6-45BAE973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86B4-6844-40E0-88AF-8B669C3D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3FCF0-B108-4166-99AD-41D7595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9E4F6-670C-4BE2-84EA-83058D67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F2992-28F9-46F8-A881-63DF3A9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203-1902-4623-83A8-F0033A0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432BA-3AC8-4671-B727-BB9848E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DFA8F-24DB-425E-B48D-CE58903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6F6B-2E53-47BB-88F8-6B93AD90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5DF3B-3F01-4A7E-9817-CB5E49F3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C3DB7-A448-48C0-9BEA-F16C5926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0825-DF18-4AF1-B796-6FAAE74D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B2B0A-4324-4761-81F1-448EE292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B3100-44A6-4C28-9831-1ECC7801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9A9F-B5C3-42F0-801E-3CD99B33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F499B-37A3-446E-B96D-8C4D8686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A13-23F5-42B0-9978-D977363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F5AF3-A78E-4529-A12C-6D474C4A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77CC-D71B-479B-B412-C87EC9A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85500-FDBA-440F-8896-7872762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A1C84-36EC-4783-8889-1583E51D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355D4-A3D4-448A-9916-C0CEEE2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0674A-9850-4D82-B569-0E35F271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AB65F-3820-4BC7-AEF7-48642028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7B33F-2DDC-4EB4-85C9-029DA3E7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507AB-89C7-48BF-B88B-C4B446D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E354B-5CD4-486C-A0BF-D8A0216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CE2E-3357-4179-B705-A779CFD43A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2BA0-83F4-4C88-8A9D-292422F2D36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B9CA-19BA-48EC-A638-7029EADD83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6052-8F86-4975-8295-008F3804D95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1115-85C2-4878-9FB3-87F4DD303FA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B73-02DC-4335-AE5A-6C614FFC0A4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43BF-3B00-4B15-914D-7F17F431718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2C1-7C49-41DB-97F0-50F6DB8AC82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2A78-6A85-44C1-AF61-153CBBD964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702-1554-4880-B94F-F9FC7922EF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29B6-7049-4025-9193-3C2DEC27EE3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B6BA-3C8D-4519-8B41-99BB6E2F4DB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lood transf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BL"/>
          <p:cNvPicPr/>
          <p:nvPr/>
        </p:nvPicPr>
        <p:blipFill>
          <a:blip r:embed="rId1"/>
          <a:stretch/>
        </p:blipFill>
        <p:spPr>
          <a:xfrm>
            <a:off x="6300720" y="19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BLOOD"/>
          <p:cNvPicPr/>
          <p:nvPr/>
        </p:nvPicPr>
        <p:blipFill>
          <a:blip r:embed="rId2"/>
          <a:stretch/>
        </p:blipFill>
        <p:spPr>
          <a:xfrm>
            <a:off x="324000" y="1989000"/>
            <a:ext cx="3238200" cy="2514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PRC"/>
          <p:cNvPicPr/>
          <p:nvPr/>
        </p:nvPicPr>
        <p:blipFill>
          <a:blip r:embed="rId3"/>
          <a:stretch/>
        </p:blipFill>
        <p:spPr>
          <a:xfrm>
            <a:off x="3780000" y="1989000"/>
            <a:ext cx="22572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case series : reports of Jehovah witness; some may tolerate very low Hb&lt; 6-8 g/dl in the perioperative period without an incresae in 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althy, normovolemic individual, tissue oxygenation is maintained and anemia tolerated at Hct as low as 18-25%(Hb 6-8gm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RBC transfusion is rarely indicated when Hb&gt; 10 g/dl and is almost always indicated when Hb&lt; 6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rican Society Anesthesiologist : 199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ุณหมอขาหนูหน้าซีดแล้วต้องให้เลือดหนูหรือเปล่าค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800" spc="-1" strike="noStrike">
              <a:solidFill>
                <a:srgbClr val="000000"/>
              </a:solidFill>
              <a:latin typeface="Arial"/>
              <a:ea typeface="Angsana New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Baby_001"/>
          <p:cNvPicPr/>
          <p:nvPr/>
        </p:nvPicPr>
        <p:blipFill>
          <a:blip r:embed="rId1"/>
          <a:stretch/>
        </p:blipFill>
        <p:spPr>
          <a:xfrm>
            <a:off x="1709640" y="2781360"/>
            <a:ext cx="572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initial therapeutic dose : 10-15 ml/kg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factor de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warfari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of coagulopathy associated with liv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patients who are received massive blood trans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crovas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cations (PAT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– dec,Potassium – inc., ARDS, Acidosis,Temp dec., Citrate intoxication, Hepat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 BV/ 24 HR&gt; 50 % BV within 3 hrs &gt; 15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thrombin III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 ( Thrombotic thrombocytopenic purpura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thrombocytopenia or dysfunction platelets in        the presence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 : plt.counts below 10,000-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operative : plt.counts below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icrovascular bleeding in surgical patient with platelets &lt; 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uro/ ocular surgery &gt; 7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539640" y="2349360"/>
            <a:ext cx="79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assive transfus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with platelets &lt; 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2 BVs = 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Qualitative dysfunct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(may be &gt; 10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ml: 0.5- 0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telets (some RBC’s and WBC’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donor apheresis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onor (x 6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79280" y="0"/>
            <a:ext cx="87138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CRYOPRECIPIT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l: fibrinogen (150-250 mg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 (80-145 U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onectin, X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U/ 10k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brinogen 50 mg/dL (usually a 6- p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fibrinogenemia (congenital or ac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vascular bleeding with massive BT (fibrinogen &lt; 80-100mg/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2 BVs = &lt; 100 mg/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e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ients with vWD (or unresponsive to DDAV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logous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alvage &amp; re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olemic hemodi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cell salvage"/>
          <p:cNvPicPr/>
          <p:nvPr/>
        </p:nvPicPr>
        <p:blipFill>
          <a:blip r:embed="rId1"/>
          <a:stretch/>
        </p:blipFill>
        <p:spPr>
          <a:xfrm>
            <a:off x="179280" y="836640"/>
            <a:ext cx="3745080" cy="5400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cell"/>
          <p:cNvPicPr/>
          <p:nvPr/>
        </p:nvPicPr>
        <p:blipFill>
          <a:blip r:embed="rId2"/>
          <a:stretch/>
        </p:blipFill>
        <p:spPr>
          <a:xfrm>
            <a:off x="5435640" y="836640"/>
            <a:ext cx="331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781000"/>
            <a:ext cx="7489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 to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84000" y="620640"/>
            <a:ext cx="806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still the best possible thing to have in our veins” - Woody 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 is a lot like marri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 entered upon lightly, unadvisedly or wantonly, or more often than is absolutely necessary” - B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lover"/>
          <p:cNvPicPr/>
          <p:nvPr/>
        </p:nvPicPr>
        <p:blipFill>
          <a:blip r:embed="rId1"/>
          <a:stretch/>
        </p:blipFill>
        <p:spPr>
          <a:xfrm>
            <a:off x="179280" y="2133720"/>
            <a:ext cx="1905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ุณหมอขาตัวหนูแดงทั้งตัวแล้ว แล้วคุณหมอเป็นไงบ้าง หัวบวมหรือยังค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Baby_004"/>
          <p:cNvPicPr/>
          <p:nvPr/>
        </p:nvPicPr>
        <p:blipFill>
          <a:blip r:embed="rId1"/>
          <a:stretch/>
        </p:blipFill>
        <p:spPr>
          <a:xfrm>
            <a:off x="684360" y="2781360"/>
            <a:ext cx="813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unfavorable transfusion-related event occurring in a patient during or after transfusion of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blood transfusion"/>
          <p:cNvPicPr/>
          <p:nvPr/>
        </p:nvPicPr>
        <p:blipFill>
          <a:blip r:embed="rId1"/>
          <a:stretch/>
        </p:blipFill>
        <p:spPr>
          <a:xfrm>
            <a:off x="1684440" y="2637000"/>
            <a:ext cx="57751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@RBC’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hemolyt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5 % transf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auses  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r chemical destru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:  freez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, hemolytic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olution add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cterial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ever, chills, urtic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transfusion, diphenhydramine , antipyretic for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BO incompati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 12-33,000) with fatality (1/ 500-8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are group O patients receiving type A, B or AB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 activation, RBC lysis, free Hb (+ direct Coombs Ab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858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ute Hemolytic Transfusion Rea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116000" y="23623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recipient seru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+ Ag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 RBC dono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2743200" y="3124080"/>
            <a:ext cx="46069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endocrin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plement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agulation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ytokines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47640" y="5805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ute hemolytic transfusio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4572000" y="2781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4572000" y="5373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541440" y="14842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ute Hemolytic Transfusion Rea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712960"/>
            <a:ext cx="82296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11280" y="2276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onset within minutes or 1-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ransfuse incompatibl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is ABO-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and Symptoms of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ls , 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flu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along infusion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sia: hypotension, urticaria, abnorm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infusion, blood and urine to blood bank, coagulation screen (urine/plasma Hb, haptoglo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therapy and osmotic diu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zation of urine (increase solubility of Hb degradation produ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bleeding, Rx. 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atory investigation for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from blood bag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Tx sampl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x sample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, D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C, UA, Bilirubin, BUN, C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gulation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compati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 Tx sample 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st Tx sample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399564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341964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349236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a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extravascular immune)1/ 5-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sis 1-2 weeks after transfusion (reappearance of Ab against donor Ag from previous exposur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, anemia, jau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produces Ab’s against RBC membrane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future delayed hemolytic reactions and difficulty cross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d cell membrane : least 300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unately, only the ABO and the Rh systems are important in the majority of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: Hepatitis B,C  syphillis  HIV-1,2      HTLV-I,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WBC’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: All products leukode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: Initial FDA recommendation now reversed pending objective data (NO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ngth of stay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en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il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reacts with donor Ag, stimulates pyrogens  (1-2 % transfus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- 30% of platelet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transfusion, antipyretic, meperidine for shi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68360" y="17524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LI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usion related acute lung inj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or Ab reacts with recipient A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/ 10,00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ardiogenic pul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Pathophysi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 Ab in donor react with pt. leuk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com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of granulocytes to pulmonary endothelium with release of proteolytic enz.&amp; toxic O</a:t>
            </a:r>
            <a:r>
              <a:rPr b="0" lang="en-US" sz="2800" spc="-1" strike="noStrike" baseline="-44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bo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titial edema and fluid in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457200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"/>
          <p:cNvSpPr/>
          <p:nvPr/>
        </p:nvSpPr>
        <p:spPr>
          <a:xfrm>
            <a:off x="457200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6"/>
          <p:cNvSpPr/>
          <p:nvPr/>
        </p:nvSpPr>
        <p:spPr>
          <a:xfrm>
            <a:off x="4572000" y="4797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4572000" y="558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and severe type of transfus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ymptoms and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hy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pulmonary infiltration on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of noncardiogenic pu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usion-related Acute Lung Inj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rapy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te respiratory and hemodynamic supportiv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pt.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L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donor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( TA-GVH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: immunocompromised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 that more common with designated do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T, LBW neonates, Hodgkin's disease, exchange Tx in ne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7680" y="42660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TA-GVHD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usion of Immunocompet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Lymphoc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tient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liferation of donor T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tack against patient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457200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4572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4572000" y="5157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t-versus-Host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s &amp;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7080" y="2924280"/>
            <a:ext cx="8352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~ 3 to 30 days after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significant – pan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ffects include fever,  liver enzy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ous watery diarrh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ematous skin          erythrode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squ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>
            <a:off x="4356000" y="5300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539640" y="83808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@Platel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% of repeated platelet transf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-dependent elimination of platelets with lack of 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ingle donor apher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gns &amp; Symp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ght fever and    H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elet refractoriness with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transfusion purp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leads to sudden destruction of platelets 1-2 weeks after transfusion (sudden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munomodulatory effects of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nd infection: circumstantial evidence (? leukocyte filters for immunocomprom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al effects on renal graft survival (now &lt; NB with C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: 9% graft survival advantage after 5 yea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specific overload of 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ocytes, A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T helper/suppressor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lymphocytes may circulate for years after trans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Crossmatching (5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ABO and Rh 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to the other blood group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in low titers or those that do not agglutinate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835280" y="404640"/>
            <a:ext cx="51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880920" y="1267920"/>
            <a:ext cx="750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recurrence (most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rosp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: 90 % studies suggest increased re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st: 70 % stu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and neck: 75 %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blood products increase cancer recurrence after potentially curative surgical resection” - La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circumstantial NOT 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9040" y="151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ECTIOUS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patitis 88% of per unit viral risk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patitis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200,000 due to HBsAg, antiHBc screening (7-17 % of P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unit risk 1/63-6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2% residual HBV remains in ‘negative’ donors (window 2-16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HBc testing retained as surrogate marker for H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117440" y="11430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NB and Hepatiti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now 1/ 103,000 (NEJM 96) with 2nd/ 1/ 125,000 with 3rd generation HCV Ab/ HVC RNA t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% patients become chronic carriers, 10-20 % develop cirr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isk 1/ 450- 660,000 (9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urrent screening (Abs to HIV I, II and p24 Ag), window 6-8 weeks (third generation ELISA tests in Euro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 -ve window to &lt; 16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LV I,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 cellular components (not FFP, cr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641,000 (window period unkn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for antibody I may not pick up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JD (and variant CJ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015560" y="4572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componen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immunocompromised, although 80 % adults have serum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filtration decreases risk of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bloo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pregnant patients, LBW neonates, CMV -ve transplant recipi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-ve/ HIV +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92000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. Bac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unlikely in products stored for &gt; 72 hours at 1-6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 –ve, gram +ve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rsinia enterocoli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ndo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stored at room temperature for 5 days, with infection rate of 0.2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II. Protoz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panosoma cruzi (Chaga’s dise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ological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Infectious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61920" y="213804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–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s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syphi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9040" y="759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trat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rate (3G/ unit WB) bind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zed liver, mobilization bon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calcemia ONLY if &gt; 1 unit/ 5 min or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 more likely due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ac output/ perfusion th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ium (except neona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with hypothermia/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erkal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weeks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25- 30 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8- 15 mmol per unit PRBC/ 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with &gt; 1 unit/5 min @ inf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0" y="191592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Antibody screen : Indirect Coombs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5 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serum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ic composition)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red cell agglu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ype&amp;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mergency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117440" y="13716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load after after 3 weeks 30-40 mmol/l (pH 6.6 - 6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more likely due to decreased perfusion, hepatic impairment, hypoth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AM if base deficit &gt; 7-10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20480" y="13716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, 3 D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eted within 96 hours of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 DC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within 8- 24 hours of 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9040" y="12193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s for Blood Component Therapy (ASA Task Force). Anesthesiology 1996; 84: 732-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of the Blood Supply. JAMA 1995; 274:1368--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ctious Disease Testing for Blood Transfusions (NIH Consensus Conference). JAMA 1995; 274: 1374-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S -determines ABO and Rh status and the presence of most commonly encountered antibodies – risk of adverse rxn is 1: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C -determines ABO and Rh status as well as adverse rxn to even low incidence antigens – risk of rxn is 1: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4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684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79280" y="2204640"/>
            <a:ext cx="8569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Donor red cells are then mixed with the pt’s serum to determine possible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68436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nits – RBC @ PRC 1unit (250 ml Hct.7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telet@ 1 unit (50-70 ml, stored at 20-24c for 5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sma @ F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ryoprecipitate @ high conc. Of factor VII, fibrin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4000" y="907920"/>
            <a:ext cx="806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patients requiring red cells but not volume replac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one – Increase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rrying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                            BLOO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ature                                      9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erm                                         8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                                      80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                                                7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                                           6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ble blood loss = EBV*(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ตั้งต้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ที่ยอมรับได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ฉลี่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. 30% not mag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hovah” s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3:48:14Z</dcterms:created>
  <dc:creator>ABX</dc:creator>
  <dc:description/>
  <dc:language>en-US</dc:language>
  <cp:lastModifiedBy>MAI</cp:lastModifiedBy>
  <dcterms:modified xsi:type="dcterms:W3CDTF">2010-05-11T18:51:10Z</dcterms:modified>
  <cp:revision>21</cp:revision>
  <dc:subject/>
  <dc:title>Blood transfusion</dc:title>
</cp:coreProperties>
</file>