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0F72-134F-4B08-B2DE-47A39331F43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43F2-E8D5-4A5F-8B23-763F482A9C1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7E25-79EF-4FCC-800A-02795666388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05D8-86C9-490F-94D4-6A9B0D4E3FC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63E6-E371-4313-9A8F-29EA3CB187B3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3453-B9B7-4748-B7DF-281F2E6E999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367B-F843-4F05-B95B-3B5959326F47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ED44-05D6-4004-A7C6-103C71C864F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0641-A86D-4BCD-B954-2B559D60AEC3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6682-5356-42D6-BF45-79B4844D9BB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397E-067A-41AC-9B2B-C19E90E121D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2725-1AA3-4136-B9CC-6859F7DCC839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0DAE-B633-4845-8355-F6ED5DEDB338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80AE-811B-4092-B01F-33DB42305D83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A042-F7A8-401D-A575-241768AD7E36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E1F8-797A-4F32-AE2C-F92FA2FE6396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EDAB-C873-4B2F-BA02-0BC17E0FF79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FE27-8F1E-48C9-82DE-97BC48334C2E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F024-6E53-400A-9C90-6BFC2B41B71E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5A80-312B-4351-8EA7-4C410F9417A8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B0E8-03A5-4B37-811A-9CBCEF740EF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D04D-BB3D-460B-88D3-73843002928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D54C-0754-4E65-BB88-1545386076D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F08E-F85C-4F5C-9E1B-EB2923145D9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1EB5-9A7A-4B20-A626-E2C36766BF2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D06F-2725-4E20-87CA-41A301FAD5B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DD83-D9AD-4FEA-AB11-5301E10DD5A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0C96-1501-4343-9630-BB1DECB77E9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A6CF-684C-43F7-9A8C-28167F9CCF89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17D4-BB41-48BD-AA16-7B756028A8A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0E06-B221-4CF9-9B3D-8C804475C093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4588-8939-455C-A24C-D4F840718703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1AB1-4A50-41BA-A05D-5EB2829EF7D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EA8C-C281-4658-9ABD-820D45851E2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28AF-B646-46A6-A342-C8B66C24D72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E035-D756-46CA-B072-9B21DD4A984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CC25-E878-498C-A51B-C743703F7F4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2906-D071-418B-A926-A93457EE7CB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C680-56BD-446F-8551-9407657154A0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AAC5-6C88-4507-89F5-6280A9490E2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B83C-3F14-40CC-9D4B-A7E3CF523880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4A90-F6B8-4EE5-825C-B4214F7C65B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6179-DD3E-4088-B3E6-4DE52A11C78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279D-B52B-48D1-BBF8-3D44A3EB4C2E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FC47-534C-41A8-8D47-189D01E6054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4EE8-7029-4498-B629-C77A5EDA2D7E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E662-90AF-4AEF-A219-6776A831BAE7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5C47-A503-4B4E-BADA-2B4A9C68A34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4760-0F5E-41F2-A593-C3C9998F966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4DFE-9A04-4BDD-B79A-3E34310097D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1B46-EB8A-46E5-82BB-E86C2BE1D79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68D9-5AB7-49EB-B6B1-AAFBEBCB032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C06B-EF1D-4154-A337-2298E18B4C3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744E-F0CD-4B1A-9981-904224554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DE60-12EE-4275-8848-75B03F89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42231E-8F2C-4435-B9AF-29DF565C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FF18FE-BD01-44DC-9BF8-553E66C0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37314-18C1-474A-AF34-7B93CC21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2DA62A-7046-4FC1-BA33-72241582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F4C2BD-76BB-4C38-9B11-73FB648B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864ADA-DFB2-48C3-BE01-D4933900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C89D03-E1C8-46FE-AB3C-1048EB72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2E914F-6BA3-4663-BD0B-C61C36D8E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885FDD-6398-43ED-BE79-7FB747E5C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2140C9-730A-4C32-86C6-AEAA0AA5C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BFA0-8B00-494E-A682-12E3B6157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BA2BEA-A7CC-4D6F-B2C0-72E46828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1447CE-CEF8-4D5E-8BEC-56D9608C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6DEBC4-CF25-4DB6-AEF4-B5399C9A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74A69F-6B29-44DB-B57D-23C503C9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5F04CA-E39D-4D0E-AC8E-BC811D7D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086AE8-F095-4747-B942-2F62A95C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2E3AE4-EB0F-4724-82F3-D1CE1EA2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FC8A6C-6B91-46DD-B290-4325902D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1BCF2F-DC7E-47CC-AAA8-E98A8CC8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011F84-E82E-4503-AB76-9996C81D6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9CFD-8FDD-473E-83A8-73B8001BF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EAC06C-9ABE-4DD7-BE3F-846E9414C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B3FC3C-C76E-4230-80E6-9E28E1592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A5DF20-D186-41B0-9E72-425D5383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B0E638-F414-4963-BFC0-8A251B52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220C5-C286-4519-95FE-D4ACDCA9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6B352-BDF9-4ACC-9D1B-628BC4CDA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62449-D361-45D8-9CC3-D1E58BE3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C516EE-3FD4-45FB-8EE7-EA0AD634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0C9FBA-E6D0-452E-B169-AFFB4ACD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9C291-3214-4D8E-A413-27E31D91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9876-C2C8-4381-9A1A-0C7FD9E97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AFB42-F81E-4F74-A8F8-BD8B9F7D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AFE99-655E-4E6C-9EC6-002D52A5A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920B0-1D97-41D6-9394-0E126A4B1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B90EA7-E062-4209-9D1C-573577977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E6BFF6-3F28-44AD-A521-4F4E94FA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7BF834-E9CE-406C-8F6D-D555EFF6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BC4CDD-98CD-4782-8614-FFF06133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56D769-6E57-46FC-A0B6-26DE2154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EBA99F-7D25-41D7-8337-66DBD74B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A9B9AC-D2AF-4519-8D51-2B31DF15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F1FF-6826-451B-8857-40975FC2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D43D6D-4F35-4D91-B14B-3026A7ED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6C21A9-AC2F-41A8-A9B4-EC9CC108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396892-2534-4828-B592-4ADC932C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6F0CF7-8E45-400D-8CF5-3FBEDFE19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AC0C42-2746-4150-B8F3-6B1FDFC63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C175-C3DA-4C0B-B29B-93F7A609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40505-0A22-401C-95A5-EE368DE1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5352B-C78E-4D19-B754-7FA59067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C3006-A0E1-4C22-9E2D-D7657119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EC12C-5473-4C04-B012-74A815BD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56D8-FC5A-4928-9253-07DE93E8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81A8-3848-4512-8454-AA7090CC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3B64-834C-461B-AAAF-9C0FCC88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6D68-A076-4CBD-AEA4-EDD702EE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67A0-0838-47A8-A99B-349C8FBAF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E77F-BD62-45FB-8788-2A6AA94F4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8220D-B4C8-4FC3-9EF6-713C49982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5E661-75A8-4D88-AC11-9B49AC7E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35B02-2A70-40C5-B3E2-9DCEC98C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D1FAC-9731-438D-94D2-D8228CAA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5F705-6AFA-49AE-A824-2BCE042F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3E08-97BB-4201-B1B1-5DCC6FA7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D6E2B-B0F0-49BD-BCC9-22164F92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56B04-1DC7-4BF1-AAE1-5297B33A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381CD-A044-471B-9BB0-3168D4BA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72EFC-9DAE-4484-8554-4BF37072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00FB3-0A64-475E-BBA8-7EFC23E3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18646-64B7-4C0E-9F22-1FDCF60A5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802EA-4B87-400A-93E0-F4A195EC1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E9526-8865-406D-B0B4-AC9791574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9E3AA-DBC0-4819-B89B-99768E44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49CAA-4582-4722-8222-7A6EAFAA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2824-C229-475C-A146-7468F3B1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B6623-408E-488A-BF72-03347BF7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07D12-AF41-4907-9988-4F91CFB8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35E83-D2BD-4C17-90C6-CE88225E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63CD5-979F-4EFD-94C8-6F827018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1C2B1-231E-4C99-A746-C7533EA1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005F9-B429-42C9-8F14-AF73A6EE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40F7A-4509-47D8-9721-6A20FF85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59F04-560A-4323-89AA-765929A84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41D20-DDD4-4495-9298-CA4C5AB46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078BE-5D57-4D87-AB09-772492B04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A034-58AE-4849-A5E6-B258C135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E1060-BA9D-445B-AF5D-0C47953C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2BFDC-5FB8-4555-9AA3-C8C9A6CF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A287F-13C4-43BB-9E58-16DEE2AA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D737F-2596-4985-8023-E746F2A1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72064-6DEA-42AB-9A38-7AE7C56D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E1A29-5975-441D-AAEF-B9BF0EBA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BF77D-2902-4027-87F0-23779D49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46117-85FA-4D55-ACC6-670B30C4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04BCA-99A8-46E6-9DCD-5924EDF2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0F637-489D-47D0-AF10-BDECA2302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42E2-6078-40E2-8724-4265FB9A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6F626-F4B9-4713-810E-9393E405E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CC005-6751-481A-958C-1A730F768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D6D75-E1F8-4050-96C8-ECF5A4EA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8162E-6399-4398-ADB7-2B2E288F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EB3B0-FB7A-44DE-8BF1-0A345E93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4B8A7-0EB6-45A4-AAA6-9E9F6D13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2C96A-A3C0-478D-A898-A23F47E3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8540D-A6D3-4F8C-B840-313A7B2E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A49D0-63C1-4B6E-9838-37DECF71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3046A-1E4E-4B35-8DF6-1DD6EF13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3045-F5D5-4384-B776-9C0E5503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4B408-8AB2-4766-84A4-81D11812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5AE6F-2CFD-4441-B479-7E6FF0F4C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7988C-0EA1-4106-BEA8-68C8D9692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6DAD8-240A-436B-926C-56217C73F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737F2-4C90-442E-B553-0F88642B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B28F2-F647-45F7-80D9-21E9E2B60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FF6BA-6F33-4B98-AAF0-1392B2A8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121F9-7698-417A-9646-0D4B3233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6B5DF-5314-4F19-9C91-24B5AF0E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DE4E1-1C33-4E5A-92E9-4F41FDF1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1FCB-8B5C-4A87-902B-1109FC6E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8F566-4EDC-4C94-A68E-26E8915A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4C121-7421-47CE-A37A-AF1B6058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E36BA-0AA3-423C-A48B-61DAF1BA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2B5F6-26E1-4780-ACC8-18784A9F2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92901-6A7D-41CB-BABB-3E145BE36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1F738-8A8A-40F2-B674-080549C69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8ED33-8C49-461B-A2C4-78D270F6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DBB8E-278E-4390-A7AD-C8CBE1EB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147E0-1055-45D6-9A90-FEFE2D7E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99491-D14D-4717-96CC-99863513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B52F-4CBD-4949-B0E2-F1D08319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2FFAE-94CD-486C-8163-81B4AF3C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55977-B958-4C05-8A99-23248085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0BE68-0E07-4741-8F8C-A037F8A1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1B34F-C7BA-4D6E-A812-754C7AED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C806B-C273-435B-8DC1-F6824536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47FD7-8F17-4E18-BA28-F4CFE7B15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42713-431B-4501-8E19-B793E71F2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499EAF-4B9A-4BE7-818D-33417D813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74BE1E-F9FA-45CC-8855-BEB3669B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A0D648-4893-45BF-84EF-F75B4EAB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27D6-DD88-405A-9F16-4F12F6FD120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04DA-9859-4C14-A38B-083A45097C57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0573-2244-45E0-B0CD-3BD9767B096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4262-C4DE-415F-A2B7-597D0B06E07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B1B8-2EF2-4049-9A20-0E147EEFBEA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5D69-9590-4116-9A02-F3195164F12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7663-2452-492E-9CDB-39DD6E604F5B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7BB9-6439-4F06-8244-BF8A5749904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BACA-DFCF-42D4-97D6-EA0D198ADA11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005B-76B7-4924-ACBA-EE654ED9F308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6C65-7E83-4035-A016-9365A4C5991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DA53-9B19-4686-AA9E-578DB5927D6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Blood transfu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4" descr="BL"/>
          <p:cNvPicPr/>
          <p:nvPr/>
        </p:nvPicPr>
        <p:blipFill>
          <a:blip r:embed="rId1"/>
          <a:stretch/>
        </p:blipFill>
        <p:spPr>
          <a:xfrm>
            <a:off x="6300720" y="1989000"/>
            <a:ext cx="1944720" cy="25923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5" descr="BLOOD"/>
          <p:cNvPicPr/>
          <p:nvPr/>
        </p:nvPicPr>
        <p:blipFill>
          <a:blip r:embed="rId2"/>
          <a:stretch/>
        </p:blipFill>
        <p:spPr>
          <a:xfrm>
            <a:off x="324000" y="1989000"/>
            <a:ext cx="3238200" cy="25146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6" descr="PRC"/>
          <p:cNvPicPr/>
          <p:nvPr/>
        </p:nvPicPr>
        <p:blipFill>
          <a:blip r:embed="rId3"/>
          <a:stretch/>
        </p:blipFill>
        <p:spPr>
          <a:xfrm>
            <a:off x="3780000" y="1989000"/>
            <a:ext cx="225720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79280" y="836640"/>
            <a:ext cx="89647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guid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684000" y="2781360"/>
            <a:ext cx="80643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$ case series : reports of Jehovah witness; some may tolerate very low Hb&lt; 6-8 g/dl in the perioperative period without an incresae in mort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2286000" y="180324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guid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324000" y="1052640"/>
            <a:ext cx="842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$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healthy, normovolemic individual, tissue oxygenation is maintained and anemia tolerated at Hct as low as 18-25%(Hb 6-8gm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$ RBC transfusion is rarely indicated when Hb&gt; 10 g/dl and is almost always indicated when Hb&lt; 6 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merican Society Anesthesiologist : 199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2286000" y="180324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79280" y="836640"/>
            <a:ext cx="89647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คุณหมอขาหนูหน้าซีดแล้วต้องให้เลือดหนูหรือเปล่าค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684000" y="2781360"/>
            <a:ext cx="8064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800" spc="-1" strike="noStrike">
              <a:solidFill>
                <a:srgbClr val="000000"/>
              </a:solidFill>
              <a:latin typeface="Arial"/>
              <a:ea typeface="Angsana New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2286000" y="180324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5" descr="Baby_001"/>
          <p:cNvPicPr/>
          <p:nvPr/>
        </p:nvPicPr>
        <p:blipFill>
          <a:blip r:embed="rId1"/>
          <a:stretch/>
        </p:blipFill>
        <p:spPr>
          <a:xfrm>
            <a:off x="1709640" y="2781360"/>
            <a:ext cx="57247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operative transfusion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179280" y="105264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F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 initial therapeutic dose : 10-15 ml/kg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d factor defici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 warfarin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ion of coagulopathy associated with liver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in patients who are received massive blood transfu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i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crovascula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ee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ications (PATCH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elets – dec,Potassium – inc., ARDS, Acidosis,Temp dec., Citrate intoxication, Hepat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1 BV/ 24 HR&gt; 50 % BV within 3 hrs &gt; 150 ml/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thrombin III de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TP ( Thrombotic thrombocytopenic purpura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use for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operative transfusion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LATE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*thrombocytopenia or dysfunction platelets in        the presence bl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prophylactic : plt.counts below 10,000-2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prophylactic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operative : plt.counts below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,0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Microvascular bleeding in surgical patient with platelets &lt; 50,0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Neuro/ ocular surgery &gt; 75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operative transfusion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LATEL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4"/>
          <p:cNvSpPr/>
          <p:nvPr/>
        </p:nvSpPr>
        <p:spPr>
          <a:xfrm>
            <a:off x="539640" y="2349360"/>
            <a:ext cx="79930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Massive transfusion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crovascular bleeding with platelets &lt; 10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2 BVs = 5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Qualitative dysfunction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crovascular bleeding (may be &gt; 100,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operative transfusion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LATEL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 ml: 0.5- 0.6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latelets (some RBC’s and WBC’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donor apheresis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donor (x 6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operative transfusion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684000" y="162864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4"/>
          <p:cNvSpPr/>
          <p:nvPr/>
        </p:nvSpPr>
        <p:spPr>
          <a:xfrm>
            <a:off x="179280" y="0"/>
            <a:ext cx="8713800" cy="60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CRYOPRECIPITAT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ml: fibrinogen (150-250 mg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II (80-145 U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bronectin, XI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U/ 10kg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ibrinogen 50 mg/dL (usually a 6- pa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pofibrinogenemia (congenital or acqui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vascular bleeding with massive BT (fibrinogen &lt; 80-100mg/d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ngsana New"/>
              </a:rPr>
              <a:t>2 BVs = &lt; 100 mg/d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eed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tients with vWD (or unresponsive to DDAV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79280" y="836640"/>
            <a:ext cx="89647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 strategies for management of blood loss during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684000" y="2781360"/>
            <a:ext cx="80643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logous trans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salvage &amp; re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ovolemic hemodi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4"/>
          <p:cNvSpPr/>
          <p:nvPr/>
        </p:nvSpPr>
        <p:spPr>
          <a:xfrm>
            <a:off x="2286000" y="180324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4"/>
          <p:cNvSpPr/>
          <p:nvPr/>
        </p:nvSpPr>
        <p:spPr>
          <a:xfrm>
            <a:off x="2286000" y="180324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5" descr="cell salvage"/>
          <p:cNvPicPr/>
          <p:nvPr/>
        </p:nvPicPr>
        <p:blipFill>
          <a:blip r:embed="rId1"/>
          <a:stretch/>
        </p:blipFill>
        <p:spPr>
          <a:xfrm>
            <a:off x="179280" y="836640"/>
            <a:ext cx="3745080" cy="540072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6" descr="cell"/>
          <p:cNvPicPr/>
          <p:nvPr/>
        </p:nvPicPr>
        <p:blipFill>
          <a:blip r:embed="rId2"/>
          <a:stretch/>
        </p:blipFill>
        <p:spPr>
          <a:xfrm>
            <a:off x="5435640" y="836640"/>
            <a:ext cx="3313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042560" y="2781000"/>
            <a:ext cx="74898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blank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ion to blood trans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 strategies for management of blood loss during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684000" y="620640"/>
            <a:ext cx="8064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is still the best possible thing to have in our veins” - Woody A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transfusion is a lot like marri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hould not be entered upon lightly, unadvisedly or wantonly, or more often than is absolutely necessary” - B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4"/>
          <p:cNvSpPr/>
          <p:nvPr/>
        </p:nvSpPr>
        <p:spPr>
          <a:xfrm>
            <a:off x="2286000" y="180324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7" descr="lover"/>
          <p:cNvPicPr/>
          <p:nvPr/>
        </p:nvPicPr>
        <p:blipFill>
          <a:blip r:embed="rId1"/>
          <a:stretch/>
        </p:blipFill>
        <p:spPr>
          <a:xfrm>
            <a:off x="179280" y="2133720"/>
            <a:ext cx="190512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79280" y="836640"/>
            <a:ext cx="89647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คุณหมอขาตัวหนูแดงทั้งตัวแล้ว แล้วคุณหมอเป็นไงบ้าง หัวบวมหรือยังค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684000" y="2781360"/>
            <a:ext cx="8064360" cy="34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"/>
          <p:cNvSpPr/>
          <p:nvPr/>
        </p:nvSpPr>
        <p:spPr>
          <a:xfrm>
            <a:off x="2286000" y="180324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7" descr="Baby_004"/>
          <p:cNvPicPr/>
          <p:nvPr/>
        </p:nvPicPr>
        <p:blipFill>
          <a:blip r:embed="rId1"/>
          <a:stretch/>
        </p:blipFill>
        <p:spPr>
          <a:xfrm>
            <a:off x="684360" y="2781360"/>
            <a:ext cx="81356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1360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RANSFUSION RE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24000" y="1295280"/>
            <a:ext cx="8640720" cy="52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ny unfavorable transfusion-related event occurring in a patient during or after transfusion of blood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4" descr="blood transfusion"/>
          <p:cNvPicPr/>
          <p:nvPr/>
        </p:nvPicPr>
        <p:blipFill>
          <a:blip r:embed="rId1"/>
          <a:stretch/>
        </p:blipFill>
        <p:spPr>
          <a:xfrm>
            <a:off x="1684440" y="2637000"/>
            <a:ext cx="5775120" cy="42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1360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RANSFUSION RE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24000" y="1295280"/>
            <a:ext cx="8640720" cy="522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@RBC’s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hemolyti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-5 % transfus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Causes   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or chemical destruction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od:  freezing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ting, hemolytic dru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solution added to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Bacterial conta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fever, chills, urtic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ow transfusion, diphenhydramine , antipyretic for f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moly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edi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BO incompatibilit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/ 12-33,000) with fatality (1/ 500-800,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ity are group O patients receiving type A, B or AB blo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ment activation, RBC lysis, free Hb (+ direct Coombs Ab te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2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4"/>
          <p:cNvSpPr/>
          <p:nvPr/>
        </p:nvSpPr>
        <p:spPr>
          <a:xfrm>
            <a:off x="6858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cute Hemolytic Transfusion Rea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1116000" y="236232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b (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in recipient serum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) + Ag (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on RBC donor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6"/>
          <p:cNvSpPr/>
          <p:nvPr/>
        </p:nvSpPr>
        <p:spPr>
          <a:xfrm>
            <a:off x="2743200" y="3124080"/>
            <a:ext cx="460692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roendocrine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omplement Ac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oagulation Ac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ytokines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7"/>
          <p:cNvSpPr/>
          <p:nvPr/>
        </p:nvSpPr>
        <p:spPr>
          <a:xfrm>
            <a:off x="1547640" y="5805360"/>
            <a:ext cx="59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ute hemolytic transfusion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8"/>
          <p:cNvSpPr/>
          <p:nvPr/>
        </p:nvSpPr>
        <p:spPr>
          <a:xfrm>
            <a:off x="4572000" y="27813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9"/>
          <p:cNvSpPr/>
          <p:nvPr/>
        </p:nvSpPr>
        <p:spPr>
          <a:xfrm>
            <a:off x="4572000" y="537372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0"/>
          <p:cNvSpPr/>
          <p:nvPr/>
        </p:nvSpPr>
        <p:spPr>
          <a:xfrm>
            <a:off x="541440" y="1484280"/>
            <a:ext cx="289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ophys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cute Hemolytic Transfusion Reac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2712960"/>
            <a:ext cx="8229600" cy="30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4"/>
          <p:cNvSpPr/>
          <p:nvPr/>
        </p:nvSpPr>
        <p:spPr>
          <a:xfrm>
            <a:off x="611280" y="2276640"/>
            <a:ext cx="8172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ute onset within minutes or 1-2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transfuse incompatible 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mon cause is ABO-incompat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u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gns and Symptoms of AHT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ls , 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al flu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Renal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D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st 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sp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ized bl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moglobin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moglobinu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 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 along infusion v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250560" y="1341000"/>
            <a:ext cx="8893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esthesia: hypotension, urticaria, abnormal bl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 infusion, blood and urine to blood bank, coagulation screen (urine/plasma Hb, haptoglob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id therapy and osmotic diur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kalinization of urine (increase solubility of Hb degradation produc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ct bleeding, Rx. D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boratory investigation for AHT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from blood bag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 ABO, Rh, Ab scre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ent sam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 Tx sample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 ABO, Rh, Ab scre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 Tx sample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 ABO, Rh, Ab screening, DA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BC, UA, Bilirubin, BUN, C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agulation scre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 compatibility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re Tx sample  &amp;  Donor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ost Tx sample &amp;  Donor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4"/>
          <p:cNvSpPr/>
          <p:nvPr/>
        </p:nvSpPr>
        <p:spPr>
          <a:xfrm>
            <a:off x="3995640" y="1916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5"/>
          <p:cNvSpPr/>
          <p:nvPr/>
        </p:nvSpPr>
        <p:spPr>
          <a:xfrm>
            <a:off x="3419640" y="2924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6"/>
          <p:cNvSpPr/>
          <p:nvPr/>
        </p:nvSpPr>
        <p:spPr>
          <a:xfrm>
            <a:off x="3492360" y="3500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8964720" cy="475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lay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(extravascular immune)1/ 5-1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molysis 1-2 weeks after transfusion (reappearance of Ab against donor Ag from previous exposure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ver, anemia, jaun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loimmu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ipient produces Ab’s against RBC membrane 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d to future delayed hemolytic reactions and difficulty crossma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ood blank practice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899640" y="1413000"/>
            <a:ext cx="748836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 red cell membrane : least 300 different ant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unately, only the ABO and the Rh systems are important in the majority of blood trans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ction : Hepatitis B,C  syphillis  HIV-1,2      HTLV-I,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1117440" y="144792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@WBC’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: All products leukode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: Initial FDA recommendation now reversed pending objective data (NO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ngth of stay f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pens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brile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ipient Ab reacts with donor Ag, stimulates pyrogens  (1-2 % transfusion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- 30% of platelet transf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transfusion, antipyretic, meperidine for shiv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468360" y="1752480"/>
            <a:ext cx="8136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LI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usion related acute lung inju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or Ab reacts with recipient A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/ 10,00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cardiogenic pulmonary ed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ive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usion-related Acute Lung Injur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RA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cff"/>
                </a:solidFill>
                <a:latin typeface="Arial"/>
              </a:rPr>
              <a:t>Pathophysiolog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ukocyte Ab in donor react with pt. leukoc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comp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herence of granulocytes to pulmonary endothelium with release of proteolytic enz.&amp; toxic O</a:t>
            </a:r>
            <a:r>
              <a:rPr b="0" lang="en-US" sz="2800" spc="-1" strike="noStrike" baseline="-44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abol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othelial da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stitial edema and fluid in alve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4"/>
          <p:cNvSpPr/>
          <p:nvPr/>
        </p:nvSpPr>
        <p:spPr>
          <a:xfrm>
            <a:off x="4572000" y="256536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5"/>
          <p:cNvSpPr/>
          <p:nvPr/>
        </p:nvSpPr>
        <p:spPr>
          <a:xfrm>
            <a:off x="4572000" y="328464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6"/>
          <p:cNvSpPr/>
          <p:nvPr/>
        </p:nvSpPr>
        <p:spPr>
          <a:xfrm>
            <a:off x="4572000" y="479736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7"/>
          <p:cNvSpPr/>
          <p:nvPr/>
        </p:nvSpPr>
        <p:spPr>
          <a:xfrm>
            <a:off x="4572000" y="558972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usion-related Acute Lung Injur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RA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ute and severe type of transfusion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Arial"/>
              </a:rPr>
              <a:t>Symptoms and sig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chyp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sp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use pulmonary infiltration on X-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ical of noncardiogenic pumonary ed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nsfusion-related Acute Lung Inju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RA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Therapy and Pre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equate respiratory and hemodynamic supportive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RALI is caused by pt. Ab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 LP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RALI is caused by donor Ab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pecial blood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usion-associated Graft-versus-Ho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ease ( TA-GVH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re: immunocompromised pati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gestion that more common with designated don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MT, LBW neonates, Hodgkin's disease, exchange Tx in neon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07680" y="426600"/>
            <a:ext cx="7956360" cy="9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usion-associated Graft-versus-Ho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ea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TA-GVHD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thophys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nfusion of Immunocompeten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(Lymphocy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atient at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roliferation of donor T lymphoc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ttack against patient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4"/>
          <p:cNvSpPr/>
          <p:nvPr/>
        </p:nvSpPr>
        <p:spPr>
          <a:xfrm>
            <a:off x="4572000" y="40766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5"/>
          <p:cNvSpPr/>
          <p:nvPr/>
        </p:nvSpPr>
        <p:spPr>
          <a:xfrm>
            <a:off x="4572000" y="30686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6"/>
          <p:cNvSpPr/>
          <p:nvPr/>
        </p:nvSpPr>
        <p:spPr>
          <a:xfrm>
            <a:off x="4572000" y="515772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ft-versus-Host Re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s &amp; Symp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4"/>
          <p:cNvSpPr/>
          <p:nvPr/>
        </p:nvSpPr>
        <p:spPr>
          <a:xfrm>
            <a:off x="757080" y="2924280"/>
            <a:ext cx="83520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set ~ 3 to 30 days after trans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ical significant – pancytop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effects include fever,  liver enzy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ous watery diarrhe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ythematous skin          erythrode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desqua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5"/>
          <p:cNvSpPr/>
          <p:nvPr/>
        </p:nvSpPr>
        <p:spPr>
          <a:xfrm>
            <a:off x="4356000" y="5300640"/>
            <a:ext cx="50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539640" y="838080"/>
            <a:ext cx="835344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@Platele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immu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 % of repeated platelet transf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-dependent elimination of platelets with lack of 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ingle donor aphere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ccff"/>
                </a:solidFill>
                <a:latin typeface="Arial"/>
              </a:rPr>
              <a:t>Signs &amp; Sympt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d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light fever and    H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latelet refractoriness with blee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transfusion purp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ipient Ab leads to sudden destruction of platelets 1-2 weeks after transfusion (sudden ons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re com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324000" y="764640"/>
            <a:ext cx="8820000" cy="54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mmunomodulatory effects of trans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nd infection: circumstantial evidence (? leukocyte filters for immunocompromi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cial effects on renal graft survival (now &lt; NB with Cy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7: 9% graft survival advantage after 5 year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specific overload of 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ymphocytes, AP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cation T helper/suppressor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geneic lymphocytes may circulate for years after transfu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1403280" y="1557360"/>
            <a:ext cx="640080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Crossmatching (50 m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rms ABO and Rh ty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cts antibodies to the other blood group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cts antibodies in low titers or those that do not agglutinate eas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1835280" y="404640"/>
            <a:ext cx="511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lood blank practices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/>
          </p:nvPr>
        </p:nvSpPr>
        <p:spPr>
          <a:xfrm>
            <a:off x="880920" y="1267920"/>
            <a:ext cx="7507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cer recurrence (mostl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trospe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n: 90 % studies suggest increased recur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st: 70 % stud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 and neck: 75 %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geneic blood products increase cancer recurrence after potentially curative surgical resection” - Land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dence circumstantial NOT cau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049040" y="15192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FECTIOUS COM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117440" y="12952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ir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Hepatitis 88% of per unit viral risk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epatitis 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1/ 200,000 due to HBsAg, antiHBc screening (7-17 % of PTH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unit risk 1/63-66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02% residual HBV remains in ‘negative’ donors (window 2-16 wee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-HBc testing retained as surrogate marker for HI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/>
          </p:nvPr>
        </p:nvSpPr>
        <p:spPr>
          <a:xfrm>
            <a:off x="1117440" y="114300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ANB and Hepatitis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now 1/ 103,000 (NEJM 96) with 2nd/ 1/ 125,000 with 3rd generation HCV Ab/ HVC RNA te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 4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0 % patients become chronic carriers, 10-20 % develop cirrho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/>
          </p:nvPr>
        </p:nvSpPr>
        <p:spPr>
          <a:xfrm>
            <a:off x="1117440" y="12952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H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risk 1/ 450- 660,000 (95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current screening (Abs to HIV I, II and p24 Ag), window 6-8 weeks (third generation ELISA tests in Europ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o -ve window to &lt; 16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/>
          </p:nvPr>
        </p:nvSpPr>
        <p:spPr>
          <a:xfrm>
            <a:off x="1117440" y="12952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TLV I,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in cellular components (not FFP, cry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1/ 641,000 (window period unkn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 for antibody I may not pick up I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JD (and variant CJ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1015560" y="457200"/>
            <a:ext cx="6908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M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ular components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 in immunocompromised, although 80 % adults have serum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BC filtration decreases risk of trans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V -ve bloo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V -ve pregnant patients, LBW neonates, CMV -ve transplant recipien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V-ve/ HIV +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684360" y="549360"/>
            <a:ext cx="7920000" cy="575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. Bac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tion unlikely in products stored for &gt; 72 hours at 1-6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m –ve, gram +ve 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frequ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ersinia enterocolit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d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endotox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elets stored at room temperature for 5 days, with infection rate of 0.25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II. Protoz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panosoma cruzi (Chaga’s diseas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xoplasm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ishmani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rological Test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 Infectious mark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61920" y="2138040"/>
            <a:ext cx="454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V – 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 – H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Bs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 – HC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for syphi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049040" y="7596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BOLIC COM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117440" y="144792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itrate tox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rate (3G/ unit WB) binds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bolized liver, mobilization bone s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calcemia ONLY if &gt; 1 unit/ 5 min or hepatic dys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ension more likely due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rdiac output/ perfusion th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lcium (except neonat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se with hypothermia/ hepatic dys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yperkalem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3 weeks,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25- 30 mmol/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8- 15 mmol per unit PRBC/ W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rn with &gt; 1 unit/5 min @ infa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blank prac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0" y="1915920"/>
            <a:ext cx="91440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Antibody screen : Indirect Coombs t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45 mi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bject serum 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d cel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tigenic composition)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-- red cell agglut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Type&amp;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Emergency trans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2787480" y="3170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6"/>
          <p:cNvSpPr/>
          <p:nvPr/>
        </p:nvSpPr>
        <p:spPr>
          <a:xfrm>
            <a:off x="2787480" y="3170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/>
          </p:nvPr>
        </p:nvSpPr>
        <p:spPr>
          <a:xfrm>
            <a:off x="1117440" y="137160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id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id load after after 3 weeks 30-40 mmol/l (pH 6.6 - 6.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bolic acidosis more likely due to decreased perfusion, hepatic impairment, hypother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H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THAM if base deficit &gt; 7-10 mEq/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/>
          </p:nvPr>
        </p:nvSpPr>
        <p:spPr>
          <a:xfrm>
            <a:off x="1320480" y="1371600"/>
            <a:ext cx="6908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, 3 DP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leted within 96 hours of 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b DC to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ored within 8- 24 hours of transfu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17440" y="1519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. 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049040" y="1219320"/>
            <a:ext cx="6908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Guidelines for Blood Component Therapy (ASA Task Force). Anesthesiology 1996; 84: 732-4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ety of the Blood Supply. JAMA 1995; 274:1368--7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ctious Disease Testing for Blood Transfusions (NIH Consensus Conference). JAMA 1995; 274: 1374-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684000" y="220464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T&amp;S -determines ABO and Rh status and the presence of most commonly encountered antibodies – risk of adverse rxn is 1: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-takes about 5 m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T&amp;C -determines ABO and Rh status as well as adverse rxn to even low incidence antigens – risk of rxn is 1:1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-takes about 45 m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4"/>
          <p:cNvSpPr/>
          <p:nvPr/>
        </p:nvSpPr>
        <p:spPr>
          <a:xfrm>
            <a:off x="684360" y="907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and screen vs Type and crossm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79280" y="836640"/>
            <a:ext cx="89647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and screen vs Type and crossm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179280" y="2204640"/>
            <a:ext cx="8569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&amp;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O red cells are mixed with pt serum Antibody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&amp;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O red cells are mixed with pt serum Antibody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ngsana New"/>
              </a:rPr>
              <a:t>Donor red cells are then mixed with the pt’s serum to determine possible incompat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4"/>
          <p:cNvSpPr/>
          <p:nvPr/>
        </p:nvSpPr>
        <p:spPr>
          <a:xfrm>
            <a:off x="2286000" y="1803240"/>
            <a:ext cx="4572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684360" y="9079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ood blank practice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899640" y="1413000"/>
            <a:ext cx="748836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units – RBC @ PRC 1unit (250 ml Hct.7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platelet@ 1 unit (50-70 ml, stored at 20-24c for 5 day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plasma @ FF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cryoprecipitate @ high conc. Of factor VII, fibrinog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operative transfusion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684000" y="907920"/>
            <a:ext cx="8064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l for patients requiring red cells but not volume replacemen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ly one – Increase 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rrying capac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                             BLOOD VOL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on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mature                                      95 ml/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-term                                         85 ml/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ants                                       80 ml/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                                                 75 ml/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men                                            65 ml/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able blood loss = EBV*( Hct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ตั้งต้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ct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ที่ยอมรับได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/ Hct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</a:rPr>
              <a:t>เฉลี่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ct. 30% not magic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hovah” s wit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03:48:14Z</dcterms:created>
  <dc:creator>ABX</dc:creator>
  <dc:description/>
  <dc:language>en-US</dc:language>
  <cp:lastModifiedBy>MAI</cp:lastModifiedBy>
  <dcterms:modified xsi:type="dcterms:W3CDTF">2010-05-11T18:51:10Z</dcterms:modified>
  <cp:revision>21</cp:revision>
  <dc:subject/>
  <dc:title>Blood transfusion</dc:title>
</cp:coreProperties>
</file>