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39783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8288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39783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39783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8288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8288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39783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39783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39783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8288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8288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228240"/>
            <a:ext cx="8744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8288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39783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8288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39783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8288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39783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539280" cy="6173640"/>
            <a:chOff x="0" y="0"/>
            <a:chExt cx="953928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899400" cy="6173640"/>
            </a:xfrm>
            <a:custGeom>
              <a:avLst/>
              <a:gdLst/>
              <a:ahLst/>
              <a:rect l="l" t="t" r="r" b="b"/>
              <a:pathLst>
                <a:path w="4346" h="3889">
                  <a:moveTo>
                    <a:pt x="4345" y="3418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818" y="3888"/>
                  </a:lnTo>
                  <a:lnTo>
                    <a:pt x="4345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36840" y="0"/>
              <a:ext cx="6060960" cy="5116680"/>
            </a:xfrm>
            <a:custGeom>
              <a:avLst/>
              <a:gdLst/>
              <a:ahLst/>
              <a:rect l="l" t="t" r="r" b="b"/>
              <a:pathLst>
                <a:path w="3818" h="3223">
                  <a:moveTo>
                    <a:pt x="416" y="0"/>
                  </a:moveTo>
                  <a:lnTo>
                    <a:pt x="3817" y="3036"/>
                  </a:lnTo>
                  <a:lnTo>
                    <a:pt x="3609" y="3222"/>
                  </a:lnTo>
                  <a:lnTo>
                    <a:pt x="0" y="0"/>
                  </a:lnTo>
                  <a:lnTo>
                    <a:pt x="416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06720" y="0"/>
              <a:ext cx="5105520" cy="4057560"/>
            </a:xfrm>
            <a:custGeom>
              <a:avLst/>
              <a:gdLst/>
              <a:ahLst/>
              <a:rect l="l" t="t" r="r" b="b"/>
              <a:pathLst>
                <a:path w="3216" h="2556">
                  <a:moveTo>
                    <a:pt x="709" y="0"/>
                  </a:moveTo>
                  <a:lnTo>
                    <a:pt x="3215" y="2238"/>
                  </a:lnTo>
                  <a:lnTo>
                    <a:pt x="2861" y="2555"/>
                  </a:lnTo>
                  <a:lnTo>
                    <a:pt x="0" y="0"/>
                  </a:lnTo>
                  <a:lnTo>
                    <a:pt x="709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56160" y="0"/>
              <a:ext cx="4083120" cy="3367080"/>
            </a:xfrm>
            <a:custGeom>
              <a:avLst/>
              <a:gdLst/>
              <a:ahLst/>
              <a:rect l="l" t="t" r="r" b="b"/>
              <a:pathLst>
                <a:path w="2572" h="2121">
                  <a:moveTo>
                    <a:pt x="0" y="0"/>
                  </a:moveTo>
                  <a:lnTo>
                    <a:pt x="2375" y="2120"/>
                  </a:lnTo>
                  <a:lnTo>
                    <a:pt x="2571" y="1945"/>
                  </a:lnTo>
                  <a:lnTo>
                    <a:pt x="392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71120" y="18288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3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74404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2240" y="1628280"/>
            <a:ext cx="8569440" cy="20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</a:rPr>
              <a:t>PERIOPERATIVE FLUID THERAP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501336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epartment of Anesthesiology &amp;I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KKUH. King Saud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2- NPO and other defici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828440"/>
            <a:ext cx="8744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PO deficit = number of hours NPO x maintenance fluid requir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wel prep may result in up to 1 L fluid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able fluid losses, e.g. NG suctioning, vomiting, ostomy output, biliary fistula and tub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3- Third Space Los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87440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tonic transfer of ECF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dy fluid compartments 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n-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mpart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s on location and duration of surgical procedure, amount of tissue trauma, ambient temperature, room venti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57b49"/>
                </a:solidFill>
                <a:latin typeface="Times New Roman"/>
              </a:rPr>
              <a:t>Replacing Third Space Los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1120" y="1828440"/>
            <a:ext cx="8744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ficial surgical trauma: 1-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l/kg/h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Surgical Trauma: 3-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l/kg/h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ead and neck, hernia, knee sur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rate Surgical Trauma: 5-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l/kg/h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hysterectomy, chest sur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surgical trauma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0 ml/kg/hr (or mo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AA repair, nehprecto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4- Blood Lo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874404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3 cc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crystalloid solution per cc of blood loss (crystalloid solutions leave the intravascular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using blood products or colloids replace blood loss volume per vol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5- Other additional los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874404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going fluid losses from other si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gastric drain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ostomy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iarrh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volume per volume with crystalloi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1828440"/>
            <a:ext cx="8744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2 y/o male, 80 kg, for hemicolect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PO after 2200, surgery at  0800, received bowel pr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hr. procedure, 500 cc blood l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his estimated intraoperative fluid requiremen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1120" y="228600"/>
            <a:ext cx="8744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 (cont.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1120" y="14479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Fluid deficit (NPO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1.5 ml/kg/hr x 10 hrs = 1200 ml + 1000 ml for bowel prep = 2200 ml total deficit: (Replace 1/2 first hr, 1/4 2nd hr, 1/4 3rd hou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Maintenance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1.5 ml/kg/hr x 3hrs = 360m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Third Space Loss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6 ml/kg/hr x 3 hrs =1440 m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Blood Los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500ml x 3 = 1500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200+360+1440+1500=5500m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Intravenous Fluids: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120" y="1828440"/>
            <a:ext cx="87440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tional Crystall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tonic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/blood products and blood substit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rystallo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1120" y="2060280"/>
            <a:ext cx="87440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ation of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ater and electrol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alanced salt solution: electrolyte composition and osmolality similar to plasma; example: lactated Ringer’s, Plasmlyte, Normos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onic salt solution: electrolyte composition lower than that of plasma; example: D</a:t>
            </a:r>
            <a:r>
              <a:rPr b="0" lang="en-US" sz="29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onic salt solution: 2.7% N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llo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87440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s contain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lecul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fficiently large enough to prevent transfer across capillary membr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s stay in the space into which they are inf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 hetastarch (Hespan), albumin, dextr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otal Body Water (TBW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71120" y="2204640"/>
            <a:ext cx="8744040" cy="36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es with age, g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55%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body weight in 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45%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body weight in fe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80%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body weight in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 in obese: fat contains little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Hypertonic Solu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87440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ids containing sodium concentrations greater than normal sal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in 1.8%, 2.7%,  3%, 5%, 7.5%, 10% solu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yperosmolarit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s a gradient that draws water out of cells; therefore, cellular dehydration is a potential prob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1360" y="0"/>
            <a:ext cx="625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Composi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05120" y="944640"/>
          <a:ext cx="6375240" cy="49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944640"/>
                    <a:ext cx="63752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1120" y="151920"/>
            <a:ext cx="8829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nical Evaluation of Fluid Replace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71120" y="1828440"/>
            <a:ext cx="8829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Urine Output: at least 1.0 ml/kg/h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Vital Signs:  BP and HR normal (How is the patient doing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Physical Assessment:  Skin and mucous membranes no dry; no thirst in an awake pat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Invasive monitoring;  CVP or PCWP may be used as a        gu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Laboratory tests:  periodic monitoring of hemoglobin and hematocr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71120" y="10666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therapy is critically important during the perioperative peri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important goal is to maintain hemodynamic stability and protect vital organs from hypoperfusion (heart, liver, brain, kidney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ources of fluid losses must be accounted f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fluid management goes a long way toward preventing probl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228600"/>
            <a:ext cx="8744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ransfusion Therap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60% of transfusions occur perioperativ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responsibility of transfusing perioperatively is with the anesthesiolog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1120" y="228600"/>
            <a:ext cx="8744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en is Transfusion Necessary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ransfusion Trigg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:  Hgb level at which transfusion should be giv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aries with patients and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lerance of acute anemia depend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Maintenance of intravascular 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ility to increase cardiac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Increases in 2,3-DPG to deliver more of the carried oxygen to t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Oxygen Delivery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ygen Delivery (DO</a:t>
            </a:r>
            <a:r>
              <a:rPr b="0" lang="en-US" sz="29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 the oxygen that is delivered to the t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1" lang="en-US" sz="29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= COP x CaO</a:t>
            </a:r>
            <a:r>
              <a:rPr b="1" lang="en-US" sz="29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diac Output (CO) = HR x SV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ygen Content (CaO</a:t>
            </a:r>
            <a:r>
              <a:rPr b="0" lang="en-US" sz="29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g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x 1.39)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aturation + Pa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0.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gb is the main determinant of oxygen content in the bl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Oxygen Delivery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(cont.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743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fore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1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= HR x SV x CaO</a:t>
            </a:r>
            <a:r>
              <a:rPr b="1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HR or SV are unable to compensate, Hgb is the major deterimant factor in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li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y patients have excellent compensatory mechanisms and can tolerate Hgb levels of 7 gm/d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omised patients may require Hgb levels above 10 gm/d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lood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7440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tigen 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lasm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cid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lood Grou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rythrocyt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ntibodie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Whit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frica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meric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ti-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%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ti-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ti-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5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ti-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8008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ross Match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066680"/>
            <a:ext cx="85820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57b4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onor’s erythrocytes incubated with recipients plas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onor’s plasma incubated with recipients erythrocy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lutin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ccurs if either is incompa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Specific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nly ABO-Rh determined; chance of hemolytic reaction is 1:1000 with TS bl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ody Water Compartmen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8960" y="2349000"/>
            <a:ext cx="9196560" cy="28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racellular water: 2/3 of TB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tracellular water: 1/3 TB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Extravascular water: 3/4 of extracellular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Intravascular water: 1/4 of extracellular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ype and Scree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874404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ated blood that has been tested for ABO/Rh antigens and screened for common antibodies (not mixed with recipient blood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sed when usage of blood is unlikely, but needs to be available (hysterectom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llows blood to available for other pati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hance of hemolytic reaction: 1:10,00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7440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omponent Therap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7440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unit of whole blood is divided into components; Allows prolonged storage and specific treatment of underlying problem with increased efficienc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cked red blood cells (pRBC’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telet concent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esh frozen plasma (contains all clotting facto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yoprecipitate (contains factors VIII and fibrinogen; used in Von Willebrand’s disea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bum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sma protein f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ukocyte poor bloo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 VI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tibody concentr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1120" y="228600"/>
            <a:ext cx="8744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acked Red Blood Cel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420640"/>
            <a:ext cx="8743680" cy="298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unit = 250 ml.  Hct. = 70-80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unit pRBC’s raises Hgb 1 gm/d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xed with saline:  LR has Calcium which may cause clotting if mixed with pRBC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latelet Concentrat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87440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 of thrombocytop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operatively used if platlet count drops below 50,000 cells-mm</a:t>
            </a:r>
            <a:r>
              <a:rPr b="0" lang="en-US" sz="29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lab analysi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unit of platelets increases platelet count 5000-10000 cells-mm</a:t>
            </a:r>
            <a:r>
              <a:rPr b="0" lang="en-US" sz="2900" spc="-1" strike="noStrike" baseline="30000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k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  Sensitization due to HLA on platel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baseline="30000">
                <a:solidFill>
                  <a:srgbClr val="ffffff"/>
                </a:solidFill>
                <a:latin typeface="Times New Roman"/>
              </a:rPr>
              <a:t>-  Viral transmission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1120" y="228600"/>
            <a:ext cx="8744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sh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 F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ozen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 P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sm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sma from whole blood frozen within 6 hours of coll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ins coagulation factors except platel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for treatment of isolated factor deficiences, reversal of Coumadin effect, TTP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when PT and PTT are &gt;1.5 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k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al trans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mplications of Blood Therap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4404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usion Reac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ebri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st common, usually controlled by slowing infusion and giving antipyre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erg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reased body temp., pruritis, urticaria.  Rx: antihistamine,discontinuation.  Examination of plasma and urine for free hemoglobin helps rule out hemolytic rea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mplications of Blood Therapy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(cont.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744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molytic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ong blood type administered (oop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ation of complement system leads to intravascular hemolysis, spontaneous hemorrh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s: hypotension,fever, chills, dyspnea, skin flushing, substernal pain. Signs are easily masked by general anesthes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e Hgb in plasma or ur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renal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seminated Intravascular Coagulation (D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mplications (cont.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mission of Viral Disea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patitis C; 1:30,000 per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patitis B; 1:200,000 per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V;  1:450,000-1:600,000 per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2 day window for HIV infection and test de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V may be the most common agent transmitted, but only effects immuno-compromised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sitic and bacterial transmission very 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Other Compl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2,3-DPG with storage: ? Signific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trate: metabolism to bicarbonate; Calcium bi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aggregates (platelets, leukocytes): micropore filters controvers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hermia: warmers used to pr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gulation disorders: massive transfusion (&gt;10 units) may lead to dilution of platelets and factor V and VI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C: uncontrolled activation of coagulation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reatment of Acute Hemolytic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87436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ediat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continu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blood products and send blood bags to la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enance of urine output with crystalloid in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on of mannitol or Furosemide for diuretic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luid and Electrolyte Regul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87440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olume Reg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diuretic Horm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in/angiotensin/aldosteron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oreceptors in carotid arteries and aor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tch receptors in atrium and juxtaglomerular apar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tis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utologous Bloo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71120" y="16765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onation of patient’s own blood prior to elective surg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unit donated every 4 days (up to 3 uni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t unit donated at least 72 hrs prior to surg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s chance of hemolytic reactions and transmission of blood-bourne dis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desirable for compromised pat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9760" y="151920"/>
            <a:ext cx="87440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dministering Blood Produc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nt necessary for elective trans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 is checked by 2 people for Unit #, patient ID, expiration date, physical appear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BC’s are mixed with saline solution (not L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s are warmed mechanically and given slowly if condition perm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 observation of patient for signs of com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complications suspected, infusion discontinued, blood bank notified, proper steps ta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lternatives to Blood Produc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74404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trans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 substit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utotransfus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744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ly known a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Cell-sav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collection of blood during surgery for re-admin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BC’s centrifuged from plas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when &gt; 1000ml are coll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lood Substitut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71120" y="1828440"/>
            <a:ext cx="874404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mental oxygen-carrying solutions: developed to decrease dependence on human blood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litary battlefield usage initial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approach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dated human Hgb reconstituted in 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tically engineered/bovine Hgb in 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posome-encapsulated Hg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lurocarb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71120" y="228600"/>
            <a:ext cx="8744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lood Substitutes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(cont.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 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ross-match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-term shelf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blood-bourne trans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pid restoration of oxygen delivery in traumatized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access to product (available on ambulances, field hospitals, hospital shi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lood Substitutes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(cont.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1120" y="1828440"/>
            <a:ext cx="8744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 Dis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Undesirable hemodynamic effec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n arterial pressure and pulmonary artery pressure in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half-life in bloodstream (24 h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ll in clinical trials, unproven effic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ransfusion Therapy Summa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1120" y="1828440"/>
            <a:ext cx="874404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to transfuse involves many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ility of component factors allows treatment of specific de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ks of transfusion must be understood and explained to pat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gilance necessary when transfusing any blood pro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luid and Electrolyte Regul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1120" y="1828440"/>
            <a:ext cx="8744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sm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smola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g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ginine-Vasopressin (AD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ral and Peripheral osmorecep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d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centration Reg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in/angiotensin/aldosteron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ula Densa of JG appar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601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reoperative Evaluation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of Fluid Statu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87440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s to Asses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/o intake and 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od pressure: supin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n turg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rinary 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um electrolytes/osmola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tal sta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Orthostatic Hypotens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1120" y="1828800"/>
            <a:ext cx="87440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olic blood pressu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crea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greater tha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0mmH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supine to st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cates flui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fi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6-8%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ody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art rate should increase as a compensatory m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f no increase in heart rate, may indicate autonomic dysfunction or antihypertensive drug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erioperative Fluid Requiremen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2133720"/>
            <a:ext cx="8744040" cy="39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following factors must be taken into accou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ntenance fluid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-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NP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other deficits: NG suction, bowel pr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rd space lo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-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lacement of blood l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- Special additional losses: diarrh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1- Maintenance Fluid Requirement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7436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ensible losses such as evaporation of water from respiratory tract, sweat, feces, urinary excretion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Occurs continual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ults: approximately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1.5 ml/kg/h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4-2-1 Ru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4 ml/kg/hr for the first 10 kg of body w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 ml/kg/hr for the second 10 kg body w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1 ml/kg/hr subsequent kg body w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tra fluid for fever, tracheotomy, denuded surf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0T15:27:19Z</dcterms:created>
  <dc:creator>Dept of Anesth</dc:creator>
  <dc:description/>
  <dc:language>en-US</dc:language>
  <cp:lastModifiedBy>  </cp:lastModifiedBy>
  <cp:lastPrinted>1998-01-20T21:44:38Z</cp:lastPrinted>
  <dcterms:modified xsi:type="dcterms:W3CDTF">2009-11-04T02:01:51Z</dcterms:modified>
  <cp:revision>18</cp:revision>
  <dc:subject/>
  <dc:title>Perioperative Fluid Therapy</dc:title>
</cp:coreProperties>
</file>