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C668-5624-421B-823F-E3D296813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A256-5865-41C4-9F0C-162E0825E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D937-BF8B-474B-A8AB-420C73B20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768C-8A57-4CD4-B098-F8B6EAEE4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1F8B-B04F-4087-AA1A-2F7F5338A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8F28-DB75-493F-A631-DCAD35529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7C19-8E5A-4E42-88FA-048C7B4D9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8090-F707-4F9F-9CC2-A91B48549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63EB-3859-49BB-B3E5-C035ABA9E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E694-114E-45FA-8746-5D8187694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graph as 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drawn as circles and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drawn as a bit matrix:  a 1 indicates that those two nodes (x, y) are conn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9ABD-C53D-4208-9BD5-0048B6606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3452-2028-4DAA-8E40-3F10323A1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4AD2-F185-4F78-B3CB-D340D0132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63B3-8092-4ACF-BEF2-597F7DC73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698C-48AA-40F3-B9E1-8CFCB6504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3392-3A43-4920-AAEC-9806DDB60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196C-E0F8-4391-B095-528147AA2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59FF-F55E-4C15-B2FC-176EDC6C5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ED54-9200-4703-BA75-3A6D07371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786A-050C-48FD-A86D-F2D42DD54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0487-DCA0-4E6C-8BBA-067E9F29F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view is the standard (dictionary)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view is how CS people think of it;  it is top-down design  (you’re always betting on the chance that you’ll be able to come up with a workable substruc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9670-A404-4146-B8B0-AE9FE8EA0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7D897-9ACD-4E14-B714-55B15750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7963C-F35A-4254-AA73-A132C54A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A4DD5-A8D6-4F65-9E93-AAF4972B9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85CF7-7422-4804-BC1A-056B2D877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BE0F-F53B-4F30-A537-41EB31621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2D57-761C-46BB-B907-75CE1802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D55C-2935-4A38-8B11-F85037CC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FD6E-84AA-4B1F-8B5F-CF9EAD23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0F8B-CC19-4C1C-949D-C2EBEA31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A202-A8ED-4523-962A-345EC05A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37A1-7C24-48B7-861B-B24E82B7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D88B6-69E7-4A9D-9210-A987CACF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1725-0606-4D0B-A1F0-A7AA1714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4B94-65B3-4CAF-A294-689B4DFF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CD70-69BD-4A30-94E1-3D263B5D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F094-A683-4DE5-A8E9-35AB833C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1BD3-7C9F-4B7F-AAE3-4505F65F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C706A-1203-4227-B122-5EC69AB1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AA514-BFBF-48DB-85CD-F93E4D8A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3F359-E113-4095-9897-C83E5CF1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E55AA-D32E-41CD-A099-CE8B8735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1956E-A0CA-4A6C-A3F1-9C8173EF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73AB5-BBF0-4748-B37B-0DE91806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93D69-DA14-45F3-BE76-10F4E5A7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3957-A8F3-446E-9646-C3F53058C2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42"/>
          <p:cNvSpPr/>
          <p:nvPr/>
        </p:nvSpPr>
        <p:spPr>
          <a:xfrm>
            <a:off x="380880" y="68580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47"/>
          <p:cNvSpPr/>
          <p:nvPr/>
        </p:nvSpPr>
        <p:spPr>
          <a:xfrm>
            <a:off x="380880" y="165240"/>
            <a:ext cx="8305920" cy="41904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29019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ftware Architecture: Foundations, Theory, and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2"/>
          <p:cNvSpPr/>
          <p:nvPr/>
        </p:nvSpPr>
        <p:spPr>
          <a:xfrm rot="5400000">
            <a:off x="-2019240" y="3162240"/>
            <a:ext cx="487656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3"/>
          <p:cNvSpPr/>
          <p:nvPr/>
        </p:nvSpPr>
        <p:spPr>
          <a:xfrm>
            <a:off x="3886200" y="655308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64"/>
          <p:cNvSpPr/>
          <p:nvPr/>
        </p:nvSpPr>
        <p:spPr>
          <a:xfrm rot="5400000">
            <a:off x="6400800" y="4190760"/>
            <a:ext cx="464796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9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0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1"/>
          <p:cNvSpPr/>
          <p:nvPr/>
        </p:nvSpPr>
        <p:spPr>
          <a:xfrm>
            <a:off x="2645640" y="6583320"/>
            <a:ext cx="665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© Richard N. Taylor, Nenad Medvidovic, and Eric M. Dashofy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9103-4A5A-4770-B573-6812C77971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666880" y="16765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esigning Architectures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666880" y="4114440"/>
            <a:ext cx="6019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oftware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ecture 4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bstraction and the Simple Machin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oncepts should be chosen at the outset of a design task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technique:  Search for a “simple machine” that serves as an abstraction of a potential system that will perform the required tas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stance, what kind of simple machine makes a software system embedded in a fax machine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core, it is basically just a little state machi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machines provide a plausible first conception of how an application might be buil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application domain has its common simple machin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B7E0-C668-4822-9764-38B32FB447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mple Machin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E011-3477-4D6B-BF47-D5D446BC32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" descr="fig_04_01.jpg"/>
          <p:cNvPicPr/>
          <p:nvPr/>
        </p:nvPicPr>
        <p:blipFill>
          <a:blip r:embed="rId1"/>
          <a:stretch/>
        </p:blipFill>
        <p:spPr>
          <a:xfrm>
            <a:off x="1143000" y="1447920"/>
            <a:ext cx="6781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hoosing the Level and Terms of Discours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y attempt to use abstraction as a tool must choose a level of discourse, and once that is chosen, must choose the terms of discours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ternative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initial level of discourse is one of the application as a whole (step-wise refinemen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ternative 2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ork, initially, at a level lower than that of the whole applicat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ce several such sub-problems are solved they can be composed together to form an overall solu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ternative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work, initially, at a level above that of the desired appli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handling simple application input with a general parser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D2E4-3FCB-4DA6-B9A9-EF1D46A7BB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paration of Concerns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ion of concerns is the subdivision of a problem into (hopefully) independent part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fficulties arise when the issues are either actually or apparently intertwine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ions of concerns frequently involves many tradeof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tal independence of concepts may not be possi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 example from software architecture: separation of components (computation) from connectors (commun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D8E5-B00A-41F8-91AB-C01ECFBE8A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Grand Tool: Refined Experience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ence must be reflected upon and refin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essons from prior work include not only the lessons of successes, but also the lessons arising from failur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 from success and failure of other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era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er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ence can provide that initial feasible set of “alternative arrangements for the design as a whole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77AD-CE05-47C8-82E1-DC189B9BCA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terns, Styles, and DSS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E812-C465-4CA7-B83F-32498FD65C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" descr="fig_04_02.jpg"/>
          <p:cNvPicPr/>
          <p:nvPr/>
        </p:nvPicPr>
        <p:blipFill>
          <a:blip r:embed="rId1"/>
          <a:stretch/>
        </p:blipFill>
        <p:spPr>
          <a:xfrm>
            <a:off x="1752480" y="1633680"/>
            <a:ext cx="557712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omain-Specific Software Architectu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DSSA is an assemblage of software compon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ecialized for a particular type of task (domain)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lized for effective use across that domain, a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osed in a standardized structure (topology) effective for building successful applica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ce DSSAs are specialized for a particular domain they are only of value if one exists for the domain wherein the engineer is tasked with building a new application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SSAs are the pre-eminent means for maximal reuse of knowledge and prior development and hence for developing a new architectural desig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0324-63C2-45EE-92D2-6E5EEF40D2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al Patterns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chitectural pattern is a set of architectural design decisions that are applicable to a recurring design problem, and parameterized to account for different software development contexts in which that problem appear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al patterns are similar to DSSAs but applied “at a lower level” and within a much narrower sco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0590-D7CB-4963-B737-90D7CCCA14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te-Logic-Display:  AKA Three-Tiered Pattern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Ex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siness applica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-player gam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b-based applica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B2EF-2500-475A-8CB2-11D0DA9168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" descr="fig_04_03.jpg"/>
          <p:cNvPicPr/>
          <p:nvPr/>
        </p:nvPicPr>
        <p:blipFill>
          <a:blip r:embed="rId1"/>
          <a:stretch/>
        </p:blipFill>
        <p:spPr>
          <a:xfrm>
            <a:off x="4943520" y="1405080"/>
            <a:ext cx="31338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del-View-Controller (MVC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ive: Separation between information, presentation and user intera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model object value changes, a notification is sent to the view and to the controller. So that the view can update itself and the controller can modify the view if its logic so requir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handling input from the user the windowing system sends the user event to the controller; If a change is required, the controller updates the model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1D48-5B3D-4E2A-8D11-D353882D56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Do You Design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597C-0349-44C7-9BCB-3101A355F1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596960" y="1523880"/>
            <a:ext cx="58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ere do architectures come fr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4420440" y="4952880"/>
            <a:ext cx="13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4724280" y="3200400"/>
            <a:ext cx="3886200" cy="1523880"/>
          </a:xfrm>
          <a:prstGeom prst="wedgeRectCallout">
            <a:avLst>
              <a:gd name="adj1" fmla="val -38111"/>
              <a:gd name="adj2" fmla="val 7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 familiar ter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lways successfu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able outcome (+ &amp; -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of methods v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972520" y="220968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rea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8"/>
          <p:cNvSpPr/>
          <p:nvPr/>
        </p:nvSpPr>
        <p:spPr>
          <a:xfrm flipH="1" flipV="1">
            <a:off x="532440" y="3200400"/>
            <a:ext cx="3429000" cy="1447920"/>
          </a:xfrm>
          <a:prstGeom prst="wedgeRectCallout">
            <a:avLst>
              <a:gd name="adj1" fmla="val -45416"/>
              <a:gd name="adj2" fmla="val 8683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ught with per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un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yield the b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del-View-Controlle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3AD9-4F90-4914-959E-AFAE2B7BD1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1" descr="fig_04_04.jpg"/>
          <p:cNvPicPr/>
          <p:nvPr/>
        </p:nvPicPr>
        <p:blipFill>
          <a:blip r:embed="rId1"/>
          <a:stretch/>
        </p:blipFill>
        <p:spPr>
          <a:xfrm>
            <a:off x="876240" y="2071800"/>
            <a:ext cx="740736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nse-Compute-Contro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A563-72B9-40FB-8EB1-690145B564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920880" y="6019920"/>
            <a:ext cx="73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Structuring embedded control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1" descr="fig_04_05.jpg"/>
          <p:cNvPicPr/>
          <p:nvPr/>
        </p:nvPicPr>
        <p:blipFill>
          <a:blip r:embed="rId1"/>
          <a:stretch/>
        </p:blipFill>
        <p:spPr>
          <a:xfrm>
            <a:off x="1295280" y="1523880"/>
            <a:ext cx="65613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e Lunar Lander: A Long-Running Exampl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ple computer game that first appeared in the 196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conce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(the pilot) control the descent rate of the Apollo-era Lunar La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ttle setting controls descent eng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fu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altitude and speed pre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 land with a descent rate of &lt; 5 fps: you win  (whether there’s fuel left or no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ced” version:  joystick controls attitude &amp; horizontal mo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4D45-4BE3-4EF5-8C24-10A9F62DEF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nse-Compute-Control L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9788-D9EC-4349-B963-18C961E40F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1" descr="fig_04_06.jpg"/>
          <p:cNvPicPr/>
          <p:nvPr/>
        </p:nvPicPr>
        <p:blipFill>
          <a:blip r:embed="rId1"/>
          <a:stretch/>
        </p:blipFill>
        <p:spPr>
          <a:xfrm>
            <a:off x="2044800" y="1676520"/>
            <a:ext cx="504972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al Styles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architectural style is a named collection of architectural design decisions tha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applicable in a given development contex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train architectural design decisions that are specific to a particular system within that contex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icit beneficial qualities in each resulting syst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rimary way of characterizing lessons from experience in software system desig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flect less domain specificity than architectural patter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in determining everything from subroutine structure to top-level application struc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ny styles exist and we will discuss them in detail in the next lecture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06C6-BEE8-4F80-BC64-042D7E18BB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finitions of Architectural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ition. An architectural style is a named collection of architectural design decisions tha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applicable in a given development contex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train architectural design decisions that are specific to a particular system within that contex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icit beneficial qualities in each resulting system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urring organizational patterns &amp; idio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stablished, shared understanding of common design form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rk of mature engineering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haw &amp; Garla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bstraction of recurring composition &amp; interaction characteristics in a set of architec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yl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ADA0-555C-421A-BDA0-3A0AC01502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sic Properties of Styl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765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ocabulary of design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onent and connector types; data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pipes, filters, objects, serv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set of configuration r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pological constraints that determine allowed compositions of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a component may be connected to at most two other compon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semantic interpre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ositions of design elements have well-defined meaning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ssible analyses of systems built in a sty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8A69-892D-4039-888D-FD7E21EB31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enefits of Using Styl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 reus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ll-understood solutions applied to new probl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de re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implementations of invariant aspects of a sty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standability of system organiz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phrase such as “client-server” conveys a lot of inform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oper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ed by style standard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yle-specific analy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abled by the constrained design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sualiz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yle-specific depictions matching engineers’ mental mod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D97C-3BEF-4E4E-9378-657B28FDE9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yle Analysis Dimens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design vocabular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and connecto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re the allowable structural patter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underlying computational model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re the essential invariants of the sty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re common examples of its us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re the (dis)advantages of using the sty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re the style’s specializa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D866-2D4D-46AC-B80E-C33A227E3E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me Common Styl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1676160"/>
            <a:ext cx="403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ditional, language-influenced sty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 program and subroutin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bject-oriented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y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irtual machin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-server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-flow sty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atch sequenti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ipe and fil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mem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ule bas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52640" y="1676160"/>
            <a:ext cx="403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pr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pre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bile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icit inv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nt-bas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ublish-subscrib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er-to-pe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” sty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C1FF-04C1-4BF7-943C-94E6A4BF96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bjectiv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hance your skill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new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 on highly effective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 judgment: when to develop novel solutions, and when to follow established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CAA6-15EB-4E84-892A-B14A78DB40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gineering Design Proces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asibility stage: identifying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set of feasible concepts for the design as a who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liminary design stage: selection and development of the best concep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ailed design stage: development of engineering descriptions of the concep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ning stage: evaluating and altering the concept to suit the requirements of production, distribution, consumption and product retir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1859-FA99-4F15-8BF5-346E2FC6E4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otential Problem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designer is unable to produce a set of feasible concepts, progress sto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problems and products increase in size and complexity, the probability that any one individual can successfully perform the first steps decreas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approach does not directly address the situation where system design is at stake, i.e. when relationship between a set of products is at issu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complexity increases or the experience of the designer is not sufficient, alternative approaches to the design process must be adopte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0EE2-90E1-44A8-BD6A-F645A36EC7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lternative Design Strategi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nda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near model described above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ycli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can revert to an earlier stage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all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dependent alternatives are explored in parallel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aptive (“lay tracks as you go”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next design strategy of the design activity is decided at the end of a given st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cremental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stage of development is treated as a task of incrementally improving the existing desig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0CBF-55DF-4039-B119-B9E51713C6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dentifying a Viable Strategy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undamental design tools: abstraction and modularit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 how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piration, where inspiration is needed. Predictable techniques elsewher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 where is creativity requir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ing own experience or experience of oth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CEA0-2495-4ECC-8945-EAE54CD06F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Tools of “Software Engineering 101”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(1):  look at details, and abstract “up” to conce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(2):  choose concepts, then add detailed substructure, and move “down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 design of a stack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0CF6-399D-4763-AA7C-17BCC56F52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Few Definitions… from the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Oxford English Dictiona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ion:  “The act or process of separating in thought, of considering a thing independently of its associations; or a substance independently of its attributes; or an attribute or quality independently of the substance to which it belongs.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ification: “The mental conversion of … [an] abstract concept into a thing.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duction: “The process of drawing a conclusion from a principle already known or assumed; spec. in Logic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inference by reasoning from generals to particula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 opposed to INDUCTION.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uction:  “The process of inferring a general law or principle from the observation of particular instances (opposed to DEDUCTION, q.v.).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6AC2-A2C6-41A7-ADF1-EB5BCAA987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7:40:37Z</dcterms:created>
  <dc:creator>Taylor, Medvidovic, and Dashofy</dc:creator>
  <dc:description>Copyright (C) Richard N. Taylor, Nenad Medvidovic, and Eric M. Dashofy. All rights reserved.</dc:description>
  <dc:language>en-US</dc:language>
  <cp:lastModifiedBy>zakarya</cp:lastModifiedBy>
  <dcterms:modified xsi:type="dcterms:W3CDTF">2011-10-15T20:32:02Z</dcterms:modified>
  <cp:revision>39</cp:revision>
  <dc:subject>Software Architecture: Foundations, Theory, and Practice</dc:subject>
  <dc:title>Designing Architectures</dc:title>
</cp:coreProperties>
</file>