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90C7-FDE9-4BBE-BCAA-B306F7DE4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BBBB-0B64-4B75-8C66-CEBAA4E2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8663-EBF5-4CBB-8A2E-6A511C6D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343A-96FA-4901-ABFE-EE6013A3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FB34-B3EA-46F6-890D-A935517C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C9B3-8AB6-4102-BC2A-E7B8B941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36F-6470-4C26-B771-79EC9012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683A-2E77-462B-9A73-3E754E86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3874-7EC4-47B0-A7F9-06F0BACA0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1D79-3394-4EF9-95F5-2D1F107D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graph as 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drawn as circles an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drawn as a bit matrix:  a 1 indicates that those two nodes (x, y) are conn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7FCA-356F-484F-AA18-491824A0E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F686-73FE-4C58-BE49-F246A286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FF13-7FA8-4E07-9C29-EC4B1BF78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7670-AD07-469D-B23E-ED2602D1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6DC1-26F4-46B2-BA6F-44FE6DBD7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E91-6688-48D9-90DA-D8F824BF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94E2-E4C8-424F-AD6B-2D02F072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68F2-66BE-49E1-A2AC-B46DFBD3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EBCB-0193-4261-9DF6-08DEDFC69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546B-9B79-4FB5-ADB6-4A4E61C4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C04-9925-482A-A9AA-B6C0045EB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view is the standard (dictionary)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view is how CS people think of it;  it is top-down design  (you’re always betting on the chance that you’ll be able to come up with a workable substru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1293-E5F0-449B-885C-153C3CCB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7B2E-53BD-408C-AC4F-1D7871A9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A2A7D-7347-4A2E-9520-A913EFB9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DA486-C865-4EC9-BB0C-E26D5A92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9747-0194-4B47-B15D-50F747E3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2E1-9C5F-4B5E-8E05-E3EE655A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4DA7-6918-41BF-8055-0FECCEE5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DE83-C0FB-4C5D-AE7D-8FF17A1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3F46-479B-4ADD-BD1B-E97A1F91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373B-09F4-464E-8B83-E1AC72EF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6671-9D0B-4D9E-BEEC-FA44AF68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1D77-204C-4C25-8323-747C88EB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1E702-017D-4D03-8112-D18854EF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7FA5-3D98-48B5-AFFE-9CA3165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7D8-53C4-45A9-AE96-747ED3D9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EA4C-A2A6-4BC1-823F-EC139628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10BF-54AC-448A-8EB4-0AFE70A6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24C4-E677-42AC-B9F6-0608344D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A789-1138-426F-8AA3-04CA663C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FE8D-7666-4A8F-B601-4E177F9B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D36E-E473-4371-8E36-19A165BB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72598-774C-4BDF-8D0B-E8582EB8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8176C-AF7B-475B-B7E4-B4966257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0448-BD3E-42D3-8781-2D702B7C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47A8-D656-42FD-B0F9-3C87C45C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E606-3940-4D24-8CC1-3E3B5B25E2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CD14-8B62-41CC-81AE-A9C711976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signing Architecture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4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bstraction and the Simple Machin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ncepts should be chosen at the outset of a design task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technique:  Search for a “simple machine” that serves as an abstraction of a potential system that will perform the required tas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stance, what kind of simple machine makes a software system embedded in a fax machin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core, it is basically just a little state mach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machines provide a plausible first conception of how an application might be buil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application domain has its common simple machin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ED91-DA64-472D-84E4-F5DFD9C7DC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imple Machin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187-76A7-4C03-9118-45A0ED3EE7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fig_04_01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oosing the Level and Terms of Discour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attempt to use abstraction as a tool must choose a level of discourse, and once that is chosen, must choose the terms of discours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native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itial level of discourse is one of the application as a whole (step-wise refin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native 2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ork, initially, at a level lower than that of the whole applic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several such sub-problems are solved they can be composed together to form an overall solu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ternative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work, initially, at a level above that of the desired appli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handling simple application input with a general parse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CB28-48D8-46CD-AA03-130278BDA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paration of Concern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concerns is the subdivision of a problem into (hopefully) independent par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fficulties arise when the issues are either actually or apparently intertwin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s of concerns frequently involves many tradeof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tal independence of concepts may not be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example from software architecture: separation of components (computation) from connectors (commun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AD0-B766-4D98-82DB-51DC85D5D3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Grand Tool: Refined Experience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ence must be reflected upon and refi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ssons from prior work include not only the lessons of successes, but also the lessons arising from failu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from success and failure of other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er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ence can provide that initial feasible set of “alternative arrangements for the design as a whole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F6DD-2661-4F56-9BC0-53C21246CE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terns, Styles, and DSS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8946-DDDE-4AA2-9017-4140F09731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" descr="fig_04_02.jpg"/>
          <p:cNvPicPr/>
          <p:nvPr/>
        </p:nvPicPr>
        <p:blipFill>
          <a:blip r:embed="rId1"/>
          <a:stretch/>
        </p:blipFill>
        <p:spPr>
          <a:xfrm>
            <a:off x="1752480" y="1633680"/>
            <a:ext cx="55771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main-Specific Software Architectu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DSSA is an assemblage of software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alized for a particular type of task (domain)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ized for effective use across that domain,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sed in a standardized structure (topology) effective for building successful applic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DSSAs are specialized for a particular domain they are only of value if one exists for the domain wherein the engineer is tasked with building a new applicat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SSAs are the pre-eminent means for maximal reuse of knowledge and prior development and hence for developing a new architectural desig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09AD-39F9-485B-8601-1E18090FD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Pattern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al pattern is a set of architectural design decisions that are applicable to a recurring design problem, and parameterized to account for different software development contexts in which that problem appea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patterns are similar to DSSAs but applied “at a lower level” and within a much narrower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A867-16CC-44EA-8F72-D05F884E8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-Logic-Display:  AKA Three-Tiered Pattern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Ex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-player gam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-based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DBD-7CB4-48EA-AC1B-2475FF0B9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" descr="fig_04_03.jpg"/>
          <p:cNvPicPr/>
          <p:nvPr/>
        </p:nvPicPr>
        <p:blipFill>
          <a:blip r:embed="rId1"/>
          <a:stretch/>
        </p:blipFill>
        <p:spPr>
          <a:xfrm>
            <a:off x="4943520" y="1405080"/>
            <a:ext cx="31338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View-Controller (MV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Separation between information, presentation and user inter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odel object value changes, a notification is sent to the view and to the controller. So that the view can update itself and the controller can modify the view if its logic so requir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handling input from the user the windowing system sends the user event to the controller; If a change is required, the controller updates the model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162E-D541-4288-A9CA-464BAA363C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You Desig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945D-7246-4178-8D2A-01EE06996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96960" y="15238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 do architectures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420440" y="4952880"/>
            <a:ext cx="13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4724280" y="3200400"/>
            <a:ext cx="3886200" cy="1523880"/>
          </a:xfrm>
          <a:prstGeom prst="wedgeRectCallout">
            <a:avLst>
              <a:gd name="adj1" fmla="val -38111"/>
              <a:gd name="adj2" fmla="val 7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 familiar ter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ways successf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able outcome (+ &amp; -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of methods v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972520" y="220968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8"/>
          <p:cNvSpPr/>
          <p:nvPr/>
        </p:nvSpPr>
        <p:spPr>
          <a:xfrm flipH="1" flipV="1">
            <a:off x="532440" y="3200400"/>
            <a:ext cx="3429000" cy="1447920"/>
          </a:xfrm>
          <a:prstGeom prst="wedgeRectCallout">
            <a:avLst>
              <a:gd name="adj1" fmla="val -45416"/>
              <a:gd name="adj2" fmla="val 8683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ught with pe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un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yield the b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el-View-Controll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4E1-A01D-44FD-A03E-B679EB82A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" descr="fig_04_04.jpg"/>
          <p:cNvPicPr/>
          <p:nvPr/>
        </p:nvPicPr>
        <p:blipFill>
          <a:blip r:embed="rId1"/>
          <a:stretch/>
        </p:blipFill>
        <p:spPr>
          <a:xfrm>
            <a:off x="876240" y="2071800"/>
            <a:ext cx="7407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nse-Compute-Contro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41C-DDC9-4CFB-A335-E99DB51BD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920880" y="6019920"/>
            <a:ext cx="73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Structuring embedded contro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" descr="fig_04_05.jpg"/>
          <p:cNvPicPr/>
          <p:nvPr/>
        </p:nvPicPr>
        <p:blipFill>
          <a:blip r:embed="rId1"/>
          <a:stretch/>
        </p:blipFill>
        <p:spPr>
          <a:xfrm>
            <a:off x="1295280" y="1523880"/>
            <a:ext cx="6561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he Lunar Lander: A Long-Running Example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computer game that first appeared in the 196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conce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(the pilot) control the descent rate of the Apollo-era Lunar L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ttle setting controls descent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fu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ltitude and speed p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land with a descent rate of &lt; 5 fps: you win  (whether there’s fuel left or no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ced” version:  joystick controls attitude &amp; horizontal mo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FEE-0D3C-4D9A-A781-91BAE184B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nse-Compute-Control 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1AC6-79F9-4775-93D1-2F82B2E65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-63540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" descr="fig_04_06.jpg"/>
          <p:cNvPicPr/>
          <p:nvPr/>
        </p:nvPicPr>
        <p:blipFill>
          <a:blip r:embed="rId1"/>
          <a:stretch/>
        </p:blipFill>
        <p:spPr>
          <a:xfrm>
            <a:off x="2044800" y="1676520"/>
            <a:ext cx="5049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Style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chitectural style is a named collection of architectural design decisions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applicable in a given developmen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 architectural design decisions that are specific to a particular system within tha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cit beneficial qualities in each resulting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imary way of characterizing lessons from experience in software system desig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lect less domain specificity than architectural 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in determining everything from subroutine structure to top-level application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tyles exist and we will discuss them in detail in the next lectur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F7FA-6571-48F5-8969-36B2751097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initions of Architectural Sty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. An architectural style is a named collection of architectural design decisions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applicable in a given developmen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 architectural design decisions that are specific to a particular system within that contex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cit beneficial qualities in each resulting system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urring organizational patterns &amp; idio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tablished, shared understanding of common design form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 of mature engineering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w &amp; Gar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bstraction of recurring composition &amp; interaction characteristics in a set of architec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yl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637-7298-4DAC-BD48-0795E384B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sic Properties of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765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ocabulary of design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nent and connector types; data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pipes, filters, objects, serv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configurati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pological constraints that determine allowed compositions of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 component may be connected to at most two other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mantic interpre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ositions of design elements have well-defined meanin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sible analyses of systems built in a sty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7F80-0544-47A8-86D8-38F64E7DD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Using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reus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ll-understood solutions applied to new probl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implementations of invariant aspects of a sty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ability of system organiz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hrase such as “client-server” conveys a lot of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ed by style standard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le-specific analy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abled by the constrained design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sual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le-specific depictions matching engineers’ mental mod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0D29-44D4-4869-9A84-4692B74743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yle Analysis Dimens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esign vocabula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and connecto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allowable structural patter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underlying computational mode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essential invariants of the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common examples of its u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(dis)advantages of using the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style’s specializ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0EF9-EAD9-4110-8BE0-CD732D6269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me Common Styl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6761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ditional, language-influenced sty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 program and subrouti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-oriented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y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irtual machi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-server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-flow sty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atch sequen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ipe and fil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le ba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52640" y="1676160"/>
            <a:ext cx="403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pre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bile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inv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t-ba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blish-subscri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” sty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0F2-E9DB-4B92-BABA-A72E356D7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 your skill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new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highly effective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judgment: when to develop novel solutions, and when to follow established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E2AC-221E-4EFF-930E-B5621DB930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gineering Design Proc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asibility stage: identifying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set of feasible concepts for the design as a who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liminary design stage: selection and development of the best concep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ailed design stage: development of engineering descriptions of the concep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ning stage: evaluating and altering the concept to suit the requirements of production, distribution, consumption and product retir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F070-86E6-4C18-B184-A72CD82DF6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otential Probl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designer is unable to produce a set of feasible concepts, progress sto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problems and products increase in size and complexity, the probability that any one individual can successfully perform the first steps decreas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approach does not directly address the situation where system design is at stake, i.e. when relationship between a set of products is at issu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complexity increases or the experience of the designer is not sufficient, alternative approaches to the design process must be adop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6013-B4CE-4344-A704-EBE370712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ternative Desig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ar model described abov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cl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can revert to an earlier stag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all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dependent alternatives are explored in paralle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aptive (“lay tracks as you go”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xt design strategy of the design activity is decided at the end of a given st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crementa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ge of development is treated as a task of incrementally improving the existing desig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A3C-406F-49AB-9585-3B3C8A194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dentifying a Viable Strategy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undamental design tools: abstraction and modular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 how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piration, where inspiration is needed. Predictable techniques elsewhe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 where is creativity requir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ing own experience or experience of oth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5D3B-91F9-4381-B8A2-FC135A1E4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ools of “Software Engineering 101”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(1):  look at details, and abstract “up” to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(2):  choose concepts, then add detailed substructure, and move “dow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design of a stack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0664-DABB-463A-AC95-097CF3D565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Few Definitions… from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Oxford English Diction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:  “The act or process of separating in thought, of considering a thing independently of its associations; or a substance independently of its attributes; or an attribute or quality independently of the substance to which it belongs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ification: “The mental conversion of … [an] abstract concept into a thing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duction: “The process of drawing a conclusion from a principle already known or assumed; spec. in Logic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inference by reasoning from generals to particula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 opposed to INDUCTION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uction:  “The process of inferring a general law or principle from the observation of particular instances (opposed to DEDUCTION, q.v.).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8F9A-C9F5-423A-83C0-D0EDA0FFAB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10-15T20:32:02Z</dcterms:modified>
  <cp:revision>39</cp:revision>
  <dc:subject>Software Architecture: Foundations, Theory, and Practice</dc:subject>
  <dc:title>Designing Architectures</dc:title>
</cp:coreProperties>
</file>